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026-B101-4FF3-9A32-476E44C573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BA4-75D9-4D98-88BE-D7105D78D8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CB8-E733-4E98-8456-2CF3A628D9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76C-072F-4D1B-B266-6FC8FD88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ACB-F323-46F3-BFA2-F2A8A36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05C-E31A-48F2-BD22-18AB402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474-F679-48B8-A7C7-230A71C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A34-6E61-406A-9783-A7E2B92D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7F0-C826-497B-A968-824877C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589-D55C-4624-B52B-C4F148E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365-C84F-4669-8D30-6AF406E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FDE-E21C-4128-818D-4C3582E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36B-164D-4101-B9B9-0FC4099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D5C-02DD-4425-8685-B2CDF8EA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590-FC35-4DB9-9960-04151C97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6C27-B940-4FB1-BC1D-E350B9F2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40D-2036-4DA7-A7BA-5B162874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4629-7191-4640-BD93-3C955E35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20D3-053E-4C8D-B5BC-12BAAEA5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A68-D905-4332-91A7-D4AD4275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23CC-1000-426D-9A98-B095077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D039-C557-4A7B-902E-8E7B54E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919F-1821-4147-BFB0-BABB91A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15B4-6536-406F-9EFB-7F57A29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FE0-BAD0-426F-B616-B4196C2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029-21D8-45E2-B4F6-C1EC9FF6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54D2-30E0-4212-9A58-14854E94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2BD8-FAD9-44B1-A555-9ADF6FCA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928B-7774-420C-AC79-6365787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626E-3AB2-49A7-A5A0-98F7AC9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57B2-B3A4-4A2F-B95D-72DCB61D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977E-7995-4CD6-A5DC-7445A1C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B251-6535-4189-AD68-0102DD69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6F7E-9BA9-4395-B2A4-6F51FAB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C9EB-6021-4839-B575-3676B5E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D827-2F6C-4F66-A66F-F3308E56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8D40-899A-4D7C-95ED-B3C1ACFA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B1FE-2F82-4673-AFC7-FD6B5CE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6A19-546B-4706-97E4-6F9D5B29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ficialia de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5904EDE-373A-47B5-97C0-3A4A35B1BC6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119-EEF7-45E8-88CD-9F3E3E3ABD7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939-460E-4D51-9518-4D83ABB9CF7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E99-46D9-497C-81B1-DB3D3E5BFD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cepción de documentación del instituto para turnarse al area correspondie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os externos y se folia y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0621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turna al área correspondiente para su debido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046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bro de registro de acuse / 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773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278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9178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rchivo / encargado de oficialía de partes / auxili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ctura de correspondencia / E- mail / P-ADM-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635280"/>
            <a:ext cx="360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ctualiza lectura de correspondencia conforme a folios y se envía a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14036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Secretaria Ejecutiva el estatus de los folios recibidos y se actualiza lectura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ocumento orig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 de partes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7:52Z</dcterms:modified>
  <cp:revision>328</cp:revision>
  <dc:subject/>
  <dc:title>Presentación de PowerPoint</dc:title>
</cp:coreProperties>
</file>