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44B7-C83B-45F5-AA32-772390EA55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38A7-9F92-4163-8A3D-748538AD8B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5CB1-858D-487D-A1F9-2257642D69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82F-658E-4995-B1BF-63191071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A71-F8AB-48AC-8AD4-BC3B9F41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FD7-BBF1-4462-9E96-C1631C05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2F0-4941-4D7D-ADCC-C7430B73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B33-8589-4FC8-AB12-1B936D83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02C-484C-45E3-A0C7-72A445F1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C8B-B673-4176-8AF4-4221B7F4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DA9-F833-49AF-A0E4-CAA46EC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1FE-C16A-4720-A804-21D03CC3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65D-0D11-4571-BE54-C56282ED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1BB-FA87-438F-91C6-AD68094F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E60-4EFF-49C7-A9E5-1288FC1C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C49C-0DC2-4E59-A085-5122995A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F408-4C8E-4B98-975D-917E6B2D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7220-4B18-4314-8FAD-EFEB4AAB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0D1B-6AB0-4DDB-B1D8-EF44F445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776C-B324-417E-B357-D0633203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8839-F112-4DB5-8CFA-4BEF11D0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434E-490A-47F2-97C9-84ADCB2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43AB-3C29-4423-AD17-EE4184D3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168B-BE5A-4CAA-BBB6-83069B7A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E9B2-6D2E-4B5B-861E-7BC7AB1D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5095-D35E-4267-A9A3-61180994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3691-F7D2-4628-9937-EC94F9F4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4604-24D1-436A-969A-A70DFB4B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E8C2-04F7-4DED-AB8A-758B928A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DCC1-C571-4A8D-9D32-AFFB9DAE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8E40-C514-43CB-8DF6-38C64372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0D77-4B17-4F3D-A1ED-60A955F0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D0DB-A322-4322-9951-5BAD7A86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C1A9-8896-4BB4-8F91-53C6E20E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1497-3F4A-4420-9A0A-2A4B40E9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7D3C-6E82-46AB-A928-524C00B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DE3C-1DE4-4EAA-882A-D4178D9C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973FB-5D05-40FB-8EEA-4E8945AE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8DBE-18F6-4D2C-8F03-07B6BE53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A5F28C1-E3EA-42FC-A70C-A55F126E41E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2B7A-14A2-40BB-8D14-5459A4999F0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407F-DF9F-4319-A578-F5EF7DDA1D0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0AB0-0989-461B-B8D1-57C9D3AAFA7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organización y desarrollo de concursos de tesis, ensayo polít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elaboración y desarrollo de concursos para la ciudadanía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IEPC: Instituto Electoral y de Participación Ciudad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3" idx="2"/>
            <a:endCxn id="204" idx="0"/>
          </p:cNvCxnSpPr>
          <p:nvPr/>
        </p:nvCxnSpPr>
        <p:spPr>
          <a:xfrm flipH="1">
            <a:off x="3498120" y="2172960"/>
            <a:ext cx="183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652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laboran los contenidos de la convocatoria para su difus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53"/>
          <p:cNvSpPr/>
          <p:nvPr/>
        </p:nvSpPr>
        <p:spPr>
          <a:xfrm>
            <a:off x="1700280" y="2700360"/>
            <a:ext cx="360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funde y se reciben trabajos de participantes y se genera una relación de los trabajos recibidos y se turna a Secretaria Técnica de Comisiones para su aprobación con el jurado y fall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1"/>
          <p:cNvSpPr/>
          <p:nvPr/>
        </p:nvSpPr>
        <p:spPr>
          <a:xfrm>
            <a:off x="333360" y="4734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5"/>
          <p:cNvSpPr/>
          <p:nvPr/>
        </p:nvSpPr>
        <p:spPr>
          <a:xfrm>
            <a:off x="5373720" y="35654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COM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ido / relación de trabajos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81"/>
          <p:cNvCxnSpPr>
            <a:stCxn id="204" idx="2"/>
            <a:endCxn id="205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684"/>
          <p:cNvCxnSpPr>
            <a:stCxn id="205" idx="2"/>
            <a:endCxn id="211" idx="0"/>
          </p:cNvCxnSpPr>
          <p:nvPr/>
        </p:nvCxnSpPr>
        <p:spPr>
          <a:xfrm>
            <a:off x="3499920" y="305892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700"/>
          <p:cNvSpPr/>
          <p:nvPr/>
        </p:nvSpPr>
        <p:spPr>
          <a:xfrm>
            <a:off x="404640" y="2630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 / secretaria 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01"/>
          <p:cNvSpPr/>
          <p:nvPr/>
        </p:nvSpPr>
        <p:spPr>
          <a:xfrm>
            <a:off x="33336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66"/>
          <p:cNvSpPr/>
          <p:nvPr/>
        </p:nvSpPr>
        <p:spPr>
          <a:xfrm>
            <a:off x="5373720" y="3132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agina web del IEPC /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56"/>
          <p:cNvSpPr/>
          <p:nvPr/>
        </p:nvSpPr>
        <p:spPr>
          <a:xfrm>
            <a:off x="1700280" y="3205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publican en la pagina web del IEPC los nombres de los ganadores, fecha y lugar de la ceremo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685"/>
          <p:cNvCxnSpPr>
            <a:stCxn id="211" idx="2"/>
          </p:cNvCxnSpPr>
          <p:nvPr/>
        </p:nvCxnSpPr>
        <p:spPr>
          <a:xfrm>
            <a:off x="3499920" y="342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enera requisición para premios de los ganadores y se envía a Dirección de Administración y Finanz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ogística para ceremonia de premiación y se elaboran reconoc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2"/>
          <p:cNvCxnSpPr>
            <a:stCxn id="217" idx="2"/>
            <a:endCxn id="218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18 Rectángulo"/>
          <p:cNvSpPr/>
          <p:nvPr/>
        </p:nvSpPr>
        <p:spPr>
          <a:xfrm>
            <a:off x="1700280" y="4284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funden invitaciones para ceremonia de premiación y se entrega prem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>
            <a:stCxn id="218" idx="2"/>
            <a:endCxn id="220" idx="0"/>
          </p:cNvCxnSpPr>
          <p:nvPr/>
        </p:nvCxnSpPr>
        <p:spPr>
          <a:xfrm>
            <a:off x="3499920" y="4140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701"/>
          <p:cNvSpPr/>
          <p:nvPr/>
        </p:nvSpPr>
        <p:spPr>
          <a:xfrm>
            <a:off x="333360" y="3637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3924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15  / reconocimientos a participan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66"/>
          <p:cNvSpPr/>
          <p:nvPr/>
        </p:nvSpPr>
        <p:spPr>
          <a:xfrm>
            <a:off x="5373720" y="464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18 Rectángulo"/>
          <p:cNvSpPr/>
          <p:nvPr/>
        </p:nvSpPr>
        <p:spPr>
          <a:xfrm>
            <a:off x="1700280" y="4732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enera informe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32"/>
          <p:cNvCxnSpPr>
            <a:stCxn id="220" idx="2"/>
            <a:endCxn id="226" idx="0"/>
          </p:cNvCxnSpPr>
          <p:nvPr/>
        </p:nvCxnSpPr>
        <p:spPr>
          <a:xfrm>
            <a:off x="3499920" y="450036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22525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32"/>
          <p:cNvCxnSpPr>
            <a:stCxn id="226" idx="2"/>
          </p:cNvCxnSpPr>
          <p:nvPr/>
        </p:nvCxnSpPr>
        <p:spPr>
          <a:xfrm>
            <a:off x="3499920" y="49478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34"/>
          <p:cNvSpPr/>
          <p:nvPr/>
        </p:nvSpPr>
        <p:spPr>
          <a:xfrm>
            <a:off x="3213000" y="5219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49"/>
          <p:cNvCxnSpPr>
            <a:endCxn id="203" idx="0"/>
          </p:cNvCxnSpPr>
          <p:nvPr/>
        </p:nvCxnSpPr>
        <p:spPr>
          <a:xfrm flipH="1">
            <a:off x="3516120" y="1834920"/>
            <a:ext cx="360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716120" y="19573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labora proyecto y se presenta 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66"/>
          <p:cNvSpPr/>
          <p:nvPr/>
        </p:nvSpPr>
        <p:spPr>
          <a:xfrm>
            <a:off x="5391000" y="18702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/ 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00"/>
          <p:cNvSpPr/>
          <p:nvPr/>
        </p:nvSpPr>
        <p:spPr>
          <a:xfrm>
            <a:off x="422280" y="18860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9T14:41:13Z</dcterms:modified>
  <cp:revision>334</cp:revision>
  <dc:subject/>
  <dc:title>Presentación de PowerPoint</dc:title>
</cp:coreProperties>
</file>