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24B-33EF-4FAF-8B48-F90FBB32A3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1D4-EEA6-4D4E-90E5-69D978B0E5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2A6C-64D6-48CF-A83E-4B7FBC9015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4C7-BB0F-415F-AD3A-FD511A64D7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B72-1D85-4B6C-8E00-8866B2DA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CF5-5AEF-44C9-835B-64B9096B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1D7-00ED-42AD-8030-717E1E6C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7D0-0853-4045-89EA-25F2CA6A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A4E-ACAA-46CE-A9D4-0F90C9A0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5AA-5E52-4A11-826D-CF6DCE8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C2C-2B5F-4885-9717-8F9A5A9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65A-BD13-45AD-8C7F-B1C740F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04F-FC3C-4B3B-BBA7-EF15938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711-0A50-4FFD-85CD-72502DB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6A4-2EC9-41E7-95AB-2BE4CD57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E27-EF47-4B5C-94C6-D0E27D15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555-7A45-448A-9BE1-B9EF31DD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F95-1AA6-4C07-A323-D5740E0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021-FAE2-4126-B54A-0A3A94D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F07-1944-470F-963A-68FD0869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9B5E-1210-4FCF-9D18-03471FF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473E-7B43-43C1-958D-D081F027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3E49-2F97-4900-8D52-50EA86F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62F4-F702-491A-91C8-3BD898B2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510-8E9B-47E2-B9BB-D033FFD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386-44A8-453C-8C84-668D59F0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38C9-5ED3-467D-A07C-56CC4841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439E-60C4-4B05-B3F7-43049AFC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CB26-F151-416A-882B-7C64C4C1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FEF9-E9AF-4CBA-B6EF-54C75F2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EB69-E035-4E1B-ABD3-ABE0C7B1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9920-1CF1-46D8-9AA5-6E47C47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FF9E-16D2-4308-8C88-F5106BD7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5528-8B0E-4BD0-B7D6-2F32B61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0536-B357-4FE9-9312-BE46447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68C5-BF3A-432F-9FE0-8F54A1E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DEF6-8D86-450C-9727-9005F01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6BFE-33E2-4126-B7D9-32C16DD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2742-9607-4B8C-A2D0-C95669FE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1ABA-B1DF-4CCF-904F-BAFCF8BC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87F7AD9-2AA8-4257-9352-CED33C53C2D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4426-B630-478B-9B85-D76884217C5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5AE5-D40F-44C6-950C-CEA83011428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837A-D64B-475D-89FE-DF67130D595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o al personal directivo del IEPC sobre la información de actividades y funciones que desarrolla el instituto y recopilar y analizar información que sobre el instituto difundan los medios masivos de comunicación, mediante la elaboración de productos como la síntesis de prensa y la de monitoreo de medio electrón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el seguimiento de las notas del IEPC con todos los medio de comunic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rpeta Informativa: Recopilación de notas de interés para el IEPC, con recortes periodísticos, notas de internet, radio en el portales de intern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Master: Recopilación de notas de video en D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ódicos y artí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, Director General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ó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53:38Z</dcterms:modified>
  <cp:revision>327</cp:revision>
  <dc:subject/>
  <dc:title>Presentación de PowerPoint</dc:title>
</cp:coreProperties>
</file>