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C96-4149-49CF-A008-2808EC37DF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0670-0E47-42AC-8CAD-1EE72BB446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627-A268-4114-ABE9-160249E776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ED9-B38B-4AA5-BC1F-1AC14995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2D9-7DD0-4950-94C3-DDDC10B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1E6-9163-47F1-B196-97F5AACA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CB2-4712-4E87-BE8B-259CC9A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ACB-92DC-49A8-95BF-4AF93DA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AD2-06BD-402F-85FE-F4B62D5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B17-997E-46A9-ACE2-E745BB9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EB5-DE2C-4971-B6E1-E245487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CC4-5B9A-49E8-99C4-9CB74E7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C60-51F0-4F14-95C4-3F8FB3E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FB5-5D2D-478B-8CE8-EFFEE875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07A-FAB6-4147-A8D9-07777A1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C4E-EAC5-46AD-9B12-992D47C9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5AD7-962D-4D45-AEB6-2CE98F3F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B77-2DAC-462A-A0CE-48126630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AD76-307A-44F5-A8AE-DB645E6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2EE-689E-4131-8D92-E271FF57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9FE8-EF94-4E30-9CDD-CF5B6E7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0D2-6A27-4932-A042-20E65DE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AA74-0F09-44F4-911F-03CB3E0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5AD0-22D1-457C-891C-7385D70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5BA9-DB00-4D72-9AE2-A3BCE92D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9B33-B1E6-45E8-89AF-87AFA0E1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4CF-491A-46E8-BFBF-3E816E89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ción y seguimiento del Programa Anual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1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  <p:sp>
        <p:nvSpPr>
          <p:cNvPr id="22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CB0B798-4B3D-46C2-A42A-C54123BC6AA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82A-A389-4AB7-B997-AEF0C82F84B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466-B58E-4843-BA49-002A24E8C70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juste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ordinar  y dar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eguimiento a la ejecución y operación de actividades, programas y proyectos que conforman el Programa Anual de Actividad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 para planear y  revisar el cumplimiento del Programa Anual de Actividades del IEPC y su contenido durante el añ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7431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693800" y="461016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el Programa Anual  de Actividades y se solicita a las áreas cronograma detallado de actividades anual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700280" y="516420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y revisan los informes mensuales, semanales , la agenda y el cronograma detallado de actividades; se analiza  el avance realizado, cotejándolo con 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91000" y="4659480"/>
            <a:ext cx="12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morándum/ cron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61800" y="52736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91000" y="5145120"/>
            <a:ext cx="1278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mensuales y  semanales / agenda Cronogra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5745240"/>
            <a:ext cx="1278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 / cronograma de actividad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91000" y="2128680"/>
            <a:ext cx="1278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ronograma PAA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99960" y="20811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3360" y="5846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68280" y="6391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5848200"/>
            <a:ext cx="3600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identifican actividades pendientes o atrasos y se solicita acción correctiva para subsanar atraso y se monito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9640" y="6410160"/>
            <a:ext cx="360072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les da seguimiento y verifica su cumpl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5168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82640" y="2033640"/>
            <a:ext cx="360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lanea y coordinar las actividades  de las Direcciones para la elaboración del Proyecto d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2"/>
          <p:cNvSpPr/>
          <p:nvPr/>
        </p:nvSpPr>
        <p:spPr>
          <a:xfrm>
            <a:off x="1689120" y="3989520"/>
            <a:ext cx="360036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ite el Proyecto de Programa Anual de Actividades a Presidencia y Secretaría Ejecutiva para su respectiva aprobación por parte del Consejo General del IEP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709640" y="6964200"/>
            <a:ext cx="3600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 Director General para su revisión y toma de decis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41360" y="4084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390600" y="4653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333360" y="69642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91000" y="4084560"/>
            <a:ext cx="1278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637704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 / cronograma de actividad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694836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4"/>
          <p:cNvCxnSpPr>
            <a:stCxn id="174" idx="2"/>
          </p:cNvCxnSpPr>
          <p:nvPr/>
        </p:nvCxnSpPr>
        <p:spPr>
          <a:xfrm>
            <a:off x="3483000" y="2414520"/>
            <a:ext cx="180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84"/>
          <p:cNvCxnSpPr>
            <a:stCxn id="161" idx="2"/>
            <a:endCxn id="162" idx="0"/>
          </p:cNvCxnSpPr>
          <p:nvPr/>
        </p:nvCxnSpPr>
        <p:spPr>
          <a:xfrm>
            <a:off x="3493080" y="4968360"/>
            <a:ext cx="68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4"/>
          <p:cNvCxnSpPr>
            <a:stCxn id="162" idx="2"/>
            <a:endCxn id="171" idx="0"/>
          </p:cNvCxnSpPr>
          <p:nvPr/>
        </p:nvCxnSpPr>
        <p:spPr>
          <a:xfrm>
            <a:off x="3499920" y="566892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684"/>
          <p:cNvCxnSpPr>
            <a:stCxn id="171" idx="2"/>
            <a:endCxn id="172" idx="0"/>
          </p:cNvCxnSpPr>
          <p:nvPr/>
        </p:nvCxnSpPr>
        <p:spPr>
          <a:xfrm>
            <a:off x="3499920" y="6156000"/>
            <a:ext cx="10440" cy="25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84"/>
          <p:cNvCxnSpPr>
            <a:stCxn id="172" idx="2"/>
            <a:endCxn id="176" idx="0"/>
          </p:cNvCxnSpPr>
          <p:nvPr/>
        </p:nvCxnSpPr>
        <p:spPr>
          <a:xfrm>
            <a:off x="3509640" y="665964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4"/>
          <p:cNvCxnSpPr>
            <a:stCxn id="175" idx="2"/>
            <a:endCxn id="161" idx="0"/>
          </p:cNvCxnSpPr>
          <p:nvPr/>
        </p:nvCxnSpPr>
        <p:spPr>
          <a:xfrm>
            <a:off x="3488400" y="4468320"/>
            <a:ext cx="540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4"/>
          <p:cNvCxnSpPr>
            <a:stCxn id="176" idx="2"/>
            <a:endCxn id="173" idx="0"/>
          </p:cNvCxnSpPr>
          <p:nvPr/>
        </p:nvCxnSpPr>
        <p:spPr>
          <a:xfrm flipH="1">
            <a:off x="3499560" y="7211520"/>
            <a:ext cx="104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4"/>
          <p:cNvCxnSpPr/>
          <p:nvPr/>
        </p:nvCxnSpPr>
        <p:spPr>
          <a:xfrm flipH="1">
            <a:off x="3499560" y="190764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52"/>
          <p:cNvSpPr/>
          <p:nvPr/>
        </p:nvSpPr>
        <p:spPr>
          <a:xfrm>
            <a:off x="1689120" y="2727360"/>
            <a:ext cx="360036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los proyectos del Programa Anual de Actividades  y se revisan por  parte de los integrantes de la Dirección General, se envían observaciones y correcciones a las áreas correspondient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441360" y="28224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91000" y="2822400"/>
            <a:ext cx="1278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4"/>
          <p:cNvCxnSpPr>
            <a:stCxn id="191" idx="2"/>
          </p:cNvCxnSpPr>
          <p:nvPr/>
        </p:nvCxnSpPr>
        <p:spPr>
          <a:xfrm>
            <a:off x="3488400" y="3206880"/>
            <a:ext cx="540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2"/>
          <p:cNvSpPr/>
          <p:nvPr/>
        </p:nvSpPr>
        <p:spPr>
          <a:xfrm>
            <a:off x="1689120" y="3348000"/>
            <a:ext cx="360036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los Proyectos del Programa Anual de Actividades y se les da una ultima revi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41360" y="3443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91000" y="3443400"/>
            <a:ext cx="1278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4"/>
          <p:cNvCxnSpPr>
            <a:stCxn id="195" idx="2"/>
          </p:cNvCxnSpPr>
          <p:nvPr/>
        </p:nvCxnSpPr>
        <p:spPr>
          <a:xfrm>
            <a:off x="3488400" y="3827520"/>
            <a:ext cx="540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1T17:13:20Z</dcterms:modified>
  <cp:revision>326</cp:revision>
  <dc:subject/>
  <dc:title>Presentación de PowerPoint</dc:title>
</cp:coreProperties>
</file>