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E541-8839-43E6-B030-9657E4FA93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089-3FC8-4C0A-B4D5-661E2CC212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743-172B-480E-97D4-08AEF52D26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016-B431-40C7-84BB-DD2BED38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E07-FC77-44D4-90D1-5703CC36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4D5-42EA-4F3F-BC94-5EF05748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5CE-EFE8-4073-B22C-520378A4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9FB-DC64-434A-8C33-80527695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538-B1B2-45F9-9502-FFB14D21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D5D-4528-4B69-BEBA-5BE2BA3D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CF2-22E2-4471-9BEE-01196D4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373-191C-4BDF-BC82-D77ED92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277-73D2-4D09-9790-69DE92F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FA3-B26A-490A-8260-F61D1670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1AF-8F54-4621-984E-ACCD4879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811-3E42-4532-86D1-AF070A15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6DB6-B3AE-451C-9692-3E3B1518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4D0-C8CE-4B7A-A48F-5940242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553A-6F90-4AD9-8AE2-AD74D186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4420-2253-4A67-B821-139E6B4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B76E-C1DB-4F1B-B4CE-7F28E694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8E2B-110B-4256-98E1-0793BEFD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5F3C-A595-4BBF-A0A6-C4E9FFDF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658F-6AD8-4BE2-9298-23EF6A5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D8D-3C26-4C43-9FCC-72FAFC64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AD9-B1B7-4F8C-A515-CAA771D2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9D30-742F-42A1-8A17-ADB56520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jecución de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AFC835D-BA9F-4C0F-BAA1-D1A3CDAAAD4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5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8EE3-43F1-42C1-AA8F-D23F05DDB2F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F113-11A4-4322-A08C-5582BC3ED2C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referencias, actividades y nombre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actividades en 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icientar la ejecución y operación de las actividades de las Direccion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y dar seguimiento a las actividades de la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21956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2360520"/>
            <a:ext cx="3960" cy="26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6290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correspondencia de la Dirección General vía E-mail y la registra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3203640"/>
            <a:ext cx="3600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n diariamente los registros de folios y correspondencia para estar informado de las actividades de las Direcc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78000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3132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lios /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916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3492000"/>
            <a:ext cx="216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32050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 de Departamento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 de Departamento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4356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2629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lios /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0"/>
          <p:cNvSpPr/>
          <p:nvPr/>
        </p:nvSpPr>
        <p:spPr>
          <a:xfrm>
            <a:off x="404640" y="2556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37800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Los encargados del área correspondiente informan a DG de asuntos importantes y se les da segu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6"/>
          <p:cNvSpPr/>
          <p:nvPr/>
        </p:nvSpPr>
        <p:spPr>
          <a:xfrm>
            <a:off x="1700280" y="435600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tejan las actividades de las Direcciones con el informe semanal y agenda de las direcc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68" idx="2"/>
            <a:endCxn id="175" idx="0"/>
          </p:cNvCxnSpPr>
          <p:nvPr/>
        </p:nvCxnSpPr>
        <p:spPr>
          <a:xfrm>
            <a:off x="3499920" y="4067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/>
          <p:nvPr/>
        </p:nvCxnSpPr>
        <p:spPr>
          <a:xfrm>
            <a:off x="3499920" y="464508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Oval 34"/>
          <p:cNvSpPr/>
          <p:nvPr/>
        </p:nvSpPr>
        <p:spPr>
          <a:xfrm>
            <a:off x="3213000" y="5076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23T15:01:40Z</dcterms:modified>
  <cp:revision>311</cp:revision>
  <dc:subject/>
  <dc:title>Presentación de PowerPoint</dc:title>
</cp:coreProperties>
</file>