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EEC6-5521-4B3E-90E1-4AFAC2B53C6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7EA1-33B9-4AD3-9948-5E7127585F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2D50-A99D-4E66-B636-061666F14C3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CDA-4EB7-4D20-B6A4-DD84E99A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0D96-5C45-48D3-B9BA-8D9D0264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3E0F-4D75-436D-8DE1-401CFB22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1AB-22B0-4101-A7A5-9DCAE247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993-EBB2-4C01-8301-41EDC37E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1B88-ECDA-4FEF-BD3C-0A4F258C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CC9E-FD60-435A-9FB6-A57BC7B7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3F53-D758-41BC-9DE4-3E33C5A7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8CC-56B3-465D-BC77-EFF8018D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2AA6-DE7A-4B1F-8AC2-65F58D90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9B41-911C-42B5-9726-0AF26133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A349-53F9-4621-B286-849361D2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21A9-AC12-4E73-B9E1-BAA5F5D6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C172-86BE-41A5-B9BC-300A4C1D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88F4-89F6-4F4E-82A4-F4DB0721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3D82-6711-46CB-BF69-18B95FCA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A1CC-80C3-421C-91C2-FCC7E60E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2EAD-AF50-4A50-A43C-193FCD42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B41B-B16D-4570-AE43-087BAAEE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162E-0CDE-4AD2-B28B-19D04247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1FBA-B5FB-4ACB-AFC5-16FE07B1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196E-46EC-4BEF-B9D2-B1A63F6E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5C31-F251-4874-82DF-B747239C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3114-E21D-4B55-8C73-0D421766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FE4FF-39CB-4EF3-B2F5-66949566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9DDF2-B3F8-4C42-BCEE-A8FC7E8E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CCEFA-E7FF-4573-B77E-24760E19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B3BFE-E747-4EA7-9F19-E99BB632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61086-CA74-496F-836E-A999922D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4DD81-84DF-4D5F-8568-68A4F1DA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F33E9-EEB7-4248-ABA9-6CEB49A9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D975D-233D-448E-B305-68F5F083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D2F2C-540B-4412-A3F5-5C0DBB39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DFECE-452F-4B7F-A933-36727665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183E6-0FDC-4C82-B916-E49746FF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8F9E8-3D8F-4DE8-B0AC-815D437F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tencion a medios de comun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F4E40A1C-D7D8-4534-85AB-DBDF9A3D2080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7935840"/>
            <a:ext cx="358920" cy="619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7658280"/>
            <a:ext cx="433440" cy="83160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-OPE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01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-07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9CBE-3C6C-47F7-A422-72ACF9B505B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7C8D-7FBF-4313-B85D-2736DF375F0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8EE2-2F6C-4E8C-9588-E23125AB50F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-07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Proporcionar información a los representantes de los medios de comunica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atender a las peticiones de información del IEPC que solicitan los medio de comunicación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9810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14596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268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cibe solicitud de información y se registra en concentrado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700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informa al director para evaluación de información solici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34941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ncentrado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70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de información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484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2916360"/>
            <a:ext cx="21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700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ersonal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1878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1338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utoriza la entrega de información y se ordena la recolección de la mis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</p:cNvCxnSpPr>
          <p:nvPr/>
        </p:nvCxnSpPr>
        <p:spPr>
          <a:xfrm>
            <a:off x="3499920" y="33494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información al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>
            <a:stCxn id="214" idx="2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3421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ersonal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2181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de información / P-OPE-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0"/>
          <p:cNvSpPr/>
          <p:nvPr/>
        </p:nvSpPr>
        <p:spPr>
          <a:xfrm>
            <a:off x="404640" y="226836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ersonal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4"/>
          <p:cNvSpPr/>
          <p:nvPr/>
        </p:nvSpPr>
        <p:spPr>
          <a:xfrm>
            <a:off x="3213000" y="385128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ADMINISTRADOR IEEJ</cp:lastModifiedBy>
  <cp:lastPrinted>2013-07-10T16:43:55Z</cp:lastPrinted>
  <dcterms:modified xsi:type="dcterms:W3CDTF">2013-07-10T16:44:06Z</dcterms:modified>
  <cp:revision>329</cp:revision>
  <dc:subject/>
  <dc:title>Presentación de PowerPoint</dc:title>
</cp:coreProperties>
</file>