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4952-19F1-4A39-B58A-46BF192F56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9116-54EE-4328-8F12-60ABA313E3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6C49-1199-4E54-89BA-E0BC28F9FB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040-0246-4122-BAB7-A3CB12C5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707-E8D0-490A-9075-667C5390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831-87B1-4FAF-A49A-BC317408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F10-224C-4448-8690-D30EA0AE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A71-6979-421D-ABE6-A1D5C255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D6B-66B5-4C69-B749-39A942C9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69A-831E-4921-9A7F-6735874E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549-B92E-4304-8108-C13C111D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5E3-9494-4A60-822E-C639C20E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498-1FCF-4A80-BE61-EB7F3788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823-8D94-4001-B56E-502CC590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B77-C3D2-4892-AA8F-321022D2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629B-36BB-4B79-BCEB-F5EE8739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18A4-463E-4C08-955F-B830DA53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3981-FEF9-404B-8C68-C9646741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B721-F35A-4115-B74D-BC0FDB73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0A8D-5A06-4FC4-ADA8-7C4C9C74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F579-0F4E-4AC3-88CE-0E8B5F11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FDBD-125D-4C34-9ABD-759BE093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8F1E-BB9A-4EFD-AF15-736E573E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7E62-7A06-4269-B9E0-62DEA48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9324-BC22-477C-8C6E-2A68BD4F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539D-2039-4246-9FD7-057A77EE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8946-87DD-4128-9895-36DF6FF9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8258-38FB-4731-884C-B6D043C9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BBF9-93D1-4A43-8FE9-A2FA42B0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89392-C10B-4A24-90DF-D5F4A1B2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9D50-73FE-4982-8D0E-11C602B9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4B94-5E40-4266-BE08-F7EE5716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88AF-BF03-4CA8-91DF-8757B311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3DDC-D99D-4E07-B1EF-1480F1D1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761B-4D6A-4F9D-84A8-F15C34D1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CE387-B4F7-47F8-B7BA-898282D7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27EF3-6FDF-4B26-A819-E29DC500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6FC7-EBD9-49BD-9746-A675666C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4B2D6-4EC8-4018-B881-5432D8DD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valuación y segu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9885E80-B0EA-4B0E-A457-26CEF622DCB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9153-1EF7-4C53-AC8C-EA641E97260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C734-065F-462C-882E-01D87B842A9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A1C9-420C-49AB-9D91-69DFA69A3A9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valuar, supervisar y dar seguimiento a las actividades de capacitación que realizan los CAES mediante los reportes de productividad que arroja el SINS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de evaluación y seguimiento aplica para dar seguimiento a las actividades de los CAES en el proceso de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NSEL: Sistema de Información y Seguimiento Elec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AES:  Capacitadores Asistentes Electo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ZORES: Zona de Responsa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ARES: Areas de Responsa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analizan las necesidades del sistema electrónico para evaluación y seguimiento de la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700280" y="2484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software y se realiza el man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37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T-OPE-01 / P-OPE-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840" y="219564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 flipH="1">
            <a:off x="3499560" y="2700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4861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84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771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 información de personal eventual de capacit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vinculación distrital con los coordinadores distrital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rean ZORES con subcoordinadores (áreas geográficas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signan ARES a capacitadores en el sist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27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564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3718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 información recabada y se archivan docum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00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 para SINSE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32"/>
          <p:cNvCxnSpPr>
            <a:stCxn id="225" idx="2"/>
          </p:cNvCxnSpPr>
          <p:nvPr/>
        </p:nvCxnSpPr>
        <p:spPr>
          <a:xfrm>
            <a:off x="3499920" y="45874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34"/>
          <p:cNvSpPr/>
          <p:nvPr/>
        </p:nvSpPr>
        <p:spPr>
          <a:xfrm>
            <a:off x="3213000" y="6443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1"/>
          <p:cNvSpPr/>
          <p:nvPr/>
        </p:nvSpPr>
        <p:spPr>
          <a:xfrm>
            <a:off x="333360" y="48610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pturi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66"/>
          <p:cNvSpPr/>
          <p:nvPr/>
        </p:nvSpPr>
        <p:spPr>
          <a:xfrm>
            <a:off x="5373720" y="477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valuaciones / 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18 Rectángulo"/>
          <p:cNvSpPr/>
          <p:nvPr/>
        </p:nvSpPr>
        <p:spPr>
          <a:xfrm>
            <a:off x="1700280" y="4859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alizan evaluaciones y se  emiten reportes de productividad de CAES y en base a lo obtenido se realizan supervis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AutoShape 32"/>
          <p:cNvCxnSpPr>
            <a:stCxn id="234" idx="2"/>
          </p:cNvCxnSpPr>
          <p:nvPr/>
        </p:nvCxnSpPr>
        <p:spPr>
          <a:xfrm>
            <a:off x="3499920" y="5075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Rectangle 661"/>
          <p:cNvSpPr/>
          <p:nvPr/>
        </p:nvSpPr>
        <p:spPr>
          <a:xfrm>
            <a:off x="333360" y="5381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  /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5292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18 Rectángulo"/>
          <p:cNvSpPr/>
          <p:nvPr/>
        </p:nvSpPr>
        <p:spPr>
          <a:xfrm>
            <a:off x="1700280" y="53802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aban datos de funcionarios de cas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32"/>
          <p:cNvCxnSpPr>
            <a:stCxn id="238" idx="2"/>
          </p:cNvCxnSpPr>
          <p:nvPr/>
        </p:nvCxnSpPr>
        <p:spPr>
          <a:xfrm>
            <a:off x="3499920" y="55954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Rectangle 661"/>
          <p:cNvSpPr/>
          <p:nvPr/>
        </p:nvSpPr>
        <p:spPr>
          <a:xfrm>
            <a:off x="333360" y="58849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C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ordinadores centrales /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6"/>
          <p:cNvSpPr/>
          <p:nvPr/>
        </p:nvSpPr>
        <p:spPr>
          <a:xfrm>
            <a:off x="5373720" y="5796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onocimientos / 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18 Rectángulo"/>
          <p:cNvSpPr/>
          <p:nvPr/>
        </p:nvSpPr>
        <p:spPr>
          <a:xfrm>
            <a:off x="1700280" y="58831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n reportes de productividad y se supervisa y toman acciones correctivas y se entregan reconocimiento a capacitado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32"/>
          <p:cNvCxnSpPr>
            <a:stCxn id="242" idx="2"/>
            <a:endCxn id="231" idx="0"/>
          </p:cNvCxnSpPr>
          <p:nvPr/>
        </p:nvCxnSpPr>
        <p:spPr>
          <a:xfrm>
            <a:off x="3499920" y="6098760"/>
            <a:ext cx="2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8T20:46:41Z</dcterms:modified>
  <cp:revision>335</cp:revision>
  <dc:subject/>
  <dc:title>Presentación de PowerPoint</dc:title>
</cp:coreProperties>
</file>