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B07-717D-40A3-9793-DF8B2C2A83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CB6B-29D8-4CEA-BA26-CE1D2CA3AF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1057-A570-47A2-A9B1-5CF25062C4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167-87B6-422F-8633-C25267B2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25E-290D-475A-8FFA-5283239C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2FC-BA9B-4C35-B953-ACE3A8F9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F52-762F-4E8C-8116-04176B1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28D-C365-4BB8-82D7-203B350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462-E924-48CD-8063-38B178BF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1F1-58DC-4F9E-9B0A-CEF6105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BBA-3CDA-45F1-860E-A3836DA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B93-B879-49E2-B075-772551F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FD1-76EB-4577-AB89-C444E9E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6D6-D291-45B1-958B-DCBA418E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475-E189-4F35-BA24-FE4229C0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38C8-D2F0-41BD-889D-3E385BF9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CBD2-D5BE-4CFD-B7C0-BB91E29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6234-7BC9-40F8-91B9-35D8F9C4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5B52-7E73-420D-9AA9-D7BDDDED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3317-3BAA-4A0C-AB51-F33C2765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1EE-9B96-4F8E-8202-9AD9629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14C-E15E-490E-882F-75964BE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FE74-B022-4F17-94CF-BBF1C40E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6669-BFAD-4335-9117-81E5480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AA7-E3B1-4B26-966E-72B18F56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441-5E0B-4E00-BBDA-BA58E55C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A511-ED3D-4BA5-8B98-4761A7A1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Not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E77E6CD-BED6-454B-9021-A277C5B8055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397-B2D4-4C8A-B958-D478B02D6D4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E967-587E-4884-9E59-7F999E94D28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notificación de documentos de parte del Instituto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documentación a notificar  de las áreas y se clasi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876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notificaciones recibida y entregadas / certificaciones /formato de notificaciones por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5145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 en los acuses de oficios notifi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1908000"/>
            <a:ext cx="1278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notificaciones recibidas y entregadas / formato de notificaciones por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333360" y="212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1"/>
          <p:cNvSpPr/>
          <p:nvPr/>
        </p:nvSpPr>
        <p:spPr>
          <a:xfrm>
            <a:off x="333360" y="33876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6 Rombo"/>
          <p:cNvSpPr/>
          <p:nvPr/>
        </p:nvSpPr>
        <p:spPr>
          <a:xfrm>
            <a:off x="3090960" y="30448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7 CuadroTexto"/>
          <p:cNvSpPr/>
          <p:nvPr/>
        </p:nvSpPr>
        <p:spPr>
          <a:xfrm>
            <a:off x="3141720" y="31147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notific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64 Conector angular"/>
          <p:cNvCxnSpPr>
            <a:stCxn id="168" idx="1"/>
            <a:endCxn id="171" idx="0"/>
          </p:cNvCxnSpPr>
          <p:nvPr/>
        </p:nvCxnSpPr>
        <p:spPr>
          <a:xfrm flipV="1" rot="10800000">
            <a:off x="2456640" y="3223080"/>
            <a:ext cx="634320" cy="268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72 CuadroTexto"/>
          <p:cNvSpPr/>
          <p:nvPr/>
        </p:nvSpPr>
        <p:spPr>
          <a:xfrm>
            <a:off x="263700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64 Conector angular"/>
          <p:cNvCxnSpPr>
            <a:stCxn id="168" idx="3"/>
            <a:endCxn id="175" idx="0"/>
          </p:cNvCxnSpPr>
          <p:nvPr/>
        </p:nvCxnSpPr>
        <p:spPr>
          <a:xfrm>
            <a:off x="3948120" y="322380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5" name="Rectangle 656"/>
          <p:cNvSpPr/>
          <p:nvPr/>
        </p:nvSpPr>
        <p:spPr>
          <a:xfrm>
            <a:off x="3573360" y="342108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vanta certific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51451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50734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75"/>
          <p:cNvSpPr/>
          <p:nvPr/>
        </p:nvSpPr>
        <p:spPr>
          <a:xfrm>
            <a:off x="2349360" y="3492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3213000" y="56563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5" idx="2"/>
            <a:endCxn id="180" idx="0"/>
          </p:cNvCxnSpPr>
          <p:nvPr/>
        </p:nvCxnSpPr>
        <p:spPr>
          <a:xfrm flipH="1">
            <a:off x="4436280" y="378108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notifica seg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n la vía correspon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ublicación / notificación di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032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actualizado de SE / cuadrante de notificaciones recibidas y entregadas / formato de notificaciones por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0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56"/>
          <p:cNvSpPr/>
          <p:nvPr/>
        </p:nvSpPr>
        <p:spPr>
          <a:xfrm>
            <a:off x="3573360" y="406548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leva y actualiza cuadrante de notificaciones junto con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endCxn id="178" idx="0"/>
          </p:cNvCxnSpPr>
          <p:nvPr/>
        </p:nvCxnSpPr>
        <p:spPr>
          <a:xfrm>
            <a:off x="3499920" y="536400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0" idx="2"/>
          </p:cNvCxnSpPr>
          <p:nvPr/>
        </p:nvCxnSpPr>
        <p:spPr>
          <a:xfrm flipH="1">
            <a:off x="4436280" y="442548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49"/>
          <p:cNvCxnSpPr>
            <a:stCxn id="162" idx="2"/>
            <a:endCxn id="181" idx="0"/>
          </p:cNvCxnSpPr>
          <p:nvPr/>
        </p:nvCxnSpPr>
        <p:spPr>
          <a:xfrm>
            <a:off x="3498840" y="234000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49"/>
          <p:cNvCxnSpPr>
            <a:stCxn id="181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Oval 75"/>
          <p:cNvSpPr/>
          <p:nvPr/>
        </p:nvSpPr>
        <p:spPr>
          <a:xfrm>
            <a:off x="3068640" y="3780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284280" y="39240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0T18:28:35Z</dcterms:modified>
  <cp:revision>338</cp:revision>
  <dc:subject/>
  <dc:title>Presentación de PowerPoint</dc:title>
</cp:coreProperties>
</file>