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DCA3-D533-43B4-BFAC-E5AB502C43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37D9-E868-4221-B7E4-8BA82F71D7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029E-776C-4597-BAC9-5A46322CBF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3B73-2BCB-4727-ABDD-D1F37F4DF2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F8F-3718-425B-BB2F-5426860B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DB4-BC05-41B2-B29E-EB3247FA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627-71F0-4159-8031-980079F9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0C1-1F46-4A58-97E4-4AC68874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96C-7344-40AD-B009-B37DEA7B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555-D31C-4EFD-9A5E-D1B8481B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6C6-074D-4180-A309-0F82ACA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AFE-356B-4898-A7A4-8A8F2608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CAE-3084-4AA0-8BCF-C220711E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D0C-38EB-44A7-B145-583E7D00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94C-7516-425E-9415-B07AFA7E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A56-6387-4A0C-9344-92EBEC35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24D3-DCF8-425F-880A-5FCBC24B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A221-77B1-4FC4-AC76-4D7D01A6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C7D9-435A-4FE9-B70B-8C233AC6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21B4-439D-4BA3-8955-CF5DE956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086C-79E3-40D0-8B3D-7174EC97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866B-00C0-484B-8BAF-04498AB1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768E-BC5D-464F-B3FD-08CBAD67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B690-0CB1-4D80-86B8-C7C893BE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014E-8A7A-4DD6-9563-74BC3336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DD8F-B810-4C00-B595-63D609CF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103E-B810-44E7-ABF3-D018F593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5283-96C3-42E9-9104-8D7660EA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33AB-42C5-4705-A06F-44173209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D15FA-A7BD-4383-A83A-1B57CFB5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B3EB-2AD8-4587-A939-164677C8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A55A-308B-48FA-B90B-C125CA4A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A02B-80BB-4113-9585-0AD72D8E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0B34-E19D-443C-B7ED-1F3CEBE1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4D52-78EC-4609-B987-4D41F6C5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8B43-67E0-40D4-876C-46927C17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1BAA-2F87-4244-80C5-6400A02B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6220B-D948-48A2-853D-1D1E3A6D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45F9-EC36-4DD1-A43D-64E1AD1A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BD36-40DA-4128-B2BD-6FA6D58C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rch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38014CF9-32D0-42B4-B582-2E6F50F4CD6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-ADM-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3-05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7665-4FE7-4ED7-942D-28A1A719610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48AA-12AE-4B0D-84A5-ADF45944F60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6039-C272-42BC-AC1D-46754A1910E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especifico mas el procedimien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3-05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archivo de documentos del IEPC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3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557440"/>
            <a:ext cx="3600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documentación de las diferentes áreas del IEPC, Secretaria Ejecutiva y Presi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3132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lasifican los documentos de acuerdo a su tipo y se etiquet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42148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3116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8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348000"/>
            <a:ext cx="21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3132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763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71016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guarda en archivero correspondiente según etiqueta asig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  <a:endCxn id="214" idx="0"/>
          </p:cNvCxnSpPr>
          <p:nvPr/>
        </p:nvCxnSpPr>
        <p:spPr>
          <a:xfrm>
            <a:off x="3499920" y="39258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4213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ada 3 años se reclasifican los archivos para su reubicación dentro del IE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4428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4141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4703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 de archivo / acuse de me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4861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 / archivista / Oficial de par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57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72 Proceso"/>
          <p:cNvSpPr/>
          <p:nvPr/>
        </p:nvSpPr>
        <p:spPr>
          <a:xfrm>
            <a:off x="2276640" y="1692360"/>
            <a:ext cx="2304720" cy="215640"/>
          </a:xfrm>
          <a:prstGeom prst="flowChartProcess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Documentos para Resguar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903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557440"/>
            <a:ext cx="3600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memorándum solicitando información del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698480" y="3132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ocalizan documentos solici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3116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681"/>
          <p:cNvCxnSpPr>
            <a:stCxn id="229" idx="2"/>
            <a:endCxn id="230" idx="0"/>
          </p:cNvCxnSpPr>
          <p:nvPr/>
        </p:nvCxnSpPr>
        <p:spPr>
          <a:xfrm>
            <a:off x="3498480" y="28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AutoShape 684"/>
          <p:cNvCxnSpPr>
            <a:stCxn id="230" idx="2"/>
            <a:endCxn id="234" idx="0"/>
          </p:cNvCxnSpPr>
          <p:nvPr/>
        </p:nvCxnSpPr>
        <p:spPr>
          <a:xfrm>
            <a:off x="3498840" y="3348000"/>
            <a:ext cx="21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700"/>
          <p:cNvSpPr/>
          <p:nvPr/>
        </p:nvSpPr>
        <p:spPr>
          <a:xfrm>
            <a:off x="404640" y="3132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3763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 /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56"/>
          <p:cNvSpPr/>
          <p:nvPr/>
        </p:nvSpPr>
        <p:spPr>
          <a:xfrm>
            <a:off x="1700280" y="3710160"/>
            <a:ext cx="360036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n información requerida y se envía memorándum con la información correspondien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685"/>
          <p:cNvCxnSpPr>
            <a:stCxn id="234" idx="2"/>
          </p:cNvCxnSpPr>
          <p:nvPr/>
        </p:nvCxnSpPr>
        <p:spPr>
          <a:xfrm flipH="1">
            <a:off x="3499560" y="3997080"/>
            <a:ext cx="252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Rectangle 666"/>
          <p:cNvSpPr/>
          <p:nvPr/>
        </p:nvSpPr>
        <p:spPr>
          <a:xfrm>
            <a:off x="5373720" y="24703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 de archivo / acuse de me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0"/>
          <p:cNvSpPr/>
          <p:nvPr/>
        </p:nvSpPr>
        <p:spPr>
          <a:xfrm>
            <a:off x="404640" y="24861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 / archivista / Oficial de par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3213000" y="4211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72 Proceso"/>
          <p:cNvSpPr/>
          <p:nvPr/>
        </p:nvSpPr>
        <p:spPr>
          <a:xfrm>
            <a:off x="2276640" y="1692360"/>
            <a:ext cx="2304720" cy="215640"/>
          </a:xfrm>
          <a:prstGeom prst="flowChartProcess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Solicitud de documentos de arch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7-10T18:28:13Z</dcterms:modified>
  <cp:revision>330</cp:revision>
  <dc:subject/>
  <dc:title>Presentación de PowerPoint</dc:title>
</cp:coreProperties>
</file>