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0D8-6373-4BED-A8CE-4CE44BEA45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C2E-004A-455B-9694-FE761F8F6F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FE1-B354-4E46-AAE8-364D9A431C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492-F581-45E9-AF91-85399CB4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1B3-28C3-44C5-8D61-3138919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CC6-39F1-4D14-92C7-ACD1638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930-8610-4934-8FE4-D671714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E3F-B3EB-4A5B-8FB0-764AECF2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268-F15F-40CB-8575-E94EE3E8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A73-7C60-4149-9DC3-6E418AF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E8B-3B0F-4CAD-96A1-CC4AE72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4BB-3E18-4E1E-A3C5-4C5D5659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ACC-4615-4AAC-81EE-FD5D1F71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2A6-BAAC-42AF-8F1E-7D7DBE4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171-145C-47E8-9769-AF15DB67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F4A-4B54-43F3-931E-249A422C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8F4-9E87-448E-AF0B-E44CA722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80D5-A696-40BC-8C73-3EFF39F8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B67B-AA04-4E85-80EE-075F97E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1D1-8AA8-4E0B-8A08-5B6097D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6127-66BA-4C22-938A-F1A41942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8A70-414A-4355-B2C7-57B5029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7BE1-5BD8-447F-BE5A-21F87CD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7631-586A-40F5-99AF-C411246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019-825B-48F3-9C4B-9A9FF51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6086-9269-45C7-A3FF-0E98CF94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1206-FAF9-4494-ABE7-7CA1D505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709A-7CE5-4185-BEF8-9047702B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2BF2-A162-4921-BD97-153D223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E8D2-F29A-4725-AA17-2969ECA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01AA-42E1-49A6-B66D-F2FE8D04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986E-934A-4388-BBD8-50B0888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7391-2300-421E-AB37-10C7C71C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C1CE-AEFC-4359-A7D5-DF0F7FC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0A4E-D999-4BCC-9A28-CEDD553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C2E0-0417-41B9-83B1-B515C84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F130-F46D-41A9-9B71-1413E4A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A92F-FC0A-45AC-BCDA-91810E78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6DC6-E3F6-49F4-998F-71558A66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iticas de Imagen del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EBE17BF-7AE2-426A-AFA3-EE972014C8B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F3D-98AF-48E1-84BD-BB049F145D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A18-CFA2-4131-ADC4-16B3C487026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585B-39B6-4269-A680-643B2B09EE0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97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2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ocer el trato periodístico hacia el IEPC de los reporteros de la fuente, editorialistas y columnistas de los diversos diarios locales, presentando un informe final a la presidencia para su análisis y toma de decisiones respecto de los propios medio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aplica para la elaboración de estadísticas y revisar la imagen que los principales periódicos locales tienen del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 CONFINENCIAL: Expediente donde solo el director del area y personal de presidencia tienen acceso a su lectu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 y por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35:09Z</dcterms:modified>
  <cp:revision>328</cp:revision>
  <dc:subject/>
  <dc:title>Presentación de PowerPoint</dc:title>
</cp:coreProperties>
</file>