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08AA-5BE0-4DA5-A331-44DAE7FE1A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ED60-FB9F-4B88-938E-B0B94FF5DB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0DB6-6D4B-497D-A47A-CEA09507E2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068-6194-49BB-A8E8-4020067D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41E-19D3-422B-8A2C-A70FD3B5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84C-29C9-4B19-B4CA-1C5B7DF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61C-BA1A-40A4-A550-074132A0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50F-8120-4360-8DB1-1F606354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47A-AE82-4D02-BCB5-31C11AE0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B61-B131-431E-A0E3-43C9A597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3AD-9223-40B2-AECB-BD21893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3B1-CC42-4319-B743-AB345A67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30A-8ADC-475D-BD29-1ED94C9C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73C-D2BA-4569-9370-10897C0B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43A-C41F-4AB2-AED5-88CB89B7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5302-E095-49D8-8706-18F6B4D6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13B8-DD7F-4B7F-AEC0-F36E442C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9586-8F8D-4B4E-A9B7-5824B86B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CC3F-15BC-47CA-A420-B3823737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13A2-E795-4EDD-8A41-02947DA9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E428-7900-47C6-9070-19FEFD6A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2EC3-2171-4449-83FC-003A5A7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958B-04DA-45B5-AC7D-C0BCBB37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311B-E203-4398-B432-D9031EBF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FEA6-D185-40CA-B6EB-74DAA5EA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3F16-BAB2-493B-82B3-0DC58FDE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56B5-E6CC-41B8-B9B0-9FD5ECE0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v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BFEDDAC-F514-41BD-857A-69BD3439AA4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598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30-04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EEA-C047-4650-884F-E9190D90626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8409-F11F-4AA7-B648-256840C3077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eferencias, Actividades y 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mitir invitaciones a los proveedores a fin de que presenten cotizaciones respecto de bienes y/o servicios requeridos por las diversas área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s invitaciones que realiza la dirección hacia los proveedores para recibir cotizaciones de productos o servicios que se requiere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56120" y="16938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39440" y="18586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39800" y="198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28640" y="23241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Da vista al Consejero Presidente  de la 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45960" y="42861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15040" y="3068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15040" y="227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 flipH="1">
            <a:off x="3428280" y="2196720"/>
            <a:ext cx="118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459240" y="291456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17600" y="23432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18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15040" y="268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660680" y="3059280"/>
            <a:ext cx="360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Gira 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45960" y="349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670040" y="34686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invitaciones giradas vía correo electrónico, en su ca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644480" y="425772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la sesión en la que tendrá verificativo la apertura de los sobres con la propuest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444480" y="4066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663200" y="4700520"/>
            <a:ext cx="35974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ahoga la sesión de la Comisión de Adquisiciones en la que se adjudica a un proveedor y se elabora la minu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458880" y="448452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80880" y="3033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45960" y="3854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52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 vía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38862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658880" y="59421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Emite orden de compra al proveedor adjudic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06320" y="57261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15040" y="190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17600" y="1981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45960" y="4700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91000" y="4718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/>
          <p:nvPr/>
        </p:nvCxnSpPr>
        <p:spPr>
          <a:xfrm>
            <a:off x="3403080" y="658944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66"/>
          <p:cNvSpPr/>
          <p:nvPr/>
        </p:nvSpPr>
        <p:spPr>
          <a:xfrm>
            <a:off x="5391000" y="43419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gistro de invitaciones giradas / check li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4"/>
          <p:cNvCxnSpPr>
            <a:stCxn id="169" idx="2"/>
            <a:endCxn id="174" idx="0"/>
          </p:cNvCxnSpPr>
          <p:nvPr/>
        </p:nvCxnSpPr>
        <p:spPr>
          <a:xfrm>
            <a:off x="3460320" y="3347640"/>
            <a:ext cx="1044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Oval 34"/>
          <p:cNvSpPr/>
          <p:nvPr/>
        </p:nvSpPr>
        <p:spPr>
          <a:xfrm>
            <a:off x="3114720" y="6804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670040" y="3859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los sobres cerrados con las propuestas económ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/>
          <p:nvPr/>
        </p:nvCxnSpPr>
        <p:spPr>
          <a:xfrm>
            <a:off x="3444480" y="36637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18 Rectángulo"/>
          <p:cNvSpPr/>
          <p:nvPr/>
        </p:nvSpPr>
        <p:spPr>
          <a:xfrm flipV="1" rot="10800000">
            <a:off x="1663200" y="5237280"/>
            <a:ext cx="359748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Hace del conocimiento de los proveedores el sentido del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428640" y="5021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3"/>
          <p:cNvSpPr/>
          <p:nvPr/>
        </p:nvSpPr>
        <p:spPr>
          <a:xfrm>
            <a:off x="1628640" y="26733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leva a cabo sesión en la que se aprueba girar invitaciones a proveed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1"/>
          <p:cNvCxnSpPr>
            <a:stCxn id="163" idx="2"/>
            <a:endCxn id="197" idx="0"/>
          </p:cNvCxnSpPr>
          <p:nvPr/>
        </p:nvCxnSpPr>
        <p:spPr>
          <a:xfrm flipH="1">
            <a:off x="3428280" y="255600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01"/>
          <p:cNvSpPr/>
          <p:nvPr/>
        </p:nvSpPr>
        <p:spPr>
          <a:xfrm>
            <a:off x="345960" y="53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459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45960" y="5942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91000" y="53290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5942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Orden de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676520" y="6373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mite constancias de la compra aprobada a la Dirección Jurídica para la elaboración del contrato en su cas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/>
          <p:nvPr/>
        </p:nvCxnSpPr>
        <p:spPr>
          <a:xfrm>
            <a:off x="3403080" y="61578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Rectangle 666"/>
          <p:cNvSpPr/>
          <p:nvPr/>
        </p:nvSpPr>
        <p:spPr>
          <a:xfrm>
            <a:off x="5445000" y="63943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1"/>
          <p:cNvSpPr/>
          <p:nvPr/>
        </p:nvSpPr>
        <p:spPr>
          <a:xfrm>
            <a:off x="324000" y="6375240"/>
            <a:ext cx="1223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3-05-02T18:02:50Z</cp:lastPrinted>
  <dcterms:modified xsi:type="dcterms:W3CDTF">2013-07-06T13:42:57Z</dcterms:modified>
  <cp:revision>330</cp:revision>
  <dc:subject/>
  <dc:title>Presentación de PowerPoint</dc:title>
</cp:coreProperties>
</file>