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D801-A323-40CF-8586-6BF600D309C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E2F5-236A-4790-86FF-51389E8D06B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87A5-2FE9-4CA3-ABDB-433BF43B2FF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FAA4-B087-4C01-944E-BA0150B49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E7E2-97C7-4A24-B2CE-65B2DBB1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C2FD-04EF-4816-830E-2051BBCF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CC56-8717-4B77-8058-ED51F196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D9D1-D9C0-47D1-AB95-584FC212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CBDE-2A85-4201-ABC1-5BA131E7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54E8-9E93-4AE0-A871-88F0117A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BD67-F1A5-420C-B5AD-9ECA68E2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8EB4-89FA-4C4C-A49E-8F8F9BEC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9B94-8BA4-4232-B999-281679B4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596A-9B1C-49AB-AEB5-0CCB338D3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B2E9-971F-40EC-ACBD-9405E0E7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364C-6E68-4534-95F5-86F5283B5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6E64-B89C-4755-8E7A-87C97117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0EEF-66A3-4139-8FA8-A51ADDF3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EA6C-FC19-4956-8913-72852970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C64B-25B7-4DAC-A7C0-4F597CDF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94D0-CB3B-49DC-81C3-56536234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AD76-D15F-42E7-905C-B6A39A9A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ADA1-5CDD-4E31-923E-81C5F8A6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C9CB-AFC3-4A8B-A4AF-46FB1F0C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412D-49F9-489B-9CC4-645AC3F7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55FF-84C2-430D-8DBF-6FAD058D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84E5-AC07-4E3C-8E2D-DC3DF8B2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E45C2-F5A0-4DE4-A445-477CE69F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22E74-8C65-4C79-B674-1E85D2CB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98E7C-A5CB-40A0-9B41-9D9BF941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4B5F3-FD6A-4269-9568-9B605968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0111C-B964-4D42-821B-67D4E417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FC2D5-02E5-4DEC-B103-DA86D4DA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97486-67AB-4533-99E6-26EFC489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9D8E0-8E0D-460C-A6EF-6AC76713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5D065-1DD3-4EF9-8776-F5F951B5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E7F35-7BB2-45AA-BE91-0B643F88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1C7DE-25C8-46C7-9DD1-EEC5F4CC1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FD2E2-2AB2-4C50-8DCC-4BB39EAF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Atención a eventos realizados por IE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C8F75881-FB5B-46EF-A35A-EFC90B8DB011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Comunicación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B051-4171-4C90-9C19-4053B87DB305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4304-B050-469E-95DD-4F7E59F9D745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DA41-8242-4B63-95EF-DF6B878083F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tender las diversas necesidades de las actividades de las diferentes Direcciones, cumpliendo en tiempo y forma con lo solicitad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l procedimiento mencionado a continuación es para colaborar con los eventos que lleva el IEPC, los cuales requieren ayuda técni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N/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aba o se recibe información para eventos que realiza el IEPC por parte de Dirección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698480" y="24843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la invitación o desplegados con orden del día a medios de comunicación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n con espec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1"/>
          <p:cNvSpPr/>
          <p:nvPr/>
        </p:nvSpPr>
        <p:spPr>
          <a:xfrm>
            <a:off x="333360" y="41403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5"/>
          <p:cNvSpPr/>
          <p:nvPr/>
        </p:nvSpPr>
        <p:spPr>
          <a:xfrm>
            <a:off x="5373720" y="32050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66"/>
          <p:cNvSpPr/>
          <p:nvPr/>
        </p:nvSpPr>
        <p:spPr>
          <a:xfrm>
            <a:off x="5373720" y="24685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rden del día / invitación / ordenes de inser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681"/>
          <p:cNvCxnSpPr>
            <a:stCxn id="203" idx="2"/>
            <a:endCxn id="204" idx="0"/>
          </p:cNvCxnSpPr>
          <p:nvPr/>
        </p:nvCxnSpPr>
        <p:spPr>
          <a:xfrm>
            <a:off x="3498480" y="219564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684"/>
          <p:cNvCxnSpPr>
            <a:stCxn id="204" idx="2"/>
            <a:endCxn id="210" idx="0"/>
          </p:cNvCxnSpPr>
          <p:nvPr/>
        </p:nvCxnSpPr>
        <p:spPr>
          <a:xfrm>
            <a:off x="3498840" y="270000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Rectangle 700"/>
          <p:cNvSpPr/>
          <p:nvPr/>
        </p:nvSpPr>
        <p:spPr>
          <a:xfrm>
            <a:off x="404640" y="234000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66"/>
          <p:cNvSpPr/>
          <p:nvPr/>
        </p:nvSpPr>
        <p:spPr>
          <a:xfrm>
            <a:off x="5373720" y="289872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vi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56"/>
          <p:cNvSpPr/>
          <p:nvPr/>
        </p:nvSpPr>
        <p:spPr>
          <a:xfrm>
            <a:off x="1700280" y="284472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promociona el evento a medio de comun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AutoShape 685"/>
          <p:cNvCxnSpPr>
            <a:stCxn id="210" idx="2"/>
          </p:cNvCxnSpPr>
          <p:nvPr/>
        </p:nvCxnSpPr>
        <p:spPr>
          <a:xfrm>
            <a:off x="3499920" y="30603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Rectangle 701"/>
          <p:cNvSpPr/>
          <p:nvPr/>
        </p:nvSpPr>
        <p:spPr>
          <a:xfrm>
            <a:off x="333360" y="34909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18 Rectángulo"/>
          <p:cNvSpPr/>
          <p:nvPr/>
        </p:nvSpPr>
        <p:spPr>
          <a:xfrm>
            <a:off x="1700280" y="3203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habilita el lugar y se recaba la información para su difusión y se entrega a medio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18 Rectángulo"/>
          <p:cNvSpPr/>
          <p:nvPr/>
        </p:nvSpPr>
        <p:spPr>
          <a:xfrm>
            <a:off x="1700280" y="3564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lleva logística del evento en medios de comunicación y se realiza boletín informativo y se actualizan redes soci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AutoShape 32"/>
          <p:cNvCxnSpPr>
            <a:stCxn id="216" idx="2"/>
            <a:endCxn id="217" idx="0"/>
          </p:cNvCxnSpPr>
          <p:nvPr/>
        </p:nvCxnSpPr>
        <p:spPr>
          <a:xfrm>
            <a:off x="3499920" y="341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18 Rectángulo"/>
          <p:cNvSpPr/>
          <p:nvPr/>
        </p:nvSpPr>
        <p:spPr>
          <a:xfrm>
            <a:off x="1700280" y="3924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boletín para darlo a conocer a medios y se revisa con director para VoB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AutoShape 32"/>
          <p:cNvCxnSpPr>
            <a:stCxn id="217" idx="2"/>
            <a:endCxn id="219" idx="0"/>
          </p:cNvCxnSpPr>
          <p:nvPr/>
        </p:nvCxnSpPr>
        <p:spPr>
          <a:xfrm>
            <a:off x="3499920" y="377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" name="Rectangle 701"/>
          <p:cNvSpPr/>
          <p:nvPr/>
        </p:nvSpPr>
        <p:spPr>
          <a:xfrm>
            <a:off x="333360" y="3132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701"/>
          <p:cNvSpPr/>
          <p:nvPr/>
        </p:nvSpPr>
        <p:spPr>
          <a:xfrm>
            <a:off x="333360" y="3851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comunicación / director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66"/>
          <p:cNvSpPr/>
          <p:nvPr/>
        </p:nvSpPr>
        <p:spPr>
          <a:xfrm>
            <a:off x="5373720" y="35640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otos / video / boletín informa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66"/>
          <p:cNvSpPr/>
          <p:nvPr/>
        </p:nvSpPr>
        <p:spPr>
          <a:xfrm>
            <a:off x="5373720" y="4284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Video  / audio / fo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18 Rectángulo"/>
          <p:cNvSpPr/>
          <p:nvPr/>
        </p:nvSpPr>
        <p:spPr>
          <a:xfrm>
            <a:off x="1700280" y="42829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organiza rueda de prensa con evidencias de video, audio y fotos ( se eliminan en un lapso de 2 día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AutoShape 32"/>
          <p:cNvCxnSpPr>
            <a:stCxn id="219" idx="2"/>
            <a:endCxn id="225" idx="0"/>
          </p:cNvCxnSpPr>
          <p:nvPr/>
        </p:nvCxnSpPr>
        <p:spPr>
          <a:xfrm>
            <a:off x="3499920" y="4140360"/>
            <a:ext cx="1080" cy="14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32"/>
          <p:cNvCxnSpPr/>
          <p:nvPr/>
        </p:nvCxnSpPr>
        <p:spPr>
          <a:xfrm>
            <a:off x="3347640" y="485136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Rectangle 666"/>
          <p:cNvSpPr/>
          <p:nvPr/>
        </p:nvSpPr>
        <p:spPr>
          <a:xfrm>
            <a:off x="5373720" y="18921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rden del día / P-ADM-15 / P-OPE-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700"/>
          <p:cNvSpPr/>
          <p:nvPr/>
        </p:nvSpPr>
        <p:spPr>
          <a:xfrm>
            <a:off x="404640" y="190800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61"/>
          <p:cNvSpPr/>
          <p:nvPr/>
        </p:nvSpPr>
        <p:spPr>
          <a:xfrm>
            <a:off x="333360" y="47163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66"/>
          <p:cNvSpPr/>
          <p:nvPr/>
        </p:nvSpPr>
        <p:spPr>
          <a:xfrm>
            <a:off x="5373720" y="47880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boletín informativ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18 Rectángulo"/>
          <p:cNvSpPr/>
          <p:nvPr/>
        </p:nvSpPr>
        <p:spPr>
          <a:xfrm>
            <a:off x="1700280" y="478800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y difunde a reporteros de la fuente y jefes de información junto con la edició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32"/>
          <p:cNvCxnSpPr>
            <a:stCxn id="225" idx="2"/>
            <a:endCxn id="232" idx="0"/>
          </p:cNvCxnSpPr>
          <p:nvPr/>
        </p:nvCxnSpPr>
        <p:spPr>
          <a:xfrm>
            <a:off x="3499920" y="449856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AutoShape 32"/>
          <p:cNvCxnSpPr>
            <a:stCxn id="232" idx="2"/>
          </p:cNvCxnSpPr>
          <p:nvPr/>
        </p:nvCxnSpPr>
        <p:spPr>
          <a:xfrm>
            <a:off x="3499920" y="5003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Rectangle 661"/>
          <p:cNvSpPr/>
          <p:nvPr/>
        </p:nvSpPr>
        <p:spPr>
          <a:xfrm>
            <a:off x="333360" y="51498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 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66"/>
          <p:cNvSpPr/>
          <p:nvPr/>
        </p:nvSpPr>
        <p:spPr>
          <a:xfrm>
            <a:off x="5373720" y="5148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pot publicitari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18 Rectángulo"/>
          <p:cNvSpPr/>
          <p:nvPr/>
        </p:nvSpPr>
        <p:spPr>
          <a:xfrm>
            <a:off x="1700280" y="51498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analiza la trascendencia del evento y si es necesario se realizaran una capsula de video para su difusión en redes sociales del IEP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66"/>
          <p:cNvSpPr/>
          <p:nvPr/>
        </p:nvSpPr>
        <p:spPr>
          <a:xfrm>
            <a:off x="5373720" y="39798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oletín informativ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Oval 34"/>
          <p:cNvSpPr/>
          <p:nvPr/>
        </p:nvSpPr>
        <p:spPr>
          <a:xfrm>
            <a:off x="3213000" y="565164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AutoShape 32"/>
          <p:cNvCxnSpPr>
            <a:endCxn id="239" idx="0"/>
          </p:cNvCxnSpPr>
          <p:nvPr/>
        </p:nvCxnSpPr>
        <p:spPr>
          <a:xfrm>
            <a:off x="3499920" y="5363640"/>
            <a:ext cx="252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4-17T14:45:44Z</dcterms:modified>
  <cp:revision>327</cp:revision>
  <dc:subject/>
  <dc:title>Presentación de PowerPoint</dc:title>
</cp:coreProperties>
</file>