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6532-9873-4FD1-9A83-EAC1883AAAB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4396-6F4B-4DAD-9159-02FC21BE7BA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4034-6F8D-456C-B4AC-B1055363536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F1B7-B73C-4B9B-8D63-304D2F2B2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D0B5-8A21-4783-9A7A-E5B847BF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0378-7684-4061-A559-F1D94A904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7E25-C537-4113-93D1-42B1DFBD2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13C3-722E-4B47-8D89-9A4F4DB9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7F48-CC9C-470E-B587-EBC6EF85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4420-88B5-427F-AF47-427E1665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62C0-CB9E-4966-891A-2D488858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169B-3635-4CD2-8A29-122146E6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3AE5-628A-475C-B461-9605508C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3E8B-BB9E-4323-BED8-2CF1599CA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2E59-00F4-479D-B2FF-18B9AD4E3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F57BF-D007-438E-A624-073865115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3F48-53DE-4359-956E-13408F4F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B5EB-0751-4956-82DD-E288B15C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05DE-D172-445D-877B-23BC2C8B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064D0-92D9-4F65-B3AF-797507BE9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2DF13-F8E7-46F5-B717-57A039BE9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7A1FE-E115-42C7-A18A-8E63D5B3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49148-6302-42F0-8813-5959FF0D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84B9-CD5B-48B3-BB68-3D7A970C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D1940-D64C-43EE-8CD3-DFB931BA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D724F-7394-4AFC-8D12-214978CE8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EC425-8985-4D68-837D-2129463EE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cit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ABFFC468-C6E1-491C-BE9F-22BCA6657421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382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a Secretaria Técnica de Com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OPE-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30-04-1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E6B8-79FA-4328-B4D7-20B1BB79A4B1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EEB1-EA8A-41B8-9934-697E6AE59276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mbio de actividades, registros y personal respons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-12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Personal respons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30-04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Dotar de los bienes y servicio que requiera el instituto sujetos a procedimientos de licita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las licitaciones que el IEPC realiza para solicitar productos o servicios mayores a un monto determinado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Recibe requisición o instrucción del Consejo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3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Elabora bases, convocatoria  y especificaciones técnicas en conjunción con área solicitante para aprob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1"/>
          <p:cNvSpPr/>
          <p:nvPr/>
        </p:nvSpPr>
        <p:spPr>
          <a:xfrm>
            <a:off x="333360" y="428472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la dir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5"/>
          <p:cNvSpPr/>
          <p:nvPr/>
        </p:nvSpPr>
        <p:spPr>
          <a:xfrm>
            <a:off x="5373720" y="306072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Bases y especificaciones técnic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AutoShape 684"/>
          <p:cNvCxnSpPr>
            <a:endCxn id="169" idx="0"/>
          </p:cNvCxnSpPr>
          <p:nvPr/>
        </p:nvCxnSpPr>
        <p:spPr>
          <a:xfrm>
            <a:off x="3517920" y="284292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Rectangle 700"/>
          <p:cNvSpPr/>
          <p:nvPr/>
        </p:nvSpPr>
        <p:spPr>
          <a:xfrm>
            <a:off x="404640" y="2341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Dir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01"/>
          <p:cNvSpPr/>
          <p:nvPr/>
        </p:nvSpPr>
        <p:spPr>
          <a:xfrm>
            <a:off x="333360" y="270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Dir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66"/>
          <p:cNvSpPr/>
          <p:nvPr/>
        </p:nvSpPr>
        <p:spPr>
          <a:xfrm>
            <a:off x="5373720" y="26272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memoránd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56"/>
          <p:cNvSpPr/>
          <p:nvPr/>
        </p:nvSpPr>
        <p:spPr>
          <a:xfrm>
            <a:off x="1719360" y="2987640"/>
            <a:ext cx="3600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Recibe solicitudes de aclaración de empresas sobre las bases de la Licit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01"/>
          <p:cNvSpPr/>
          <p:nvPr/>
        </p:nvSpPr>
        <p:spPr>
          <a:xfrm>
            <a:off x="333360" y="34671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la dir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18 Rectángulo"/>
          <p:cNvSpPr/>
          <p:nvPr/>
        </p:nvSpPr>
        <p:spPr>
          <a:xfrm>
            <a:off x="1728720" y="34671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Determina la logística de la junta de aclara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18 Rectángulo"/>
          <p:cNvSpPr/>
          <p:nvPr/>
        </p:nvSpPr>
        <p:spPr>
          <a:xfrm>
            <a:off x="1717560" y="4264200"/>
            <a:ext cx="360072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aliza visitas de inspección y levanta acta respectiv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AutoShape 32"/>
          <p:cNvCxnSpPr>
            <a:endCxn id="175" idx="0"/>
          </p:cNvCxnSpPr>
          <p:nvPr/>
        </p:nvCxnSpPr>
        <p:spPr>
          <a:xfrm>
            <a:off x="3517560" y="4073400"/>
            <a:ext cx="1080" cy="19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18 Rectángulo"/>
          <p:cNvSpPr/>
          <p:nvPr/>
        </p:nvSpPr>
        <p:spPr>
          <a:xfrm flipV="1" rot="10800000">
            <a:off x="1722600" y="4698000"/>
            <a:ext cx="3597120" cy="32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aliza logística de desahogo del acto de presentación de  propuestas técnicas y  económicas y apertura de propuestas técnicas y elabora el acta respectiv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AutoShape 32"/>
          <p:cNvCxnSpPr>
            <a:endCxn id="177" idx="1"/>
          </p:cNvCxnSpPr>
          <p:nvPr/>
        </p:nvCxnSpPr>
        <p:spPr>
          <a:xfrm>
            <a:off x="3517560" y="4483080"/>
            <a:ext cx="39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9" name="Rectangle 701"/>
          <p:cNvSpPr/>
          <p:nvPr/>
        </p:nvSpPr>
        <p:spPr>
          <a:xfrm>
            <a:off x="351000" y="3024360"/>
            <a:ext cx="1225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701"/>
          <p:cNvSpPr/>
          <p:nvPr/>
        </p:nvSpPr>
        <p:spPr>
          <a:xfrm>
            <a:off x="333360" y="385272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66"/>
          <p:cNvSpPr/>
          <p:nvPr/>
        </p:nvSpPr>
        <p:spPr>
          <a:xfrm>
            <a:off x="5373720" y="356544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heck li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66"/>
          <p:cNvSpPr/>
          <p:nvPr/>
        </p:nvSpPr>
        <p:spPr>
          <a:xfrm>
            <a:off x="5373720" y="397980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18 Rectángulo"/>
          <p:cNvSpPr/>
          <p:nvPr/>
        </p:nvSpPr>
        <p:spPr>
          <a:xfrm>
            <a:off x="1717560" y="5219640"/>
            <a:ext cx="36007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aliza el dictamen técnico donde se evalúa las propuestas y documentos presentados por los oferent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AutoShape 32"/>
          <p:cNvCxnSpPr/>
          <p:nvPr/>
        </p:nvCxnSpPr>
        <p:spPr>
          <a:xfrm>
            <a:off x="3490560" y="600228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quisi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/ </a:t>
            </a: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Asistente 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701"/>
          <p:cNvSpPr/>
          <p:nvPr/>
        </p:nvSpPr>
        <p:spPr>
          <a:xfrm>
            <a:off x="333360" y="47386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Dir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656"/>
          <p:cNvSpPr/>
          <p:nvPr/>
        </p:nvSpPr>
        <p:spPr>
          <a:xfrm>
            <a:off x="1722600" y="6154560"/>
            <a:ext cx="360036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Remite expediente al </a:t>
            </a: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Consejero Presid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66"/>
          <p:cNvSpPr/>
          <p:nvPr/>
        </p:nvSpPr>
        <p:spPr>
          <a:xfrm>
            <a:off x="5373720" y="4716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ta / Minuta de jun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AutoShape 32"/>
          <p:cNvCxnSpPr/>
          <p:nvPr/>
        </p:nvCxnSpPr>
        <p:spPr>
          <a:xfrm>
            <a:off x="3499920" y="6659640"/>
            <a:ext cx="39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Rectangle 666"/>
          <p:cNvSpPr/>
          <p:nvPr/>
        </p:nvSpPr>
        <p:spPr>
          <a:xfrm>
            <a:off x="5373720" y="434016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ta / Minuta de jun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AutoShape 684"/>
          <p:cNvCxnSpPr>
            <a:stCxn id="169" idx="2"/>
            <a:endCxn id="174" idx="0"/>
          </p:cNvCxnSpPr>
          <p:nvPr/>
        </p:nvCxnSpPr>
        <p:spPr>
          <a:xfrm>
            <a:off x="3519000" y="3276360"/>
            <a:ext cx="1044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" name="Oval 34"/>
          <p:cNvSpPr/>
          <p:nvPr/>
        </p:nvSpPr>
        <p:spPr>
          <a:xfrm>
            <a:off x="3214800" y="6875640"/>
            <a:ext cx="57600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18 Rectángulo"/>
          <p:cNvSpPr/>
          <p:nvPr/>
        </p:nvSpPr>
        <p:spPr>
          <a:xfrm>
            <a:off x="1728720" y="385776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Levanta el acta de la junta de aclaraciones donde constan las respuestas a  las preguntas formulad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AutoShape 32"/>
          <p:cNvCxnSpPr/>
          <p:nvPr/>
        </p:nvCxnSpPr>
        <p:spPr>
          <a:xfrm>
            <a:off x="3503160" y="3661920"/>
            <a:ext cx="108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32"/>
          <p:cNvCxnSpPr/>
          <p:nvPr/>
        </p:nvCxnSpPr>
        <p:spPr>
          <a:xfrm>
            <a:off x="3487320" y="5019480"/>
            <a:ext cx="396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18 Rectángulo"/>
          <p:cNvSpPr/>
          <p:nvPr/>
        </p:nvSpPr>
        <p:spPr>
          <a:xfrm flipV="1" rot="10800000">
            <a:off x="1730520" y="5668920"/>
            <a:ext cx="3598560" cy="3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aliza logística de desahogo del acto comunicación del dictamen técnico, apertura de las ofertas económicas, fallo y adjudicación y elabora el acta respectiv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AutoShape 32"/>
          <p:cNvCxnSpPr/>
          <p:nvPr/>
        </p:nvCxnSpPr>
        <p:spPr>
          <a:xfrm>
            <a:off x="3465000" y="545292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Rectangle 653"/>
          <p:cNvSpPr/>
          <p:nvPr/>
        </p:nvSpPr>
        <p:spPr>
          <a:xfrm>
            <a:off x="1687680" y="2671920"/>
            <a:ext cx="3600360" cy="23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Remite convocatoria al Consejo General para su aprobación y publicación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AutoShape 681"/>
          <p:cNvCxnSpPr/>
          <p:nvPr/>
        </p:nvCxnSpPr>
        <p:spPr>
          <a:xfrm>
            <a:off x="3517560" y="252720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" name="Rectangle 701"/>
          <p:cNvSpPr/>
          <p:nvPr/>
        </p:nvSpPr>
        <p:spPr>
          <a:xfrm>
            <a:off x="333360" y="57229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l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701"/>
          <p:cNvSpPr/>
          <p:nvPr/>
        </p:nvSpPr>
        <p:spPr>
          <a:xfrm>
            <a:off x="333360" y="5219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a / J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fe de áre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701"/>
          <p:cNvSpPr/>
          <p:nvPr/>
        </p:nvSpPr>
        <p:spPr>
          <a:xfrm>
            <a:off x="333360" y="6154560"/>
            <a:ext cx="122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l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66"/>
          <p:cNvSpPr/>
          <p:nvPr/>
        </p:nvSpPr>
        <p:spPr>
          <a:xfrm>
            <a:off x="5373720" y="570852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Minu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66"/>
          <p:cNvSpPr/>
          <p:nvPr/>
        </p:nvSpPr>
        <p:spPr>
          <a:xfrm>
            <a:off x="5373720" y="52196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ctame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66"/>
          <p:cNvSpPr/>
          <p:nvPr/>
        </p:nvSpPr>
        <p:spPr>
          <a:xfrm>
            <a:off x="5373720" y="622764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Memorandum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cp:lastPrinted>2012-05-01T00:17:16Z</cp:lastPrinted>
  <dcterms:modified xsi:type="dcterms:W3CDTF">2013-07-06T13:43:24Z</dcterms:modified>
  <cp:revision>331</cp:revision>
  <dc:subject/>
  <dc:title>Presentación de PowerPoint</dc:title>
</cp:coreProperties>
</file>