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BEFA-47C2-4F9A-A0AA-A30A4B0DE5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6114-4142-4734-A0E9-CBA75ED5AE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3B51-25D8-4BBF-9177-56EED1FD9C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913-E946-464E-B8E4-6081C650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1C8-1BBA-411E-B4C5-82CE555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B27-E507-4AF3-A485-560A10CE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6BA-6A41-47B7-8645-076AAC2A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8F9-4EB7-4B53-AFEC-F9992A11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AA5-1476-43CD-A45F-5D5D0133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531-359B-45B1-9B04-77329ABF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307-E66A-4BD5-898A-D7DA315B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683-E4CF-4309-ABAE-5F7B9045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43F-1915-4514-95C4-D8D0DE80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99E-0518-4618-90DF-4643DA2A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8B1-08BC-45EE-9216-7F11F038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2D51-36BC-4369-B84A-25C44CD2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5F81-3BEF-4A58-A6ED-16975993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AA0A-1C49-4266-9548-85D352FF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8B76-ACDE-4097-B420-711C2D88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E625-AF1F-4BA2-8C55-A8BC6FAD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0673-D6D8-466D-AC93-2E68285B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7755-731D-4428-A238-3E4ABF4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112B-7299-4110-8E75-A142BA16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13A3-FDD0-4632-8076-FA7147D5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E973-1B00-48F7-BB05-2073ECE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845-190C-4A28-9A32-400170ED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E4B5-648F-4CAD-A562-DF39E663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ciones esco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84C9304-04E7-409D-989B-F7D4C0C4558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CBB6-EE9E-4F51-878B-A7B1BC6E0E5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D56F-FA6A-48F4-BE35-ADE9A35FF6C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elaboración y desarrollo de los programas de capacitación electoral y educación del instit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levar a cabo elecciones escolares solicitadas hacia el IEPC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n solicitudes para organizar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lendariza la elección para su ejecución y se confirma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684"/>
          <p:cNvCxnSpPr>
            <a:stCxn id="163" idx="2"/>
            <a:endCxn id="167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701"/>
          <p:cNvSpPr/>
          <p:nvPr/>
        </p:nvSpPr>
        <p:spPr>
          <a:xfrm>
            <a:off x="333360" y="2268360"/>
            <a:ext cx="12240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área de cultura cívica y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73720" y="3456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as / P-OPE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para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verifica la solicitud y se determina si es urna electrónica o tradicional y se turna a Dirección general para su VoB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18 Rectángulo"/>
          <p:cNvSpPr/>
          <p:nvPr/>
        </p:nvSpPr>
        <p:spPr>
          <a:xfrm>
            <a:off x="1700280" y="4067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para la logística de la elección y se capacita a los funcion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32"/>
          <p:cNvCxnSpPr>
            <a:stCxn id="173" idx="2"/>
            <a:endCxn id="174" idx="0"/>
          </p:cNvCxnSpPr>
          <p:nvPr/>
        </p:nvCxnSpPr>
        <p:spPr>
          <a:xfrm>
            <a:off x="3499920" y="485928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para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40514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de material / manual de elecciones escola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0"/>
          <p:cNvSpPr/>
          <p:nvPr/>
        </p:nvSpPr>
        <p:spPr>
          <a:xfrm>
            <a:off x="404640" y="2050920"/>
            <a:ext cx="11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34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cultura cívica democrática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ultura cívica y democr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56 Rombo"/>
          <p:cNvSpPr/>
          <p:nvPr/>
        </p:nvSpPr>
        <p:spPr>
          <a:xfrm>
            <a:off x="3090960" y="311292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57 CuadroTexto"/>
          <p:cNvSpPr/>
          <p:nvPr/>
        </p:nvSpPr>
        <p:spPr>
          <a:xfrm>
            <a:off x="3141720" y="31827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lectrónic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64 Conector angular"/>
          <p:cNvCxnSpPr>
            <a:stCxn id="180" idx="1"/>
            <a:endCxn id="183" idx="0"/>
          </p:cNvCxnSpPr>
          <p:nvPr/>
        </p:nvCxnSpPr>
        <p:spPr>
          <a:xfrm flipV="1" rot="10800000">
            <a:off x="2493360" y="32922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4" name="72 CuadroTexto"/>
          <p:cNvSpPr/>
          <p:nvPr/>
        </p:nvSpPr>
        <p:spPr>
          <a:xfrm>
            <a:off x="3933720" y="3057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73 CuadroTexto"/>
          <p:cNvSpPr/>
          <p:nvPr/>
        </p:nvSpPr>
        <p:spPr>
          <a:xfrm>
            <a:off x="2708280" y="3057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6"/>
          <p:cNvSpPr/>
          <p:nvPr/>
        </p:nvSpPr>
        <p:spPr>
          <a:xfrm>
            <a:off x="1628640" y="347184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Se diseñan boletas e impri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0" idx="3"/>
            <a:endCxn id="187" idx="0"/>
          </p:cNvCxnSpPr>
          <p:nvPr/>
        </p:nvCxnSpPr>
        <p:spPr>
          <a:xfrm>
            <a:off x="3948120" y="3292200"/>
            <a:ext cx="489600" cy="200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Rectangle 656"/>
          <p:cNvSpPr/>
          <p:nvPr/>
        </p:nvSpPr>
        <p:spPr>
          <a:xfrm>
            <a:off x="3573360" y="349236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solicita a Informática urnas y programación de las mis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71" idx="2"/>
            <a:endCxn id="173" idx="0"/>
          </p:cNvCxnSpPr>
          <p:nvPr/>
        </p:nvCxnSpPr>
        <p:spPr>
          <a:xfrm flipH="1">
            <a:off x="3499560" y="4282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661"/>
          <p:cNvSpPr/>
          <p:nvPr/>
        </p:nvSpPr>
        <p:spPr>
          <a:xfrm>
            <a:off x="333360" y="4500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ultura cívica y democrática / encargado del ev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tancia de mayorí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457200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Se lleva a cabo la jornada electoral y se entrega la constancia de mayoría al gana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1"/>
          <p:cNvSpPr/>
          <p:nvPr/>
        </p:nvSpPr>
        <p:spPr>
          <a:xfrm>
            <a:off x="333360" y="5076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ultura cívica y democrática / encargado del ev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3720" y="5132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port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5076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reporte de actividades realiz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/>
          <p:nvPr/>
        </p:nvCxnSpPr>
        <p:spPr>
          <a:xfrm>
            <a:off x="3499920" y="298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32"/>
          <p:cNvCxnSpPr/>
          <p:nvPr/>
        </p:nvCxnSpPr>
        <p:spPr>
          <a:xfrm>
            <a:off x="3499920" y="52927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Oval 34"/>
          <p:cNvSpPr/>
          <p:nvPr/>
        </p:nvSpPr>
        <p:spPr>
          <a:xfrm>
            <a:off x="3213000" y="5435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 flipH="1">
            <a:off x="4508280" y="378000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32"/>
          <p:cNvCxnSpPr/>
          <p:nvPr/>
        </p:nvCxnSpPr>
        <p:spPr>
          <a:xfrm flipH="1">
            <a:off x="2491560" y="385128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701"/>
          <p:cNvSpPr/>
          <p:nvPr/>
        </p:nvSpPr>
        <p:spPr>
          <a:xfrm>
            <a:off x="333360" y="2700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área de cultura cívica y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46:13Z</dcterms:modified>
  <cp:revision>329</cp:revision>
  <dc:subject/>
  <dc:title>Presentación de PowerPoint</dc:title>
</cp:coreProperties>
</file>