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2196720" y="696960"/>
            <a:ext cx="26161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399A-4806-41AC-8AE8-06EDF2B9DB5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EF01-2E21-4CE8-91AE-13C792499B0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67C2-1C70-4002-8CA4-8AEC404730F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8EB6-E80C-49B6-806F-57DE3CA7E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502A-38AE-484F-BBE8-64D05A03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B25D-CDD3-4A78-BD3C-0D531B10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1B17-A9B0-4D64-AA20-6ED31709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D94D-F729-48EA-AFE0-7B6A4C28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5D1D-8429-489C-BA1A-0A35DF30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39EF-C2C6-4410-9267-BFCB2056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AF9F-1147-4777-8484-DE78E6A7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01F2-8B2C-450C-9764-6E2B7628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1D06-D66C-487D-8F71-4E95B2A9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67FF-EEFA-4606-B140-DF7D25A8D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3EC4-41A0-4E6A-91D9-EC7C97488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C8CA-2659-4DBC-A8C7-8DCDFB3ED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7DF1-8574-46D7-9D76-3E96CDD7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92E8-BBA1-4A0F-A379-8A8AD21A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124B-8999-41B8-8A86-C9731207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0795-733B-4359-AAC0-877BB510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33BD-5CB9-40CF-A0E5-79213D43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D241-5829-48F4-B6BB-22D5A1B5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F2EF-ADEA-4AF0-BF1B-80AB919B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3C3F-441A-442F-8168-C85F3C11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E903-597A-48A7-94F6-61231916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F477-1A10-416C-88F3-CF036CADB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F207-E2F2-4CFC-B640-5A4E56EC7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ntrega de Combust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C56FB77C-BF95-4AB4-9D90-8E16DB6AC02E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ción de Administración y Finan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 P-OPE-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2-01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02-07-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4AFA-FA10-45E7-BD6E-30E55ED8DAA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8548-A16A-405B-A8BA-35C483380D1C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-01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signación de activ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2-07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Text Box 224"/>
          <p:cNvSpPr/>
          <p:nvPr/>
        </p:nvSpPr>
        <p:spPr>
          <a:xfrm>
            <a:off x="336600" y="1366920"/>
            <a:ext cx="63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bastecer de combustible a las diferentes áreas del IEPC para desarrollar labores necesarias de cada direc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Uso exclusivo del personal del IE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6"/>
          <p:cNvSpPr/>
          <p:nvPr/>
        </p:nvSpPr>
        <p:spPr>
          <a:xfrm>
            <a:off x="333360" y="286056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N/A (No aplica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65"/>
          <p:cNvSpPr/>
          <p:nvPr/>
        </p:nvSpPr>
        <p:spPr>
          <a:xfrm>
            <a:off x="5392800" y="2502000"/>
            <a:ext cx="12826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00"/>
          <p:cNvSpPr/>
          <p:nvPr/>
        </p:nvSpPr>
        <p:spPr>
          <a:xfrm>
            <a:off x="385920" y="2486160"/>
            <a:ext cx="1150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bogado 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AutoShape 685"/>
          <p:cNvCxnSpPr/>
          <p:nvPr/>
        </p:nvCxnSpPr>
        <p:spPr>
          <a:xfrm>
            <a:off x="4509720" y="3646440"/>
            <a:ext cx="1080" cy="56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Rectangle 660"/>
          <p:cNvSpPr/>
          <p:nvPr/>
        </p:nvSpPr>
        <p:spPr>
          <a:xfrm>
            <a:off x="333360" y="313992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bogado 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4"/>
          <p:cNvSpPr/>
          <p:nvPr/>
        </p:nvSpPr>
        <p:spPr>
          <a:xfrm>
            <a:off x="5380200" y="370368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porte/Sistema en líne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18 Rectángulo"/>
          <p:cNvSpPr/>
          <p:nvPr/>
        </p:nvSpPr>
        <p:spPr>
          <a:xfrm>
            <a:off x="1700280" y="3652920"/>
            <a:ext cx="13143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aliza recarga a la tarjeta electrónica correspondiente, mediante sistema en lín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56 Rombo"/>
          <p:cNvSpPr/>
          <p:nvPr/>
        </p:nvSpPr>
        <p:spPr>
          <a:xfrm>
            <a:off x="3063960" y="2087640"/>
            <a:ext cx="857160" cy="43164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57 CuadroTexto"/>
          <p:cNvSpPr/>
          <p:nvPr/>
        </p:nvSpPr>
        <p:spPr>
          <a:xfrm>
            <a:off x="3056040" y="214956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Forma de entreg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72 CuadroTexto"/>
          <p:cNvSpPr/>
          <p:nvPr/>
        </p:nvSpPr>
        <p:spPr>
          <a:xfrm>
            <a:off x="2146320" y="1922400"/>
            <a:ext cx="8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ecarga Electrón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73 CuadroTexto"/>
          <p:cNvSpPr/>
          <p:nvPr/>
        </p:nvSpPr>
        <p:spPr>
          <a:xfrm>
            <a:off x="4052880" y="1919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Vales de Gasoli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18 Rectángulo"/>
          <p:cNvSpPr/>
          <p:nvPr/>
        </p:nvSpPr>
        <p:spPr>
          <a:xfrm>
            <a:off x="3921120" y="3132000"/>
            <a:ext cx="115236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cibe formato solicitud de vales de gasolina, por personal del área solicit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AutoShape 685"/>
          <p:cNvCxnSpPr/>
          <p:nvPr/>
        </p:nvCxnSpPr>
        <p:spPr>
          <a:xfrm>
            <a:off x="3501720" y="1871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" name="Oval 34"/>
          <p:cNvSpPr/>
          <p:nvPr/>
        </p:nvSpPr>
        <p:spPr>
          <a:xfrm>
            <a:off x="2205000" y="547200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60"/>
          <p:cNvSpPr/>
          <p:nvPr/>
        </p:nvSpPr>
        <p:spPr>
          <a:xfrm>
            <a:off x="325440" y="365292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bogado 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52"/>
          <p:cNvSpPr/>
          <p:nvPr/>
        </p:nvSpPr>
        <p:spPr>
          <a:xfrm>
            <a:off x="1662120" y="2502000"/>
            <a:ext cx="1352520" cy="63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correo de petición de gasolina, con los datos requeridos por parte del área solicit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64 Conector angular"/>
          <p:cNvCxnSpPr/>
          <p:nvPr/>
        </p:nvCxnSpPr>
        <p:spPr>
          <a:xfrm flipV="1" rot="10800000">
            <a:off x="2458440" y="2305440"/>
            <a:ext cx="597600" cy="180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76" name="64 Conector angular"/>
          <p:cNvCxnSpPr>
            <a:endCxn id="170" idx="0"/>
          </p:cNvCxnSpPr>
          <p:nvPr/>
        </p:nvCxnSpPr>
        <p:spPr>
          <a:xfrm flipH="1" rot="16200000">
            <a:off x="3795480" y="2430720"/>
            <a:ext cx="826200" cy="577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77" name="AutoShape 685"/>
          <p:cNvCxnSpPr/>
          <p:nvPr/>
        </p:nvCxnSpPr>
        <p:spPr>
          <a:xfrm>
            <a:off x="2458800" y="3139920"/>
            <a:ext cx="108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18 Rectángulo"/>
          <p:cNvSpPr/>
          <p:nvPr/>
        </p:nvSpPr>
        <p:spPr>
          <a:xfrm>
            <a:off x="3943440" y="5219640"/>
            <a:ext cx="115236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entregan Vales de Gasolina al personal del área solicita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18 Rectángulo"/>
          <p:cNvSpPr/>
          <p:nvPr/>
        </p:nvSpPr>
        <p:spPr>
          <a:xfrm>
            <a:off x="3943440" y="4248000"/>
            <a:ext cx="1152360" cy="6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llena información correspondiente en concentrado de Consumos de Vales de Gasoli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AutoShape 685"/>
          <p:cNvCxnSpPr/>
          <p:nvPr/>
        </p:nvCxnSpPr>
        <p:spPr>
          <a:xfrm>
            <a:off x="4509720" y="4848120"/>
            <a:ext cx="108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685"/>
          <p:cNvCxnSpPr/>
          <p:nvPr/>
        </p:nvCxnSpPr>
        <p:spPr>
          <a:xfrm flipH="1">
            <a:off x="2901240" y="5579640"/>
            <a:ext cx="1019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AutoShape 685"/>
          <p:cNvCxnSpPr/>
          <p:nvPr/>
        </p:nvCxnSpPr>
        <p:spPr>
          <a:xfrm>
            <a:off x="2458800" y="4157640"/>
            <a:ext cx="1080" cy="127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Rectangle 665"/>
          <p:cNvSpPr/>
          <p:nvPr/>
        </p:nvSpPr>
        <p:spPr>
          <a:xfrm>
            <a:off x="5392800" y="3097080"/>
            <a:ext cx="1282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licitud de vales de gasoli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60"/>
          <p:cNvSpPr/>
          <p:nvPr/>
        </p:nvSpPr>
        <p:spPr>
          <a:xfrm>
            <a:off x="349200" y="425124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bogado 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64"/>
          <p:cNvSpPr/>
          <p:nvPr/>
        </p:nvSpPr>
        <p:spPr>
          <a:xfrm>
            <a:off x="5373720" y="424800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centrado de Consumos de Vales de Gasolin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60"/>
          <p:cNvSpPr/>
          <p:nvPr/>
        </p:nvSpPr>
        <p:spPr>
          <a:xfrm>
            <a:off x="349200" y="521496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bogado 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65"/>
          <p:cNvSpPr/>
          <p:nvPr/>
        </p:nvSpPr>
        <p:spPr>
          <a:xfrm>
            <a:off x="5386320" y="5248440"/>
            <a:ext cx="12826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olicitud de Vales de Gasoli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Selene Martinez Peralta</cp:lastModifiedBy>
  <cp:lastPrinted>2013-08-15T16:40:42Z</cp:lastPrinted>
  <dcterms:modified xsi:type="dcterms:W3CDTF">2013-08-15T16:41:25Z</dcterms:modified>
  <cp:revision>366</cp:revision>
  <dc:subject/>
  <dc:title>Presentación de PowerPoint</dc:title>
</cp:coreProperties>
</file>