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2A2-07EC-488F-8CE9-60C89EA5BA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5CA0-03BF-46CC-A485-55B88E2FBB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F31-B501-4457-95C0-DAF382A818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B65-A32A-4006-B827-597436FC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94A-4A7A-472A-A169-A1EA2EAC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060-7FD4-4100-B475-A0B6DF7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FFC-EE7E-4A38-97F4-6103784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263-FFB1-45A3-B234-61FBF779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314-17CB-4CA2-849A-F626B5B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DB9-867B-4BF2-9F1B-6A01DAD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B6C-EBC8-4E8A-9118-D2780B1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05F-3C90-47FF-BA9A-C8872D8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1DA-1843-44D2-9CE6-25753F77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1B0-5AB9-426E-8379-7C09E8E4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934-972C-4448-93DB-C46C94A5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E74C-22F6-496B-97AE-FC7F3BDA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4945-97FF-4483-9F8F-4D43DB8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6F8-3DBD-4089-8C57-E9E8E2E9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3B2-BB61-4557-83D3-D7B7E70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600F-DA30-472C-A06E-FF288CD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6183-84F2-43C5-9E80-884A1F4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D63A-343B-4476-B3F6-9DD10EF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54DA-8232-4CAE-9FCC-4104208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E83-669B-49E6-920E-8FB82C5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0DB6-309F-4271-AB94-06A7C00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664C-D31C-4E3D-B7FE-B5B26BA5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AD50-090C-46E8-9A75-87A71398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B620-7EE6-46C1-89C2-F08E9465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0B53-3BD2-434E-AB21-A0F684D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5358-B459-426C-BFA6-9EBC0BE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76CD-B129-4479-85B3-57E0AE2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7FD6-849C-4E84-B84A-30A01AFA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47D9-6EDE-43CA-82FE-9EB00A0E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8715-06E5-483A-9EF5-0BB70BB3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94BE-CD44-47E5-A588-36BF15D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453C-02B6-4ECE-B11A-99D822C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DD22-CC40-402F-8A44-E2525CA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1B01-6883-4925-BD26-89D2CB4B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DE568-F8D7-4133-8B54-133FC1B2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a eventos realizados por IE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E43A69C-F161-4C57-B528-D04F6CE58BE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Comunicación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-ope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2-09-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F91-F36F-403C-831D-B46528DBC35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C2C-5BDF-4812-912C-56307760173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5FA4-AEAD-4580-A598-F53C933F79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segurar que se cumpla con todas las actividades propuestas al inicio de año, complementando con las propuestas de la ciudadan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n este espacio se pondrá en que se certificara la empresa aun no esta definido los procesos a certificar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aba o se recibe información para eventos que realiza el IE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698480" y="24843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la invitación o desplegados con orden del día a medios de comunicación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 con especif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140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uer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invitación / ordenes de inser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480" y="2195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>
            <a:off x="3498840" y="2700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34000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700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89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promociona el evento a medio de comunic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técnico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habilita el lugar y se recaba la información de acuerdos para su difusión y se entrega a medi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va logística del evento en medios de comunicación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n y se realiza boletín informativo y se actualizan redes so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boletín para darlo a conocer a medios y se revisa con director para Vo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132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ordinador / 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fe de comunicación / 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619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tos / video / boletín inform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Video  / audio / f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2829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rganiza rueda de prensa con evidencias de video, audio y fotos ( se eliminan en un lapso de 2 día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360"/>
            <a:ext cx="1080" cy="14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32"/>
          <p:cNvCxnSpPr/>
          <p:nvPr/>
        </p:nvCxnSpPr>
        <p:spPr>
          <a:xfrm>
            <a:off x="3347640" y="485136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l día / P-ADM-20 / P-OPE-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61"/>
          <p:cNvSpPr/>
          <p:nvPr/>
        </p:nvSpPr>
        <p:spPr>
          <a:xfrm>
            <a:off x="333360" y="47163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xili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4699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- mail / boletín / rueda de pren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8 Rectángulo"/>
          <p:cNvSpPr/>
          <p:nvPr/>
        </p:nvSpPr>
        <p:spPr>
          <a:xfrm>
            <a:off x="1700280" y="47880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y difunde a reporteros de la fuente y jefes de información junto con la edi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32"/>
          <p:cNvCxnSpPr>
            <a:stCxn id="225" idx="2"/>
            <a:endCxn id="232" idx="0"/>
          </p:cNvCxnSpPr>
          <p:nvPr/>
        </p:nvCxnSpPr>
        <p:spPr>
          <a:xfrm>
            <a:off x="3499920" y="4498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32"/>
          <p:cNvCxnSpPr>
            <a:stCxn id="232" idx="2"/>
          </p:cNvCxnSpPr>
          <p:nvPr/>
        </p:nvCxnSpPr>
        <p:spPr>
          <a:xfrm>
            <a:off x="3499920" y="5003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661"/>
          <p:cNvSpPr/>
          <p:nvPr/>
        </p:nvSpPr>
        <p:spPr>
          <a:xfrm>
            <a:off x="333360" y="51498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5148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pot publicit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18 Rectángulo"/>
          <p:cNvSpPr/>
          <p:nvPr/>
        </p:nvSpPr>
        <p:spPr>
          <a:xfrm>
            <a:off x="1700280" y="5149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naliza la trascendencia del evento y si es necesario se realizaran una capsula de video para su difusión en redes sociales del IE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í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4"/>
          <p:cNvSpPr/>
          <p:nvPr/>
        </p:nvSpPr>
        <p:spPr>
          <a:xfrm>
            <a:off x="3213000" y="565164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2"/>
          <p:cNvCxnSpPr>
            <a:endCxn id="239" idx="0"/>
          </p:cNvCxnSpPr>
          <p:nvPr/>
        </p:nvCxnSpPr>
        <p:spPr>
          <a:xfrm>
            <a:off x="3499920" y="5363640"/>
            <a:ext cx="25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1-10-31T20:14:20Z</dcterms:modified>
  <cp:revision>317</cp:revision>
  <dc:subject/>
  <dc:title>Presentación de PowerPoint</dc:title>
</cp:coreProperties>
</file>