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C096-E8F4-48D7-A07E-318B83E59B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BCE4-F6A1-4D49-814B-FC839F3E81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5C3F-6321-404B-9E68-982974B7A0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897-CB78-4145-AC36-B993D01A7C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FDA-11A7-45CE-BE5D-C4EAC5B4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6D5-D1D5-49A6-B9A2-E21F413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BEC-ED84-4538-94D8-A503124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5E9-4758-4C0A-AD50-1046A567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483-1B5C-4114-85B5-4CF65BAA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6FE-64BC-46F6-A974-38150C6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F30-2EAC-4E4D-9F11-684839F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8F1-66E8-4BB8-AF85-5040978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A35-DAB3-474D-A6C1-BA298FD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763-C25B-4583-A674-B60DC131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2A8-D341-4A2E-A8B1-30C485BD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423-9AA6-4AF9-98B3-562465E2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FFE8-CC23-4D15-95DE-982509F3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E08D-318C-4F4B-B2B1-AE80D23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CA2-4E7B-457D-8C56-12C3FA49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6E33-E790-4F88-A671-86B0B3F8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AC1D-B7F8-48DC-94D2-74D9394C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5274-ABC6-4486-A64B-34FB29A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2424-D9D2-48FA-8BE3-F52650B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7B75-F7EA-4B16-BE00-0805324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28C6-692D-436B-B2F1-DC3691A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2B80-81DE-4C03-84A3-6090DE5F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853E-6629-4A1B-8934-5CCAE6B6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0D72-3E57-423C-8E1B-06AF2B72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8E7F-6BD3-4AEF-9468-45A7E127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4B20-E46A-4888-B378-862EB0D1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3FE7-DB49-4229-A850-01B2C08B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BFFD-DD0D-4B74-B09F-F9327C14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75D7-6E6A-4F2F-BDF7-E27ED66A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DD25-CB2B-4263-BB48-730339E2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4389-6B1B-41F9-A6F7-9F827AC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D041-005A-4165-957E-00BD48B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EB10-3259-4D6B-8488-A2DF5463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65D5-53ED-451A-97C2-4E1D31F4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660E-120A-4D91-887C-A02C6B6C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ACDB-E474-4415-AD8F-31112AB6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rch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42F51FF-003F-4733-B792-A09B85E1787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ADM-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3-05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C7F-3D94-4D16-B930-7A24C5F518D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3529-3A9D-41DC-A3A0-A394973A526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DD4F-E95E-4DF0-9A76-39A94B0E6F1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especifico mas el procedimien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3-05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archivo de documentos del IEPC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55744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ación de las diferentes áreas del IEPC, Secretaria Ejecutiva y Presi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3132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lasifican los documentos de acuerdo a su tipo y se etiquet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42148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3116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348000"/>
            <a:ext cx="2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71016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guarda en archivero correspondiente según etiqueta asig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  <a:endCxn id="214" idx="0"/>
          </p:cNvCxnSpPr>
          <p:nvPr/>
        </p:nvCxnSpPr>
        <p:spPr>
          <a:xfrm>
            <a:off x="3499920" y="39258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4213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ada 3 años se reclasifican los archivos para su reubicación dentro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44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de archivo / acuse de m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 / archivista / Oficial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5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72 Proceso"/>
          <p:cNvSpPr/>
          <p:nvPr/>
        </p:nvSpPr>
        <p:spPr>
          <a:xfrm>
            <a:off x="2276640" y="1692360"/>
            <a:ext cx="2304720" cy="215640"/>
          </a:xfrm>
          <a:prstGeom prst="flowChartProcess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Documentos para Resguar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55744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memorándum solicitando información del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3132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localizan documentos solici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3116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1"/>
          <p:cNvCxnSpPr>
            <a:stCxn id="229" idx="2"/>
            <a:endCxn id="230" idx="0"/>
          </p:cNvCxnSpPr>
          <p:nvPr/>
        </p:nvCxnSpPr>
        <p:spPr>
          <a:xfrm>
            <a:off x="3498480" y="28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684"/>
          <p:cNvCxnSpPr>
            <a:stCxn id="230" idx="2"/>
            <a:endCxn id="234" idx="0"/>
          </p:cNvCxnSpPr>
          <p:nvPr/>
        </p:nvCxnSpPr>
        <p:spPr>
          <a:xfrm>
            <a:off x="3498840" y="3348000"/>
            <a:ext cx="2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de archivo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3710160"/>
            <a:ext cx="360036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n información requerida y se envía memorándum con la información correspondien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>
            <a:stCxn id="234" idx="2"/>
          </p:cNvCxnSpPr>
          <p:nvPr/>
        </p:nvCxnSpPr>
        <p:spPr>
          <a:xfrm flipH="1">
            <a:off x="3499560" y="39970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de archivo / acuse de m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 / archivista / Oficial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211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72 Proceso"/>
          <p:cNvSpPr/>
          <p:nvPr/>
        </p:nvSpPr>
        <p:spPr>
          <a:xfrm>
            <a:off x="2276640" y="1692360"/>
            <a:ext cx="2304720" cy="215640"/>
          </a:xfrm>
          <a:prstGeom prst="flowChartProcess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Solicitud de documentos de arch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0T18:28:13Z</dcterms:modified>
  <cp:revision>330</cp:revision>
  <dc:subject/>
  <dc:title>Presentación de PowerPoint</dc:title>
</cp:coreProperties>
</file>