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6A79-30F3-4F4A-B169-169D5FAF99E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0FE4-867E-4578-A241-8CBDC6C67C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C840-864C-4596-B75F-D4CBD77B33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232-6098-4148-9A48-C2920998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39C-9B9D-4D90-836B-41684A3B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E83B-4D54-4691-AD5E-9B1A8FF5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FAF-AC9D-4308-B1E8-A0B555EC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D74A-3DE0-4E83-BC51-428FE33E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C2A-F12B-45EF-8CAA-28F2FEAA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F53-09F3-4D90-A438-47282D61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390-9529-4461-B222-B1EA1430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9FB2-ACB7-4D8A-ACA4-91286293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222-3CC2-49C3-B36C-81CED0AA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53E-1C2F-4566-B9F6-2AC2407C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CBEB-D1E3-4922-AC1A-2EBF20FA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6091-6ED3-4426-8151-9D903FE8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6A4B-8B9B-493D-A78B-E77A15CA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DA15-A202-4F7B-93B2-B9503964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1C2B-40BC-4147-B55F-7C4C4963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D2C4-05AA-41FF-A39D-88CAEC76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362E-B49A-4BDD-AF39-1AD341E7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860D-8F02-49F0-A63E-D04238FE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EF0A-09D5-4932-9399-E9A71A68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2301-7865-40DA-9889-3031B5D9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E94F-AD35-49FF-AF21-0DCBCC52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E80F-6F52-41F9-84BE-EE3F3053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3E87-5EA8-4C7E-B901-E475AAC0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tención en Ventani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5D6E2284-12A6-44C0-A602-E9578887412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ción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D461-7593-4F19-9CDB-D8525D43B89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D5CC-0B01-4DAA-BD74-A530F074317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bastecer del material solicitado por las diferentes áreas oportunamente para el correcto funcionamiento de las labores del 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ntrega de material en stock de recursos materiales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Stock: Material en reserva del almacén para el cual no es necesario contar con requisición previamente autorizada para su compr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 de Recursos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n autorizaciones y se verifica existencia en el siste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86320" y="32050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367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recursos materiales / Admin paq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5"/>
          <p:cNvCxnSpPr/>
          <p:nvPr/>
        </p:nvCxnSpPr>
        <p:spPr>
          <a:xfrm flipH="1">
            <a:off x="4509360" y="3646440"/>
            <a:ext cx="1080" cy="78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666"/>
          <p:cNvSpPr/>
          <p:nvPr/>
        </p:nvSpPr>
        <p:spPr>
          <a:xfrm>
            <a:off x="5362560" y="1990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recursos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0"/>
          <p:cNvSpPr/>
          <p:nvPr/>
        </p:nvSpPr>
        <p:spPr>
          <a:xfrm>
            <a:off x="333360" y="32767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4"/>
          <p:cNvSpPr/>
          <p:nvPr/>
        </p:nvSpPr>
        <p:spPr>
          <a:xfrm>
            <a:off x="5380200" y="37368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recursos materiales / adminpa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18 Rectángulo"/>
          <p:cNvSpPr/>
          <p:nvPr/>
        </p:nvSpPr>
        <p:spPr>
          <a:xfrm>
            <a:off x="1700280" y="348948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mercancía y se da de baja en el sist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6 Rombo"/>
          <p:cNvSpPr/>
          <p:nvPr/>
        </p:nvSpPr>
        <p:spPr>
          <a:xfrm>
            <a:off x="3089160" y="2844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57 CuadroTexto"/>
          <p:cNvSpPr/>
          <p:nvPr/>
        </p:nvSpPr>
        <p:spPr>
          <a:xfrm>
            <a:off x="3068640" y="2914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xistenci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64 Conector angular"/>
          <p:cNvCxnSpPr>
            <a:stCxn id="174" idx="1"/>
          </p:cNvCxnSpPr>
          <p:nvPr/>
        </p:nvCxnSpPr>
        <p:spPr>
          <a:xfrm flipV="1" rot="10800000">
            <a:off x="2491560" y="30240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7" name="72 CuadroTexto"/>
          <p:cNvSpPr/>
          <p:nvPr/>
        </p:nvSpPr>
        <p:spPr>
          <a:xfrm>
            <a:off x="270684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64 Conector angular"/>
          <p:cNvCxnSpPr>
            <a:stCxn id="174" idx="3"/>
            <a:endCxn id="179" idx="0"/>
          </p:cNvCxnSpPr>
          <p:nvPr/>
        </p:nvCxnSpPr>
        <p:spPr>
          <a:xfrm>
            <a:off x="3946320" y="3024360"/>
            <a:ext cx="56412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0" name="73 CuadroTexto"/>
          <p:cNvSpPr/>
          <p:nvPr/>
        </p:nvSpPr>
        <p:spPr>
          <a:xfrm>
            <a:off x="400536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3933720" y="3203640"/>
            <a:ext cx="11527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l encargado de compras la falta de materi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685"/>
          <p:cNvCxnSpPr/>
          <p:nvPr/>
        </p:nvCxnSpPr>
        <p:spPr>
          <a:xfrm>
            <a:off x="3499920" y="262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64 Conector angular"/>
          <p:cNvCxnSpPr>
            <a:stCxn id="173" idx="2"/>
            <a:endCxn id="183" idx="2"/>
          </p:cNvCxnSpPr>
          <p:nvPr/>
        </p:nvCxnSpPr>
        <p:spPr>
          <a:xfrm flipH="1" rot="16200000">
            <a:off x="2977560" y="3292920"/>
            <a:ext cx="614880" cy="2016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3" name="Oval 34"/>
          <p:cNvSpPr/>
          <p:nvPr/>
        </p:nvSpPr>
        <p:spPr>
          <a:xfrm>
            <a:off x="4292640" y="450072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0"/>
          <p:cNvSpPr/>
          <p:nvPr/>
        </p:nvSpPr>
        <p:spPr>
          <a:xfrm>
            <a:off x="312840" y="36813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Selene Martinez Peralta</cp:lastModifiedBy>
  <cp:lastPrinted>2012-04-26T17:07:10Z</cp:lastPrinted>
  <dcterms:modified xsi:type="dcterms:W3CDTF">2012-05-31T18:36:29Z</dcterms:modified>
  <cp:revision>350</cp:revision>
  <dc:subject/>
  <dc:title>Presentación de PowerPoint</dc:title>
</cp:coreProperties>
</file>