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458F-F550-4ACD-9056-AFCF6D0596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1B87-D655-4269-A34B-888167D688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8091-5DAF-4FEA-AF82-CC069AE8E7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746D-B24B-45F4-B67A-D4BD434C38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276-AE3E-4B5A-B9E3-5EE4F9F6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C1C-68BA-442A-8D2D-08AD3B5E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E75-DA33-40F5-AE27-E51F092B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D98-5164-4B3E-9D80-CD725997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6F5-FD95-4156-8381-B2773C0E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388-E6EF-4C1F-A981-BAB89AB5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729-1CEC-474F-B4FA-1B07AECC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ABE-C827-4CC1-9134-06747442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74F-A33E-4318-81C6-A7F6A628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7C09-FAE8-437D-BD60-45DD11FE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E00-CB4C-49B9-BF21-93C45AAC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6A7-19F9-49FD-8EB2-F7673C44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9627-07D7-4EAF-8378-4B701E25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7AC5-50CC-4487-BAC4-DB6B1331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04D7-72AC-4E70-B839-3E890F8A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1398-258A-4B8E-8AAC-A75C6E16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1C42-BCEB-4713-8B2B-0297A4D3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975F-FBFF-4666-BE69-209DDF4D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FCDC-6296-413B-8713-2D570BA2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A84E-A27D-44B9-BDDA-DDD2468A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9304-AD8C-4434-B97A-3BE6A5D0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4BCC-A8D9-40B8-A3A0-9FFED557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D396-0343-4EE2-8DE0-8D101611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216E-4516-4B30-AA08-C9A2BAE2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647DF7FB-9DA4-4396-81B7-B001303EB76C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27-06-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D9C1-B890-4CD2-9FA1-9EE1107502F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9493-04F2-4669-AFA5-DC4D3315285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110808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ificación de actividades y regis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mbio de orde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-07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ificación de 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-06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en la elaboración y aplicación de las políticas generales, criterios técnicos y lineamientos a que se sujetan los programas de administración de personal, recursos materiales y servicios generale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e procedimiento aplica nombramiento y pago de nomina de personal de base y eventual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SEDAR: Sistema Estatal de Ahorro para el Ret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IMSS: Instituto Mexicano del Seguro So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PENSIONES: Instituto de Pensiones d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/>
          <p:nvPr/>
        </p:nvCxnSpPr>
        <p:spPr>
          <a:xfrm flipH="1">
            <a:off x="3498120" y="236052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248292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presenta la persona a contratar y se entregan requisitos para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84328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documentación y se elabora expediente respec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421164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Nóminas / Coordinador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36352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xpedien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771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icha técnica de nuevo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6985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  <a:endCxn id="169" idx="0"/>
          </p:cNvCxnSpPr>
          <p:nvPr/>
        </p:nvCxnSpPr>
        <p:spPr>
          <a:xfrm>
            <a:off x="3498840" y="3130560"/>
            <a:ext cx="216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916360"/>
            <a:ext cx="11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Nóminas / Jefe de área / coordinador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334800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nóminas / Jefe de área / Coordinador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3276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Nombramiento / expe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00280" y="327672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da de alta para su registro, se elabora gafete y se da de alta en pensiones del estado, seguro social, SEDAR, y en prestaciones del IEP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685"/>
          <p:cNvCxnSpPr>
            <a:stCxn id="169" idx="2"/>
          </p:cNvCxnSpPr>
          <p:nvPr/>
        </p:nvCxnSpPr>
        <p:spPr>
          <a:xfrm>
            <a:off x="3499920" y="356364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18 Rectángulo"/>
          <p:cNvSpPr/>
          <p:nvPr/>
        </p:nvSpPr>
        <p:spPr>
          <a:xfrm>
            <a:off x="1700280" y="3780000"/>
            <a:ext cx="360180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e realiza y entrega nombramiento al contratado para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32"/>
          <p:cNvCxnSpPr/>
          <p:nvPr/>
        </p:nvCxnSpPr>
        <p:spPr>
          <a:xfrm>
            <a:off x="3499920" y="399564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37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Nóminas / Jefe de área / coordinador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66"/>
          <p:cNvSpPr/>
          <p:nvPr/>
        </p:nvSpPr>
        <p:spPr>
          <a:xfrm>
            <a:off x="5373720" y="46432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73720" y="241128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ocumentación para nuevo ingr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55069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Recibo de 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00"/>
          <p:cNvSpPr/>
          <p:nvPr/>
        </p:nvSpPr>
        <p:spPr>
          <a:xfrm>
            <a:off x="404640" y="248292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Nóminas / Jefe de área / Coordinador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1"/>
          <p:cNvSpPr/>
          <p:nvPr/>
        </p:nvSpPr>
        <p:spPr>
          <a:xfrm>
            <a:off x="333360" y="464328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Nóminas / Jefe de área / Coordinador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56"/>
          <p:cNvSpPr/>
          <p:nvPr/>
        </p:nvSpPr>
        <p:spPr>
          <a:xfrm>
            <a:off x="1700280" y="464184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 captura en la nómina quincenal al empleado y se aprueb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56"/>
          <p:cNvSpPr/>
          <p:nvPr/>
        </p:nvSpPr>
        <p:spPr>
          <a:xfrm>
            <a:off x="1700280" y="507528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transferencia electrónica con firma electrónica del Director de Administración y Finanzas y el Secretario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66"/>
          <p:cNvSpPr/>
          <p:nvPr/>
        </p:nvSpPr>
        <p:spPr>
          <a:xfrm>
            <a:off x="5373720" y="500364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de transferencia de nom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32"/>
          <p:cNvCxnSpPr>
            <a:stCxn id="183" idx="2"/>
          </p:cNvCxnSpPr>
          <p:nvPr/>
        </p:nvCxnSpPr>
        <p:spPr>
          <a:xfrm>
            <a:off x="3499920" y="53625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Rectangle 656"/>
          <p:cNvSpPr/>
          <p:nvPr/>
        </p:nvSpPr>
        <p:spPr>
          <a:xfrm>
            <a:off x="1700280" y="5506920"/>
            <a:ext cx="360036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labora recibo de nómina, se entrega al empleado para firma y se envía por correo  electró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AutoShape 32"/>
          <p:cNvCxnSpPr>
            <a:stCxn id="182" idx="2"/>
            <a:endCxn id="183" idx="0"/>
          </p:cNvCxnSpPr>
          <p:nvPr/>
        </p:nvCxnSpPr>
        <p:spPr>
          <a:xfrm flipH="1">
            <a:off x="3499560" y="4859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32"/>
          <p:cNvCxnSpPr>
            <a:stCxn id="186" idx="2"/>
          </p:cNvCxnSpPr>
          <p:nvPr/>
        </p:nvCxnSpPr>
        <p:spPr>
          <a:xfrm>
            <a:off x="3499920" y="5903640"/>
            <a:ext cx="10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701"/>
          <p:cNvSpPr/>
          <p:nvPr/>
        </p:nvSpPr>
        <p:spPr>
          <a:xfrm>
            <a:off x="333360" y="5075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Secretario Ejecutivo/ Director de Administración y Fianzas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Nómin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01"/>
          <p:cNvSpPr/>
          <p:nvPr/>
        </p:nvSpPr>
        <p:spPr>
          <a:xfrm>
            <a:off x="333360" y="55069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Nóminas/ Jefe de área / Coordinador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1700280" y="414036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 entrega al trabajador carta para sacar tarjeta en el ban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66"/>
          <p:cNvSpPr/>
          <p:nvPr/>
        </p:nvSpPr>
        <p:spPr>
          <a:xfrm>
            <a:off x="5373720" y="42116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arta de tarjeta de ba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32"/>
          <p:cNvCxnSpPr>
            <a:stCxn id="191" idx="2"/>
            <a:endCxn id="182" idx="0"/>
          </p:cNvCxnSpPr>
          <p:nvPr/>
        </p:nvCxnSpPr>
        <p:spPr>
          <a:xfrm>
            <a:off x="3499920" y="4427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Rectangle 656"/>
          <p:cNvSpPr/>
          <p:nvPr/>
        </p:nvSpPr>
        <p:spPr>
          <a:xfrm>
            <a:off x="1700280" y="601200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realiza pago a pensiones del estado y se revisa las cantidades en SEDAR, Seguros y aportaciones voluntar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01"/>
          <p:cNvSpPr/>
          <p:nvPr/>
        </p:nvSpPr>
        <p:spPr>
          <a:xfrm>
            <a:off x="333360" y="6659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de Administración y finanzas/ Jefe de Nóminas /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6"/>
          <p:cNvSpPr/>
          <p:nvPr/>
        </p:nvSpPr>
        <p:spPr>
          <a:xfrm>
            <a:off x="5373720" y="608328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Acuse de recibo electrónico BAN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AutoShape 32"/>
          <p:cNvCxnSpPr/>
          <p:nvPr/>
        </p:nvCxnSpPr>
        <p:spPr>
          <a:xfrm>
            <a:off x="3499920" y="64450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Rectangle 656"/>
          <p:cNvSpPr/>
          <p:nvPr/>
        </p:nvSpPr>
        <p:spPr>
          <a:xfrm>
            <a:off x="1700280" y="665964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justifican las incidencias del personal vía electrón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56"/>
          <p:cNvSpPr/>
          <p:nvPr/>
        </p:nvSpPr>
        <p:spPr>
          <a:xfrm>
            <a:off x="1700280" y="7164360"/>
            <a:ext cx="36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Cada 15 días se publica información en la  pagina de 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73720" y="66596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Lista de asistencia/ Justificación de fal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66"/>
          <p:cNvSpPr/>
          <p:nvPr/>
        </p:nvSpPr>
        <p:spPr>
          <a:xfrm>
            <a:off x="5373720" y="7164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>
            <a:stCxn id="198" idx="2"/>
          </p:cNvCxnSpPr>
          <p:nvPr/>
        </p:nvCxnSpPr>
        <p:spPr>
          <a:xfrm>
            <a:off x="3499920" y="70196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32"/>
          <p:cNvCxnSpPr/>
          <p:nvPr/>
        </p:nvCxnSpPr>
        <p:spPr>
          <a:xfrm>
            <a:off x="3499920" y="7524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Rectangle 701"/>
          <p:cNvSpPr/>
          <p:nvPr/>
        </p:nvSpPr>
        <p:spPr>
          <a:xfrm>
            <a:off x="333360" y="608472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Nóminas/ Jefe de área /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 Nómi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75"/>
          <p:cNvSpPr/>
          <p:nvPr/>
        </p:nvSpPr>
        <p:spPr>
          <a:xfrm>
            <a:off x="3429000" y="7740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01"/>
          <p:cNvSpPr/>
          <p:nvPr/>
        </p:nvSpPr>
        <p:spPr>
          <a:xfrm>
            <a:off x="333360" y="2052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nómi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32"/>
          <p:cNvCxnSpPr>
            <a:stCxn id="160" idx="2"/>
          </p:cNvCxnSpPr>
          <p:nvPr/>
        </p:nvCxnSpPr>
        <p:spPr>
          <a:xfrm flipH="1">
            <a:off x="3499560" y="1856880"/>
            <a:ext cx="25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18 Rectángulo"/>
          <p:cNvSpPr/>
          <p:nvPr/>
        </p:nvSpPr>
        <p:spPr>
          <a:xfrm>
            <a:off x="1700280" y="205272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visa con el director autorización de nuevo ingre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65"/>
          <p:cNvSpPr/>
          <p:nvPr/>
        </p:nvSpPr>
        <p:spPr>
          <a:xfrm>
            <a:off x="5373720" y="190980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 Narrow"/>
              </a:rPr>
              <a:t>Expediente / formatos SEDAR / designación de beneficios / numero de seguro social/ formatos de segur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5 CuadroTexto"/>
          <p:cNvSpPr/>
          <p:nvPr/>
        </p:nvSpPr>
        <p:spPr>
          <a:xfrm>
            <a:off x="5589720" y="71391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P-OP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2"/>
          <p:cNvCxnSpPr/>
          <p:nvPr/>
        </p:nvCxnSpPr>
        <p:spPr>
          <a:xfrm>
            <a:off x="3497040" y="536220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649"/>
          <p:cNvCxnSpPr>
            <a:endCxn id="220" idx="0"/>
          </p:cNvCxnSpPr>
          <p:nvPr/>
        </p:nvCxnSpPr>
        <p:spPr>
          <a:xfrm flipH="1" flipV="1">
            <a:off x="3504600" y="2267640"/>
            <a:ext cx="684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Rectangle 652"/>
          <p:cNvSpPr/>
          <p:nvPr/>
        </p:nvSpPr>
        <p:spPr>
          <a:xfrm>
            <a:off x="1700280" y="2268360"/>
            <a:ext cx="360828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i el trabajador requiere vacaciones tendrá que requerirlas y entregar formato aprobado y se archivará dicho form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66"/>
          <p:cNvSpPr/>
          <p:nvPr/>
        </p:nvSpPr>
        <p:spPr>
          <a:xfrm>
            <a:off x="5373720" y="291780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00"/>
          <p:cNvSpPr/>
          <p:nvPr/>
        </p:nvSpPr>
        <p:spPr>
          <a:xfrm>
            <a:off x="404640" y="299088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66"/>
          <p:cNvSpPr/>
          <p:nvPr/>
        </p:nvSpPr>
        <p:spPr>
          <a:xfrm>
            <a:off x="5383080" y="2268360"/>
            <a:ext cx="12765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Formato de vac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00"/>
          <p:cNvSpPr/>
          <p:nvPr/>
        </p:nvSpPr>
        <p:spPr>
          <a:xfrm>
            <a:off x="369720" y="228456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Narrow"/>
              </a:rPr>
              <a:t>Jefe de Nóminas/ Jefe de área/ Coordinador té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34"/>
          <p:cNvSpPr/>
          <p:nvPr/>
        </p:nvSpPr>
        <p:spPr>
          <a:xfrm>
            <a:off x="3228840" y="28843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32"/>
          <p:cNvCxnSpPr/>
          <p:nvPr/>
        </p:nvCxnSpPr>
        <p:spPr>
          <a:xfrm>
            <a:off x="3479400" y="26571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Oval 75"/>
          <p:cNvSpPr/>
          <p:nvPr/>
        </p:nvSpPr>
        <p:spPr>
          <a:xfrm>
            <a:off x="3371760" y="180648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32"/>
          <p:cNvCxnSpPr/>
          <p:nvPr/>
        </p:nvCxnSpPr>
        <p:spPr>
          <a:xfrm>
            <a:off x="3479400" y="20221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Lourdes Echeverria Ayala</cp:lastModifiedBy>
  <cp:lastPrinted>2014-06-27T18:48:15Z</cp:lastPrinted>
  <dcterms:modified xsi:type="dcterms:W3CDTF">2014-07-08T15:46:10Z</dcterms:modified>
  <cp:revision>351</cp:revision>
  <dc:subject/>
  <dc:title>Presentación de PowerPoint</dc:title>
</cp:coreProperties>
</file>