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EC5-F9EC-4542-AAAB-00732D033A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80EA-D09D-433A-A35C-1A98ED8305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BE74-F864-4662-9715-D1E1460338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159-0A75-4F63-A6FF-67CDA300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EC0-8EEB-4530-9D7D-D3FB67F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2A8-97CF-4AFA-94EF-AD8E8125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419-5A96-4B94-965F-3C3597CD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88B-90FA-4ED6-8CA1-F474DC20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C7C-995D-4AE7-8DF9-373CFD8A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D94-C21E-4737-97F7-83D2DDA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456-4E72-4DA3-B4E4-7356C02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A60-2B7D-4740-A54E-64B77D0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A39-2CEC-4ABA-9000-2E633702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B37-5571-40B1-A1F7-ABC6A385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258-C8F3-4A26-8331-701E982C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74BB-D53E-4E9E-ABEA-A7D7FA58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5E5B-D1C9-4D0B-8A1A-DBDE2629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0447-8829-405F-A819-B3508BD6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7731-D6DC-45ED-9B61-270EB9C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16FB-46A1-4028-AB4A-2DCA2F42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2AB5-0771-4B39-A9F6-705784DE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7687-566B-4451-A233-5492E0C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28B9-3447-49C5-8DC5-1F0F049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0B5-A7DB-459A-B80B-2705D191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4DFB-93A1-4ACA-AB2B-56025D1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EF84-A159-4FB8-8C69-0AABEB22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906-A73B-4004-B142-A2302325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0A8A-5A63-4E1C-8930-34799ABC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FA85-63E7-4A9B-8495-0A19E6A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48E7-C726-4977-BF87-E8C40E75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13AE-95B9-426B-BD9A-5ED38427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8CC9-5F5B-4CC5-9A02-EC4DA283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CB47-473F-4688-B250-4148688C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6DD1-CA1F-4F5B-9D99-4C60118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040E-F10E-463B-B658-4444631B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1FC4-42C0-48BC-9429-DF4C77E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BB8A-7C06-437C-AAFC-3F6D943F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3268-E67C-453B-946F-CFEDFB33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8F52-4372-434A-91C6-0CCE9B59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arpeta inf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807AAE0B-CFE2-4510-ACB7-F184CD6FDC3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-OPE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3514-8071-4935-90CD-8986069556F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6897-6448-4BA8-8982-DD379362ED9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0D80-09CA-407E-AD38-DBD2269474C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580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90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30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visa información de carpeta informativa de los últimos de 2 me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9178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separa información de medios y se acomodan en orden cronoló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5"/>
          <p:cNvSpPr/>
          <p:nvPr/>
        </p:nvSpPr>
        <p:spPr>
          <a:xfrm>
            <a:off x="5373720" y="36385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6"/>
          <p:cNvSpPr/>
          <p:nvPr/>
        </p:nvSpPr>
        <p:spPr>
          <a:xfrm>
            <a:off x="5373720" y="29019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AutoShape 681"/>
          <p:cNvCxnSpPr>
            <a:stCxn id="203" idx="2"/>
            <a:endCxn id="204" idx="0"/>
          </p:cNvCxnSpPr>
          <p:nvPr/>
        </p:nvCxnSpPr>
        <p:spPr>
          <a:xfrm>
            <a:off x="3498480" y="26290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684"/>
          <p:cNvCxnSpPr>
            <a:stCxn id="204" idx="2"/>
            <a:endCxn id="209" idx="0"/>
          </p:cNvCxnSpPr>
          <p:nvPr/>
        </p:nvCxnSpPr>
        <p:spPr>
          <a:xfrm>
            <a:off x="3498840" y="31334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700"/>
          <p:cNvSpPr/>
          <p:nvPr/>
        </p:nvSpPr>
        <p:spPr>
          <a:xfrm>
            <a:off x="404640" y="2773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01"/>
          <p:cNvSpPr/>
          <p:nvPr/>
        </p:nvSpPr>
        <p:spPr>
          <a:xfrm>
            <a:off x="333360" y="313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66"/>
          <p:cNvSpPr/>
          <p:nvPr/>
        </p:nvSpPr>
        <p:spPr>
          <a:xfrm>
            <a:off x="5373720" y="333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56"/>
          <p:cNvSpPr/>
          <p:nvPr/>
        </p:nvSpPr>
        <p:spPr>
          <a:xfrm>
            <a:off x="1700280" y="32781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analiza si la nota para revisar es positiva, negativa o neutra y registro con síntesis de la nota y au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>
            <a:stCxn id="209" idx="2"/>
          </p:cNvCxnSpPr>
          <p:nvPr/>
        </p:nvCxnSpPr>
        <p:spPr>
          <a:xfrm>
            <a:off x="3499920" y="34938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701"/>
          <p:cNvSpPr/>
          <p:nvPr/>
        </p:nvSpPr>
        <p:spPr>
          <a:xfrm>
            <a:off x="333360" y="392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8 Rectángulo"/>
          <p:cNvSpPr/>
          <p:nvPr/>
        </p:nvSpPr>
        <p:spPr>
          <a:xfrm>
            <a:off x="1700280" y="36370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utiliza información para grafica información de acuerdo a su clas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997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informe a presidente graficas con análisis de estadística de im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32"/>
          <p:cNvCxnSpPr>
            <a:stCxn id="215" idx="2"/>
            <a:endCxn id="216" idx="0"/>
          </p:cNvCxnSpPr>
          <p:nvPr/>
        </p:nvCxnSpPr>
        <p:spPr>
          <a:xfrm>
            <a:off x="3499920" y="3852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701"/>
          <p:cNvSpPr/>
          <p:nvPr/>
        </p:nvSpPr>
        <p:spPr>
          <a:xfrm>
            <a:off x="333360" y="3565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66"/>
          <p:cNvSpPr/>
          <p:nvPr/>
        </p:nvSpPr>
        <p:spPr>
          <a:xfrm>
            <a:off x="5373720" y="40528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3256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ística de ima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00"/>
          <p:cNvSpPr/>
          <p:nvPr/>
        </p:nvSpPr>
        <p:spPr>
          <a:xfrm>
            <a:off x="404640" y="234144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retaria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321300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32"/>
          <p:cNvCxnSpPr>
            <a:endCxn id="222" idx="0"/>
          </p:cNvCxnSpPr>
          <p:nvPr/>
        </p:nvCxnSpPr>
        <p:spPr>
          <a:xfrm>
            <a:off x="3499920" y="421272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1-01T05:43:09Z</dcterms:modified>
  <cp:revision>319</cp:revision>
  <dc:subject/>
  <dc:title>Presentación de PowerPoint</dc:title>
</cp:coreProperties>
</file>