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F8E4-272E-4406-BA8E-5CE745332D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134-3487-4059-A739-89AB8A23DD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0F3-4E5E-4326-89AB-B84E2B01FE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1A5-5127-4E1D-AE6F-F3B3A90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5C0-9593-494F-9DFA-CF04154B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D19-4599-40AA-8201-155AC82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C75-84D9-4D87-8BBB-3342DD9E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A11-0880-4B87-BEF0-26694EA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52B-0E00-4380-8419-01302AD0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F3D-DACD-4846-8A80-C0A4204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7F7-F82C-4038-8E80-C6665EA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C2F-75F8-487C-A82E-DF4F5CE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5D4-2314-4694-BD2B-447823B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9F2-7F00-43B7-A61D-91F3B11C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B1D-B765-4F45-AC41-CBB4E4F5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1BF-CBD2-4820-B40F-8470E69C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ABB4-60DD-4FFB-953E-CD9A053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3DA9-1BC0-4B03-B8BD-C83C15F4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73A7-CEAE-46F5-8F9B-C36824A5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8DF-052A-4B83-A3A4-C8FEC80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006-925A-4ACD-BFE8-9D968385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029-9A4C-4024-8A4E-317C176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44E9-0CC7-47A7-96CF-2C4F4196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8C46-F250-44AC-A679-E4FCD11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42F6-FB52-44CC-9113-BCB8270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4B4C-CD2D-4E10-B0DB-272C3E0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A5FB-143C-42A2-8247-937F0F1D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661C31B-F2E3-4BC5-98C9-5D762F488CB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598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013A-6322-4B67-917A-2A5CA8C9730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AC2-2B5F-43D4-AB2E-7CDB14FE9F0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mitir invitaciones a los proveedores a fin de que presenten cotizaciones respecto de bienes y/o servicios requeridos por las diversa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invitaciones que realiza la dirección hacia los proveedores para recibir cotizaciones de productos o servicios que se requiere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Gira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ahoga la sesión de la Comisión de Adquisiciones en la que se adjudica a 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mite orden de compra y se remite constancias a la dirección jurídica para la elaboración del contrato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6320" y="62150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invitaciones giradas / check li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7960" y="644508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2T20:07:45Z</cp:lastPrinted>
  <dcterms:modified xsi:type="dcterms:W3CDTF">2013-04-29T15:06:23Z</dcterms:modified>
  <cp:revision>325</cp:revision>
  <dc:subject/>
  <dc:title>Presentación de PowerPoint</dc:title>
</cp:coreProperties>
</file>