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EEDA-A3AA-4199-9F81-AFAEAC6E11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A986-1969-4F7E-B8B5-AF8C51CC50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3C45-0329-47BD-8CB7-F04BA0DBC8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346-982E-4EF2-A9DA-DA302DD4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FD8-7938-468A-BE31-BDB0DE61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3D9-C6F3-4DC9-8D35-7EE49FFE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32F-4B8E-421D-AC61-5A1E1690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A7D-9840-4AB8-B42B-37CB08AA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1F7-8EFC-4B51-8C5E-C9DBC7E1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2EB-44A3-4372-9544-652B428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DC8-69A4-44E6-BB72-674F0DD5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C94-3EDA-41EB-9E6D-BD6EB248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0C5-4FCE-49F9-9167-493168F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8F9-6F5B-440C-86B5-A068A565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AD5-BD25-4628-AC8D-445EB150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9037-8413-4DBF-B5FD-19F6CC7C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8A93-5C20-4791-A59F-312A5C6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5FFC-9F5D-4541-816F-1FD30137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C553-E2AE-4819-8AAF-EF3DCC6F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572B-E001-4AE9-A4C5-ED1A18E3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EC60-B9BF-4E73-B7F3-02D7E348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C1BC-1408-4F10-9EFA-D74B4E0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EEBF-875F-4426-AEC6-F099A887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CC4F-E673-4D33-996E-179E74F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45AC-E4F2-4EC6-B575-935C4A46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252C-A7CE-4265-88B4-41CD1418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BEBA-F7BA-4F5B-AD27-96D5EA99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licitudes a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A5F425C7-E1B0-4223-AA02-2261582EF56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A19B-F83A-4E56-BE3B-64AB38FE45F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50FB-91E4-4A77-A386-7751BFF0B19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ación para conocimiento o aprobación de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2036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erimiento de bienes materiales / acuerdos del pleno / of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56 Rombo"/>
          <p:cNvSpPr/>
          <p:nvPr/>
        </p:nvSpPr>
        <p:spPr>
          <a:xfrm>
            <a:off x="2997360" y="340056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7 CuadroTexto"/>
          <p:cNvSpPr/>
          <p:nvPr/>
        </p:nvSpPr>
        <p:spPr>
          <a:xfrm>
            <a:off x="2997360" y="341964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 y agend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64 Conector angular"/>
          <p:cNvCxnSpPr>
            <a:stCxn id="165" idx="1"/>
            <a:endCxn id="168" idx="0"/>
          </p:cNvCxnSpPr>
          <p:nvPr/>
        </p:nvCxnSpPr>
        <p:spPr>
          <a:xfrm flipV="1" rot="10800000">
            <a:off x="2564640" y="3590640"/>
            <a:ext cx="43272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9" name="72 CuadroTexto"/>
          <p:cNvSpPr/>
          <p:nvPr/>
        </p:nvSpPr>
        <p:spPr>
          <a:xfrm>
            <a:off x="263700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73 CuadroTexto"/>
          <p:cNvSpPr/>
          <p:nvPr/>
        </p:nvSpPr>
        <p:spPr>
          <a:xfrm>
            <a:off x="400536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65" idx="3"/>
            <a:endCxn id="172" idx="0"/>
          </p:cNvCxnSpPr>
          <p:nvPr/>
        </p:nvCxnSpPr>
        <p:spPr>
          <a:xfrm>
            <a:off x="3947760" y="3591000"/>
            <a:ext cx="49140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Rectangle 656"/>
          <p:cNvSpPr/>
          <p:nvPr/>
        </p:nvSpPr>
        <p:spPr>
          <a:xfrm>
            <a:off x="357336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notifica al área correspondiente de decisión de presidencia con correcciones o rechazo de la pet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774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documentación y se regis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de documentos a firma /Registr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140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documento u oficio num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49"/>
          <p:cNvCxnSpPr>
            <a:stCxn id="162" idx="2"/>
            <a:endCxn id="174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presidente y/o a Secretario Particular para aprobación o age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044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enda / Documento u 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 / 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49"/>
          <p:cNvCxnSpPr>
            <a:endCxn id="180" idx="0"/>
          </p:cNvCxnSpPr>
          <p:nvPr/>
        </p:nvCxnSpPr>
        <p:spPr>
          <a:xfrm>
            <a:off x="349884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49"/>
          <p:cNvCxnSpPr>
            <a:stCxn id="180" idx="2"/>
          </p:cNvCxnSpPr>
          <p:nvPr/>
        </p:nvCxnSpPr>
        <p:spPr>
          <a:xfrm>
            <a:off x="3499920" y="3203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56"/>
          <p:cNvSpPr/>
          <p:nvPr/>
        </p:nvSpPr>
        <p:spPr>
          <a:xfrm>
            <a:off x="170028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área correspondiente para su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91000" y="53690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51000" y="53690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4078440" y="488160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4078440" y="494820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7" idx="1"/>
            <a:endCxn id="190" idx="0"/>
          </p:cNvCxnSpPr>
          <p:nvPr/>
        </p:nvCxnSpPr>
        <p:spPr>
          <a:xfrm flipV="1" rot="10800000">
            <a:off x="4031640" y="5070240"/>
            <a:ext cx="46800" cy="335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72 CuadroTexto"/>
          <p:cNvSpPr/>
          <p:nvPr/>
        </p:nvSpPr>
        <p:spPr>
          <a:xfrm>
            <a:off x="384336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73 CuadroTexto"/>
          <p:cNvSpPr/>
          <p:nvPr/>
        </p:nvSpPr>
        <p:spPr>
          <a:xfrm>
            <a:off x="492444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7" idx="3"/>
            <a:endCxn id="194" idx="0"/>
          </p:cNvCxnSpPr>
          <p:nvPr/>
        </p:nvCxnSpPr>
        <p:spPr>
          <a:xfrm>
            <a:off x="5028840" y="5070600"/>
            <a:ext cx="111960" cy="367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Rectangle 656"/>
          <p:cNvSpPr/>
          <p:nvPr/>
        </p:nvSpPr>
        <p:spPr>
          <a:xfrm>
            <a:off x="3357720" y="5405400"/>
            <a:ext cx="1350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n correcciones u observaciones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995720" y="543708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49"/>
          <p:cNvCxnSpPr/>
          <p:nvPr/>
        </p:nvCxnSpPr>
        <p:spPr>
          <a:xfrm>
            <a:off x="4581000" y="4500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649"/>
          <p:cNvCxnSpPr/>
          <p:nvPr/>
        </p:nvCxnSpPr>
        <p:spPr>
          <a:xfrm>
            <a:off x="4076280" y="579384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75"/>
          <p:cNvSpPr/>
          <p:nvPr/>
        </p:nvSpPr>
        <p:spPr>
          <a:xfrm>
            <a:off x="3933720" y="60134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2"/>
          <p:cNvSpPr/>
          <p:nvPr/>
        </p:nvSpPr>
        <p:spPr>
          <a:xfrm>
            <a:off x="1700280" y="6370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olicita a todas las áreas reporte sema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91000" y="6299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33360" y="64422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49"/>
          <p:cNvCxnSpPr>
            <a:stCxn id="168" idx="2"/>
          </p:cNvCxnSpPr>
          <p:nvPr/>
        </p:nvCxnSpPr>
        <p:spPr>
          <a:xfrm>
            <a:off x="2565000" y="450036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652"/>
          <p:cNvSpPr/>
          <p:nvPr/>
        </p:nvSpPr>
        <p:spPr>
          <a:xfrm>
            <a:off x="1700280" y="6732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reportes semanales de a las diferentes áreas y se analizan para toma de decis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6661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s sema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0"/>
          <p:cNvSpPr/>
          <p:nvPr/>
        </p:nvSpPr>
        <p:spPr>
          <a:xfrm>
            <a:off x="333360" y="6804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49"/>
          <p:cNvCxnSpPr>
            <a:endCxn id="202" idx="0"/>
          </p:cNvCxnSpPr>
          <p:nvPr/>
        </p:nvCxnSpPr>
        <p:spPr>
          <a:xfrm>
            <a:off x="3498840" y="658800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649"/>
          <p:cNvCxnSpPr>
            <a:stCxn id="202" idx="2"/>
          </p:cNvCxnSpPr>
          <p:nvPr/>
        </p:nvCxnSpPr>
        <p:spPr>
          <a:xfrm>
            <a:off x="349992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2"/>
          <p:cNvSpPr/>
          <p:nvPr/>
        </p:nvSpPr>
        <p:spPr>
          <a:xfrm>
            <a:off x="1700280" y="71643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ada 2 semanas se revisara con cada director sus reportes para realizar un plan de acción y darles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91000" y="7093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semanales / plan de a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00"/>
          <p:cNvSpPr/>
          <p:nvPr/>
        </p:nvSpPr>
        <p:spPr>
          <a:xfrm>
            <a:off x="333360" y="7236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49"/>
          <p:cNvCxnSpPr>
            <a:stCxn id="207" idx="2"/>
            <a:endCxn id="173" idx="0"/>
          </p:cNvCxnSpPr>
          <p:nvPr/>
        </p:nvCxnSpPr>
        <p:spPr>
          <a:xfrm>
            <a:off x="3499920" y="7451280"/>
            <a:ext cx="25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1:34:54Z</dcterms:modified>
  <cp:revision>339</cp:revision>
  <dc:subject/>
  <dc:title>Presentación de PowerPoint</dc:title>
</cp:coreProperties>
</file>