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DA7-2E91-4A3E-9332-64AAC8FFB9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2E32-5A3B-4F10-9422-814AB51A1D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211D-08D1-42CB-BCC2-92692D93E7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ADB-E54D-4419-934E-70CC87B8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873-404C-4769-AEDA-91819F14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682-7FC5-40EA-ACAF-A589D650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050-51B3-4CA4-B219-F3EF073C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8A8-F420-46DD-B2D3-E62F1089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75F-3858-4397-8249-48A4B19A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077-704E-4C72-BF1A-4EE4270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365-19B2-4F10-BBD6-4FA37BE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C71-0D9C-427F-9B40-03D394F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F77-CC26-405D-985D-ECBD1FC3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31F-BAE4-4D04-984E-86CB07FC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0A4-1981-458F-9B29-F779E099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C7FC-2D77-4FBF-8253-D37867EF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5795-9A1C-46DF-88B1-7725A082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861D-0ED8-446A-AB88-01041542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402D-D6C9-420E-AE30-9D1BE6F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C726-5D9E-4034-8000-8C0888B2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FF40-3D7D-476D-BD7D-95E2ECE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E01B-31D6-4491-B628-475C811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F20F-501C-454D-9272-CFF50EA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0ED2-A5A1-42BB-8926-A871972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9359-288D-45A5-B6E7-0A22EF64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B210-D30A-4240-9C1A-9EBEF8D1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5F45-7875-48AC-91EA-6BEA872B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ecciones esco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6D78971-48E8-455A-BF40-C27D7A8FC48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E34A-D468-40F0-846A-51D6BFE7BED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B502-64B1-4CE3-8F5C-4683472DEC9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desarrollo de los programas de capacitación electoral y educación del institu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levar a cabo elecciones escolares solicitadas hacia el IEPC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n solicitudes para organizar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la elección para su ejecución y se confirma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684"/>
          <p:cNvCxnSpPr>
            <a:stCxn id="163" idx="2"/>
            <a:endCxn id="167" idx="0"/>
          </p:cNvCxnSpPr>
          <p:nvPr/>
        </p:nvCxnSpPr>
        <p:spPr>
          <a:xfrm>
            <a:off x="3498840" y="255564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ectangle 701"/>
          <p:cNvSpPr/>
          <p:nvPr/>
        </p:nvSpPr>
        <p:spPr>
          <a:xfrm>
            <a:off x="333360" y="2268360"/>
            <a:ext cx="12240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66"/>
          <p:cNvSpPr/>
          <p:nvPr/>
        </p:nvSpPr>
        <p:spPr>
          <a:xfrm>
            <a:off x="5373720" y="345600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oletas / P-OPE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26272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para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56"/>
          <p:cNvSpPr/>
          <p:nvPr/>
        </p:nvSpPr>
        <p:spPr>
          <a:xfrm>
            <a:off x="1700280" y="27003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verifica la solicitud y se determina si es urna electrónica o tradicional y se turna a Dirección general para su V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18 Rectángulo"/>
          <p:cNvSpPr/>
          <p:nvPr/>
        </p:nvSpPr>
        <p:spPr>
          <a:xfrm>
            <a:off x="1700280" y="4067280"/>
            <a:ext cx="36003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para la logística de la elección y se capacita a los funcion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32"/>
          <p:cNvCxnSpPr>
            <a:stCxn id="173" idx="2"/>
            <a:endCxn id="174" idx="0"/>
          </p:cNvCxnSpPr>
          <p:nvPr/>
        </p:nvCxnSpPr>
        <p:spPr>
          <a:xfrm>
            <a:off x="3499920" y="48592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para ele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66"/>
          <p:cNvSpPr/>
          <p:nvPr/>
        </p:nvSpPr>
        <p:spPr>
          <a:xfrm>
            <a:off x="5373720" y="4051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material / manual de elecciones escola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0"/>
          <p:cNvSpPr/>
          <p:nvPr/>
        </p:nvSpPr>
        <p:spPr>
          <a:xfrm>
            <a:off x="404640" y="2050920"/>
            <a:ext cx="11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1"/>
          <p:cNvSpPr/>
          <p:nvPr/>
        </p:nvSpPr>
        <p:spPr>
          <a:xfrm>
            <a:off x="333360" y="3456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cultura cívica democrática / 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01"/>
          <p:cNvSpPr/>
          <p:nvPr/>
        </p:nvSpPr>
        <p:spPr>
          <a:xfrm>
            <a:off x="333360" y="4067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56 Rombo"/>
          <p:cNvSpPr/>
          <p:nvPr/>
        </p:nvSpPr>
        <p:spPr>
          <a:xfrm>
            <a:off x="3090960" y="311292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57 CuadroTexto"/>
          <p:cNvSpPr/>
          <p:nvPr/>
        </p:nvSpPr>
        <p:spPr>
          <a:xfrm>
            <a:off x="3141720" y="3182760"/>
            <a:ext cx="785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lectrónic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64 Conector angular"/>
          <p:cNvCxnSpPr>
            <a:stCxn id="180" idx="1"/>
            <a:endCxn id="183" idx="0"/>
          </p:cNvCxnSpPr>
          <p:nvPr/>
        </p:nvCxnSpPr>
        <p:spPr>
          <a:xfrm flipV="1" rot="10800000">
            <a:off x="2493360" y="32922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4" name="72 CuadroTexto"/>
          <p:cNvSpPr/>
          <p:nvPr/>
        </p:nvSpPr>
        <p:spPr>
          <a:xfrm>
            <a:off x="3933720" y="3057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2708280" y="30574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1628640" y="3471840"/>
            <a:ext cx="17305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Se diseñan boletas e imprim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stCxn id="180" idx="3"/>
            <a:endCxn id="187" idx="0"/>
          </p:cNvCxnSpPr>
          <p:nvPr/>
        </p:nvCxnSpPr>
        <p:spPr>
          <a:xfrm>
            <a:off x="3948120" y="3292200"/>
            <a:ext cx="489600" cy="2005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Rectangle 656"/>
          <p:cNvSpPr/>
          <p:nvPr/>
        </p:nvSpPr>
        <p:spPr>
          <a:xfrm>
            <a:off x="3573360" y="3492360"/>
            <a:ext cx="172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urnas y programación de las mis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32"/>
          <p:cNvCxnSpPr>
            <a:stCxn id="171" idx="2"/>
            <a:endCxn id="173" idx="0"/>
          </p:cNvCxnSpPr>
          <p:nvPr/>
        </p:nvCxnSpPr>
        <p:spPr>
          <a:xfrm flipH="1">
            <a:off x="3499560" y="42825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661"/>
          <p:cNvSpPr/>
          <p:nvPr/>
        </p:nvSpPr>
        <p:spPr>
          <a:xfrm>
            <a:off x="333360" y="45007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 / encargado del ev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73720" y="46274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tancia de mayor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457200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imes New Roman"/>
              </a:rPr>
              <a:t>Se lleva a cabo la jornada electoral y se entrega la constancia de mayoría al gana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1"/>
          <p:cNvSpPr/>
          <p:nvPr/>
        </p:nvSpPr>
        <p:spPr>
          <a:xfrm>
            <a:off x="333360" y="5076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 de cultura cívica y democrática / encargado del ev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51325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port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507672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reporte de actividades realiza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/>
          <p:nvPr/>
        </p:nvCxnSpPr>
        <p:spPr>
          <a:xfrm>
            <a:off x="3499920" y="2987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32"/>
          <p:cNvCxnSpPr/>
          <p:nvPr/>
        </p:nvCxnSpPr>
        <p:spPr>
          <a:xfrm>
            <a:off x="3499920" y="52927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Oval 34"/>
          <p:cNvSpPr/>
          <p:nvPr/>
        </p:nvSpPr>
        <p:spPr>
          <a:xfrm>
            <a:off x="3213000" y="5435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/>
          <p:nvPr/>
        </p:nvCxnSpPr>
        <p:spPr>
          <a:xfrm flipH="1">
            <a:off x="4508280" y="378000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32"/>
          <p:cNvCxnSpPr/>
          <p:nvPr/>
        </p:nvCxnSpPr>
        <p:spPr>
          <a:xfrm flipH="1">
            <a:off x="2491560" y="385128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701"/>
          <p:cNvSpPr/>
          <p:nvPr/>
        </p:nvSpPr>
        <p:spPr>
          <a:xfrm>
            <a:off x="333360" y="270036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área de cultura cívica y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6:13Z</dcterms:modified>
  <cp:revision>329</cp:revision>
  <dc:subject/>
  <dc:title>Presentación de PowerPoint</dc:title>
</cp:coreProperties>
</file>