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7FA3-A802-4610-AF58-63A2A15286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1803-33F1-4DAE-BCE4-43C5E7343C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5BC8-D1DF-4A57-A5B5-C63AC7AC30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Información a CNBV y SH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31F0620-B2BA-40B1-9020-FB9C9805654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la Unidad de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479600"/>
            <a:ext cx="6335640" cy="654840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548400"/>
              <a:gd name="textAreaBottom" fmla="*/ 6513480 h 6548400"/>
            </a:gdLst>
            <a:ahLst/>
            <a:rect l="textAreaLeft" t="textAreaTop" r="textAreaRight" b="textAreaBottom"/>
            <a:pathLst>
              <a:path w="21600" h="22325">
                <a:moveTo>
                  <a:pt x="409" y="0"/>
                </a:moveTo>
                <a:arcTo wR="409" hR="409" stAng="16200000" swAng="-5400000"/>
                <a:lnTo>
                  <a:pt x="0" y="21916"/>
                </a:lnTo>
                <a:arcTo wR="409" hR="409" stAng="10800000" swAng="-5400000"/>
                <a:lnTo>
                  <a:pt x="21191" y="22325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28680" y="971640"/>
            <a:ext cx="634032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roporcionar información a la CNBV y SHCP, de aportantes de financiamiento privado de los partidos políticos y agrupaciones políticas, de candidatos a puestos de elección popular, de dirigentes y encargados de finanzas de los partidos políticos y del personal de la UFRPP que encuadran en la definición de Personas Políticamente Expu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NBV: Comisión Nacional Bancaria y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SHCP: Secretaría de Hacienda y Crédito Publ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Personas Políticamente expu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164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os informes de ingresos de los partidos y agrupaciones políticas se extraen datos de todos los aportantes de financiamiento priva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n datos de candidatos a puestos de elección pop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2360" y="392436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caban datos por parte del 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de apor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4"/>
          <p:cNvSpPr/>
          <p:nvPr/>
        </p:nvSpPr>
        <p:spPr>
          <a:xfrm>
            <a:off x="5367240" y="448164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ción a CNBV Y SHCP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5"/>
          <p:cNvSpPr/>
          <p:nvPr/>
        </p:nvSpPr>
        <p:spPr>
          <a:xfrm>
            <a:off x="5380200" y="4859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 de información CVBV y SHC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681"/>
          <p:cNvCxnSpPr>
            <a:stCxn id="80" idx="2"/>
            <a:endCxn id="81" idx="0"/>
          </p:cNvCxnSpPr>
          <p:nvPr/>
        </p:nvCxnSpPr>
        <p:spPr>
          <a:xfrm>
            <a:off x="3492000" y="288936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73720" y="348444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lación de dirigentes y titulares de finanz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n datos de los dirigentes y de los titulares de los órganos de finanzas de los partidos y agrupaciones polít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33360" y="4510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681"/>
          <p:cNvCxnSpPr>
            <a:stCxn id="81" idx="2"/>
            <a:endCxn id="93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655"/>
          <p:cNvSpPr/>
          <p:nvPr/>
        </p:nvSpPr>
        <p:spPr>
          <a:xfrm>
            <a:off x="1703520" y="4427640"/>
            <a:ext cx="36003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laboran las relaciones de aportantes y de personas políticamente expuestas, por escrito y en medios magné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98480" y="5003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laboran oficios de envío de información a la CNBV Y SHC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5"/>
          <p:cNvSpPr/>
          <p:nvPr/>
        </p:nvSpPr>
        <p:spPr>
          <a:xfrm>
            <a:off x="1703520" y="5364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notifican los oficios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681"/>
          <p:cNvCxnSpPr>
            <a:stCxn id="93" idx="2"/>
            <a:endCxn id="82" idx="0"/>
          </p:cNvCxnSpPr>
          <p:nvPr/>
        </p:nvCxnSpPr>
        <p:spPr>
          <a:xfrm>
            <a:off x="3492000" y="3790440"/>
            <a:ext cx="108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1"/>
          <p:cNvCxnSpPr>
            <a:stCxn id="82" idx="2"/>
            <a:endCxn id="96" idx="0"/>
          </p:cNvCxnSpPr>
          <p:nvPr/>
        </p:nvCxnSpPr>
        <p:spPr>
          <a:xfrm>
            <a:off x="3492000" y="4228920"/>
            <a:ext cx="118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681"/>
          <p:cNvCxnSpPr>
            <a:stCxn id="96" idx="2"/>
            <a:endCxn id="97" idx="0"/>
          </p:cNvCxnSpPr>
          <p:nvPr/>
        </p:nvCxnSpPr>
        <p:spPr>
          <a:xfrm flipH="1">
            <a:off x="3498120" y="4750920"/>
            <a:ext cx="540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endCxn id="98" idx="0"/>
          </p:cNvCxnSpPr>
          <p:nvPr/>
        </p:nvCxnSpPr>
        <p:spPr>
          <a:xfrm flipH="1">
            <a:off x="350280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701"/>
          <p:cNvSpPr/>
          <p:nvPr/>
        </p:nvSpPr>
        <p:spPr>
          <a:xfrm>
            <a:off x="328680" y="48751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48"/>
          <p:cNvSpPr/>
          <p:nvPr/>
        </p:nvSpPr>
        <p:spPr>
          <a:xfrm>
            <a:off x="3216240" y="5796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>
            <a:endCxn id="104" idx="0"/>
          </p:cNvCxnSpPr>
          <p:nvPr/>
        </p:nvCxnSpPr>
        <p:spPr>
          <a:xfrm>
            <a:off x="3503160" y="5580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Rectangle 701"/>
          <p:cNvSpPr/>
          <p:nvPr/>
        </p:nvSpPr>
        <p:spPr>
          <a:xfrm>
            <a:off x="334800" y="5364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62"/>
          <p:cNvSpPr/>
          <p:nvPr/>
        </p:nvSpPr>
        <p:spPr>
          <a:xfrm>
            <a:off x="5388120" y="30052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de Candi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367240" y="3932280"/>
            <a:ext cx="12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367240" y="5327640"/>
            <a:ext cx="12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55:12Z</dcterms:modified>
  <cp:revision>312</cp:revision>
  <dc:subject/>
  <dc:title>Presentación de PowerPoint</dc:title>
</cp:coreProperties>
</file>