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0AAE-0762-455E-BAE5-63EE30F6B6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26A3-7D48-49B6-903F-72EB643325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CB58-C840-47F5-8E1E-7BE94246D9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9F0-4313-4685-8A9A-3A382943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2E6-9223-4C7E-A470-DFE1A94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1A2-78A5-4F12-A830-9270217D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CE2-191E-4980-81DF-070E9DD5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F8A-FC84-4FF9-BA95-41A8C306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614-FF86-42DF-A5D1-9CBB3B67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608-4DD3-4727-AF4F-0241E828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129-1869-43CC-B4A6-CCF36F01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B32-1A6F-4DF3-B5B7-7D45712C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875-AE68-45B1-8101-BB3A9F7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036-4DCA-451D-B465-C89E6FBB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048-8393-47A8-9998-DC7B1B48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4A1A-AA84-4699-9470-7CC9DAFC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D219-5339-42C3-9AA8-EB7D9B35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8A1E-1FAC-487F-861C-703D476C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31B2-9C1B-4D80-9510-909DE576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F21B-0CA4-4D7D-A289-06BE0576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EAEB-459E-40AE-A674-1BE805A8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B371-21A1-4646-8362-E4375385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B3BE-462F-461E-9BBF-4A503D0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6180-914F-4EC2-B724-EB569E4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AEAF-F497-4380-9762-07938975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135C-5CCE-4EF5-8EEA-F8775EA5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51B4-AD17-4B0A-A989-68FB9B2B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FE08-FA63-43CB-9A6D-2F11C48B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AA99-90DA-4CF3-B7A7-CB5F5F0B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8383-217F-44E0-9811-F5C321E1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37FD-9206-4822-96E4-C6A689F9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7AB1C-927A-4A30-A740-86D8D344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899B2-7202-4DA4-8A24-8968AACB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498B-824F-4350-91C2-2CCCB0C1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C6AB-3800-4ED3-9181-F1A45BC1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90E95-B435-4584-B496-D73E2396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8F92-A24B-4A9C-A62F-6C4A5B79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99FC-0550-499B-AF21-E0484E3D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43030-8B92-484F-BD5C-57010C69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on a medios de comun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B1511410-12AF-4F94-9FE9-6AD6BFF92B00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8549-DACC-4069-B624-B3DD10D0D53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9192-1BB4-418A-B7B7-46501D7C49E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959-FAD5-4ED4-8CEA-851B631327A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roporcionar la información a los representantes de los medios de comunicación y ciudadanos interesad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solicitud de información y se registra en 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700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para evaluación de información solici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4941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48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291636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00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133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utoriza la entrega de información y se ordena la recolección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3494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información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P-OPE-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2-13T19:15:11Z</dcterms:modified>
  <cp:revision>325</cp:revision>
  <dc:subject/>
  <dc:title>Presentación de PowerPoint</dc:title>
</cp:coreProperties>
</file>