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A604-5EA7-4359-84C6-94D251A7D6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236B-9ECB-402B-A515-352B84EE47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38B8-28EA-47A1-898E-2DBE04E7D1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0D3-DC3A-4E6C-895C-5EE60FB6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747-F702-4B7F-A123-59EECAD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E11-9561-48A9-917A-2B71E87C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6DB-7C2C-42FA-997D-22658800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D11-1157-44FF-A7BC-3F7E7BF4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4ED-647B-409E-847A-DDFE7B9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C9F-B3AA-42DA-AF55-9506F10D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E1A-FA6E-4A2B-A059-2861502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E43-7324-4D30-85E2-CD45C8FE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646-22E4-4F89-9E3F-362FEAE8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120-E3CE-473C-829D-D094D188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BF9-E6E1-4D06-A16E-C1C5D11D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2100-05DD-44C6-856B-06911DAC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240C-6FEC-43F7-8DBD-286FE36E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B42-48B1-40C0-9829-1061FDD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8C4E-5D12-47C0-9E24-84335839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ABB4-9F17-47A7-8925-2E4BA260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0D2-898C-4651-8D09-878177D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5F28-C0A1-4D7C-85E3-D02C63D7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928E-ADE8-4CF2-985B-D6EAD050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4701-0AA0-4921-A8F6-99223498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989A-DA68-4093-8B56-A8D349D7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8325-3DC8-45D4-B748-C05D57EC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A6E-7C3A-49B2-9651-EB258A48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rvicio de edición y producción gra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C561AC9-9C45-493B-BEE2-8EDE91A5B54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B722-C740-467B-9530-0FE3A6A6954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69C-ED2F-4B6B-82E0-1537414895A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l contenido y diseño de los servicios solicitados por parte de las direccion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servicio de edición y/o producción gra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  <a:endCxn id="165" idx="0"/>
          </p:cNvCxnSpPr>
          <p:nvPr/>
        </p:nvCxnSpPr>
        <p:spPr>
          <a:xfrm>
            <a:off x="3499920" y="3130200"/>
            <a:ext cx="108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66"/>
          <p:cNvSpPr/>
          <p:nvPr/>
        </p:nvSpPr>
        <p:spPr>
          <a:xfrm>
            <a:off x="5373720" y="4464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ommy al área involucrada para VoBo final y solicite 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6081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6084720"/>
            <a:ext cx="3600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imprenta el documento para recibir pruebas de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con el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7" idx="2"/>
            <a:endCxn id="169" idx="0"/>
          </p:cNvCxnSpPr>
          <p:nvPr/>
        </p:nvCxnSpPr>
        <p:spPr>
          <a:xfrm>
            <a:off x="3499920" y="5721120"/>
            <a:ext cx="10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44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90960" y="41212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141720" y="4191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  <a:endCxn id="177" idx="0"/>
          </p:cNvCxnSpPr>
          <p:nvPr/>
        </p:nvCxnSpPr>
        <p:spPr>
          <a:xfrm flipV="1" rot="10800000">
            <a:off x="2493360" y="43002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63700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73 CuadroTexto"/>
          <p:cNvSpPr/>
          <p:nvPr/>
        </p:nvSpPr>
        <p:spPr>
          <a:xfrm>
            <a:off x="4076640" y="4065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6"/>
          <p:cNvSpPr/>
          <p:nvPr/>
        </p:nvSpPr>
        <p:spPr>
          <a:xfrm>
            <a:off x="1628640" y="44798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observaciones y se realizan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4" idx="3"/>
          </p:cNvCxnSpPr>
          <p:nvPr/>
        </p:nvCxnSpPr>
        <p:spPr>
          <a:xfrm>
            <a:off x="3948120" y="430020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1" name="AutoShape 32"/>
          <p:cNvCxnSpPr>
            <a:stCxn id="177" idx="2"/>
          </p:cNvCxnSpPr>
          <p:nvPr/>
        </p:nvCxnSpPr>
        <p:spPr>
          <a:xfrm flipH="1">
            <a:off x="2491560" y="4857840"/>
            <a:ext cx="252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6081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editorial / director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4149720" y="7667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14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el documento final por parte de DG y Dirección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0208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a editar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33360" y="2916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9" idx="2"/>
          </p:cNvCxnSpPr>
          <p:nvPr/>
        </p:nvCxnSpPr>
        <p:spPr>
          <a:xfrm>
            <a:off x="3499920" y="637200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1"/>
          <p:cNvCxnSpPr>
            <a:stCxn id="165" idx="2"/>
          </p:cNvCxnSpPr>
          <p:nvPr/>
        </p:nvCxnSpPr>
        <p:spPr>
          <a:xfrm>
            <a:off x="3499920" y="38476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700280" y="36320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servicio de edición y diseño y se entrega primera versión al área involucrada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02080" y="3560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imera Ver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33360" y="37036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1"/>
          <p:cNvCxnSpPr/>
          <p:nvPr/>
        </p:nvCxnSpPr>
        <p:spPr>
          <a:xfrm>
            <a:off x="3068280" y="341928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75"/>
          <p:cNvSpPr/>
          <p:nvPr/>
        </p:nvSpPr>
        <p:spPr>
          <a:xfrm>
            <a:off x="2781360" y="334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69865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986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6 Rombo"/>
          <p:cNvSpPr/>
          <p:nvPr/>
        </p:nvSpPr>
        <p:spPr>
          <a:xfrm>
            <a:off x="3090960" y="6643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57 CuadroTexto"/>
          <p:cNvSpPr/>
          <p:nvPr/>
        </p:nvSpPr>
        <p:spPr>
          <a:xfrm>
            <a:off x="3141720" y="6713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64 Conector angular"/>
          <p:cNvCxnSpPr>
            <a:stCxn id="196" idx="1"/>
            <a:endCxn id="199" idx="0"/>
          </p:cNvCxnSpPr>
          <p:nvPr/>
        </p:nvCxnSpPr>
        <p:spPr>
          <a:xfrm flipV="1" rot="10800000">
            <a:off x="2493360" y="6822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72 CuadroTexto"/>
          <p:cNvSpPr/>
          <p:nvPr/>
        </p:nvSpPr>
        <p:spPr>
          <a:xfrm>
            <a:off x="400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73 CuadroTexto"/>
          <p:cNvSpPr/>
          <p:nvPr/>
        </p:nvSpPr>
        <p:spPr>
          <a:xfrm>
            <a:off x="256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628640" y="700236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196" idx="3"/>
            <a:endCxn id="185" idx="0"/>
          </p:cNvCxnSpPr>
          <p:nvPr/>
        </p:nvCxnSpPr>
        <p:spPr>
          <a:xfrm>
            <a:off x="3948120" y="6823080"/>
            <a:ext cx="489600" cy="845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3" name="AutoShape 32"/>
          <p:cNvCxnSpPr>
            <a:stCxn id="199" idx="2"/>
          </p:cNvCxnSpPr>
          <p:nvPr/>
        </p:nvCxnSpPr>
        <p:spPr>
          <a:xfrm flipH="1">
            <a:off x="249336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Oval 75"/>
          <p:cNvSpPr/>
          <p:nvPr/>
        </p:nvSpPr>
        <p:spPr>
          <a:xfrm>
            <a:off x="2421000" y="7669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2637000" y="5796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852280" y="5866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49"/>
          <p:cNvCxnSpPr>
            <a:stCxn id="162" idx="2"/>
            <a:endCxn id="164" idx="0"/>
          </p:cNvCxnSpPr>
          <p:nvPr/>
        </p:nvCxnSpPr>
        <p:spPr>
          <a:xfrm>
            <a:off x="3498840" y="24825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4365720" y="4572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15:09Z</dcterms:modified>
  <cp:revision>334</cp:revision>
  <dc:subject/>
  <dc:title>Presentación de PowerPoint</dc:title>
</cp:coreProperties>
</file>