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B934-D237-4F8A-A77A-3B371CB23F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A28B-83A9-489F-BF42-13DEA3A1B78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90FD-9969-42F9-9DC8-CEEE227507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D13D-DD89-4082-A190-752B8F54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80E-C0C5-4DA1-8418-FD14F63F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6C68-1FED-4FD7-96E2-D515DFB6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E88-FE5F-48E4-BD78-E1FCDEEE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6611-8234-44D3-9C81-81E1F334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685-FEB9-4561-BED4-7508AAEC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7FF-61ED-4906-AD74-1C26A0E7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E0B-4CF9-426E-AF36-4DA89630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BF2-F185-469D-871F-91DF531A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B31-594A-414C-A9F6-8169CB3C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B07-2BED-40AD-9994-5E227129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B60-6CF1-4484-AAB3-414030D6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A062-3C84-491C-974C-D1B5596A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FC0C-52C4-4A6C-B3D4-208316DA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621D-4FF2-456C-8AC6-CABC7E32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5640-CBE8-4F45-8A62-0B8D3F9F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64F8-1A6E-46C5-B98C-D73BDFC6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6B45-45E7-4F9D-83B2-CE9B9D0A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E50A-EEB1-4B05-AD34-7AD28855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D118-0DC0-4564-B53C-63F9996E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EB45-E059-46C4-BD65-A5721681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CE5F-D417-4EF9-B723-6FBB4621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9258-2D86-475B-8C5D-BD25A9A1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2C72-8363-4C3C-9AB6-BE4C0F36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E3BFC-8180-4F97-9298-9864EF15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25664-18D0-416D-883C-634CA26D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8AA6-0B7E-438A-8DFC-E7DB32D1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CE55A-2D25-49C9-A8AA-32FCA2BD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910AD-77D8-4918-AE78-1C7A2506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9CE42-ADA5-47D4-B766-EEF206C0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2F7F5-EA05-4C0B-9543-2CB573FA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E36D7-45B5-401E-B026-0A2A5757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38A79-B9D0-4877-A234-59D90CEA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3E96B-3B2E-40C5-96BD-31FFAA9A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3F914-AD4D-4FB8-BF18-11BF0C05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867EC-47FB-4C84-AF62-1C702B8A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ograma Anual de Trabaj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F7C5E32F-35A7-484E-B074-DC0C26C1382A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Contral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ADM-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B2DA-B65D-4DBF-9713-C6870D59D46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0660-5B59-41A7-BF01-4CA839FDF18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3681-B8B5-4797-98CE-EC753CA062E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Buscar la aprobación del Pleno del Consejo General para el cumplimiento de las metas y objetivos de trabajo propuestos por la contraloría gener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9810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14596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268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aliza la proyección de metas y objetivos  de trabajo de la Contraloría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700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envía a Contralor para su aprobación  y se le da seguimiento al programa anual de trabajo de acuerdo a los indicadores de desempe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5724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70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-mail / proyección de metas  y obje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484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291636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00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1878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ultados de indic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1338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contralor general para su evaluación y en su caso aprob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/>
          <p:nvPr/>
        </p:nvCxnSpPr>
        <p:spPr>
          <a:xfrm>
            <a:off x="3499920" y="3347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5722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ntralor general verifica información y presenta al consejo General para su aprobación el P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01"/>
          <p:cNvSpPr/>
          <p:nvPr/>
        </p:nvSpPr>
        <p:spPr>
          <a:xfrm>
            <a:off x="333360" y="565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66"/>
          <p:cNvSpPr/>
          <p:nvPr/>
        </p:nvSpPr>
        <p:spPr>
          <a:xfrm>
            <a:off x="5373720" y="2181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ción de metas y obje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00"/>
          <p:cNvSpPr/>
          <p:nvPr/>
        </p:nvSpPr>
        <p:spPr>
          <a:xfrm>
            <a:off x="404640" y="226836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65"/>
          <p:cNvSpPr/>
          <p:nvPr/>
        </p:nvSpPr>
        <p:spPr>
          <a:xfrm>
            <a:off x="5373720" y="60832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685"/>
          <p:cNvCxnSpPr/>
          <p:nvPr/>
        </p:nvCxnSpPr>
        <p:spPr>
          <a:xfrm>
            <a:off x="3499920" y="59385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18 Rectángulo"/>
          <p:cNvSpPr/>
          <p:nvPr/>
        </p:nvSpPr>
        <p:spPr>
          <a:xfrm>
            <a:off x="1700280" y="60818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la información aprobada y se turna al subcontralor para su seguimiento y cumpli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>
            <a:stCxn id="220" idx="2"/>
          </p:cNvCxnSpPr>
          <p:nvPr/>
        </p:nvCxnSpPr>
        <p:spPr>
          <a:xfrm>
            <a:off x="3499920" y="62974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Rectangle 701"/>
          <p:cNvSpPr/>
          <p:nvPr/>
        </p:nvSpPr>
        <p:spPr>
          <a:xfrm>
            <a:off x="333360" y="60102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ralor /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91000" y="403236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oficio / 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1"/>
          <p:cNvSpPr/>
          <p:nvPr/>
        </p:nvSpPr>
        <p:spPr>
          <a:xfrm>
            <a:off x="351000" y="396072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56 Rombo"/>
          <p:cNvSpPr/>
          <p:nvPr/>
        </p:nvSpPr>
        <p:spPr>
          <a:xfrm>
            <a:off x="3108240" y="36669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57 CuadroTexto"/>
          <p:cNvSpPr/>
          <p:nvPr/>
        </p:nvSpPr>
        <p:spPr>
          <a:xfrm>
            <a:off x="3159000" y="375912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obad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64 Conector angular"/>
          <p:cNvCxnSpPr/>
          <p:nvPr/>
        </p:nvCxnSpPr>
        <p:spPr>
          <a:xfrm rot="5400000">
            <a:off x="1836000" y="4452480"/>
            <a:ext cx="1856520" cy="687960"/>
          </a:xfrm>
          <a:prstGeom prst="bentConnector3">
            <a:avLst>
              <a:gd name="adj1" fmla="val -1086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8" name="72 CuadroTexto"/>
          <p:cNvSpPr/>
          <p:nvPr/>
        </p:nvSpPr>
        <p:spPr>
          <a:xfrm>
            <a:off x="2637000" y="36147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73 CuadroTexto"/>
          <p:cNvSpPr/>
          <p:nvPr/>
        </p:nvSpPr>
        <p:spPr>
          <a:xfrm>
            <a:off x="4005360" y="36147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64 Conector angular"/>
          <p:cNvCxnSpPr>
            <a:endCxn id="231" idx="0"/>
          </p:cNvCxnSpPr>
          <p:nvPr/>
        </p:nvCxnSpPr>
        <p:spPr>
          <a:xfrm>
            <a:off x="3965040" y="3868200"/>
            <a:ext cx="489600" cy="2358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1" name="Rectangle 656"/>
          <p:cNvSpPr/>
          <p:nvPr/>
        </p:nvSpPr>
        <p:spPr>
          <a:xfrm>
            <a:off x="3591000" y="410364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modifica el proyecto y se envia al 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56"/>
          <p:cNvSpPr/>
          <p:nvPr/>
        </p:nvSpPr>
        <p:spPr>
          <a:xfrm>
            <a:off x="3591000" y="4608360"/>
            <a:ext cx="172872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Propone nuevas metas y objetivos, o en su caso modifica las propue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64 Conector angular"/>
          <p:cNvCxnSpPr>
            <a:stCxn id="232" idx="2"/>
            <a:endCxn id="234" idx="0"/>
          </p:cNvCxnSpPr>
          <p:nvPr/>
        </p:nvCxnSpPr>
        <p:spPr>
          <a:xfrm rot="5400000">
            <a:off x="4230000" y="5138280"/>
            <a:ext cx="216360" cy="23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5" name="Rectangle 701"/>
          <p:cNvSpPr/>
          <p:nvPr/>
        </p:nvSpPr>
        <p:spPr>
          <a:xfrm>
            <a:off x="351000" y="453708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91000" y="4608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anu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75"/>
          <p:cNvSpPr/>
          <p:nvPr/>
        </p:nvSpPr>
        <p:spPr>
          <a:xfrm>
            <a:off x="4076640" y="536400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75"/>
          <p:cNvSpPr/>
          <p:nvPr/>
        </p:nvSpPr>
        <p:spPr>
          <a:xfrm>
            <a:off x="2924280" y="3419640"/>
            <a:ext cx="217440" cy="19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AutoShape 685"/>
          <p:cNvCxnSpPr/>
          <p:nvPr/>
        </p:nvCxnSpPr>
        <p:spPr>
          <a:xfrm>
            <a:off x="3141720" y="3492000"/>
            <a:ext cx="358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Rectangle 665"/>
          <p:cNvSpPr/>
          <p:nvPr/>
        </p:nvSpPr>
        <p:spPr>
          <a:xfrm>
            <a:off x="5373720" y="68054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01"/>
          <p:cNvSpPr/>
          <p:nvPr/>
        </p:nvSpPr>
        <p:spPr>
          <a:xfrm>
            <a:off x="333360" y="644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66"/>
          <p:cNvSpPr/>
          <p:nvPr/>
        </p:nvSpPr>
        <p:spPr>
          <a:xfrm>
            <a:off x="5373720" y="649908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ultados de indic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56"/>
          <p:cNvSpPr/>
          <p:nvPr/>
        </p:nvSpPr>
        <p:spPr>
          <a:xfrm>
            <a:off x="1700280" y="6445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forma a contralor general resultados para realizar plan para corregir fallas o incumpl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685"/>
          <p:cNvCxnSpPr>
            <a:stCxn id="242" idx="2"/>
          </p:cNvCxnSpPr>
          <p:nvPr/>
        </p:nvCxnSpPr>
        <p:spPr>
          <a:xfrm>
            <a:off x="3499920" y="6660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18 Rectángulo"/>
          <p:cNvSpPr/>
          <p:nvPr/>
        </p:nvSpPr>
        <p:spPr>
          <a:xfrm>
            <a:off x="1700280" y="6804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aplican acciones y se les da seguimiento y de acuerdo a los resultados obtenidos se realiza un informe fin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01"/>
          <p:cNvSpPr/>
          <p:nvPr/>
        </p:nvSpPr>
        <p:spPr>
          <a:xfrm>
            <a:off x="333360" y="6732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34"/>
          <p:cNvSpPr/>
          <p:nvPr/>
        </p:nvSpPr>
        <p:spPr>
          <a:xfrm>
            <a:off x="3213000" y="7524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65"/>
          <p:cNvSpPr/>
          <p:nvPr/>
        </p:nvSpPr>
        <p:spPr>
          <a:xfrm>
            <a:off x="5373720" y="7164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AutoShape 685"/>
          <p:cNvCxnSpPr/>
          <p:nvPr/>
        </p:nvCxnSpPr>
        <p:spPr>
          <a:xfrm>
            <a:off x="3499920" y="701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18 Rectángulo"/>
          <p:cNvSpPr/>
          <p:nvPr/>
        </p:nvSpPr>
        <p:spPr>
          <a:xfrm>
            <a:off x="1700280" y="716292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ntralor general verifica información y presenta a Consejo General informe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AutoShape 32"/>
          <p:cNvCxnSpPr>
            <a:stCxn id="249" idx="2"/>
          </p:cNvCxnSpPr>
          <p:nvPr/>
        </p:nvCxnSpPr>
        <p:spPr>
          <a:xfrm>
            <a:off x="3499920" y="73785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Rectangle 701"/>
          <p:cNvSpPr/>
          <p:nvPr/>
        </p:nvSpPr>
        <p:spPr>
          <a:xfrm>
            <a:off x="333360" y="709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ralor /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16T05:53:02Z</dcterms:modified>
  <cp:revision>331</cp:revision>
  <dc:subject/>
  <dc:title>Presentación de PowerPoint</dc:title>
</cp:coreProperties>
</file>