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D703-442B-4B40-86DB-5F76F25EED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89E9-70B1-4747-B0B6-7185A5E56F7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4DEB-980B-465F-94C6-2E084746A36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3EE-E981-4D12-A1EF-468E0B46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7D7-B456-4635-AF99-092A7118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A52-A5B1-4EF7-B549-AC40DF9E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8F7B-2C96-4211-A268-798B8F8F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0C6-1405-4381-9D0E-B05A0E56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9031-C1EA-4846-A743-AEEF78D9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2F7-D663-47C1-AEE0-496CE7CF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55B-58CA-4812-88B1-09C82331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ECAD-CC5B-47A7-ACBA-0478E439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33E-D7D8-4A2C-8E00-8E648875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CE6-EEA0-4546-AD49-36B23E23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A22E-2E44-4A24-BA21-CB81BC93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B127-0947-4994-9DFF-556F61FA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96D3-B3E5-4690-BF40-0AC8848F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94DA-AC07-4AD1-A4C2-2F79DDDE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6472-E5A0-414D-986D-8F57051B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66B2-DA8B-4B27-A1F2-C72DA7C8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3E17-652A-4025-A3B6-F888F94B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8DD6-E7A8-4737-992C-D3162FD5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7C99-7FC6-4EC6-B19E-38274754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01C5-D9DE-4597-BE49-ECC906DA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7082-DBBA-4D03-BE43-F6CB6092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E920-0912-45C0-B0F6-A4A05428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998F-2550-4BDF-B7AC-FBB3133E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trol y Gest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4551D393-CAB5-422F-B0AE-39B024CEEDAF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Contral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8384-8AF9-4C80-B993-B117494CF97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50CF-A4E0-4EB4-A226-D7FF999EEB8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adyuvar que se cumpla con todas las actividades y programas propuestos. Evaluar el trabajo interno en los principales sistemas y procesos administrativos, así como proponer controles en los sistemas, procesos y programas de gestión administrativas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83672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200160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124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información para análisi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484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laboración de alternativas de resolución de procesos administra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3492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46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puesta de alterna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33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4"/>
          <p:cNvCxnSpPr>
            <a:stCxn id="163" idx="2"/>
            <a:endCxn id="168" idx="0"/>
          </p:cNvCxnSpPr>
          <p:nvPr/>
        </p:nvCxnSpPr>
        <p:spPr>
          <a:xfrm>
            <a:off x="3498840" y="270000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404640" y="248616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Gestión y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2844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Gestión y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421164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mail / oficio / 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8447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evid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6"/>
          <p:cNvSpPr/>
          <p:nvPr/>
        </p:nvSpPr>
        <p:spPr>
          <a:xfrm>
            <a:off x="1700280" y="2844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nvía informe sobre alternativas de sol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34"/>
          <p:cNvSpPr/>
          <p:nvPr/>
        </p:nvSpPr>
        <p:spPr>
          <a:xfrm>
            <a:off x="3213000" y="550872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cibe la propuesta y se revisa para su aprob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32"/>
          <p:cNvCxnSpPr>
            <a:stCxn id="174" idx="2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3492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1747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iódicos / medios de comunicación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 /noticias/información sobre problemas, procesos y sistemas instituc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0"/>
          <p:cNvSpPr/>
          <p:nvPr/>
        </p:nvSpPr>
        <p:spPr>
          <a:xfrm>
            <a:off x="404640" y="2124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a de Gestión y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01"/>
          <p:cNvSpPr/>
          <p:nvPr/>
        </p:nvSpPr>
        <p:spPr>
          <a:xfrm>
            <a:off x="333360" y="414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56 Rombo"/>
          <p:cNvSpPr/>
          <p:nvPr/>
        </p:nvSpPr>
        <p:spPr>
          <a:xfrm>
            <a:off x="3090960" y="386856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57 CuadroTexto"/>
          <p:cNvSpPr/>
          <p:nvPr/>
        </p:nvSpPr>
        <p:spPr>
          <a:xfrm>
            <a:off x="3141720" y="393876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probad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64 Conector angular"/>
          <p:cNvCxnSpPr>
            <a:stCxn id="180" idx="1"/>
            <a:endCxn id="183" idx="0"/>
          </p:cNvCxnSpPr>
          <p:nvPr/>
        </p:nvCxnSpPr>
        <p:spPr>
          <a:xfrm flipV="1" rot="10800000">
            <a:off x="2417040" y="4047840"/>
            <a:ext cx="673920" cy="16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4" name="72 CuadroTexto"/>
          <p:cNvSpPr/>
          <p:nvPr/>
        </p:nvSpPr>
        <p:spPr>
          <a:xfrm>
            <a:off x="4005360" y="3780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73 CuadroTexto"/>
          <p:cNvSpPr/>
          <p:nvPr/>
        </p:nvSpPr>
        <p:spPr>
          <a:xfrm>
            <a:off x="2565360" y="3780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64 Conector angular"/>
          <p:cNvCxnSpPr>
            <a:stCxn id="180" idx="3"/>
            <a:endCxn id="187" idx="0"/>
          </p:cNvCxnSpPr>
          <p:nvPr/>
        </p:nvCxnSpPr>
        <p:spPr>
          <a:xfrm>
            <a:off x="3948120" y="4048200"/>
            <a:ext cx="489600" cy="23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7" name="Rectangle 656"/>
          <p:cNvSpPr/>
          <p:nvPr/>
        </p:nvSpPr>
        <p:spPr>
          <a:xfrm>
            <a:off x="3573360" y="428292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mite a presidencia , Secretaria Ejecutiva o consej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32"/>
          <p:cNvCxnSpPr>
            <a:stCxn id="168" idx="2"/>
            <a:endCxn id="174" idx="0"/>
          </p:cNvCxnSpPr>
          <p:nvPr/>
        </p:nvCxnSpPr>
        <p:spPr>
          <a:xfrm>
            <a:off x="3499920" y="306036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Rectangle 656"/>
          <p:cNvSpPr/>
          <p:nvPr/>
        </p:nvSpPr>
        <p:spPr>
          <a:xfrm>
            <a:off x="3573360" y="4788000"/>
            <a:ext cx="172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aplica cambio o propuesta y se regristra en informe an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64 Conector angular"/>
          <p:cNvCxnSpPr>
            <a:stCxn id="189" idx="2"/>
            <a:endCxn id="173" idx="6"/>
          </p:cNvCxnSpPr>
          <p:nvPr/>
        </p:nvCxnSpPr>
        <p:spPr>
          <a:xfrm rot="5400000">
            <a:off x="3842280" y="5022720"/>
            <a:ext cx="540720" cy="648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1" name="Rectangle 701"/>
          <p:cNvSpPr/>
          <p:nvPr/>
        </p:nvSpPr>
        <p:spPr>
          <a:xfrm>
            <a:off x="333360" y="471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ralor/Jefa de Gestión y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66"/>
          <p:cNvSpPr/>
          <p:nvPr/>
        </p:nvSpPr>
        <p:spPr>
          <a:xfrm>
            <a:off x="5373720" y="478800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anu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56 Rombo"/>
          <p:cNvSpPr/>
          <p:nvPr/>
        </p:nvSpPr>
        <p:spPr>
          <a:xfrm>
            <a:off x="1989000" y="421164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57 CuadroTexto"/>
          <p:cNvSpPr/>
          <p:nvPr/>
        </p:nvSpPr>
        <p:spPr>
          <a:xfrm>
            <a:off x="1989000" y="42847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rreccione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75"/>
          <p:cNvSpPr/>
          <p:nvPr/>
        </p:nvSpPr>
        <p:spPr>
          <a:xfrm>
            <a:off x="2854440" y="5292720"/>
            <a:ext cx="2142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64 Conector angular"/>
          <p:cNvCxnSpPr>
            <a:stCxn id="183" idx="3"/>
            <a:endCxn id="196" idx="0"/>
          </p:cNvCxnSpPr>
          <p:nvPr/>
        </p:nvCxnSpPr>
        <p:spPr>
          <a:xfrm>
            <a:off x="2846160" y="4390560"/>
            <a:ext cx="151560" cy="3978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7" name="72 CuadroTexto"/>
          <p:cNvSpPr/>
          <p:nvPr/>
        </p:nvSpPr>
        <p:spPr>
          <a:xfrm>
            <a:off x="2781360" y="421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64 Conector angular"/>
          <p:cNvCxnSpPr>
            <a:stCxn id="183" idx="1"/>
            <a:endCxn id="173" idx="2"/>
          </p:cNvCxnSpPr>
          <p:nvPr/>
        </p:nvCxnSpPr>
        <p:spPr>
          <a:xfrm flipH="1" flipV="1" rot="10800000">
            <a:off x="1988640" y="4389840"/>
            <a:ext cx="1224720" cy="1226520"/>
          </a:xfrm>
          <a:prstGeom prst="bentConnector3">
            <a:avLst>
              <a:gd name="adj1" fmla="val -1867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9" name="Oval 75"/>
          <p:cNvSpPr/>
          <p:nvPr/>
        </p:nvSpPr>
        <p:spPr>
          <a:xfrm>
            <a:off x="2924280" y="3132000"/>
            <a:ext cx="225360" cy="223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684"/>
          <p:cNvCxnSpPr/>
          <p:nvPr/>
        </p:nvCxnSpPr>
        <p:spPr>
          <a:xfrm>
            <a:off x="3141720" y="3276360"/>
            <a:ext cx="358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656"/>
          <p:cNvSpPr/>
          <p:nvPr/>
        </p:nvSpPr>
        <p:spPr>
          <a:xfrm>
            <a:off x="2492280" y="4788000"/>
            <a:ext cx="1008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e elabora una nueva altern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AutoShape 32"/>
          <p:cNvCxnSpPr/>
          <p:nvPr/>
        </p:nvCxnSpPr>
        <p:spPr>
          <a:xfrm>
            <a:off x="2997000" y="5076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4-10-20T17:22:53Z</dcterms:modified>
  <cp:revision>307</cp:revision>
  <dc:subject/>
  <dc:title>Presentación de PowerPoint</dc:title>
</cp:coreProperties>
</file>