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EF9A-61D2-49A0-8178-4C76350CFE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EC3D-AAFD-4835-8078-F05F29D275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C74B-D952-4D98-BECF-AF17C8F2D7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552B-2266-4EE6-B67C-7663C19824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B91-3603-4251-A7C2-537116E2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362-B0B3-4ED6-9862-674CE36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8A2-683A-4676-BA66-CDCC8AA3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5B6-990B-4815-8D29-1FF84385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BFF-51AF-4B1E-9BFD-57DC2EA5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AA4-919E-4664-ACCF-32B41F3B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0D1-9513-4757-B9B8-3CE853D3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C6D-2D2E-412A-9299-B9761D91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C50-2E11-46BF-8783-EBFF815B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6DF-04FC-4159-9FA6-9F8F4E7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485-FD05-46D1-A2A4-83BC9FBF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D43-E7EA-4148-9599-9488FA27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BD96-4C04-4B45-BAB8-2AF2C7FA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78A1-7D10-484A-A95F-070C86AE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4519-119A-446A-AE3A-6AAB2B30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3106-80AB-4736-984B-F422A22B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3594-5A42-4563-93F4-C67C527F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450B-E665-4949-8F2A-6A314C24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6B83-C0A4-431F-B094-162AFE45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7196-D8AF-4E91-B749-E37FEADE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71D9-E233-4DEC-ACCF-5C0AF31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7253-2161-4C43-A5FD-3AA80EA4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DFCD-F37D-406F-BFB3-DCE3F864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4332-D96C-47DE-A764-C6AA3EF8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icta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F72E3E7-0FC3-49DD-BD64-4F92E0F5945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11040" y="8411760"/>
            <a:ext cx="3382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Técnico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30-04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585-9D1E-4998-9CA2-124B01D3997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D14-C34D-4917-839E-DD60E668902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inición de actividades y adecuación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eferencias, Actividades  y 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rebuchet MS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Emitir los dictámenes y  acuerdos que en el ámbito de las atribuciones correspondan a cada            comi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800" spc="-1" strike="noStrike">
                <a:solidFill>
                  <a:srgbClr val="000000"/>
                </a:solidFill>
                <a:latin typeface="Trebuchet MS"/>
              </a:rPr>
              <a:t>. ALCANCE. </a:t>
            </a:r>
            <a:r>
              <a:rPr b="0" lang="es-ES_tradnl" sz="800" spc="-1" strike="noStrike">
                <a:solidFill>
                  <a:srgbClr val="000000"/>
                </a:solidFill>
                <a:latin typeface="Trebuchet MS"/>
              </a:rPr>
              <a:t>Este procedimiento aplica para los dictámenes y acuerdos que en su caso, serán sometidos a la consideración del Consejo General para su aprobación en definitiva</a:t>
            </a:r>
            <a:r>
              <a:rPr b="0" lang="es-MX" sz="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asunto a tratar en comisión o comi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el 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4800" y="5452920"/>
            <a:ext cx="1225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8400" y="315288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1403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58737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4800" y="3233880"/>
            <a:ext cx="1225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8257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685"/>
          <p:cNvCxnSpPr/>
          <p:nvPr/>
        </p:nvCxnSpPr>
        <p:spPr>
          <a:xfrm>
            <a:off x="3479400" y="2555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221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/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741320" y="3193920"/>
            <a:ext cx="115272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struye al jefe de área elaborar el proyecto de dicta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18 Rectángulo"/>
          <p:cNvSpPr/>
          <p:nvPr/>
        </p:nvSpPr>
        <p:spPr>
          <a:xfrm>
            <a:off x="1679400" y="384336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oyecto de 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7" idx="2"/>
          </p:cNvCxnSpPr>
          <p:nvPr/>
        </p:nvCxnSpPr>
        <p:spPr>
          <a:xfrm>
            <a:off x="2317320" y="35560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18 Rectángulo"/>
          <p:cNvSpPr/>
          <p:nvPr/>
        </p:nvSpPr>
        <p:spPr>
          <a:xfrm>
            <a:off x="1693800" y="4248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naliza el proyecto de dictamen con el titular del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34800" y="3790800"/>
            <a:ext cx="1225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/>
          <p:nvPr/>
        </p:nvCxnSpPr>
        <p:spPr>
          <a:xfrm>
            <a:off x="3485880" y="448920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73720" y="6429240"/>
            <a:ext cx="127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rden del dí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andúm/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0"/>
          <p:cNvSpPr/>
          <p:nvPr/>
        </p:nvSpPr>
        <p:spPr>
          <a:xfrm>
            <a:off x="404640" y="1979640"/>
            <a:ext cx="1151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6600" y="587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6 Rombo"/>
          <p:cNvSpPr/>
          <p:nvPr/>
        </p:nvSpPr>
        <p:spPr>
          <a:xfrm>
            <a:off x="3065400" y="46404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57 CuadroTexto"/>
          <p:cNvSpPr/>
          <p:nvPr/>
        </p:nvSpPr>
        <p:spPr>
          <a:xfrm>
            <a:off x="3110040" y="4718160"/>
            <a:ext cx="78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ambio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91" idx="1"/>
          </p:cNvCxnSpPr>
          <p:nvPr/>
        </p:nvCxnSpPr>
        <p:spPr>
          <a:xfrm flipV="1" rot="10800000">
            <a:off x="2493360" y="4818600"/>
            <a:ext cx="572040" cy="6166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2 CuadroTexto"/>
          <p:cNvSpPr/>
          <p:nvPr/>
        </p:nvSpPr>
        <p:spPr>
          <a:xfrm>
            <a:off x="2693880" y="4976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73 CuadroTexto"/>
          <p:cNvSpPr/>
          <p:nvPr/>
        </p:nvSpPr>
        <p:spPr>
          <a:xfrm>
            <a:off x="4005360" y="4987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5452920"/>
            <a:ext cx="1730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corpora los cambios en el proyecto de 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1" idx="3"/>
            <a:endCxn id="198" idx="3"/>
          </p:cNvCxnSpPr>
          <p:nvPr/>
        </p:nvCxnSpPr>
        <p:spPr>
          <a:xfrm>
            <a:off x="3922560" y="4819680"/>
            <a:ext cx="984960" cy="1162440"/>
          </a:xfrm>
          <a:prstGeom prst="bentConnector3">
            <a:avLst>
              <a:gd name="adj1" fmla="val 12321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56 Rombo"/>
          <p:cNvSpPr/>
          <p:nvPr/>
        </p:nvSpPr>
        <p:spPr>
          <a:xfrm>
            <a:off x="3068640" y="278280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57 CuadroTexto"/>
          <p:cNvSpPr/>
          <p:nvPr/>
        </p:nvSpPr>
        <p:spPr>
          <a:xfrm>
            <a:off x="3062160" y="285264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ictam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64 Conector angular"/>
          <p:cNvCxnSpPr>
            <a:stCxn id="199" idx="1"/>
          </p:cNvCxnSpPr>
          <p:nvPr/>
        </p:nvCxnSpPr>
        <p:spPr>
          <a:xfrm flipV="1" rot="10800000">
            <a:off x="2471040" y="29620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2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199" idx="3"/>
          </p:cNvCxnSpPr>
          <p:nvPr/>
        </p:nvCxnSpPr>
        <p:spPr>
          <a:xfrm>
            <a:off x="3925440" y="296244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3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75"/>
          <p:cNvSpPr/>
          <p:nvPr/>
        </p:nvSpPr>
        <p:spPr>
          <a:xfrm>
            <a:off x="4289400" y="3193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592280" y="5873760"/>
            <a:ext cx="3314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nvía a los demás integrantes de la com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/>
          <p:nvPr/>
        </p:nvCxnSpPr>
        <p:spPr>
          <a:xfrm>
            <a:off x="2503080" y="5740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628640" y="6456240"/>
            <a:ext cx="3313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labora propuesta de orden del día, en conjunción con el Consejero Electoral Presidente de la Comisión resp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/>
          <p:nvPr/>
        </p:nvCxnSpPr>
        <p:spPr>
          <a:xfrm>
            <a:off x="3479400" y="60955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75"/>
          <p:cNvSpPr/>
          <p:nvPr/>
        </p:nvSpPr>
        <p:spPr>
          <a:xfrm>
            <a:off x="3344760" y="7653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>
            <a:off x="3465000" y="4059360"/>
            <a:ext cx="108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75"/>
          <p:cNvSpPr/>
          <p:nvPr/>
        </p:nvSpPr>
        <p:spPr>
          <a:xfrm>
            <a:off x="3932280" y="61675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 flipH="1">
            <a:off x="3479400" y="6275160"/>
            <a:ext cx="443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18 Rectángulo"/>
          <p:cNvSpPr/>
          <p:nvPr/>
        </p:nvSpPr>
        <p:spPr>
          <a:xfrm>
            <a:off x="1560600" y="70437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aliza convocatoria para sesión de la Comisión respectiva y verifica que se cuenta con los elementos necesarios para el desahogo de la ses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1920" y="7043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3452400" y="673272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66"/>
          <p:cNvSpPr/>
          <p:nvPr/>
        </p:nvSpPr>
        <p:spPr>
          <a:xfrm>
            <a:off x="5378400" y="704232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vocatorias y 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/>
          <p:nvPr/>
        </p:nvCxnSpPr>
        <p:spPr>
          <a:xfrm>
            <a:off x="3452400" y="733104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8400" y="2033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1"/>
          <p:cNvSpPr/>
          <p:nvPr/>
        </p:nvSpPr>
        <p:spPr>
          <a:xfrm>
            <a:off x="333360" y="20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0"/>
          <p:cNvSpPr/>
          <p:nvPr/>
        </p:nvSpPr>
        <p:spPr>
          <a:xfrm>
            <a:off x="333360" y="25606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/Coordinador Técnico/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34"/>
          <p:cNvSpPr/>
          <p:nvPr/>
        </p:nvSpPr>
        <p:spPr>
          <a:xfrm>
            <a:off x="3208320" y="390060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18 Rectángulo"/>
          <p:cNvSpPr/>
          <p:nvPr/>
        </p:nvSpPr>
        <p:spPr>
          <a:xfrm>
            <a:off x="1701720" y="2068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solicitud a Dirección General para acondicionar 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32"/>
          <p:cNvCxnSpPr/>
          <p:nvPr/>
        </p:nvCxnSpPr>
        <p:spPr>
          <a:xfrm>
            <a:off x="3538080" y="1908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701"/>
          <p:cNvSpPr/>
          <p:nvPr/>
        </p:nvSpPr>
        <p:spPr>
          <a:xfrm>
            <a:off x="333360" y="293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18 Rectángulo"/>
          <p:cNvSpPr/>
          <p:nvPr/>
        </p:nvSpPr>
        <p:spPr>
          <a:xfrm>
            <a:off x="1700280" y="2556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ción de la sesión respectiva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stCxn id="235" idx="2"/>
          </p:cNvCxnSpPr>
          <p:nvPr/>
        </p:nvCxnSpPr>
        <p:spPr>
          <a:xfrm>
            <a:off x="3501720" y="2284560"/>
            <a:ext cx="10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AutoShape 32"/>
          <p:cNvCxnSpPr>
            <a:stCxn id="239" idx="2"/>
          </p:cNvCxnSpPr>
          <p:nvPr/>
        </p:nvCxnSpPr>
        <p:spPr>
          <a:xfrm>
            <a:off x="3499920" y="2771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32"/>
          <p:cNvCxnSpPr/>
          <p:nvPr/>
        </p:nvCxnSpPr>
        <p:spPr>
          <a:xfrm>
            <a:off x="3501720" y="3195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Oval 75"/>
          <p:cNvSpPr/>
          <p:nvPr/>
        </p:nvSpPr>
        <p:spPr>
          <a:xfrm>
            <a:off x="3429000" y="1692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6"/>
          <p:cNvSpPr/>
          <p:nvPr/>
        </p:nvSpPr>
        <p:spPr>
          <a:xfrm>
            <a:off x="1700280" y="3340080"/>
            <a:ext cx="360036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tifica a Presidencia y Secretaría Ejecutiva el dictamen aprobado, en su cas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32"/>
          <p:cNvCxnSpPr/>
          <p:nvPr/>
        </p:nvCxnSpPr>
        <p:spPr>
          <a:xfrm>
            <a:off x="3498480" y="3634920"/>
            <a:ext cx="108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Rectangle 666"/>
          <p:cNvSpPr/>
          <p:nvPr/>
        </p:nvSpPr>
        <p:spPr>
          <a:xfrm>
            <a:off x="5383080" y="2514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/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12880" y="2914560"/>
            <a:ext cx="360036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caba firmas del dictamen aprobado, en su caso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6"/>
          <p:cNvSpPr/>
          <p:nvPr/>
        </p:nvSpPr>
        <p:spPr>
          <a:xfrm>
            <a:off x="5376960" y="2914560"/>
            <a:ext cx="12762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3-05-02T17:02:32Z</cp:lastPrinted>
  <dcterms:modified xsi:type="dcterms:W3CDTF">2014-07-14T19:35:15Z</dcterms:modified>
  <cp:revision>333</cp:revision>
  <dc:subject/>
  <dc:title>Presentación de PowerPoint</dc:title>
</cp:coreProperties>
</file>