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71C9-8491-40B0-9089-AB6CEC9786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5E86-A777-487E-A153-17B2D0F507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FCAD-5731-4B29-BDFD-6B5ED8B8C5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5E4-8641-4FF8-8CDB-7F2CE6BB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921-C34E-4001-A305-FAB1E1BF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878-6AB0-42F7-8EEF-950D7F48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4F1-988E-43C1-B125-DA9E9AC7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47B-1FFA-4795-B151-727DF080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5DB-793C-475A-ADA7-4BD7B511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DF7-FBF3-4286-B657-9DA5BFD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B1E-58BB-4945-B6A8-93F1F0F0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0F7-1CB3-4318-BCD7-220F4CAA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156-5838-4851-AC66-0B3BAA9F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4B8-4D61-47C4-92E9-E90815C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555-6F0E-4DC3-A49C-BD8DA470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BDA-CCC2-4D91-BC84-89FB8726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0743-DFF4-4CB2-B0A0-DAE32797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AAD7-C7D5-4762-A5B2-DE0F1BD9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65D3-848B-4356-8BFC-4681FC3B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D50E-7ABA-47AB-806B-F92D5D3C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E5BB-9CAD-45DB-8AA5-EBCE48AF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71E7-B81A-4394-883C-F69218EF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710F-F489-4275-9CDB-E91087B1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8E01-A60D-4C7E-9D55-A75968E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96D2-9C3B-45B8-9A9E-48E21158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AF4E-10E0-45BA-8AA8-6FA77CE3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3734-1FBF-4924-84B6-68EF9587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78C5-DFC5-4DE6-88E7-50000A53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B8A9-4871-4A41-9E56-8852DE5F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D3A1-FB2A-4D58-B5F0-69E0FDDB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3F3F-DA52-49D9-AFED-F2B35FCA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E600-A6D0-4E78-9955-96466B49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50DF-CD30-475C-A247-69A2E20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C221-EB28-4632-B2CB-DD71A2FE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C8A4-A6DC-470C-BBB3-8A5E4716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397F-0073-4B1A-B647-E720D9A2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31FE-8D0E-46E9-AE5A-1B868309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700D-99D2-454C-9CE9-EE2DB0E5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5BC8-D0A7-4797-95AA-76D79908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on a medios de comun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0A88EA4-E266-491A-A03A-C862398657D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7935840"/>
            <a:ext cx="358920" cy="619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7658280"/>
            <a:ext cx="433440" cy="8316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01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16A2-0643-42D0-833D-D86169B3108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6AFD-8C71-40B5-9D9A-4328580715E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07D7-175B-4435-9BF4-441A7BF37FF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Proporcionar información a los representantes de los medios de comunic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atender a las peticiones de información del IEPC que solicitan los medio de comunicación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solicitud de información y se registra en 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700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para evaluación de información solici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49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484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291636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003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utoriza la entrega de información y se ordena la recolección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3494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información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P-OPE-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ADMINISTRADOR IEEJ</cp:lastModifiedBy>
  <cp:lastPrinted>2013-07-10T16:43:55Z</cp:lastPrinted>
  <dcterms:modified xsi:type="dcterms:W3CDTF">2013-07-10T16:44:06Z</dcterms:modified>
  <cp:revision>329</cp:revision>
  <dc:subject/>
  <dc:title>Presentación de PowerPoint</dc:title>
</cp:coreProperties>
</file>