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FB4A-B97D-40F8-BE83-AE9357F376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5C4D-9B1E-49E2-AD61-776C328A3E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23F4-2328-467A-9B14-86740A7265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435-FDA5-4F1F-B55E-92C092F9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EC2-F82C-49B6-8A18-69E806D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BDB-F0F0-4731-96F7-EDBC728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16E-B3BA-410B-9E03-43B1917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76B-8029-4233-AE78-BD20E2B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956-8B62-4674-8C48-699F84E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58C-26E2-4F6B-B4D9-FFB57DD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154-9720-4690-934C-12FE527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94B-0774-460D-91E9-96209A8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0C1-E3BD-420E-9E79-62BC37B1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918-438A-40B0-9B4D-CDBCD565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A91-2096-4EC9-95EF-114FF8B0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532-AB1D-41E2-97F5-DEF14566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01A-A7FE-4D96-86F1-37A3486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5256-FDE5-4B5A-AB55-E9ED707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8A1-E92F-4C3E-99EA-D1D6551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B196-F3E6-4F8E-BB96-D101CDA5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3D11-B5C3-4423-BD52-6F58486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7E6-07CB-4FFE-9DA6-B545B88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EB77-71CA-4B1B-AB9A-568C8C7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4DE5-1BA4-48C1-8F01-BF541B6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A12-62A6-4F89-A1E5-34CD2C10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DAF3-A4B7-4071-AE91-633CE43F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11FF-BC8D-4363-ABFD-FBBBE5FA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ervicio de edición y producción gra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16E57E7-E2B0-4173-B378-FE9AD8D266E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25F6-D65E-4568-B999-4DFAE4E1353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DB1-43BA-4FFF-852A-540AF6D6BE8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conec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control y seguimiento de los servicios de diseño y edición que la unidad provee hacia el interior d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 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o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a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  <a:endCxn id="165" idx="0"/>
          </p:cNvCxnSpPr>
          <p:nvPr/>
        </p:nvCxnSpPr>
        <p:spPr>
          <a:xfrm>
            <a:off x="3499920" y="3130200"/>
            <a:ext cx="108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66"/>
          <p:cNvSpPr/>
          <p:nvPr/>
        </p:nvSpPr>
        <p:spPr>
          <a:xfrm>
            <a:off x="5373720" y="4464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7" idx="2"/>
            <a:endCxn id="169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44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90960" y="41212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141720" y="41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  <a:endCxn id="177" idx="0"/>
          </p:cNvCxnSpPr>
          <p:nvPr/>
        </p:nvCxnSpPr>
        <p:spPr>
          <a:xfrm flipV="1" rot="10800000">
            <a:off x="2491560" y="4300200"/>
            <a:ext cx="59940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63700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73 CuadroTexto"/>
          <p:cNvSpPr/>
          <p:nvPr/>
        </p:nvSpPr>
        <p:spPr>
          <a:xfrm>
            <a:off x="407664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6"/>
          <p:cNvSpPr/>
          <p:nvPr/>
        </p:nvSpPr>
        <p:spPr>
          <a:xfrm>
            <a:off x="1627200" y="450072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4" idx="3"/>
          </p:cNvCxnSpPr>
          <p:nvPr/>
        </p:nvCxnSpPr>
        <p:spPr>
          <a:xfrm>
            <a:off x="3947760" y="4300560"/>
            <a:ext cx="1065960" cy="1208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1" name="AutoShape 32"/>
          <p:cNvCxnSpPr/>
          <p:nvPr/>
        </p:nvCxnSpPr>
        <p:spPr>
          <a:xfrm flipH="1">
            <a:off x="2491560" y="485928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14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el documento final por parte de DG y Dirección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0208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2916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9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1"/>
          <p:cNvCxnSpPr>
            <a:stCxn id="165" idx="2"/>
          </p:cNvCxnSpPr>
          <p:nvPr/>
        </p:nvCxnSpPr>
        <p:spPr>
          <a:xfrm>
            <a:off x="3499920" y="38476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700280" y="3632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02080" y="3560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a Ver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33360" y="37036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1"/>
          <p:cNvCxnSpPr/>
          <p:nvPr/>
        </p:nvCxnSpPr>
        <p:spPr>
          <a:xfrm>
            <a:off x="3068280" y="341928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75"/>
          <p:cNvSpPr/>
          <p:nvPr/>
        </p:nvSpPr>
        <p:spPr>
          <a:xfrm>
            <a:off x="2852640" y="3276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96" idx="1"/>
            <a:endCxn id="199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196" idx="3"/>
            <a:endCxn id="203" idx="0"/>
          </p:cNvCxnSpPr>
          <p:nvPr/>
        </p:nvCxnSpPr>
        <p:spPr>
          <a:xfrm>
            <a:off x="3947760" y="6822720"/>
            <a:ext cx="4914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AutoShape 32"/>
          <p:cNvCxnSpPr>
            <a:stCxn id="199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49"/>
          <p:cNvCxnSpPr>
            <a:stCxn id="162" idx="2"/>
            <a:endCxn id="164" idx="0"/>
          </p:cNvCxnSpPr>
          <p:nvPr/>
        </p:nvCxnSpPr>
        <p:spPr>
          <a:xfrm>
            <a:off x="3498840" y="24825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Oval 75"/>
          <p:cNvSpPr/>
          <p:nvPr/>
        </p:nvSpPr>
        <p:spPr>
          <a:xfrm>
            <a:off x="2349360" y="5076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3573360" y="702000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imprenta para impr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 flipH="1">
            <a:off x="443628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2:15Z</dcterms:modified>
  <cp:revision>338</cp:revision>
  <dc:subject/>
  <dc:title>Presentación de PowerPoint</dc:title>
</cp:coreProperties>
</file>