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19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1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72C8-5E4F-4BF7-96CF-8CA9C1232B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2F78-0D2E-4C25-BFD7-5F279EDA94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6320-C703-4DA8-B284-4EF9E0C22A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5EF-8B5D-4357-8FCC-B5B929F0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6D6-B60E-4904-A068-DF99584C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BDC-587E-41F3-8E6E-2642C96C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48E-9C1F-4215-A8F1-685FDC87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EBB-AE0A-44E0-8833-5256EDC4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8E9-1926-47D8-AE79-DECE80A0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FF2-8C9E-4562-9BC9-0B3B192E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480-D2EB-4C65-904A-8F9F1CBD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D7C-AF7E-42C8-BF1A-9C8C93D9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A70-FAE8-4E63-9B5F-23C2CCA0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080-63FE-4100-B7FF-B69DFEDB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F8A-E802-441A-B087-F7714EC0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DB30-6132-42F0-89F8-7F813CF2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68B6-D9A0-43E8-BAB5-670C1705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F010-E71F-4E2E-9F63-AD5513F5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DE8E-931D-41A5-A96A-2661057A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0D16-F083-40CA-900B-4184212F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9355-D684-4F74-935F-651BADAD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1909-AEFD-4A61-A628-F9431F43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F294-ECE0-4715-856A-C15B9D05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5051-80E9-4D0E-9AC7-CB902CC0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35B9-00E5-42E8-8DBE-64E71CD2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A9F2-1DE8-4FB6-AE31-61C17E5E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629E-CC62-4F69-BBF3-254552E5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E2F1-25A8-4800-80A5-699265BB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52B6-AF94-4D69-85D5-A3F73E21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258D3-0C57-4CF2-A6A1-DBC66BC4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B9B5-5201-447D-825D-FB96FE77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5855-53A0-49DD-B9E4-29E5E9E9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515DA-1301-4545-8A12-C1F63E4A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950C-F959-4822-AF7F-224463FB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46F7-8479-4F70-966F-93289C89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9FEB-543C-482D-80E6-DEA82703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04CF9-18C6-461C-9F9C-92AE0546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2816-D2CE-4849-8C79-34BCF120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1FF0E-92DB-4590-AF11-A1E656EF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D053-2020-446B-8DD3-96E78976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4FA9-FA97-427A-8243-940579E6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7D26-7ADC-4E0A-8D36-D8CC9DAF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DC52C-7CCC-4751-844C-7DED1336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33F8-4385-4248-BFED-5FB653DA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EA86C-C9CF-4EC3-932C-0B56A2E1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4428-3CD0-4A1F-8BED-D0EAF5FB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643B2-71A6-4448-91AB-FB947C5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F86E-B152-4B63-84BE-6FEF5E16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6A90-17E2-4BE3-940A-6A6F8A1C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BBD36-C573-402D-B937-44DDA05F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EC2EF-1AB9-4E2B-AE50-71742CE7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F9DC7-AE1C-4FE6-85BF-C53E3A1D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AE3A2-EEDA-4568-9DE3-6D676A87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B8AF1-57DC-4990-91C8-F9C0AB1C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E339C-544E-482B-848E-1DE331B4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F5C7D-2B3F-496C-B9B9-E738D29A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AEC6-2243-4BBE-988B-B7EDD7F4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43991-8E67-4E19-BC15-46ADF9A0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E9A71-666D-4DD0-9CBB-291EC896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6C10B-20A1-4714-849C-93BF9B64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70A33-E79C-4A5F-9CF6-A7E7483E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EC8B5-E948-4D30-8DD0-4FA6BE1B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6D93B-5F5A-4381-B153-30FCCA86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D1425-1C98-4468-8995-62001EE6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8D127-B28A-405D-9D6E-10AE8D2D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746BA-1A54-4E5E-B2DB-232BE2D8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AC015-E6A8-4A5C-8737-5C2A173D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D6BC4-4272-4878-BB70-7A2F563F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E5BE3-98CE-4C2D-93A7-4B41101E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1ABF9-2463-49BF-B7C1-C426255F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AF3D2-DBF6-411A-971D-D93E01C3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8AFF3-78B2-4373-B474-D1CC1735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13129-BEF6-4E8F-B59E-EA9C2A14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FEBD-0B44-467F-8479-6AF0ED30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114F0-5930-411D-BE70-F2ABD99B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ditoría a Órganos Desconce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E87A1FE5-E18E-4A1F-B655-21EB461C85D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/1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4BFA-631D-4B86-9D23-58B24E2E6FC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E98-BA0E-4D65-AF50-5DF113CD604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0126-77C1-4FCB-A436-609CE5096F0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07EE-B225-4A37-BD4C-C3D8DF7D172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6872-BE49-480E-8574-CD8C39DE364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03DC-C891-4155-9BAD-E4C93BEB68D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Verificar la documentación comprobatoria y justificativa relacionada con el manejo, custodia y/o administración de los recursos públicos asignados  para el cumplimiento de sus funciones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Procedimiento que aplica para auditorías en proceso electoral en revisión de los recursos financieros, materiales y humanos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26"/>
          <p:cNvSpPr/>
          <p:nvPr/>
        </p:nvSpPr>
        <p:spPr>
          <a:xfrm>
            <a:off x="343080" y="2884320"/>
            <a:ext cx="63356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Órgano Desconcentrado, es parte integrante del Instituto Electoral y de Participación Ciudadana y so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a). Los Consejos Distritales Electoral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b). Los Consejos Municipales Electorales;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). Las Mesas Directivas de Casi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Arial Narrow"/>
              </a:rPr>
              <a:t>Art. 118, párrafo 1, fracción IV, incisos a) y b),  del Códig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AOD. Auditoría a Órganos Desconcent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AutoShape 649"/>
          <p:cNvCxnSpPr>
            <a:stCxn id="324" idx="2"/>
            <a:endCxn id="326" idx="0"/>
          </p:cNvCxnSpPr>
          <p:nvPr/>
        </p:nvCxnSpPr>
        <p:spPr>
          <a:xfrm flipH="1">
            <a:off x="3498120" y="2145960"/>
            <a:ext cx="39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Rectangle 652"/>
          <p:cNvSpPr/>
          <p:nvPr/>
        </p:nvSpPr>
        <p:spPr>
          <a:xfrm>
            <a:off x="1698480" y="2376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plan de actividades de revisión de recur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53"/>
          <p:cNvSpPr/>
          <p:nvPr/>
        </p:nvSpPr>
        <p:spPr>
          <a:xfrm>
            <a:off x="1684440" y="2843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naliza y autoriza plan de actividades de A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65"/>
          <p:cNvSpPr/>
          <p:nvPr/>
        </p:nvSpPr>
        <p:spPr>
          <a:xfrm>
            <a:off x="5369040" y="383220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66"/>
          <p:cNvSpPr/>
          <p:nvPr/>
        </p:nvSpPr>
        <p:spPr>
          <a:xfrm>
            <a:off x="5369040" y="27795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Plan de actividades de A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681"/>
          <p:cNvCxnSpPr/>
          <p:nvPr/>
        </p:nvCxnSpPr>
        <p:spPr>
          <a:xfrm>
            <a:off x="3512880" y="266400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684"/>
          <p:cNvCxnSpPr>
            <a:endCxn id="332" idx="0"/>
          </p:cNvCxnSpPr>
          <p:nvPr/>
        </p:nvCxnSpPr>
        <p:spPr>
          <a:xfrm>
            <a:off x="3498480" y="309672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Rectangle 700"/>
          <p:cNvSpPr/>
          <p:nvPr/>
        </p:nvSpPr>
        <p:spPr>
          <a:xfrm>
            <a:off x="404640" y="28065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01"/>
          <p:cNvSpPr/>
          <p:nvPr/>
        </p:nvSpPr>
        <p:spPr>
          <a:xfrm>
            <a:off x="331920" y="324324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66"/>
          <p:cNvSpPr/>
          <p:nvPr/>
        </p:nvSpPr>
        <p:spPr>
          <a:xfrm>
            <a:off x="5369040" y="33336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lan de actividades de A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56"/>
          <p:cNvSpPr/>
          <p:nvPr/>
        </p:nvSpPr>
        <p:spPr>
          <a:xfrm>
            <a:off x="1698480" y="3278160"/>
            <a:ext cx="360072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ejecuta revisión en tiempo y forma la auditoria a 145 organismos desconcentr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685"/>
          <p:cNvCxnSpPr/>
          <p:nvPr/>
        </p:nvCxnSpPr>
        <p:spPr>
          <a:xfrm>
            <a:off x="3498480" y="3628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18 Rectángulo"/>
          <p:cNvSpPr/>
          <p:nvPr/>
        </p:nvSpPr>
        <p:spPr>
          <a:xfrm>
            <a:off x="1665360" y="378000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esenta informe de resultados  al Contralor,  se evalúa y autoriza en caso de irregular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01"/>
          <p:cNvSpPr/>
          <p:nvPr/>
        </p:nvSpPr>
        <p:spPr>
          <a:xfrm>
            <a:off x="314280" y="37656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66"/>
          <p:cNvSpPr/>
          <p:nvPr/>
        </p:nvSpPr>
        <p:spPr>
          <a:xfrm>
            <a:off x="536904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alendario / proy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4"/>
          <p:cNvSpPr/>
          <p:nvPr/>
        </p:nvSpPr>
        <p:spPr>
          <a:xfrm>
            <a:off x="3174840" y="5413320"/>
            <a:ext cx="5781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665"/>
          <p:cNvSpPr/>
          <p:nvPr/>
        </p:nvSpPr>
        <p:spPr>
          <a:xfrm>
            <a:off x="5386320" y="4319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AutoShape 685"/>
          <p:cNvCxnSpPr/>
          <p:nvPr/>
        </p:nvCxnSpPr>
        <p:spPr>
          <a:xfrm>
            <a:off x="3463560" y="4824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18 Rectángulo"/>
          <p:cNvSpPr/>
          <p:nvPr/>
        </p:nvSpPr>
        <p:spPr>
          <a:xfrm>
            <a:off x="1722600" y="50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presenta a Consejo General informe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AutoShape 32"/>
          <p:cNvCxnSpPr/>
          <p:nvPr/>
        </p:nvCxnSpPr>
        <p:spPr>
          <a:xfrm>
            <a:off x="346500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Rectangle 701"/>
          <p:cNvSpPr/>
          <p:nvPr/>
        </p:nvSpPr>
        <p:spPr>
          <a:xfrm>
            <a:off x="314280" y="49672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 /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85"/>
          <p:cNvCxnSpPr/>
          <p:nvPr/>
        </p:nvCxnSpPr>
        <p:spPr>
          <a:xfrm>
            <a:off x="3479400" y="4103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14 CuadroTexto"/>
          <p:cNvSpPr/>
          <p:nvPr/>
        </p:nvSpPr>
        <p:spPr>
          <a:xfrm>
            <a:off x="1722600" y="4254480"/>
            <a:ext cx="350676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Lo no autorizado donde se presuman irregularidades se turna al departamento de Asuntos Jurídicos para su debido análisis y procedencia del Procedimiento de Responsabilidad Administr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701"/>
          <p:cNvSpPr/>
          <p:nvPr/>
        </p:nvSpPr>
        <p:spPr>
          <a:xfrm>
            <a:off x="333360" y="43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Nmartinez</cp:lastModifiedBy>
  <cp:lastPrinted>2012-04-19T18:50:48Z</cp:lastPrinted>
  <dcterms:modified xsi:type="dcterms:W3CDTF">2012-04-20T19:13:32Z</dcterms:modified>
  <cp:revision>347</cp:revision>
  <dc:subject/>
  <dc:title>Presentación de PowerPoint</dc:title>
</cp:coreProperties>
</file>