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4DFF-E922-4D62-A092-BE95DE6209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5140-5C27-4E3B-BDFF-71F14986F8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E199-6072-4A01-B4F8-A48F0951C3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0EC-3BB1-4637-AD3E-9236995C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248-AC42-45B9-A7CD-A4DA630D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8B5-DDE2-4EAC-85FA-1213097E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2C6-1EC0-493F-A176-F8184B8D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424-A102-4F45-880E-1FBFEE08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1BE-6749-4883-A808-B8AC5749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BB9-012D-4708-B3DA-C8A0F881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4D9-61C7-40B6-A4F9-528FEF51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0C3-D653-4D45-9065-63141816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141-E66D-492D-B865-9D854703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F155-C0E1-4ED1-9813-829C6DAE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9062-97E7-47DC-B713-7BCC82D0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556B-0F7A-43AB-B61D-1106EA6A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88BB-7563-4EC2-B8DC-101729D4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6C57-95D1-456C-A257-073E76C3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5ABA-7649-4EC5-B30E-65DB5308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F696-2F8D-48EC-99A2-15144190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6E6B-E16A-442D-8025-7FB4A4A6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5ADE-32DC-4636-856E-ADEC7F14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4BB7-5D8E-416D-A944-B7436532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71C3-999C-4613-8653-66C00A43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32D7-D7E9-4177-8C37-C2754CE1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1736-03EC-4D25-B0F2-56F8FD4A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2290-812A-4FA2-8948-465A6BA8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B9D17-3FA0-4F19-AA27-CB9B5BEA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DC90C-2E9A-4FD1-B42C-FB7580A6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A886B-BDE7-4F17-B3C1-4CAE3A70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3BE2-5597-4A94-B806-762D39C9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A96A3-9E90-4AFC-91C8-5F348BA0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82F6E-CFB5-444B-AB52-3F7195A5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B7BF7-D286-4DB2-A7A0-0A193D18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844A-B6C0-4593-9846-09A81E70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96F2F-097B-46AA-8E76-CA03050B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3B039-372C-4F55-9933-B0A5FFCD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937CF-B29A-46FC-9E05-AB0A1389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A4123-D02E-4F34-B904-BADB72FE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9AAD0-B276-42E9-BC69-145EEA05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06A35-2C26-45B2-864C-12D2F5BE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A7699-2B4B-4FE4-873F-E5EF0EEE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01D70-C26F-45BB-B2CC-300511A5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E06AD-B18A-49D4-9607-00658700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926B6-38BA-4601-8262-6DA372E1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133A9-D994-47C7-8734-602D8407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AAC2F-BF0A-4D66-BCE8-0DD89ED0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902B3-1777-44D8-95E2-2FD93BF2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1CD98-8717-4FB0-8B55-7F63CF35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92E68-801D-4DF8-81FB-E53AC0D9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87F9-D280-4274-BB9B-AD8AE980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grama Anual de Trabaj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8F20C3CE-8059-4669-8B41-639DC630CAD0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Contral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ADM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739C-CA79-421E-800E-6531E127158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33CB-BF5B-4487-BC60-DD5E9C00078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B02B-0822-4F7E-B6D2-CEF26603714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DC7D-5207-42F7-B53D-7781EA3B4AD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1" lang="es-ES" sz="1000" spc="-1" strike="noStrike">
                <a:solidFill>
                  <a:srgbClr val="000000"/>
                </a:solidFill>
                <a:latin typeface="Arial Narrow"/>
              </a:rPr>
              <a:t>Buscar la aprobación del Pleno del Consejo General para el cumplimiento de las metas y objetivos de trabajo propuestos por la Contraloría Gene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25"/>
          <p:cNvSpPr/>
          <p:nvPr/>
        </p:nvSpPr>
        <p:spPr>
          <a:xfrm>
            <a:off x="343080" y="2158920"/>
            <a:ext cx="632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te procedimiento aplica a todos los departamentos en donde se plantean las metas y objetivos a realizar en el periodo, conforme a lo establecido en el Art. 495 párrafo 1 fracción XVIII del Código Electoral y de Participación Ciudadana del Estado de Jal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26"/>
          <p:cNvSpPr/>
          <p:nvPr/>
        </p:nvSpPr>
        <p:spPr>
          <a:xfrm>
            <a:off x="333360" y="28605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PAT. Programa Anual de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648"/>
          <p:cNvSpPr/>
          <p:nvPr/>
        </p:nvSpPr>
        <p:spPr>
          <a:xfrm>
            <a:off x="3219480" y="18162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649"/>
          <p:cNvCxnSpPr>
            <a:stCxn id="242" idx="2"/>
            <a:endCxn id="244" idx="0"/>
          </p:cNvCxnSpPr>
          <p:nvPr/>
        </p:nvCxnSpPr>
        <p:spPr>
          <a:xfrm flipH="1">
            <a:off x="3498480" y="1981080"/>
            <a:ext cx="864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Rectangle 652"/>
          <p:cNvSpPr/>
          <p:nvPr/>
        </p:nvSpPr>
        <p:spPr>
          <a:xfrm>
            <a:off x="1698480" y="2181240"/>
            <a:ext cx="360072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la proyección de metas y objetivos de trabajo de la Contraloría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53"/>
          <p:cNvSpPr/>
          <p:nvPr/>
        </p:nvSpPr>
        <p:spPr>
          <a:xfrm>
            <a:off x="1698480" y="2700360"/>
            <a:ext cx="360072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envía al Contralor General para aprobación y se le da seguimiento al programa anual de trabajo de acuerdo a los indicadores de desempe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65"/>
          <p:cNvSpPr/>
          <p:nvPr/>
        </p:nvSpPr>
        <p:spPr>
          <a:xfrm>
            <a:off x="5369040" y="6975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66"/>
          <p:cNvSpPr/>
          <p:nvPr/>
        </p:nvSpPr>
        <p:spPr>
          <a:xfrm>
            <a:off x="5383080" y="2706840"/>
            <a:ext cx="1276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mail / proyección de metas  y obje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681"/>
          <p:cNvCxnSpPr>
            <a:endCxn id="245" idx="0"/>
          </p:cNvCxnSpPr>
          <p:nvPr/>
        </p:nvCxnSpPr>
        <p:spPr>
          <a:xfrm flipH="1">
            <a:off x="3498480" y="248436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Rectangle 700"/>
          <p:cNvSpPr/>
          <p:nvPr/>
        </p:nvSpPr>
        <p:spPr>
          <a:xfrm>
            <a:off x="406440" y="271620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01"/>
          <p:cNvSpPr/>
          <p:nvPr/>
        </p:nvSpPr>
        <p:spPr>
          <a:xfrm>
            <a:off x="325440" y="38606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66"/>
          <p:cNvSpPr/>
          <p:nvPr/>
        </p:nvSpPr>
        <p:spPr>
          <a:xfrm>
            <a:off x="5445000" y="32907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sultados de indic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656"/>
          <p:cNvSpPr/>
          <p:nvPr/>
        </p:nvSpPr>
        <p:spPr>
          <a:xfrm>
            <a:off x="1698480" y="6562800"/>
            <a:ext cx="350064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l Contralor General de resultados para realizar plan para corregir fallas o incumplimien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685"/>
          <p:cNvCxnSpPr/>
          <p:nvPr/>
        </p:nvCxnSpPr>
        <p:spPr>
          <a:xfrm>
            <a:off x="3457080" y="7259400"/>
            <a:ext cx="396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18 Rectángulo"/>
          <p:cNvSpPr/>
          <p:nvPr/>
        </p:nvSpPr>
        <p:spPr>
          <a:xfrm>
            <a:off x="1719360" y="6972480"/>
            <a:ext cx="354168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aplican acciones y se les da seguimiento y de acuerdo a los resultados obtenidos se realiza un informe fi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01"/>
          <p:cNvSpPr/>
          <p:nvPr/>
        </p:nvSpPr>
        <p:spPr>
          <a:xfrm>
            <a:off x="343080" y="5789520"/>
            <a:ext cx="1223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66"/>
          <p:cNvSpPr/>
          <p:nvPr/>
        </p:nvSpPr>
        <p:spPr>
          <a:xfrm>
            <a:off x="5373720" y="218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Proyección de metas y obje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00"/>
          <p:cNvSpPr/>
          <p:nvPr/>
        </p:nvSpPr>
        <p:spPr>
          <a:xfrm>
            <a:off x="406440" y="219852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34"/>
          <p:cNvSpPr/>
          <p:nvPr/>
        </p:nvSpPr>
        <p:spPr>
          <a:xfrm>
            <a:off x="3176640" y="7812000"/>
            <a:ext cx="5778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665"/>
          <p:cNvSpPr/>
          <p:nvPr/>
        </p:nvSpPr>
        <p:spPr>
          <a:xfrm>
            <a:off x="5376960" y="660096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sultados de indic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685"/>
          <p:cNvCxnSpPr/>
          <p:nvPr/>
        </p:nvCxnSpPr>
        <p:spPr>
          <a:xfrm>
            <a:off x="3447720" y="682920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18 Rectángulo"/>
          <p:cNvSpPr/>
          <p:nvPr/>
        </p:nvSpPr>
        <p:spPr>
          <a:xfrm>
            <a:off x="1698480" y="5748480"/>
            <a:ext cx="3578400" cy="25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Contralor General verifica información y presenta a Consejo General, para su aprobación el PA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AutoShape 32"/>
          <p:cNvCxnSpPr>
            <a:endCxn id="258" idx="0"/>
          </p:cNvCxnSpPr>
          <p:nvPr/>
        </p:nvCxnSpPr>
        <p:spPr>
          <a:xfrm>
            <a:off x="3457440" y="7659360"/>
            <a:ext cx="8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Rectangle 701"/>
          <p:cNvSpPr/>
          <p:nvPr/>
        </p:nvSpPr>
        <p:spPr>
          <a:xfrm>
            <a:off x="325440" y="6138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ontralor General/ 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684"/>
          <p:cNvCxnSpPr/>
          <p:nvPr/>
        </p:nvCxnSpPr>
        <p:spPr>
          <a:xfrm flipH="1">
            <a:off x="3510720" y="3022200"/>
            <a:ext cx="25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26 Conector recto"/>
          <p:cNvSpPr/>
          <p:nvPr/>
        </p:nvSpPr>
        <p:spPr>
          <a:xfrm>
            <a:off x="2924280" y="3200400"/>
            <a:ext cx="1368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33 Conector recto de flecha"/>
          <p:cNvCxnSpPr/>
          <p:nvPr/>
        </p:nvCxnSpPr>
        <p:spPr>
          <a:xfrm>
            <a:off x="3414600" y="6013440"/>
            <a:ext cx="720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66 Conector recto de flecha"/>
          <p:cNvCxnSpPr/>
          <p:nvPr/>
        </p:nvCxnSpPr>
        <p:spPr>
          <a:xfrm>
            <a:off x="3219120" y="3671640"/>
            <a:ext cx="284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8" name="17 CuadroTexto"/>
          <p:cNvSpPr/>
          <p:nvPr/>
        </p:nvSpPr>
        <p:spPr>
          <a:xfrm>
            <a:off x="2640600" y="3789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53 CuadroTexto"/>
          <p:cNvSpPr/>
          <p:nvPr/>
        </p:nvSpPr>
        <p:spPr>
          <a:xfrm>
            <a:off x="4165200" y="379260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66 Conector recto de flecha"/>
          <p:cNvCxnSpPr/>
          <p:nvPr/>
        </p:nvCxnSpPr>
        <p:spPr>
          <a:xfrm>
            <a:off x="3498840" y="3506400"/>
            <a:ext cx="864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66 Conector recto de flecha"/>
          <p:cNvCxnSpPr>
            <a:stCxn id="272" idx="2"/>
          </p:cNvCxnSpPr>
          <p:nvPr/>
        </p:nvCxnSpPr>
        <p:spPr>
          <a:xfrm>
            <a:off x="4532040" y="4576320"/>
            <a:ext cx="396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2" name="58 CuadroTexto"/>
          <p:cNvSpPr/>
          <p:nvPr/>
        </p:nvSpPr>
        <p:spPr>
          <a:xfrm>
            <a:off x="3765600" y="4206960"/>
            <a:ext cx="1533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modifica el proyecto y se turna al 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53"/>
          <p:cNvSpPr/>
          <p:nvPr/>
        </p:nvSpPr>
        <p:spPr>
          <a:xfrm>
            <a:off x="1814400" y="3205080"/>
            <a:ext cx="348480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envía al Contralor General para su evaluación y en su caso aprob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00"/>
          <p:cNvSpPr/>
          <p:nvPr/>
        </p:nvSpPr>
        <p:spPr>
          <a:xfrm>
            <a:off x="387360" y="317484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7 Conector"/>
          <p:cNvSpPr/>
          <p:nvPr/>
        </p:nvSpPr>
        <p:spPr>
          <a:xfrm>
            <a:off x="2989440" y="3551400"/>
            <a:ext cx="210960" cy="2412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11 CuadroTexto"/>
          <p:cNvSpPr/>
          <p:nvPr/>
        </p:nvSpPr>
        <p:spPr>
          <a:xfrm>
            <a:off x="2933640" y="35672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12 Decisión"/>
          <p:cNvSpPr/>
          <p:nvPr/>
        </p:nvSpPr>
        <p:spPr>
          <a:xfrm>
            <a:off x="3119400" y="3821040"/>
            <a:ext cx="738360" cy="520920"/>
          </a:xfrm>
          <a:prstGeom prst="flowChartDecision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13 CuadroTexto"/>
          <p:cNvSpPr/>
          <p:nvPr/>
        </p:nvSpPr>
        <p:spPr>
          <a:xfrm>
            <a:off x="3123000" y="3930480"/>
            <a:ext cx="73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¿ aprobada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25 Conector angular"/>
          <p:cNvCxnSpPr/>
          <p:nvPr/>
        </p:nvCxnSpPr>
        <p:spPr>
          <a:xfrm rot="5400000">
            <a:off x="2176200" y="4474080"/>
            <a:ext cx="1340640" cy="554760"/>
          </a:xfrm>
          <a:prstGeom prst="bentConnector3">
            <a:avLst>
              <a:gd name="adj1" fmla="val -24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0" name="6201 Conector angular"/>
          <p:cNvCxnSpPr>
            <a:endCxn id="272" idx="0"/>
          </p:cNvCxnSpPr>
          <p:nvPr/>
        </p:nvCxnSpPr>
        <p:spPr>
          <a:xfrm>
            <a:off x="3857760" y="4078080"/>
            <a:ext cx="675360" cy="1292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1" name="6210 CuadroTexto"/>
          <p:cNvSpPr/>
          <p:nvPr/>
        </p:nvSpPr>
        <p:spPr>
          <a:xfrm>
            <a:off x="3871800" y="4743360"/>
            <a:ext cx="132876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Propone nuevas metas y objetivos, o en su caso, modifica las propuest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6212 Conector angular"/>
          <p:cNvCxnSpPr/>
          <p:nvPr/>
        </p:nvCxnSpPr>
        <p:spPr>
          <a:xfrm rot="5400000">
            <a:off x="4338000" y="5235120"/>
            <a:ext cx="253080" cy="2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3" name="134 CuadroTexto"/>
          <p:cNvSpPr/>
          <p:nvPr/>
        </p:nvSpPr>
        <p:spPr>
          <a:xfrm>
            <a:off x="4195440" y="548316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136 Conector"/>
          <p:cNvSpPr/>
          <p:nvPr/>
        </p:nvSpPr>
        <p:spPr>
          <a:xfrm>
            <a:off x="4237200" y="5478480"/>
            <a:ext cx="210960" cy="2412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18 Rectángulo"/>
          <p:cNvSpPr/>
          <p:nvPr/>
        </p:nvSpPr>
        <p:spPr>
          <a:xfrm>
            <a:off x="1719360" y="7405560"/>
            <a:ext cx="354312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Contralor General verifica información y presenta a Consejo General informe fin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18 Rectángulo"/>
          <p:cNvSpPr/>
          <p:nvPr/>
        </p:nvSpPr>
        <p:spPr>
          <a:xfrm>
            <a:off x="1701720" y="6138720"/>
            <a:ext cx="360036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la información aprobada y se turna al Subcontralor para su seguimiento y cumplimien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AutoShape 32"/>
          <p:cNvCxnSpPr/>
          <p:nvPr/>
        </p:nvCxnSpPr>
        <p:spPr>
          <a:xfrm>
            <a:off x="3421080" y="6411960"/>
            <a:ext cx="864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Rectangle 701"/>
          <p:cNvSpPr/>
          <p:nvPr/>
        </p:nvSpPr>
        <p:spPr>
          <a:xfrm>
            <a:off x="351000" y="4516560"/>
            <a:ext cx="113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ontral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701"/>
          <p:cNvSpPr/>
          <p:nvPr/>
        </p:nvSpPr>
        <p:spPr>
          <a:xfrm>
            <a:off x="333360" y="6562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01"/>
          <p:cNvSpPr/>
          <p:nvPr/>
        </p:nvSpPr>
        <p:spPr>
          <a:xfrm>
            <a:off x="358920" y="696744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701"/>
          <p:cNvSpPr/>
          <p:nvPr/>
        </p:nvSpPr>
        <p:spPr>
          <a:xfrm>
            <a:off x="318960" y="74055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ontralor General/ Subcontra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66"/>
          <p:cNvSpPr/>
          <p:nvPr/>
        </p:nvSpPr>
        <p:spPr>
          <a:xfrm>
            <a:off x="5397480" y="4173480"/>
            <a:ext cx="12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mail / oficio/propue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65"/>
          <p:cNvSpPr/>
          <p:nvPr/>
        </p:nvSpPr>
        <p:spPr>
          <a:xfrm>
            <a:off x="5440320" y="4781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an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65"/>
          <p:cNvSpPr/>
          <p:nvPr/>
        </p:nvSpPr>
        <p:spPr>
          <a:xfrm>
            <a:off x="5376960" y="61959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65"/>
          <p:cNvSpPr/>
          <p:nvPr/>
        </p:nvSpPr>
        <p:spPr>
          <a:xfrm>
            <a:off x="5386320" y="74055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65"/>
          <p:cNvSpPr/>
          <p:nvPr/>
        </p:nvSpPr>
        <p:spPr>
          <a:xfrm>
            <a:off x="5397480" y="57783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Nmartinez</cp:lastModifiedBy>
  <cp:lastPrinted>2012-04-24T16:45:54Z</cp:lastPrinted>
  <dcterms:modified xsi:type="dcterms:W3CDTF">2012-04-24T17:29:33Z</dcterms:modified>
  <cp:revision>355</cp:revision>
  <dc:subject/>
  <dc:title>Presentación de PowerPoint</dc:title>
</cp:coreProperties>
</file>