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CA25-A272-41BD-9FA5-266352E513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E234-C133-4E63-9FFF-780C777839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5F18-4A0D-45B3-9F84-C09F9EC53B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B8A-0CF4-446B-ACA0-92ACFE50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C91-836D-46C7-89CB-7076B36C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1D7-AFFD-4304-A69E-F578C5AF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2F0-D24F-4ABA-ADBA-5623924E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E23-7995-47F0-9898-AE93DB0F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B87-6EB2-44ED-B521-A655EA93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1C3-7A3B-4D9B-8150-B1BA7A35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63C-9208-4198-8A59-61578364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F42-427D-46E5-92F2-3DA334C9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82B-0ACA-486D-8268-32C3A2C7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7C8-2974-458C-9DE5-DFD6AECE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0C2-BD3D-466E-9B87-B6F590DB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AD3C-063D-4766-91B5-77545ABD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8B7-AECA-4F09-80B8-6261B336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36FF-A603-44D1-8FD9-4C85B382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1BCB-FF52-4092-AE5E-CA82F74C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9014-CB62-48B3-BA29-7FD2B404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4B1C-E9DD-4D0D-B0F1-C41EF70C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FEA9-91C9-4B12-AF22-99577552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2032-DF31-4E58-A291-3CA0422D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393B-C3D5-4E22-AA3B-DC603633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8368-1A02-4410-A8A0-E349C787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7D91-6F8C-4178-8E40-6CE888EB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1694-8C55-43C0-9E4F-A5718819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c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817153F-09A3-403C-B04D-DA23CF7BD8E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CDF9-E5E1-40E6-B25F-9AB2E649D6F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FF90-4B20-4DD9-9F1C-830F31EBB60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tar de los bienes y servicio que requiera el instituto sujetos a procedimientos de lici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requisición o instrucción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labora bases, convocatoria  y especificaciones técnicas en conjunción con área solicitante para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84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51792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est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19360" y="2987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ibe solicitudes de aclaración de empresas sobre las bases de la Li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67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28720" y="34671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termina la logística de la junta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17560" y="4264200"/>
            <a:ext cx="36007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visitas de inspección y levanta acta respec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517560" y="40734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722600" y="4698000"/>
            <a:ext cx="359712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desahogo del acto de presentación de  propuestas técnicas y  económicas y apertura de propuestas técnic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517560" y="44830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51000" y="3024360"/>
            <a:ext cx="12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3565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visitas de insp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/ 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717560" y="594036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el dictamen técnico donde se evalúa las propuestas y documentos presentados por los oferen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65000" y="572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32"/>
          <p:cNvCxnSpPr/>
          <p:nvPr/>
        </p:nvCxnSpPr>
        <p:spPr>
          <a:xfrm>
            <a:off x="3490560" y="67230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7386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1722600" y="6875640"/>
            <a:ext cx="3600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Interviene en el acto de comunicación del dictamen técnico, apertura de ofertas económicas, fallo y adjudicación, y levanta el acta respectiva. Remite expediente al 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716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/>
          <p:nvPr/>
        </p:nvCxnSpPr>
        <p:spPr>
          <a:xfrm>
            <a:off x="3499920" y="738036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684"/>
          <p:cNvCxnSpPr>
            <a:stCxn id="169" idx="2"/>
            <a:endCxn id="174" idx="0"/>
          </p:cNvCxnSpPr>
          <p:nvPr/>
        </p:nvCxnSpPr>
        <p:spPr>
          <a:xfrm>
            <a:off x="3519000" y="3276360"/>
            <a:ext cx="1044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Oval 34"/>
          <p:cNvSpPr/>
          <p:nvPr/>
        </p:nvSpPr>
        <p:spPr>
          <a:xfrm>
            <a:off x="3214800" y="7596360"/>
            <a:ext cx="57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18 Rectángulo"/>
          <p:cNvSpPr/>
          <p:nvPr/>
        </p:nvSpPr>
        <p:spPr>
          <a:xfrm>
            <a:off x="1728720" y="38577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evanta el acta de la junta de aclaraciones donde constan las respuestas a  las preguntas formul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503160" y="3661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18 Rectángulo"/>
          <p:cNvSpPr/>
          <p:nvPr/>
        </p:nvSpPr>
        <p:spPr>
          <a:xfrm flipV="1" rot="10800000">
            <a:off x="1722600" y="5235480"/>
            <a:ext cx="3597120" cy="4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terviene en el acto de presentación de propuestas técnicas y económicas y apertura de las propuestas técnicas  y levanta el ac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32"/>
          <p:cNvCxnSpPr/>
          <p:nvPr/>
        </p:nvCxnSpPr>
        <p:spPr>
          <a:xfrm>
            <a:off x="3487320" y="501948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18 Rectángulo"/>
          <p:cNvSpPr/>
          <p:nvPr/>
        </p:nvSpPr>
        <p:spPr>
          <a:xfrm flipV="1" rot="10800000">
            <a:off x="1730520" y="6389640"/>
            <a:ext cx="359856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desahogo del acto comunicación del dictamen técnico, apertura de las ofertas económicas, fallo y adjud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32"/>
          <p:cNvCxnSpPr/>
          <p:nvPr/>
        </p:nvCxnSpPr>
        <p:spPr>
          <a:xfrm>
            <a:off x="3465000" y="617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53"/>
          <p:cNvSpPr/>
          <p:nvPr/>
        </p:nvSpPr>
        <p:spPr>
          <a:xfrm>
            <a:off x="1687680" y="2671920"/>
            <a:ext cx="3600360" cy="23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mite convocatoria al Consejo General para su aprobación y publicac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81"/>
          <p:cNvCxnSpPr/>
          <p:nvPr/>
        </p:nvCxnSpPr>
        <p:spPr>
          <a:xfrm>
            <a:off x="3517560" y="25272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1"/>
          <p:cNvSpPr/>
          <p:nvPr/>
        </p:nvSpPr>
        <p:spPr>
          <a:xfrm>
            <a:off x="333360" y="644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a / 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01"/>
          <p:cNvSpPr/>
          <p:nvPr/>
        </p:nvSpPr>
        <p:spPr>
          <a:xfrm>
            <a:off x="333360" y="68756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5364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s técnicas y económicas / acta / documentación neces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s de sesión / 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6"/>
          <p:cNvSpPr/>
          <p:nvPr/>
        </p:nvSpPr>
        <p:spPr>
          <a:xfrm>
            <a:off x="5373720" y="594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/ propuestas / documentos presentados por los ofer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técnico / ofertas económicas / fallo / adjudica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5-01T17:18:13Z</dcterms:modified>
  <cp:revision>320</cp:revision>
  <dc:subject/>
  <dc:title>Presentación de PowerPoint</dc:title>
</cp:coreProperties>
</file>