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6858000" cy="9144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1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sldImg"/>
          </p:nvPr>
        </p:nvSpPr>
        <p:spPr>
          <a:xfrm>
            <a:off x="2003400" y="744120"/>
            <a:ext cx="279072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ftr" idx="2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6"/>
          <p:cNvSpPr>
            <a:spLocks noGrp="1"/>
          </p:cNvSpPr>
          <p:nvPr>
            <p:ph type="sldNum" idx="3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794EF-5300-4C80-860A-79B3B56D456E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E63F3-DA5A-4322-A4EA-D4C8D58BEE70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2003400" y="744480"/>
            <a:ext cx="2790720" cy="372276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4C8D3-5749-4636-8C8E-7F48F68C1B60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2003400" y="744480"/>
            <a:ext cx="2790720" cy="372276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89"/>
          <p:cNvSpPr/>
          <p:nvPr/>
        </p:nvSpPr>
        <p:spPr>
          <a:xfrm>
            <a:off x="4005360" y="179280"/>
            <a:ext cx="2663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27a2"/>
                </a:solidFill>
                <a:latin typeface="Arial Narrow"/>
              </a:rPr>
              <a:t>PROCEDIMIENTO  DOCUMENTA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AutoShape 90"/>
          <p:cNvSpPr/>
          <p:nvPr/>
        </p:nvSpPr>
        <p:spPr>
          <a:xfrm>
            <a:off x="1701720" y="468360"/>
            <a:ext cx="3888000" cy="6476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Nomb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95"/>
          <p:cNvSpPr/>
          <p:nvPr/>
        </p:nvSpPr>
        <p:spPr>
          <a:xfrm>
            <a:off x="2276640" y="399960"/>
            <a:ext cx="33130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CONVENIOS DE COORDINACIÓ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AutoShape 97"/>
          <p:cNvSpPr/>
          <p:nvPr/>
        </p:nvSpPr>
        <p:spPr>
          <a:xfrm>
            <a:off x="5587920" y="468360"/>
            <a:ext cx="108108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  <a:ea typeface="굴림"/>
              </a:rPr>
              <a:t>Pág.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굴림"/>
              </a:rPr>
              <a:t>  </a:t>
            </a:r>
            <a:fld id="{BDC2121B-C6DA-40ED-B48D-AA52C04EC936}" type="slidenum">
              <a:rPr b="0" lang="es-ES" sz="1200" spc="-1" strike="noStrike">
                <a:solidFill>
                  <a:srgbClr val="000000"/>
                </a:solidFill>
                <a:latin typeface="Arial Narrow"/>
                <a:ea typeface="굴림"/>
              </a:rPr>
              <a:t>&lt;number&gt;</a:t>
            </a:fld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굴림"/>
              </a:rPr>
              <a:t>   de  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99"/>
          <p:cNvSpPr/>
          <p:nvPr/>
        </p:nvSpPr>
        <p:spPr>
          <a:xfrm>
            <a:off x="333360" y="8397360"/>
            <a:ext cx="316692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Elaboró:</a:t>
            </a: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 Director de la Unidad de Fiscaliz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100"/>
          <p:cNvSpPr/>
          <p:nvPr/>
        </p:nvSpPr>
        <p:spPr>
          <a:xfrm>
            <a:off x="333360" y="8151840"/>
            <a:ext cx="6335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SIMBOLOGÍA: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                    Inicio / Fin                  Actividad                       Decisión               Conector                 Direcció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AutoShape 101"/>
          <p:cNvSpPr/>
          <p:nvPr/>
        </p:nvSpPr>
        <p:spPr>
          <a:xfrm>
            <a:off x="1414440" y="8172360"/>
            <a:ext cx="358920" cy="1447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2"/>
          <p:cNvSpPr/>
          <p:nvPr/>
        </p:nvSpPr>
        <p:spPr>
          <a:xfrm>
            <a:off x="2565360" y="8176320"/>
            <a:ext cx="287280" cy="13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AutoShape 103"/>
          <p:cNvSpPr/>
          <p:nvPr/>
        </p:nvSpPr>
        <p:spPr>
          <a:xfrm>
            <a:off x="3643200" y="8172360"/>
            <a:ext cx="433440" cy="144720"/>
          </a:xfrm>
          <a:prstGeom prst="flowChartExtra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Line 104"/>
          <p:cNvSpPr/>
          <p:nvPr/>
        </p:nvSpPr>
        <p:spPr>
          <a:xfrm>
            <a:off x="5661000" y="8244000"/>
            <a:ext cx="287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AutoShape 105"/>
          <p:cNvSpPr/>
          <p:nvPr/>
        </p:nvSpPr>
        <p:spPr>
          <a:xfrm>
            <a:off x="333360" y="8604360"/>
            <a:ext cx="3240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AutoShape 106"/>
          <p:cNvSpPr/>
          <p:nvPr/>
        </p:nvSpPr>
        <p:spPr>
          <a:xfrm>
            <a:off x="333360" y="8394840"/>
            <a:ext cx="324000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AutoShape 107"/>
          <p:cNvSpPr/>
          <p:nvPr/>
        </p:nvSpPr>
        <p:spPr>
          <a:xfrm>
            <a:off x="333360" y="8101080"/>
            <a:ext cx="6335640" cy="2937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Text Box 108"/>
          <p:cNvSpPr/>
          <p:nvPr/>
        </p:nvSpPr>
        <p:spPr>
          <a:xfrm>
            <a:off x="3571920" y="8384760"/>
            <a:ext cx="309708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</a:rPr>
              <a:t>Aprobó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Representante del SG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AutoShape 109"/>
          <p:cNvSpPr/>
          <p:nvPr/>
        </p:nvSpPr>
        <p:spPr>
          <a:xfrm>
            <a:off x="3573360" y="8604360"/>
            <a:ext cx="309564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AutoShape 110"/>
          <p:cNvSpPr/>
          <p:nvPr/>
        </p:nvSpPr>
        <p:spPr>
          <a:xfrm>
            <a:off x="3573360" y="8394840"/>
            <a:ext cx="309564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Oval 111"/>
          <p:cNvSpPr/>
          <p:nvPr/>
        </p:nvSpPr>
        <p:spPr>
          <a:xfrm>
            <a:off x="4797360" y="8172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AutoShape 139"/>
          <p:cNvSpPr/>
          <p:nvPr/>
        </p:nvSpPr>
        <p:spPr>
          <a:xfrm>
            <a:off x="5272200" y="1147680"/>
            <a:ext cx="1379520" cy="216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lav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AutoShape 142"/>
          <p:cNvSpPr/>
          <p:nvPr/>
        </p:nvSpPr>
        <p:spPr>
          <a:xfrm>
            <a:off x="4335480" y="1146240"/>
            <a:ext cx="936720" cy="2174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ambio: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  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Text Box 144"/>
          <p:cNvSpPr/>
          <p:nvPr/>
        </p:nvSpPr>
        <p:spPr>
          <a:xfrm>
            <a:off x="5749920" y="111600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P-ADM-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AutoShape 140"/>
          <p:cNvSpPr/>
          <p:nvPr/>
        </p:nvSpPr>
        <p:spPr>
          <a:xfrm>
            <a:off x="1693800" y="1147680"/>
            <a:ext cx="1344600" cy="216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Emisión: 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17-11-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AutoShape 141"/>
          <p:cNvSpPr/>
          <p:nvPr/>
        </p:nvSpPr>
        <p:spPr>
          <a:xfrm>
            <a:off x="3038400" y="1147680"/>
            <a:ext cx="1297080" cy="216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Revisión</a:t>
            </a: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: 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17-11-1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" name="Imagen 1" descr=""/>
          <p:cNvPicPr/>
          <p:nvPr/>
        </p:nvPicPr>
        <p:blipFill>
          <a:blip r:embed="rId2"/>
          <a:stretch/>
        </p:blipFill>
        <p:spPr>
          <a:xfrm>
            <a:off x="44280" y="468360"/>
            <a:ext cx="1656000" cy="718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25"/>
          <p:cNvSpPr/>
          <p:nvPr/>
        </p:nvSpPr>
        <p:spPr>
          <a:xfrm>
            <a:off x="343080" y="5796000"/>
            <a:ext cx="633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4. CONTROL DE CAMBIO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AutoShape 87"/>
          <p:cNvSpPr/>
          <p:nvPr/>
        </p:nvSpPr>
        <p:spPr>
          <a:xfrm>
            <a:off x="333360" y="1766880"/>
            <a:ext cx="6335640" cy="6261120"/>
          </a:xfrm>
          <a:prstGeom prst="roundRect">
            <a:avLst>
              <a:gd name="adj" fmla="val 189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476280" y="6084720"/>
          <a:ext cx="6048360" cy="889200"/>
        </p:xfrm>
        <a:graphic>
          <a:graphicData uri="http://schemas.openxmlformats.org/drawingml/2006/table">
            <a:tbl>
              <a:tblPr/>
              <a:tblGrid>
                <a:gridCol w="1146240"/>
                <a:gridCol w="3870360"/>
                <a:gridCol w="1031760"/>
              </a:tblGrid>
              <a:tr h="21600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o. de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Descripción del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Fech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ueva Cre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2-09-20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240"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" name="Text Box 224"/>
          <p:cNvSpPr/>
          <p:nvPr/>
        </p:nvSpPr>
        <p:spPr>
          <a:xfrm>
            <a:off x="336600" y="1366920"/>
            <a:ext cx="6340320" cy="10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OBJETIVO. </a:t>
            </a:r>
            <a:r>
              <a:rPr b="0" lang="es-ES" sz="1000" spc="-1" strike="noStrike">
                <a:solidFill>
                  <a:srgbClr val="000000"/>
                </a:solidFill>
                <a:latin typeface="Arial Narrow"/>
              </a:rPr>
              <a:t>Establecer relaciones de colaboración con instituciones externas y autoridades para la coordinación en el desempeño de las actividades del IEP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225"/>
          <p:cNvSpPr/>
          <p:nvPr/>
        </p:nvSpPr>
        <p:spPr>
          <a:xfrm>
            <a:off x="343080" y="2158920"/>
            <a:ext cx="632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2. ALCANCE. </a:t>
            </a:r>
            <a:r>
              <a:rPr b="0" lang="es-ES_tradnl" sz="1000" spc="-1" strike="noStrike">
                <a:solidFill>
                  <a:srgbClr val="000000"/>
                </a:solidFill>
                <a:latin typeface="Arial Narrow"/>
              </a:rPr>
              <a:t>En este espacio se pondrá en que se certificara la empresa aun no esta definido los procesos a certificar</a:t>
            </a: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226"/>
          <p:cNvSpPr/>
          <p:nvPr/>
        </p:nvSpPr>
        <p:spPr>
          <a:xfrm>
            <a:off x="333360" y="2414520"/>
            <a:ext cx="633564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3. TERMINOLOGÍ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 Narrow"/>
              </a:rPr>
              <a:t>Aquí</a:t>
            </a: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 se deberá poner un glosario para que los auditores puedan entender de que se habla, en caso de no tener palabras ajenas al vocabulario común se pondrá N/A (no aplica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AutoShape 238"/>
          <p:cNvSpPr/>
          <p:nvPr/>
        </p:nvSpPr>
        <p:spPr>
          <a:xfrm>
            <a:off x="1562040" y="1692360"/>
            <a:ext cx="381636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Actividade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AutoShape 239"/>
          <p:cNvSpPr/>
          <p:nvPr/>
        </p:nvSpPr>
        <p:spPr>
          <a:xfrm>
            <a:off x="5388120" y="1692360"/>
            <a:ext cx="129528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ferenci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AutoShape 240"/>
          <p:cNvSpPr/>
          <p:nvPr/>
        </p:nvSpPr>
        <p:spPr>
          <a:xfrm>
            <a:off x="5373720" y="1979640"/>
            <a:ext cx="1295280" cy="6048360"/>
          </a:xfrm>
          <a:custGeom>
            <a:avLst/>
            <a:gdLst>
              <a:gd name="textAreaLeft" fmla="*/ 27360 w 1295280"/>
              <a:gd name="textAreaRight" fmla="*/ 1267920 w 1295280"/>
              <a:gd name="textAreaTop" fmla="*/ 27360 h 6048360"/>
              <a:gd name="textAreaBottom" fmla="*/ 6021000 h 6048360"/>
            </a:gdLst>
            <a:ahLst/>
            <a:rect l="textAreaLeft" t="textAreaTop" r="textAreaRight" b="textAreaBottom"/>
            <a:pathLst>
              <a:path w="21600" h="100840">
                <a:moveTo>
                  <a:pt x="1564" y="0"/>
                </a:moveTo>
                <a:arcTo wR="1564" hR="1564" stAng="16200000" swAng="-5400000"/>
                <a:lnTo>
                  <a:pt x="0" y="99276"/>
                </a:lnTo>
                <a:arcTo wR="1564" hR="1564" stAng="10800000" swAng="-5400000"/>
                <a:lnTo>
                  <a:pt x="20036" y="100840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AutoShape 241"/>
          <p:cNvSpPr/>
          <p:nvPr/>
        </p:nvSpPr>
        <p:spPr>
          <a:xfrm>
            <a:off x="1557360" y="1973160"/>
            <a:ext cx="3816360" cy="6054840"/>
          </a:xfrm>
          <a:custGeom>
            <a:avLst/>
            <a:gdLst>
              <a:gd name="textAreaLeft" fmla="*/ 25560 w 3816360"/>
              <a:gd name="textAreaRight" fmla="*/ 3790800 w 3816360"/>
              <a:gd name="textAreaTop" fmla="*/ 25560 h 6054840"/>
              <a:gd name="textAreaBottom" fmla="*/ 6029280 h 6054840"/>
            </a:gdLst>
            <a:ahLst/>
            <a:rect l="textAreaLeft" t="textAreaTop" r="textAreaRight" b="textAreaBottom"/>
            <a:pathLst>
              <a:path w="21600" h="34268">
                <a:moveTo>
                  <a:pt x="495" y="0"/>
                </a:moveTo>
                <a:arcTo wR="495" hR="495" stAng="16200000" swAng="-5400000"/>
                <a:lnTo>
                  <a:pt x="0" y="33773"/>
                </a:lnTo>
                <a:arcTo wR="495" hR="495" stAng="10800000" swAng="-5400000"/>
                <a:lnTo>
                  <a:pt x="21105" y="34268"/>
                </a:lnTo>
                <a:arcTo wR="495" hR="495" stAng="5400000" swAng="-5400000"/>
                <a:lnTo>
                  <a:pt x="21600" y="495"/>
                </a:lnTo>
                <a:arcTo wR="495" hR="49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AutoShape 242"/>
          <p:cNvSpPr/>
          <p:nvPr/>
        </p:nvSpPr>
        <p:spPr>
          <a:xfrm>
            <a:off x="333360" y="1979640"/>
            <a:ext cx="1224000" cy="6048360"/>
          </a:xfrm>
          <a:custGeom>
            <a:avLst/>
            <a:gdLst>
              <a:gd name="textAreaLeft" fmla="*/ 25920 w 1224000"/>
              <a:gd name="textAreaRight" fmla="*/ 1198080 w 1224000"/>
              <a:gd name="textAreaTop" fmla="*/ 25920 h 6048360"/>
              <a:gd name="textAreaBottom" fmla="*/ 6022440 h 6048360"/>
            </a:gdLst>
            <a:ahLst/>
            <a:rect l="textAreaLeft" t="textAreaTop" r="textAreaRight" b="textAreaBottom"/>
            <a:pathLst>
              <a:path w="21600" h="106711">
                <a:moveTo>
                  <a:pt x="1564" y="0"/>
                </a:moveTo>
                <a:arcTo wR="1564" hR="1564" stAng="16200000" swAng="-5400000"/>
                <a:lnTo>
                  <a:pt x="0" y="105147"/>
                </a:lnTo>
                <a:arcTo wR="1564" hR="1564" stAng="10800000" swAng="-5400000"/>
                <a:lnTo>
                  <a:pt x="20036" y="106711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AutoShape 534"/>
          <p:cNvSpPr/>
          <p:nvPr/>
        </p:nvSpPr>
        <p:spPr>
          <a:xfrm>
            <a:off x="333360" y="1685880"/>
            <a:ext cx="1224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spons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AutoShape 648"/>
          <p:cNvSpPr/>
          <p:nvPr/>
        </p:nvSpPr>
        <p:spPr>
          <a:xfrm>
            <a:off x="3198960" y="2068560"/>
            <a:ext cx="574560" cy="1648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Inici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" name="AutoShape 649"/>
          <p:cNvCxnSpPr>
            <a:stCxn id="78" idx="2"/>
          </p:cNvCxnSpPr>
          <p:nvPr/>
        </p:nvCxnSpPr>
        <p:spPr>
          <a:xfrm>
            <a:off x="3485880" y="2233080"/>
            <a:ext cx="1080" cy="180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0" name="Rectangle 652"/>
          <p:cNvSpPr/>
          <p:nvPr/>
        </p:nvSpPr>
        <p:spPr>
          <a:xfrm>
            <a:off x="1692360" y="2413080"/>
            <a:ext cx="360036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Se revisa la programación de actividades de la UFR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Rectangle 653"/>
          <p:cNvSpPr/>
          <p:nvPr/>
        </p:nvSpPr>
        <p:spPr>
          <a:xfrm>
            <a:off x="1685880" y="2790720"/>
            <a:ext cx="360036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Se detectan necesidades de coordinación con instituciones externas en materia de fiscalización y se informa a Dirección General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Rectangle 655"/>
          <p:cNvSpPr/>
          <p:nvPr/>
        </p:nvSpPr>
        <p:spPr>
          <a:xfrm>
            <a:off x="1677960" y="3633840"/>
            <a:ext cx="36003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Se elabora propuesta de convenio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657"/>
          <p:cNvSpPr/>
          <p:nvPr/>
        </p:nvSpPr>
        <p:spPr>
          <a:xfrm>
            <a:off x="396720" y="2602080"/>
            <a:ext cx="11509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Jefes de áre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660"/>
          <p:cNvSpPr/>
          <p:nvPr/>
        </p:nvSpPr>
        <p:spPr>
          <a:xfrm>
            <a:off x="331920" y="4073400"/>
            <a:ext cx="12240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Director de la UFR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662"/>
          <p:cNvSpPr/>
          <p:nvPr/>
        </p:nvSpPr>
        <p:spPr>
          <a:xfrm>
            <a:off x="5373720" y="2411280"/>
            <a:ext cx="12952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Calendari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663"/>
          <p:cNvSpPr/>
          <p:nvPr/>
        </p:nvSpPr>
        <p:spPr>
          <a:xfrm>
            <a:off x="5372280" y="3537000"/>
            <a:ext cx="129672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665"/>
          <p:cNvSpPr/>
          <p:nvPr/>
        </p:nvSpPr>
        <p:spPr>
          <a:xfrm>
            <a:off x="5380200" y="5219640"/>
            <a:ext cx="12826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Propuesta de conveni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8" name="AutoShape 681"/>
          <p:cNvCxnSpPr>
            <a:stCxn id="80" idx="2"/>
            <a:endCxn id="81" idx="0"/>
          </p:cNvCxnSpPr>
          <p:nvPr/>
        </p:nvCxnSpPr>
        <p:spPr>
          <a:xfrm flipH="1">
            <a:off x="3485520" y="2628720"/>
            <a:ext cx="6840" cy="162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Rectangle 700"/>
          <p:cNvSpPr/>
          <p:nvPr/>
        </p:nvSpPr>
        <p:spPr>
          <a:xfrm>
            <a:off x="368280" y="3005280"/>
            <a:ext cx="11509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Director y Jefes de área de la UFR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701"/>
          <p:cNvSpPr/>
          <p:nvPr/>
        </p:nvSpPr>
        <p:spPr>
          <a:xfrm>
            <a:off x="333360" y="3549600"/>
            <a:ext cx="122400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Director y jefes de área de la UFR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666"/>
          <p:cNvSpPr/>
          <p:nvPr/>
        </p:nvSpPr>
        <p:spPr>
          <a:xfrm>
            <a:off x="5373720" y="3276720"/>
            <a:ext cx="1278000" cy="16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Relación de actividades e información a convenia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655"/>
          <p:cNvSpPr/>
          <p:nvPr/>
        </p:nvSpPr>
        <p:spPr>
          <a:xfrm>
            <a:off x="1677960" y="3216240"/>
            <a:ext cx="360036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Se establecen las necesidades de información y labores a desempeñar en coordinac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660"/>
          <p:cNvSpPr/>
          <p:nvPr/>
        </p:nvSpPr>
        <p:spPr>
          <a:xfrm>
            <a:off x="331920" y="4454640"/>
            <a:ext cx="122400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Director de la UFR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tangle 664"/>
          <p:cNvSpPr/>
          <p:nvPr/>
        </p:nvSpPr>
        <p:spPr>
          <a:xfrm>
            <a:off x="5361120" y="4643280"/>
            <a:ext cx="1295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Propuesta de conveni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661"/>
          <p:cNvSpPr/>
          <p:nvPr/>
        </p:nvSpPr>
        <p:spPr>
          <a:xfrm>
            <a:off x="333360" y="4870440"/>
            <a:ext cx="1224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Director de la UFR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6" name="AutoShape 681"/>
          <p:cNvCxnSpPr>
            <a:stCxn id="81" idx="2"/>
            <a:endCxn id="92" idx="0"/>
          </p:cNvCxnSpPr>
          <p:nvPr/>
        </p:nvCxnSpPr>
        <p:spPr>
          <a:xfrm flipH="1">
            <a:off x="3477960" y="3078000"/>
            <a:ext cx="8640" cy="13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Rectangle 655"/>
          <p:cNvSpPr/>
          <p:nvPr/>
        </p:nvSpPr>
        <p:spPr>
          <a:xfrm>
            <a:off x="1677960" y="5925960"/>
            <a:ext cx="3600360" cy="2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Se efectúa reunión con funcionarios de la entidad externa para proponer y negociar el conveni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655"/>
          <p:cNvSpPr/>
          <p:nvPr/>
        </p:nvSpPr>
        <p:spPr>
          <a:xfrm>
            <a:off x="1671480" y="6300720"/>
            <a:ext cx="360072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Se obtiene la anuencia de la Entidad Extern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9" name="AutoShape 681"/>
          <p:cNvCxnSpPr>
            <a:stCxn id="92" idx="2"/>
            <a:endCxn id="82" idx="0"/>
          </p:cNvCxnSpPr>
          <p:nvPr/>
        </p:nvCxnSpPr>
        <p:spPr>
          <a:xfrm>
            <a:off x="3477960" y="3503520"/>
            <a:ext cx="1080" cy="131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AutoShape 681"/>
          <p:cNvCxnSpPr>
            <a:stCxn id="82" idx="2"/>
            <a:endCxn id="101" idx="0"/>
          </p:cNvCxnSpPr>
          <p:nvPr/>
        </p:nvCxnSpPr>
        <p:spPr>
          <a:xfrm flipH="1">
            <a:off x="3471480" y="3938400"/>
            <a:ext cx="7200" cy="216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AutoShape 681"/>
          <p:cNvCxnSpPr>
            <a:endCxn id="98" idx="0"/>
          </p:cNvCxnSpPr>
          <p:nvPr/>
        </p:nvCxnSpPr>
        <p:spPr>
          <a:xfrm flipH="1">
            <a:off x="3471120" y="6156000"/>
            <a:ext cx="108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Rectangle 701"/>
          <p:cNvSpPr/>
          <p:nvPr/>
        </p:nvSpPr>
        <p:spPr>
          <a:xfrm>
            <a:off x="328680" y="5235480"/>
            <a:ext cx="1224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Director de la UFR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655"/>
          <p:cNvSpPr/>
          <p:nvPr/>
        </p:nvSpPr>
        <p:spPr>
          <a:xfrm>
            <a:off x="1658880" y="6661080"/>
            <a:ext cx="360036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Se elabora el convenio de coordinac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655"/>
          <p:cNvSpPr/>
          <p:nvPr/>
        </p:nvSpPr>
        <p:spPr>
          <a:xfrm>
            <a:off x="1658880" y="7027920"/>
            <a:ext cx="360036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Se firma el conveni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AutoShape 648"/>
          <p:cNvSpPr/>
          <p:nvPr/>
        </p:nvSpPr>
        <p:spPr>
          <a:xfrm>
            <a:off x="3184560" y="7772400"/>
            <a:ext cx="574560" cy="16524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Fi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7" name="AutoShape 681"/>
          <p:cNvCxnSpPr>
            <a:stCxn id="98" idx="2"/>
            <a:endCxn id="104" idx="0"/>
          </p:cNvCxnSpPr>
          <p:nvPr/>
        </p:nvCxnSpPr>
        <p:spPr>
          <a:xfrm flipH="1">
            <a:off x="3458520" y="6516360"/>
            <a:ext cx="1332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AutoShape 681"/>
          <p:cNvCxnSpPr>
            <a:stCxn id="104" idx="2"/>
            <a:endCxn id="105" idx="0"/>
          </p:cNvCxnSpPr>
          <p:nvPr/>
        </p:nvCxnSpPr>
        <p:spPr>
          <a:xfrm flipH="1">
            <a:off x="3458520" y="6876720"/>
            <a:ext cx="1080" cy="151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9" name="Rectangle 655"/>
          <p:cNvSpPr/>
          <p:nvPr/>
        </p:nvSpPr>
        <p:spPr>
          <a:xfrm>
            <a:off x="1658880" y="7396200"/>
            <a:ext cx="360036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Se ejecuta el convenio de colaborac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0" name="3 Conector recto de flecha"/>
          <p:cNvCxnSpPr>
            <a:stCxn id="105" idx="2"/>
            <a:endCxn id="109" idx="0"/>
          </p:cNvCxnSpPr>
          <p:nvPr/>
        </p:nvCxnSpPr>
        <p:spPr>
          <a:xfrm>
            <a:off x="3458880" y="724356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5 Conector recto de flecha"/>
          <p:cNvCxnSpPr>
            <a:stCxn id="109" idx="2"/>
            <a:endCxn id="106" idx="0"/>
          </p:cNvCxnSpPr>
          <p:nvPr/>
        </p:nvCxnSpPr>
        <p:spPr>
          <a:xfrm>
            <a:off x="3458880" y="7611840"/>
            <a:ext cx="13320" cy="160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701"/>
          <p:cNvSpPr/>
          <p:nvPr/>
        </p:nvSpPr>
        <p:spPr>
          <a:xfrm>
            <a:off x="324000" y="5651640"/>
            <a:ext cx="1223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Director de la UFR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Rectangle 701"/>
          <p:cNvSpPr/>
          <p:nvPr/>
        </p:nvSpPr>
        <p:spPr>
          <a:xfrm>
            <a:off x="339840" y="6084720"/>
            <a:ext cx="1224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Director de la UFR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Rectangle 701"/>
          <p:cNvSpPr/>
          <p:nvPr/>
        </p:nvSpPr>
        <p:spPr>
          <a:xfrm>
            <a:off x="324000" y="6516720"/>
            <a:ext cx="1223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Director de la UFR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Rectangle 666"/>
          <p:cNvSpPr/>
          <p:nvPr/>
        </p:nvSpPr>
        <p:spPr>
          <a:xfrm>
            <a:off x="5373720" y="2843280"/>
            <a:ext cx="1278000" cy="1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Instituciones y/o autoridades a involucra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666"/>
          <p:cNvSpPr/>
          <p:nvPr/>
        </p:nvSpPr>
        <p:spPr>
          <a:xfrm>
            <a:off x="5388120" y="4098960"/>
            <a:ext cx="1277640" cy="1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P-OPE-31/P-ADM-11/Propuesta de conveni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Rectangle 666"/>
          <p:cNvSpPr/>
          <p:nvPr/>
        </p:nvSpPr>
        <p:spPr>
          <a:xfrm>
            <a:off x="5373720" y="5923080"/>
            <a:ext cx="1278000" cy="16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Convenio de colaborac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Rectangle 666"/>
          <p:cNvSpPr/>
          <p:nvPr/>
        </p:nvSpPr>
        <p:spPr>
          <a:xfrm>
            <a:off x="5392800" y="6354720"/>
            <a:ext cx="1278000" cy="1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Convenio de colaborac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ectangle 666"/>
          <p:cNvSpPr/>
          <p:nvPr/>
        </p:nvSpPr>
        <p:spPr>
          <a:xfrm>
            <a:off x="5388120" y="6713640"/>
            <a:ext cx="1277640" cy="1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Convenio de colaborac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655"/>
          <p:cNvSpPr/>
          <p:nvPr/>
        </p:nvSpPr>
        <p:spPr>
          <a:xfrm>
            <a:off x="1671480" y="4154400"/>
            <a:ext cx="3600720" cy="26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Se remite a Dirección General para su conocimiento y  al Secretario Ejecutivo para su envió a Consejo Gener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Rectangle 655"/>
          <p:cNvSpPr/>
          <p:nvPr/>
        </p:nvSpPr>
        <p:spPr>
          <a:xfrm>
            <a:off x="1665360" y="4608360"/>
            <a:ext cx="2340000" cy="32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Se recibe del  consejo general el VoBo y/o Autorización de procedencia del  convenio a realiza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1" name="AutoShape 681"/>
          <p:cNvCxnSpPr/>
          <p:nvPr/>
        </p:nvCxnSpPr>
        <p:spPr>
          <a:xfrm>
            <a:off x="2255400" y="4417560"/>
            <a:ext cx="1080" cy="191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2" name="86 Decisión"/>
          <p:cNvSpPr/>
          <p:nvPr/>
        </p:nvSpPr>
        <p:spPr>
          <a:xfrm>
            <a:off x="1671480" y="5065560"/>
            <a:ext cx="1109880" cy="613080"/>
          </a:xfrm>
          <a:prstGeom prst="flowChartDecision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 Narrow"/>
              </a:rPr>
              <a:t>Procede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Rectangle 701"/>
          <p:cNvSpPr/>
          <p:nvPr/>
        </p:nvSpPr>
        <p:spPr>
          <a:xfrm>
            <a:off x="2890800" y="5021280"/>
            <a:ext cx="3081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N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ectangle 701"/>
          <p:cNvSpPr/>
          <p:nvPr/>
        </p:nvSpPr>
        <p:spPr>
          <a:xfrm>
            <a:off x="2421000" y="5678640"/>
            <a:ext cx="307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Si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5" name="AutoShape 681"/>
          <p:cNvCxnSpPr/>
          <p:nvPr/>
        </p:nvCxnSpPr>
        <p:spPr>
          <a:xfrm flipH="1">
            <a:off x="2226600" y="4932000"/>
            <a:ext cx="50040" cy="143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6" name="AutoShape 681"/>
          <p:cNvCxnSpPr>
            <a:stCxn id="122" idx="2"/>
          </p:cNvCxnSpPr>
          <p:nvPr/>
        </p:nvCxnSpPr>
        <p:spPr>
          <a:xfrm flipH="1">
            <a:off x="2226600" y="5678280"/>
            <a:ext cx="1080" cy="248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Rectangle 655"/>
          <p:cNvSpPr/>
          <p:nvPr/>
        </p:nvSpPr>
        <p:spPr>
          <a:xfrm>
            <a:off x="4065480" y="5257800"/>
            <a:ext cx="1220760" cy="268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Se revisa y corrige la propuest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8" name="AutoShape 681"/>
          <p:cNvCxnSpPr>
            <a:stCxn id="122" idx="3"/>
            <a:endCxn id="127" idx="1"/>
          </p:cNvCxnSpPr>
          <p:nvPr/>
        </p:nvCxnSpPr>
        <p:spPr>
          <a:xfrm>
            <a:off x="2781000" y="5372280"/>
            <a:ext cx="1284840" cy="19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9" name="AutoShape 681"/>
          <p:cNvCxnSpPr>
            <a:stCxn id="127" idx="0"/>
          </p:cNvCxnSpPr>
          <p:nvPr/>
        </p:nvCxnSpPr>
        <p:spPr>
          <a:xfrm flipV="1">
            <a:off x="4674960" y="4417200"/>
            <a:ext cx="1080" cy="840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0" name="Rectangle 666"/>
          <p:cNvSpPr/>
          <p:nvPr/>
        </p:nvSpPr>
        <p:spPr>
          <a:xfrm>
            <a:off x="5373720" y="3635280"/>
            <a:ext cx="1278000" cy="1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Propuesta de Conveni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8T18:20:03Z</dcterms:created>
  <dc:creator>Jorge de la Torre</dc:creator>
  <dc:description/>
  <dc:language>en-US</dc:language>
  <cp:lastModifiedBy>Israel Pèrez Pèrez</cp:lastModifiedBy>
  <cp:lastPrinted>2011-10-31T17:05:38Z</cp:lastPrinted>
  <dcterms:modified xsi:type="dcterms:W3CDTF">2011-12-13T18:23:33Z</dcterms:modified>
  <cp:revision>313</cp:revision>
  <dc:subject/>
  <dc:title>Presentación de PowerPoint</dc:title>
</cp:coreProperties>
</file>