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6691-1303-42D5-A4A6-491B63C84C0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92E3-AA37-47E7-B8ED-03433F331BC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07CE-5274-4C8F-88FF-92A196BF61B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DD60-10F1-433D-9514-41FB8B93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CA10-831A-4009-A52D-4091C5A0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179D-FF2F-46D1-A8D5-DD32AE8E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67CB-30C4-452C-8D80-6A5F6DCD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6406-36DC-4B59-8603-275B99E4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A146-EEAE-41D6-936D-8C5D22F8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7DA6-C38D-40DF-BC28-E3A3BE85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2388-08A9-4322-A538-54ED4822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980A-9734-4615-A2F2-E5EF1808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E7F1-C02D-4CAE-A2CA-653EE66E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D945-6B66-4AFA-B84F-0A275814A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9EA9-427A-4E90-B2E0-C15EF5ED8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2C35-5A96-4730-B6A2-CDF2E664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B314-1F5E-405E-8E2C-F27005C3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9A6C-1839-4B30-9BB7-EDA5F4BD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167D-2E60-4FDD-9439-CABE53D8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AEDC-CBD7-4721-9BA2-9C588F52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B858-4976-4927-AFB5-38060083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106F-F877-44F2-AA71-0B09E498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976A-4F02-49BD-98D8-D68DCD4D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C5F5-AD88-48AC-861B-A15AC236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D314-9269-4CAB-8FD0-B04E46D5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DCD9-F909-45EA-93E4-B24CC6D61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A211-4693-4D6B-BBFF-48DA8986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jecución de Activid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9C012173-7866-49C7-B2D4-894948186EE2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72FF-FAD0-4CE4-8CD8-031264409C52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EADE-5BAC-4B4A-9E2A-A51839CFA15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mbios en referencias, actividades y nombre del procedi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ficientar la ejecución y operación de las actividades de las Direcciones del IEP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apoyar y dar seguimiento a las actividades de las áreas del IEP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cibe o genera solicitud para dotar de servicios o Vo.Bo. para cualquier dirección que lo necesi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Asigna al personal indicado para desarrollar la ta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478800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 Técnico / 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5"/>
          <p:cNvSpPr/>
          <p:nvPr/>
        </p:nvSpPr>
        <p:spPr>
          <a:xfrm>
            <a:off x="5373720" y="39243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ocumento con mod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Memorándum / Ficha de Requer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AutoShape 684"/>
          <p:cNvCxnSpPr>
            <a:stCxn id="163" idx="2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General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66"/>
          <p:cNvSpPr/>
          <p:nvPr/>
        </p:nvSpPr>
        <p:spPr>
          <a:xfrm>
            <a:off x="5373720" y="558000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forme de Actividades Semanal de la Dirección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60"/>
          <p:cNvSpPr/>
          <p:nvPr/>
        </p:nvSpPr>
        <p:spPr>
          <a:xfrm>
            <a:off x="333360" y="3132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s de Departamento / secretaria / coordinado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4"/>
          <p:cNvSpPr/>
          <p:nvPr/>
        </p:nvSpPr>
        <p:spPr>
          <a:xfrm>
            <a:off x="5373720" y="305928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Memorándum / Ficha de Requerimient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1"/>
          <p:cNvSpPr/>
          <p:nvPr/>
        </p:nvSpPr>
        <p:spPr>
          <a:xfrm>
            <a:off x="333360" y="392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 Técnico / 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18 Rectángulo"/>
          <p:cNvSpPr/>
          <p:nvPr/>
        </p:nvSpPr>
        <p:spPr>
          <a:xfrm>
            <a:off x="1700280" y="3059280"/>
            <a:ext cx="1152360" cy="2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aliza la planeación de la solicit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AutoShape 32"/>
          <p:cNvCxnSpPr>
            <a:stCxn id="174" idx="2"/>
          </p:cNvCxnSpPr>
          <p:nvPr/>
        </p:nvCxnSpPr>
        <p:spPr>
          <a:xfrm>
            <a:off x="2276280" y="3349800"/>
            <a:ext cx="1080" cy="230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Rectangle 701"/>
          <p:cNvSpPr/>
          <p:nvPr/>
        </p:nvSpPr>
        <p:spPr>
          <a:xfrm>
            <a:off x="333360" y="4356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 Técnico / 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66"/>
          <p:cNvSpPr/>
          <p:nvPr/>
        </p:nvSpPr>
        <p:spPr>
          <a:xfrm>
            <a:off x="5373720" y="442764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Documento con mod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66"/>
          <p:cNvSpPr/>
          <p:nvPr/>
        </p:nvSpPr>
        <p:spPr>
          <a:xfrm>
            <a:off x="5373720" y="4932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Documento con mod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66"/>
          <p:cNvSpPr/>
          <p:nvPr/>
        </p:nvSpPr>
        <p:spPr>
          <a:xfrm>
            <a:off x="5373720" y="6012000"/>
            <a:ext cx="12780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Informe de Actividades Semanal de la Dirección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Memorándum / Ficha de Requer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00"/>
          <p:cNvSpPr/>
          <p:nvPr/>
        </p:nvSpPr>
        <p:spPr>
          <a:xfrm>
            <a:off x="404640" y="183528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General / Secretaria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701"/>
          <p:cNvSpPr/>
          <p:nvPr/>
        </p:nvSpPr>
        <p:spPr>
          <a:xfrm>
            <a:off x="333360" y="5580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s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01"/>
          <p:cNvSpPr/>
          <p:nvPr/>
        </p:nvSpPr>
        <p:spPr>
          <a:xfrm>
            <a:off x="333360" y="6084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s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56 Rombo"/>
          <p:cNvSpPr/>
          <p:nvPr/>
        </p:nvSpPr>
        <p:spPr>
          <a:xfrm>
            <a:off x="4076640" y="349236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57 CuadroTexto"/>
          <p:cNvSpPr/>
          <p:nvPr/>
        </p:nvSpPr>
        <p:spPr>
          <a:xfrm>
            <a:off x="4005360" y="3562200"/>
            <a:ext cx="907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modificacione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64 Conector angular"/>
          <p:cNvCxnSpPr>
            <a:stCxn id="184" idx="1"/>
          </p:cNvCxnSpPr>
          <p:nvPr/>
        </p:nvCxnSpPr>
        <p:spPr>
          <a:xfrm flipV="1" rot="10800000">
            <a:off x="3285360" y="3671640"/>
            <a:ext cx="791280" cy="181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7" name="72 CuadroTexto"/>
          <p:cNvSpPr/>
          <p:nvPr/>
        </p:nvSpPr>
        <p:spPr>
          <a:xfrm>
            <a:off x="3693960" y="3419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73 CuadroTexto"/>
          <p:cNvSpPr/>
          <p:nvPr/>
        </p:nvSpPr>
        <p:spPr>
          <a:xfrm>
            <a:off x="4846680" y="34034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56"/>
          <p:cNvSpPr/>
          <p:nvPr/>
        </p:nvSpPr>
        <p:spPr>
          <a:xfrm>
            <a:off x="2421000" y="3924360"/>
            <a:ext cx="17301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propone modificaciones con el 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64 Conector angular"/>
          <p:cNvCxnSpPr>
            <a:stCxn id="184" idx="3"/>
            <a:endCxn id="191" idx="3"/>
          </p:cNvCxnSpPr>
          <p:nvPr/>
        </p:nvCxnSpPr>
        <p:spPr>
          <a:xfrm>
            <a:off x="4933800" y="3672000"/>
            <a:ext cx="8640" cy="2088000"/>
          </a:xfrm>
          <a:prstGeom prst="bentConnector3">
            <a:avLst>
              <a:gd name="adj1" fmla="val 3117391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2" name="Oval 75"/>
          <p:cNvSpPr/>
          <p:nvPr/>
        </p:nvSpPr>
        <p:spPr>
          <a:xfrm>
            <a:off x="3213000" y="52196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56 Rombo"/>
          <p:cNvSpPr/>
          <p:nvPr/>
        </p:nvSpPr>
        <p:spPr>
          <a:xfrm>
            <a:off x="3089160" y="270036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57 CuadroTexto"/>
          <p:cNvSpPr/>
          <p:nvPr/>
        </p:nvSpPr>
        <p:spPr>
          <a:xfrm>
            <a:off x="3068640" y="277020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Administrativo o Técnic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64 Conector angular"/>
          <p:cNvCxnSpPr>
            <a:stCxn id="193" idx="1"/>
          </p:cNvCxnSpPr>
          <p:nvPr/>
        </p:nvCxnSpPr>
        <p:spPr>
          <a:xfrm flipV="1" rot="10800000">
            <a:off x="2491560" y="2878560"/>
            <a:ext cx="597600" cy="180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6" name="72 CuadroTexto"/>
          <p:cNvSpPr/>
          <p:nvPr/>
        </p:nvSpPr>
        <p:spPr>
          <a:xfrm>
            <a:off x="1844640" y="2627280"/>
            <a:ext cx="122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ADMINISTRA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64 Conector angular"/>
          <p:cNvCxnSpPr>
            <a:stCxn id="193" idx="3"/>
          </p:cNvCxnSpPr>
          <p:nvPr/>
        </p:nvCxnSpPr>
        <p:spPr>
          <a:xfrm>
            <a:off x="3946680" y="2879280"/>
            <a:ext cx="452880" cy="180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8" name="73 CuadroTexto"/>
          <p:cNvSpPr/>
          <p:nvPr/>
        </p:nvSpPr>
        <p:spPr>
          <a:xfrm>
            <a:off x="4005360" y="262728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18 Rectángulo"/>
          <p:cNvSpPr/>
          <p:nvPr/>
        </p:nvSpPr>
        <p:spPr>
          <a:xfrm>
            <a:off x="3645000" y="3059280"/>
            <a:ext cx="16556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estudia el documento y se revis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AutoShape 32"/>
          <p:cNvCxnSpPr/>
          <p:nvPr/>
        </p:nvCxnSpPr>
        <p:spPr>
          <a:xfrm>
            <a:off x="4508280" y="3347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Rectangle 656"/>
          <p:cNvSpPr/>
          <p:nvPr/>
        </p:nvSpPr>
        <p:spPr>
          <a:xfrm>
            <a:off x="2421000" y="4356000"/>
            <a:ext cx="172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envían al área correspon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56"/>
          <p:cNvSpPr/>
          <p:nvPr/>
        </p:nvSpPr>
        <p:spPr>
          <a:xfrm>
            <a:off x="1628640" y="5651640"/>
            <a:ext cx="33130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le da seguimiento al documento o a las actividades realizad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32"/>
          <p:cNvCxnSpPr/>
          <p:nvPr/>
        </p:nvCxnSpPr>
        <p:spPr>
          <a:xfrm>
            <a:off x="3284280" y="4211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AutoShape 32"/>
          <p:cNvCxnSpPr/>
          <p:nvPr/>
        </p:nvCxnSpPr>
        <p:spPr>
          <a:xfrm>
            <a:off x="3284280" y="464328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Rectangle 656"/>
          <p:cNvSpPr/>
          <p:nvPr/>
        </p:nvSpPr>
        <p:spPr>
          <a:xfrm>
            <a:off x="1628640" y="6010200"/>
            <a:ext cx="331308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envía informe de ejecución a Dirección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AutoShape 32"/>
          <p:cNvCxnSpPr/>
          <p:nvPr/>
        </p:nvCxnSpPr>
        <p:spPr>
          <a:xfrm>
            <a:off x="3428640" y="586728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32"/>
          <p:cNvCxnSpPr/>
          <p:nvPr/>
        </p:nvCxnSpPr>
        <p:spPr>
          <a:xfrm>
            <a:off x="3428640" y="63720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Rectangle 701"/>
          <p:cNvSpPr/>
          <p:nvPr/>
        </p:nvSpPr>
        <p:spPr>
          <a:xfrm>
            <a:off x="333360" y="6588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General/Jefes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56"/>
          <p:cNvSpPr/>
          <p:nvPr/>
        </p:nvSpPr>
        <p:spPr>
          <a:xfrm>
            <a:off x="2421000" y="4788000"/>
            <a:ext cx="172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ciben modificaciones del área para Vo.B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AutoShape 32"/>
          <p:cNvCxnSpPr/>
          <p:nvPr/>
        </p:nvCxnSpPr>
        <p:spPr>
          <a:xfrm>
            <a:off x="3284280" y="5074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656"/>
          <p:cNvSpPr/>
          <p:nvPr/>
        </p:nvSpPr>
        <p:spPr>
          <a:xfrm>
            <a:off x="1628640" y="6588000"/>
            <a:ext cx="3313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iza juntas periódicas donde se revisan pendientes con direccion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34"/>
          <p:cNvSpPr/>
          <p:nvPr/>
        </p:nvSpPr>
        <p:spPr>
          <a:xfrm>
            <a:off x="3139920" y="7164360"/>
            <a:ext cx="57636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AutoShape 32"/>
          <p:cNvCxnSpPr>
            <a:endCxn id="211" idx="0"/>
          </p:cNvCxnSpPr>
          <p:nvPr/>
        </p:nvCxnSpPr>
        <p:spPr>
          <a:xfrm flipH="1">
            <a:off x="3428280" y="687564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Rectangle 666"/>
          <p:cNvSpPr/>
          <p:nvPr/>
        </p:nvSpPr>
        <p:spPr>
          <a:xfrm>
            <a:off x="5373720" y="658800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inuta de jun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3-29T17:33:32Z</dcterms:modified>
  <cp:revision>308</cp:revision>
  <dc:subject/>
  <dc:title>Presentación de PowerPoint</dc:title>
</cp:coreProperties>
</file>