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25FF-24F5-4E56-8506-BAB7253C10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F267-FBB2-4B40-AE9A-547B593A9B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AAE-EF6F-4653-A3AA-6A65BD0C0F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6A9-FC4D-4068-9201-BF1B430A55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9E6-99C5-4E22-B3B6-5CE2B102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669-376D-4E18-8EDC-09F1BD3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7B0-D205-4ED4-9AF9-FEE964C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536-8D4B-4B79-B922-8590934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669-8288-4995-A4AD-C70C0643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511-3D4B-44A6-B5B8-C0F78C9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3B9-2336-4BDF-B814-D598787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26B-7404-4E1E-BA2C-F8ED724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26A-8659-43DD-808B-A622987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689-E24F-4C21-BC9A-E8544CB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B6A-46DA-40CF-8C3A-4175607B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EF1-114C-4C57-9A3D-97FCA59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FC07-61EA-40D5-81D3-6F14C774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AA2A-7A1E-44DD-8980-BC810372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011F-526D-4BA1-AF92-917F2C86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6B9-A70C-4206-B9AD-B0E9E4F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B4E2-7D8A-4D18-86F3-03FA32E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22A2-E653-49DD-83B7-0B13B373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2E2A-8201-4843-AE49-710946A9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50AB-2F4A-463E-A66C-08CDF7F6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2C1-5E65-42CE-B780-CE086E2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F8F-50DB-4490-874C-36828C8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A7DB-3DC7-4CC2-B2A4-B5F3CF65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FD7-A776-461B-A813-EEB6B45D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3F60945-8524-496C-90A6-956960C008B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0450-9AB6-4401-AFCE-361A8C7D7B3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4CE-DD3E-4334-A6D7-EA8694F2D9D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Llevar el registro y actualización del padrón de provee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solicitud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/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un expediente y se guarda copia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562200"/>
            <a:ext cx="115236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requerimiento firmado por el conseje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924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/>
          <p:nvPr/>
        </p:nvCxnSpPr>
        <p:spPr>
          <a:xfrm>
            <a:off x="227628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722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90960" y="56530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  <a:endCxn id="198" idx="0"/>
          </p:cNvCxnSpPr>
          <p:nvPr/>
        </p:nvCxnSpPr>
        <p:spPr>
          <a:xfrm flipV="1" rot="10800000">
            <a:off x="2493360" y="5832000"/>
            <a:ext cx="597600" cy="124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mpleta la informacion en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5" idx="3"/>
          </p:cNvCxnSpPr>
          <p:nvPr/>
        </p:nvCxnSpPr>
        <p:spPr>
          <a:xfrm>
            <a:off x="3948120" y="5832360"/>
            <a:ext cx="597600" cy="524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56 Rombo"/>
          <p:cNvSpPr/>
          <p:nvPr/>
        </p:nvSpPr>
        <p:spPr>
          <a:xfrm>
            <a:off x="3089160" y="3132000"/>
            <a:ext cx="857520" cy="5032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57 CuadroTexto"/>
          <p:cNvSpPr/>
          <p:nvPr/>
        </p:nvSpPr>
        <p:spPr>
          <a:xfrm>
            <a:off x="3068640" y="320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requiere documen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2" idx="1"/>
            <a:endCxn id="179" idx="0"/>
          </p:cNvCxnSpPr>
          <p:nvPr/>
        </p:nvCxnSpPr>
        <p:spPr>
          <a:xfrm flipV="1" rot="10800000">
            <a:off x="2275920" y="3383640"/>
            <a:ext cx="813240" cy="178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2" idx="3"/>
            <a:endCxn id="207" idx="0"/>
          </p:cNvCxnSpPr>
          <p:nvPr/>
        </p:nvCxnSpPr>
        <p:spPr>
          <a:xfrm>
            <a:off x="3946680" y="3384360"/>
            <a:ext cx="419760" cy="75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Rectangle 656"/>
          <p:cNvSpPr/>
          <p:nvPr/>
        </p:nvSpPr>
        <p:spPr>
          <a:xfrm>
            <a:off x="1628640" y="6443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munica al director del que el expediente esta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628640" y="687708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l consejero electoral presidente el expediente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de 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>
            <a:stCxn id="198" idx="2"/>
            <a:endCxn id="208" idx="0"/>
          </p:cNvCxnSpPr>
          <p:nvPr/>
        </p:nvCxnSpPr>
        <p:spPr>
          <a:xfrm flipH="1">
            <a:off x="2493360" y="62434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2491920" y="6732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56"/>
          <p:cNvSpPr/>
          <p:nvPr/>
        </p:nvSpPr>
        <p:spPr>
          <a:xfrm>
            <a:off x="1628640" y="723600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 el VoBo y firma del el Consejero Electoral Presidente y De Direccio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>
            <a:off x="3428640" y="709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32"/>
          <p:cNvCxnSpPr/>
          <p:nvPr/>
        </p:nvCxnSpPr>
        <p:spPr>
          <a:xfrm>
            <a:off x="3428640" y="745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5"/>
          <p:cNvSpPr/>
          <p:nvPr/>
        </p:nvSpPr>
        <p:spPr>
          <a:xfrm>
            <a:off x="3284640" y="7667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contestación se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8 Rectángulo"/>
          <p:cNvSpPr/>
          <p:nvPr/>
        </p:nvSpPr>
        <p:spPr>
          <a:xfrm>
            <a:off x="1700280" y="5148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64 Conector angular"/>
          <p:cNvCxnSpPr>
            <a:stCxn id="221" idx="2"/>
            <a:endCxn id="195" idx="0"/>
          </p:cNvCxnSpPr>
          <p:nvPr/>
        </p:nvCxnSpPr>
        <p:spPr>
          <a:xfrm flipH="1" rot="16200000">
            <a:off x="2789280" y="4922640"/>
            <a:ext cx="218160" cy="1243440"/>
          </a:xfrm>
          <a:prstGeom prst="bentConnector3">
            <a:avLst>
              <a:gd name="adj1" fmla="val 499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32"/>
          <p:cNvCxnSpPr/>
          <p:nvPr/>
        </p:nvCxnSpPr>
        <p:spPr>
          <a:xfrm flipH="1">
            <a:off x="2491560" y="630036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Oval 75"/>
          <p:cNvSpPr/>
          <p:nvPr/>
        </p:nvSpPr>
        <p:spPr>
          <a:xfrm>
            <a:off x="3573360" y="615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56"/>
          <p:cNvSpPr/>
          <p:nvPr/>
        </p:nvSpPr>
        <p:spPr>
          <a:xfrm>
            <a:off x="3772080" y="6377040"/>
            <a:ext cx="13204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Se gira nuevo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73 CuadroTexto"/>
          <p:cNvSpPr/>
          <p:nvPr/>
        </p:nvSpPr>
        <p:spPr>
          <a:xfrm>
            <a:off x="4167360" y="3046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 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o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32"/>
          <p:cNvCxnSpPr>
            <a:stCxn id="242" idx="2"/>
            <a:endCxn id="243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ctualiza el padrón de proveedores y se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2"/>
          <p:cNvCxnSpPr>
            <a:stCxn id="243" idx="2"/>
            <a:endCxn id="245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xpedient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expediente a recursos materiales para su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5" idx="2"/>
            <a:endCxn id="250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32"/>
          <p:cNvCxnSpPr>
            <a:stCxn id="250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32"/>
          <p:cNvCxnSpPr>
            <a:stCxn id="253" idx="4"/>
            <a:endCxn id="242" idx="0"/>
          </p:cNvCxnSpPr>
          <p:nvPr/>
        </p:nvCxnSpPr>
        <p:spPr>
          <a:xfrm>
            <a:off x="3465000" y="2700000"/>
            <a:ext cx="356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09:38Z</dcterms:modified>
  <cp:revision>314</cp:revision>
  <dc:subject/>
  <dc:title>Presentación de PowerPoint</dc:title>
</cp:coreProperties>
</file>