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6858000" cy="9144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96720" y="696960"/>
            <a:ext cx="26161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441CF-22B4-4773-89ED-5A19E8A5458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24F88-BEDD-4CBA-A304-975C0A0E157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2197080" y="696960"/>
            <a:ext cx="2616120" cy="348624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DAE69-1488-4A09-A511-EF983AD9729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2197080" y="696960"/>
            <a:ext cx="2616120" cy="348624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F7476-9084-4053-A7F8-D81FE905353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2197080" y="696960"/>
            <a:ext cx="2616120" cy="348624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B797C-6AFD-4D59-8AFC-10A942BEED4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2197080" y="696960"/>
            <a:ext cx="2616120" cy="348624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7B7BE-399B-4730-8576-632F538D13D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2197080" y="696960"/>
            <a:ext cx="2616120" cy="348624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3944A-3D39-4DAE-8340-C1B1F40EBFD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2197080" y="696960"/>
            <a:ext cx="2616120" cy="348624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DEE61-2AA7-49A5-B794-E6EE0C238F7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2197080" y="696960"/>
            <a:ext cx="2616120" cy="348624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B3C24-237D-454D-992A-3AFE1ACF4DF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2197080" y="696960"/>
            <a:ext cx="2616120" cy="348624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4529-0E13-42AF-A6A1-EF3B5951F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7880-0557-43CC-B8E9-ADF260192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536F-A1AA-4911-9D14-9D3F2818F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A2AD-33E7-469A-83BB-23BA9C136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28E6-FF1B-4CD8-855E-5E7A84DB0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A816-1E67-4316-9929-B9FFEFD5F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C19E-F3FB-401F-BADD-833CAD412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F78C-0441-43C1-BAEB-4A0FFECE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3057-5F93-4E09-8012-1A080F62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88F6-5A89-43D9-934E-FF7DB6EF3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8D00-541D-4A81-A996-C3EAD68F7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3AEA-202A-42F1-A68D-A78634E07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5F5D8-D926-446C-A983-B3B7BB0DE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093E7-6D6B-4CB6-8177-65FDDFF32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C5D17-40D1-4D81-957E-4F570A192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5302E-21D2-452A-8C7A-FDE8A203D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6B720-2008-4030-8633-6C36F1D3F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C8D80-0B79-4D7E-B6F5-3477290B8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528FC-8BA7-41EF-A71C-652D6BD9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55FE1-4D81-4124-ADAF-1429531C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704E3-BB8E-4AE9-965A-0A8F202C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3057D-3E67-4A6D-8B7E-4171074B1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D90EC-62E0-4FC7-806C-4DA3AC9CB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23138-AFCB-4442-9D50-5B17E0B58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647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suntos Jurídic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647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7B87F461-7871-4580-A95A-1D394AC466B8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Contralor Gen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111600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111600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11635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-ADM-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111600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111600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07-1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77448-D4E7-4281-9A3B-DE020CD0222F}" type="slidenum">
              <a:rPr b="0" lang="es-MX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3DFC6-E7A1-4CD6-9914-7006BC8D4AAE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21632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619280"/>
            <a:ext cx="6335640" cy="640872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408720"/>
              <a:gd name="textAreaBottom" fmla="*/ 6373800 h 6408720"/>
            </a:gdLst>
            <a:ahLst/>
            <a:rect l="textAreaLeft" t="textAreaTop" r="textAreaRight" b="textAreaBottom"/>
            <a:pathLst>
              <a:path w="21600" h="21849">
                <a:moveTo>
                  <a:pt x="409" y="0"/>
                </a:moveTo>
                <a:arcTo wR="409" hR="409" stAng="16200000" swAng="-5400000"/>
                <a:lnTo>
                  <a:pt x="0" y="21440"/>
                </a:lnTo>
                <a:arcTo wR="409" hR="409" stAng="10800000" swAng="-5400000"/>
                <a:lnTo>
                  <a:pt x="21191" y="21849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160308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rregir el nombre del procedimiento, adicionar nombre de cada actividad y cambiar el nombre del responsabl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07-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0120" y="1692360"/>
            <a:ext cx="6340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Resolver sobre las irregularidades detectadas en los términos que establezcan las disposiciones legales, reglamentarias y administrativa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33360" y="2398680"/>
            <a:ext cx="632628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1100" spc="-1" strike="noStrike">
                <a:solidFill>
                  <a:srgbClr val="000000"/>
                </a:solidFill>
                <a:latin typeface="Arial Narrow"/>
              </a:rPr>
              <a:t>Este procedimiento aplica para los servidores públicos del Instituto Electoral que incurran en actos u omisiones, suficientes para establecer la existencia de la infracción y la probable responsabilidad del denunciado  Art. 486, del Código Electoral y de Participación Ciudadana del Estado de Jalisco.  Así como, recibir y resguardar las declaraciones de situación patrimonial de los sujetos obligados., conforme a lo estipulado en el artículo 495, párrafo 1, fracción XXI del mismo Código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24000" y="341964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  CEPC. Código Electoral y de Participación Ciudada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61784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61784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908000"/>
            <a:ext cx="1295280" cy="612000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120000"/>
              <a:gd name="textAreaBottom" fmla="*/ 6092640 h 6120000"/>
            </a:gdLst>
            <a:ahLst/>
            <a:rect l="textAreaLeft" t="textAreaTop" r="textAreaRight" b="textAreaBottom"/>
            <a:pathLst>
              <a:path w="21600" h="102034">
                <a:moveTo>
                  <a:pt x="1564" y="0"/>
                </a:moveTo>
                <a:arcTo wR="1564" hR="1564" stAng="16200000" swAng="-5400000"/>
                <a:lnTo>
                  <a:pt x="0" y="100470"/>
                </a:lnTo>
                <a:arcTo wR="1564" hR="1564" stAng="10800000" swAng="-5400000"/>
                <a:lnTo>
                  <a:pt x="20036" y="102034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908000"/>
            <a:ext cx="3816360" cy="612000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120000"/>
              <a:gd name="textAreaBottom" fmla="*/ 6094440 h 6120000"/>
            </a:gdLst>
            <a:ahLst/>
            <a:rect l="textAreaLeft" t="textAreaTop" r="textAreaRight" b="textAreaBottom"/>
            <a:pathLst>
              <a:path w="21600" h="34637">
                <a:moveTo>
                  <a:pt x="495" y="0"/>
                </a:moveTo>
                <a:arcTo wR="495" hR="495" stAng="16200000" swAng="-5400000"/>
                <a:lnTo>
                  <a:pt x="0" y="34142"/>
                </a:lnTo>
                <a:arcTo wR="495" hR="495" stAng="10800000" swAng="-5400000"/>
                <a:lnTo>
                  <a:pt x="21105" y="34637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908000"/>
            <a:ext cx="1224000" cy="612000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120000"/>
              <a:gd name="textAreaBottom" fmla="*/ 6094080 h 6120000"/>
            </a:gdLst>
            <a:ahLst/>
            <a:rect l="textAreaLeft" t="textAreaTop" r="textAreaRight" b="textAreaBottom"/>
            <a:pathLst>
              <a:path w="21600" h="107975">
                <a:moveTo>
                  <a:pt x="1564" y="0"/>
                </a:moveTo>
                <a:arcTo wR="1564" hR="1564" stAng="16200000" swAng="-5400000"/>
                <a:lnTo>
                  <a:pt x="0" y="106411"/>
                </a:lnTo>
                <a:arcTo wR="1564" hR="1564" stAng="10800000" swAng="-5400000"/>
                <a:lnTo>
                  <a:pt x="20036" y="107975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61784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184560" y="254484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In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>
            <a:off x="3471840" y="2709360"/>
            <a:ext cx="216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708200" y="2922480"/>
            <a:ext cx="3530520" cy="27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recibe información de personas y se turna a del Departamento de Asuntos Jurídic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53"/>
          <p:cNvSpPr/>
          <p:nvPr/>
        </p:nvSpPr>
        <p:spPr>
          <a:xfrm>
            <a:off x="1708200" y="3382920"/>
            <a:ext cx="3530520" cy="3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analizan documentos recibidos para verificar que cumplan los requisitos establecidos y con prueb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66"/>
          <p:cNvSpPr/>
          <p:nvPr/>
        </p:nvSpPr>
        <p:spPr>
          <a:xfrm>
            <a:off x="5375160" y="3382920"/>
            <a:ext cx="127800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Escrito de Que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" name="AutoShape 681"/>
          <p:cNvCxnSpPr>
            <a:stCxn id="162" idx="2"/>
            <a:endCxn id="163" idx="0"/>
          </p:cNvCxnSpPr>
          <p:nvPr/>
        </p:nvCxnSpPr>
        <p:spPr>
          <a:xfrm>
            <a:off x="3472920" y="3195720"/>
            <a:ext cx="1080" cy="18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" name="Rectangle 700"/>
          <p:cNvSpPr/>
          <p:nvPr/>
        </p:nvSpPr>
        <p:spPr>
          <a:xfrm>
            <a:off x="260280" y="3382920"/>
            <a:ext cx="1368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Jefe del Departamento 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Asuntos Jurídicos/Aboga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666"/>
          <p:cNvSpPr/>
          <p:nvPr/>
        </p:nvSpPr>
        <p:spPr>
          <a:xfrm>
            <a:off x="5383080" y="2914560"/>
            <a:ext cx="12780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Escrito de Que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700"/>
          <p:cNvSpPr/>
          <p:nvPr/>
        </p:nvSpPr>
        <p:spPr>
          <a:xfrm>
            <a:off x="343080" y="2922480"/>
            <a:ext cx="121428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Contralor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700"/>
          <p:cNvSpPr/>
          <p:nvPr/>
        </p:nvSpPr>
        <p:spPr>
          <a:xfrm>
            <a:off x="379440" y="2627280"/>
            <a:ext cx="115092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666"/>
          <p:cNvSpPr/>
          <p:nvPr/>
        </p:nvSpPr>
        <p:spPr>
          <a:xfrm>
            <a:off x="5381640" y="2627280"/>
            <a:ext cx="127800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652"/>
          <p:cNvSpPr/>
          <p:nvPr/>
        </p:nvSpPr>
        <p:spPr>
          <a:xfrm>
            <a:off x="1708200" y="2117880"/>
            <a:ext cx="35305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Responsabilidad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653"/>
          <p:cNvSpPr/>
          <p:nvPr/>
        </p:nvSpPr>
        <p:spPr>
          <a:xfrm>
            <a:off x="1698480" y="4383000"/>
            <a:ext cx="14432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 emplaza a la persona involucrad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3" name="AutoShape 681"/>
          <p:cNvCxnSpPr>
            <a:endCxn id="174" idx="0"/>
          </p:cNvCxnSpPr>
          <p:nvPr/>
        </p:nvCxnSpPr>
        <p:spPr>
          <a:xfrm flipH="1">
            <a:off x="3498120" y="377964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AutoShape 684"/>
          <p:cNvCxnSpPr/>
          <p:nvPr/>
        </p:nvCxnSpPr>
        <p:spPr>
          <a:xfrm>
            <a:off x="2565000" y="488628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6" name="Rectangle 664"/>
          <p:cNvSpPr/>
          <p:nvPr/>
        </p:nvSpPr>
        <p:spPr>
          <a:xfrm>
            <a:off x="5373720" y="4500720"/>
            <a:ext cx="1295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Pruebas / datos / documentos del cas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661"/>
          <p:cNvSpPr/>
          <p:nvPr/>
        </p:nvSpPr>
        <p:spPr>
          <a:xfrm>
            <a:off x="333360" y="4383000"/>
            <a:ext cx="1224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Jefe del Departamento de Asuntos Jurídicos / Abogad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18 Rectángulo"/>
          <p:cNvSpPr/>
          <p:nvPr/>
        </p:nvSpPr>
        <p:spPr>
          <a:xfrm>
            <a:off x="3857760" y="4383000"/>
            <a:ext cx="1439640" cy="503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requieren pruebas para dar seguimiento correspondiente y se le da un plazo para su respues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" name="AutoShape 32"/>
          <p:cNvCxnSpPr/>
          <p:nvPr/>
        </p:nvCxnSpPr>
        <p:spPr>
          <a:xfrm>
            <a:off x="4436640" y="4886280"/>
            <a:ext cx="396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4" name="34 Decisión"/>
          <p:cNvSpPr/>
          <p:nvPr/>
        </p:nvSpPr>
        <p:spPr>
          <a:xfrm>
            <a:off x="2776680" y="3924360"/>
            <a:ext cx="1444320" cy="50472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¿Completo con pruebas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0" name="AutoShape 55"/>
          <p:cNvCxnSpPr>
            <a:stCxn id="174" idx="3"/>
            <a:endCxn id="178" idx="0"/>
          </p:cNvCxnSpPr>
          <p:nvPr/>
        </p:nvCxnSpPr>
        <p:spPr>
          <a:xfrm>
            <a:off x="4220640" y="4176360"/>
            <a:ext cx="358200" cy="207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1" name="48 CuadroTexto"/>
          <p:cNvSpPr/>
          <p:nvPr/>
        </p:nvSpPr>
        <p:spPr>
          <a:xfrm>
            <a:off x="2205000" y="3923640"/>
            <a:ext cx="71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48 CuadroTexto"/>
          <p:cNvSpPr/>
          <p:nvPr/>
        </p:nvSpPr>
        <p:spPr>
          <a:xfrm>
            <a:off x="4221000" y="3941640"/>
            <a:ext cx="714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3" name="AutoShape 55"/>
          <p:cNvCxnSpPr>
            <a:stCxn id="174" idx="1"/>
            <a:endCxn id="172" idx="0"/>
          </p:cNvCxnSpPr>
          <p:nvPr/>
        </p:nvCxnSpPr>
        <p:spPr>
          <a:xfrm flipV="1" rot="10800000">
            <a:off x="2420280" y="4175640"/>
            <a:ext cx="356400" cy="207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4" name="Rectangle 653"/>
          <p:cNvSpPr/>
          <p:nvPr/>
        </p:nvSpPr>
        <p:spPr>
          <a:xfrm>
            <a:off x="1628640" y="5929200"/>
            <a:ext cx="792360" cy="65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cibe informe de hechos, pruebas y alegat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663"/>
          <p:cNvSpPr/>
          <p:nvPr/>
        </p:nvSpPr>
        <p:spPr>
          <a:xfrm>
            <a:off x="5372280" y="6118200"/>
            <a:ext cx="12967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664"/>
          <p:cNvSpPr/>
          <p:nvPr/>
        </p:nvSpPr>
        <p:spPr>
          <a:xfrm>
            <a:off x="5373720" y="6875640"/>
            <a:ext cx="1295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Pruebas / documentos del cas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7" name="AutoShape 684"/>
          <p:cNvCxnSpPr>
            <a:stCxn id="184" idx="2"/>
            <a:endCxn id="188" idx="0"/>
          </p:cNvCxnSpPr>
          <p:nvPr/>
        </p:nvCxnSpPr>
        <p:spPr>
          <a:xfrm>
            <a:off x="2025360" y="6587640"/>
            <a:ext cx="1080" cy="1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9" name="Rectangle 664"/>
          <p:cNvSpPr/>
          <p:nvPr/>
        </p:nvSpPr>
        <p:spPr>
          <a:xfrm>
            <a:off x="5373720" y="6146640"/>
            <a:ext cx="12952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Notificación / requerimiento / informe de hechos pruebas y alegato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661"/>
          <p:cNvSpPr/>
          <p:nvPr/>
        </p:nvSpPr>
        <p:spPr>
          <a:xfrm>
            <a:off x="333360" y="6037200"/>
            <a:ext cx="12240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Jefe del Departamento de Asuntos Jurídicos / Abogad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656"/>
          <p:cNvSpPr/>
          <p:nvPr/>
        </p:nvSpPr>
        <p:spPr>
          <a:xfrm>
            <a:off x="1628640" y="6769080"/>
            <a:ext cx="792360" cy="5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analizan pruebas de desahog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701"/>
          <p:cNvSpPr/>
          <p:nvPr/>
        </p:nvSpPr>
        <p:spPr>
          <a:xfrm>
            <a:off x="333360" y="6878520"/>
            <a:ext cx="1224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Jefe del Departamento de Asuntos Jurídicos / Aboga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18 Rectángulo"/>
          <p:cNvSpPr/>
          <p:nvPr/>
        </p:nvSpPr>
        <p:spPr>
          <a:xfrm>
            <a:off x="2781360" y="5929200"/>
            <a:ext cx="792000" cy="87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aliza acuerdo de rebeldía y se realiza resolución administrativ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AutoShape 32"/>
          <p:cNvCxnSpPr/>
          <p:nvPr/>
        </p:nvCxnSpPr>
        <p:spPr>
          <a:xfrm>
            <a:off x="3212640" y="6804000"/>
            <a:ext cx="252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4" name="34 Decisión"/>
          <p:cNvSpPr/>
          <p:nvPr/>
        </p:nvSpPr>
        <p:spPr>
          <a:xfrm>
            <a:off x="2205000" y="5102280"/>
            <a:ext cx="720720" cy="61128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Times New Roman"/>
              </a:rPr>
              <a:t>¿Contestó la persona?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5" name="AutoShape 55"/>
          <p:cNvCxnSpPr>
            <a:stCxn id="194" idx="3"/>
            <a:endCxn id="192" idx="0"/>
          </p:cNvCxnSpPr>
          <p:nvPr/>
        </p:nvCxnSpPr>
        <p:spPr>
          <a:xfrm>
            <a:off x="2925360" y="5408640"/>
            <a:ext cx="251640" cy="521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6" name="48 CuadroTexto"/>
          <p:cNvSpPr/>
          <p:nvPr/>
        </p:nvSpPr>
        <p:spPr>
          <a:xfrm>
            <a:off x="1778040" y="5225400"/>
            <a:ext cx="71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48 CuadroTexto"/>
          <p:cNvSpPr/>
          <p:nvPr/>
        </p:nvSpPr>
        <p:spPr>
          <a:xfrm>
            <a:off x="2637000" y="5173560"/>
            <a:ext cx="71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8" name="AutoShape 55"/>
          <p:cNvCxnSpPr>
            <a:stCxn id="194" idx="1"/>
            <a:endCxn id="184" idx="0"/>
          </p:cNvCxnSpPr>
          <p:nvPr/>
        </p:nvCxnSpPr>
        <p:spPr>
          <a:xfrm flipV="1" rot="10800000">
            <a:off x="2025000" y="5408280"/>
            <a:ext cx="180000" cy="521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34 Decisión"/>
          <p:cNvSpPr/>
          <p:nvPr/>
        </p:nvSpPr>
        <p:spPr>
          <a:xfrm>
            <a:off x="3941640" y="5102280"/>
            <a:ext cx="1013040" cy="61128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Times New Roman"/>
              </a:rPr>
              <a:t>¿respuesta en tiempo?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0" name="AutoShape 55"/>
          <p:cNvCxnSpPr>
            <a:stCxn id="199" idx="3"/>
          </p:cNvCxnSpPr>
          <p:nvPr/>
        </p:nvCxnSpPr>
        <p:spPr>
          <a:xfrm>
            <a:off x="4954320" y="5408640"/>
            <a:ext cx="20880" cy="521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1" name="48 CuadroTexto"/>
          <p:cNvSpPr/>
          <p:nvPr/>
        </p:nvSpPr>
        <p:spPr>
          <a:xfrm>
            <a:off x="3651120" y="5225400"/>
            <a:ext cx="714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48 CuadroTexto"/>
          <p:cNvSpPr/>
          <p:nvPr/>
        </p:nvSpPr>
        <p:spPr>
          <a:xfrm>
            <a:off x="4581360" y="5173560"/>
            <a:ext cx="714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3" name="AutoShape 55"/>
          <p:cNvCxnSpPr>
            <a:stCxn id="199" idx="1"/>
          </p:cNvCxnSpPr>
          <p:nvPr/>
        </p:nvCxnSpPr>
        <p:spPr>
          <a:xfrm flipV="1" rot="10800000">
            <a:off x="3896640" y="5408280"/>
            <a:ext cx="45000" cy="521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4" name="Oval 75"/>
          <p:cNvSpPr/>
          <p:nvPr/>
        </p:nvSpPr>
        <p:spPr>
          <a:xfrm>
            <a:off x="4797360" y="5940360"/>
            <a:ext cx="28728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Oval 75"/>
          <p:cNvSpPr/>
          <p:nvPr/>
        </p:nvSpPr>
        <p:spPr>
          <a:xfrm>
            <a:off x="3789360" y="5940360"/>
            <a:ext cx="28728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Oval 75"/>
          <p:cNvSpPr/>
          <p:nvPr/>
        </p:nvSpPr>
        <p:spPr>
          <a:xfrm>
            <a:off x="1628640" y="5508720"/>
            <a:ext cx="216000" cy="14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7" name="AutoShape 684"/>
          <p:cNvCxnSpPr/>
          <p:nvPr/>
        </p:nvCxnSpPr>
        <p:spPr>
          <a:xfrm>
            <a:off x="1844280" y="5579640"/>
            <a:ext cx="144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8" name="Oval 75"/>
          <p:cNvSpPr/>
          <p:nvPr/>
        </p:nvSpPr>
        <p:spPr>
          <a:xfrm>
            <a:off x="3068640" y="7020000"/>
            <a:ext cx="289080" cy="288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Oval 75"/>
          <p:cNvSpPr/>
          <p:nvPr/>
        </p:nvSpPr>
        <p:spPr>
          <a:xfrm>
            <a:off x="1844640" y="7524720"/>
            <a:ext cx="28728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0" name="AutoShape 684"/>
          <p:cNvCxnSpPr/>
          <p:nvPr/>
        </p:nvCxnSpPr>
        <p:spPr>
          <a:xfrm>
            <a:off x="1988640" y="7308360"/>
            <a:ext cx="1080" cy="180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AutoShape 238"/>
          <p:cNvSpPr/>
          <p:nvPr/>
        </p:nvSpPr>
        <p:spPr>
          <a:xfrm>
            <a:off x="1557360" y="161784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AutoShape 239"/>
          <p:cNvSpPr/>
          <p:nvPr/>
        </p:nvSpPr>
        <p:spPr>
          <a:xfrm>
            <a:off x="5373720" y="161784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AutoShape 240"/>
          <p:cNvSpPr/>
          <p:nvPr/>
        </p:nvSpPr>
        <p:spPr>
          <a:xfrm>
            <a:off x="5373720" y="1908000"/>
            <a:ext cx="1295280" cy="612000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120000"/>
              <a:gd name="textAreaBottom" fmla="*/ 6092640 h 6120000"/>
            </a:gdLst>
            <a:ahLst/>
            <a:rect l="textAreaLeft" t="textAreaTop" r="textAreaRight" b="textAreaBottom"/>
            <a:pathLst>
              <a:path w="21600" h="102034">
                <a:moveTo>
                  <a:pt x="1564" y="0"/>
                </a:moveTo>
                <a:arcTo wR="1564" hR="1564" stAng="16200000" swAng="-5400000"/>
                <a:lnTo>
                  <a:pt x="0" y="100470"/>
                </a:lnTo>
                <a:arcTo wR="1564" hR="1564" stAng="10800000" swAng="-5400000"/>
                <a:lnTo>
                  <a:pt x="20036" y="102034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1"/>
          <p:cNvSpPr/>
          <p:nvPr/>
        </p:nvSpPr>
        <p:spPr>
          <a:xfrm>
            <a:off x="1628640" y="1908000"/>
            <a:ext cx="3745080" cy="6120000"/>
          </a:xfrm>
          <a:custGeom>
            <a:avLst/>
            <a:gdLst>
              <a:gd name="textAreaLeft" fmla="*/ 24840 w 3745080"/>
              <a:gd name="textAreaRight" fmla="*/ 3720240 w 3745080"/>
              <a:gd name="textAreaTop" fmla="*/ 24840 h 6120000"/>
              <a:gd name="textAreaBottom" fmla="*/ 6095160 h 6120000"/>
            </a:gdLst>
            <a:ahLst/>
            <a:rect l="textAreaLeft" t="textAreaTop" r="textAreaRight" b="textAreaBottom"/>
            <a:pathLst>
              <a:path w="21600" h="35296">
                <a:moveTo>
                  <a:pt x="495" y="0"/>
                </a:moveTo>
                <a:arcTo wR="495" hR="495" stAng="16200000" swAng="-5400000"/>
                <a:lnTo>
                  <a:pt x="0" y="34801"/>
                </a:lnTo>
                <a:arcTo wR="495" hR="495" stAng="10800000" swAng="-5400000"/>
                <a:lnTo>
                  <a:pt x="21105" y="35296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AutoShape 242"/>
          <p:cNvSpPr/>
          <p:nvPr/>
        </p:nvSpPr>
        <p:spPr>
          <a:xfrm>
            <a:off x="260280" y="1908000"/>
            <a:ext cx="1368360" cy="6120000"/>
          </a:xfrm>
          <a:custGeom>
            <a:avLst/>
            <a:gdLst>
              <a:gd name="textAreaLeft" fmla="*/ 28800 w 1368360"/>
              <a:gd name="textAreaRight" fmla="*/ 1339560 w 1368360"/>
              <a:gd name="textAreaTop" fmla="*/ 28800 h 6120000"/>
              <a:gd name="textAreaBottom" fmla="*/ 6091200 h 6120000"/>
            </a:gdLst>
            <a:ahLst/>
            <a:rect l="textAreaLeft" t="textAreaTop" r="textAreaRight" b="textAreaBottom"/>
            <a:pathLst>
              <a:path w="21600" h="96586">
                <a:moveTo>
                  <a:pt x="1564" y="0"/>
                </a:moveTo>
                <a:arcTo wR="1564" hR="1564" stAng="16200000" swAng="-5400000"/>
                <a:lnTo>
                  <a:pt x="0" y="95022"/>
                </a:lnTo>
                <a:arcTo wR="1564" hR="1564" stAng="10800000" swAng="-5400000"/>
                <a:lnTo>
                  <a:pt x="20036" y="96586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AutoShape 534"/>
          <p:cNvSpPr/>
          <p:nvPr/>
        </p:nvSpPr>
        <p:spPr>
          <a:xfrm>
            <a:off x="333360" y="161784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7" name="AutoShape 649"/>
          <p:cNvCxnSpPr>
            <a:endCxn id="218" idx="0"/>
          </p:cNvCxnSpPr>
          <p:nvPr/>
        </p:nvCxnSpPr>
        <p:spPr>
          <a:xfrm>
            <a:off x="3471840" y="2709360"/>
            <a:ext cx="216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8" name="Rectangle 652"/>
          <p:cNvSpPr/>
          <p:nvPr/>
        </p:nvSpPr>
        <p:spPr>
          <a:xfrm>
            <a:off x="1708200" y="2922480"/>
            <a:ext cx="3530520" cy="27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dictamina resolución determinando si se sanciona o nó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9" name="AutoShape 681"/>
          <p:cNvCxnSpPr>
            <a:stCxn id="218" idx="2"/>
          </p:cNvCxnSpPr>
          <p:nvPr/>
        </p:nvCxnSpPr>
        <p:spPr>
          <a:xfrm>
            <a:off x="3472920" y="3195720"/>
            <a:ext cx="1080" cy="18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Oval 34"/>
          <p:cNvSpPr/>
          <p:nvPr/>
        </p:nvSpPr>
        <p:spPr>
          <a:xfrm>
            <a:off x="4292640" y="5435640"/>
            <a:ext cx="577800" cy="288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666"/>
          <p:cNvSpPr/>
          <p:nvPr/>
        </p:nvSpPr>
        <p:spPr>
          <a:xfrm>
            <a:off x="5383080" y="2914560"/>
            <a:ext cx="12780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solución del cas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700"/>
          <p:cNvSpPr/>
          <p:nvPr/>
        </p:nvSpPr>
        <p:spPr>
          <a:xfrm>
            <a:off x="260280" y="2843280"/>
            <a:ext cx="136836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l Departamento de Asuntos Jurídicos/Abogado (B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700"/>
          <p:cNvSpPr/>
          <p:nvPr/>
        </p:nvSpPr>
        <p:spPr>
          <a:xfrm>
            <a:off x="379440" y="2627280"/>
            <a:ext cx="115092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666"/>
          <p:cNvSpPr/>
          <p:nvPr/>
        </p:nvSpPr>
        <p:spPr>
          <a:xfrm>
            <a:off x="5381640" y="2627280"/>
            <a:ext cx="127800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653"/>
          <p:cNvSpPr/>
          <p:nvPr/>
        </p:nvSpPr>
        <p:spPr>
          <a:xfrm>
            <a:off x="1698480" y="3878280"/>
            <a:ext cx="14432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notifica al involucrado la resolu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6" name="AutoShape 684"/>
          <p:cNvCxnSpPr/>
          <p:nvPr/>
        </p:nvCxnSpPr>
        <p:spPr>
          <a:xfrm>
            <a:off x="2565000" y="438156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7" name="Rectangle 664"/>
          <p:cNvSpPr/>
          <p:nvPr/>
        </p:nvSpPr>
        <p:spPr>
          <a:xfrm>
            <a:off x="5373720" y="3995640"/>
            <a:ext cx="12952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Notificación de resolución y/o san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661"/>
          <p:cNvSpPr/>
          <p:nvPr/>
        </p:nvSpPr>
        <p:spPr>
          <a:xfrm>
            <a:off x="333360" y="3878280"/>
            <a:ext cx="1224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Contralor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18 Rectángulo"/>
          <p:cNvSpPr/>
          <p:nvPr/>
        </p:nvSpPr>
        <p:spPr>
          <a:xfrm>
            <a:off x="3857760" y="3878280"/>
            <a:ext cx="1439640" cy="503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notifica sanción a la persona involucrad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AutoShape 32"/>
          <p:cNvCxnSpPr>
            <a:stCxn id="229" idx="2"/>
            <a:endCxn id="231" idx="0"/>
          </p:cNvCxnSpPr>
          <p:nvPr/>
        </p:nvCxnSpPr>
        <p:spPr>
          <a:xfrm>
            <a:off x="4578480" y="4381560"/>
            <a:ext cx="3600" cy="26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2" name="34 Decisión"/>
          <p:cNvSpPr/>
          <p:nvPr/>
        </p:nvSpPr>
        <p:spPr>
          <a:xfrm>
            <a:off x="2776680" y="3421080"/>
            <a:ext cx="1444320" cy="50472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¿Sanción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3" name="AutoShape 55"/>
          <p:cNvCxnSpPr>
            <a:stCxn id="232" idx="3"/>
            <a:endCxn id="229" idx="0"/>
          </p:cNvCxnSpPr>
          <p:nvPr/>
        </p:nvCxnSpPr>
        <p:spPr>
          <a:xfrm>
            <a:off x="4220640" y="3673080"/>
            <a:ext cx="358200" cy="2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4" name="48 CuadroTexto"/>
          <p:cNvSpPr/>
          <p:nvPr/>
        </p:nvSpPr>
        <p:spPr>
          <a:xfrm>
            <a:off x="4076640" y="3492000"/>
            <a:ext cx="714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48 CuadroTexto"/>
          <p:cNvSpPr/>
          <p:nvPr/>
        </p:nvSpPr>
        <p:spPr>
          <a:xfrm>
            <a:off x="2205000" y="3492360"/>
            <a:ext cx="71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AutoShape 55"/>
          <p:cNvCxnSpPr>
            <a:stCxn id="232" idx="1"/>
            <a:endCxn id="225" idx="0"/>
          </p:cNvCxnSpPr>
          <p:nvPr/>
        </p:nvCxnSpPr>
        <p:spPr>
          <a:xfrm flipV="1" rot="10800000">
            <a:off x="2420280" y="3672360"/>
            <a:ext cx="356400" cy="2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7" name="Rectangle 663"/>
          <p:cNvSpPr/>
          <p:nvPr/>
        </p:nvSpPr>
        <p:spPr>
          <a:xfrm>
            <a:off x="5372280" y="5614920"/>
            <a:ext cx="129672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664"/>
          <p:cNvSpPr/>
          <p:nvPr/>
        </p:nvSpPr>
        <p:spPr>
          <a:xfrm>
            <a:off x="5373720" y="4788000"/>
            <a:ext cx="129528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Notificación de resolución y/o san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661"/>
          <p:cNvSpPr/>
          <p:nvPr/>
        </p:nvSpPr>
        <p:spPr>
          <a:xfrm>
            <a:off x="333360" y="478800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Contralor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Oval 75"/>
          <p:cNvSpPr/>
          <p:nvPr/>
        </p:nvSpPr>
        <p:spPr>
          <a:xfrm>
            <a:off x="2421000" y="4643280"/>
            <a:ext cx="287280" cy="289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Oval 75"/>
          <p:cNvSpPr/>
          <p:nvPr/>
        </p:nvSpPr>
        <p:spPr>
          <a:xfrm>
            <a:off x="3284640" y="2411280"/>
            <a:ext cx="288720" cy="289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18 Rectángulo"/>
          <p:cNvSpPr/>
          <p:nvPr/>
        </p:nvSpPr>
        <p:spPr>
          <a:xfrm>
            <a:off x="3860640" y="4645080"/>
            <a:ext cx="1440000" cy="503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verifica aplicación de la san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2" name="AutoShape 32"/>
          <p:cNvCxnSpPr/>
          <p:nvPr/>
        </p:nvCxnSpPr>
        <p:spPr>
          <a:xfrm>
            <a:off x="4581000" y="5148000"/>
            <a:ext cx="3960" cy="262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3" name="AutoShape 32"/>
          <p:cNvCxnSpPr/>
          <p:nvPr/>
        </p:nvCxnSpPr>
        <p:spPr>
          <a:xfrm>
            <a:off x="4005360" y="5292360"/>
            <a:ext cx="504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4" name="Oval 75"/>
          <p:cNvSpPr/>
          <p:nvPr/>
        </p:nvSpPr>
        <p:spPr>
          <a:xfrm>
            <a:off x="3716280" y="5219640"/>
            <a:ext cx="289080" cy="289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AutoShape 238"/>
          <p:cNvSpPr/>
          <p:nvPr/>
        </p:nvSpPr>
        <p:spPr>
          <a:xfrm>
            <a:off x="1557360" y="161784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AutoShape 239"/>
          <p:cNvSpPr/>
          <p:nvPr/>
        </p:nvSpPr>
        <p:spPr>
          <a:xfrm>
            <a:off x="5373720" y="161784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AutoShape 240"/>
          <p:cNvSpPr/>
          <p:nvPr/>
        </p:nvSpPr>
        <p:spPr>
          <a:xfrm>
            <a:off x="5373720" y="1908000"/>
            <a:ext cx="1295280" cy="612000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120000"/>
              <a:gd name="textAreaBottom" fmla="*/ 6092640 h 6120000"/>
            </a:gdLst>
            <a:ahLst/>
            <a:rect l="textAreaLeft" t="textAreaTop" r="textAreaRight" b="textAreaBottom"/>
            <a:pathLst>
              <a:path w="21600" h="102034">
                <a:moveTo>
                  <a:pt x="1564" y="0"/>
                </a:moveTo>
                <a:arcTo wR="1564" hR="1564" stAng="16200000" swAng="-5400000"/>
                <a:lnTo>
                  <a:pt x="0" y="100470"/>
                </a:lnTo>
                <a:arcTo wR="1564" hR="1564" stAng="10800000" swAng="-5400000"/>
                <a:lnTo>
                  <a:pt x="20036" y="102034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AutoShape 241"/>
          <p:cNvSpPr/>
          <p:nvPr/>
        </p:nvSpPr>
        <p:spPr>
          <a:xfrm>
            <a:off x="1557360" y="1908000"/>
            <a:ext cx="3816360" cy="612000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120000"/>
              <a:gd name="textAreaBottom" fmla="*/ 6094440 h 6120000"/>
            </a:gdLst>
            <a:ahLst/>
            <a:rect l="textAreaLeft" t="textAreaTop" r="textAreaRight" b="textAreaBottom"/>
            <a:pathLst>
              <a:path w="21600" h="34637">
                <a:moveTo>
                  <a:pt x="495" y="0"/>
                </a:moveTo>
                <a:arcTo wR="495" hR="495" stAng="16200000" swAng="-5400000"/>
                <a:lnTo>
                  <a:pt x="0" y="34142"/>
                </a:lnTo>
                <a:arcTo wR="495" hR="495" stAng="10800000" swAng="-5400000"/>
                <a:lnTo>
                  <a:pt x="21105" y="34637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AutoShape 242"/>
          <p:cNvSpPr/>
          <p:nvPr/>
        </p:nvSpPr>
        <p:spPr>
          <a:xfrm>
            <a:off x="333360" y="1908000"/>
            <a:ext cx="1224000" cy="612000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120000"/>
              <a:gd name="textAreaBottom" fmla="*/ 6094080 h 6120000"/>
            </a:gdLst>
            <a:ahLst/>
            <a:rect l="textAreaLeft" t="textAreaTop" r="textAreaRight" b="textAreaBottom"/>
            <a:pathLst>
              <a:path w="21600" h="107975">
                <a:moveTo>
                  <a:pt x="1564" y="0"/>
                </a:moveTo>
                <a:arcTo wR="1564" hR="1564" stAng="16200000" swAng="-5400000"/>
                <a:lnTo>
                  <a:pt x="0" y="106411"/>
                </a:lnTo>
                <a:arcTo wR="1564" hR="1564" stAng="10800000" swAng="-5400000"/>
                <a:lnTo>
                  <a:pt x="20036" y="107975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AutoShape 534"/>
          <p:cNvSpPr/>
          <p:nvPr/>
        </p:nvSpPr>
        <p:spPr>
          <a:xfrm>
            <a:off x="333360" y="161784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666"/>
          <p:cNvSpPr/>
          <p:nvPr/>
        </p:nvSpPr>
        <p:spPr>
          <a:xfrm>
            <a:off x="5383080" y="2800440"/>
            <a:ext cx="12780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Declaración de Situación Patrimon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700"/>
          <p:cNvSpPr/>
          <p:nvPr/>
        </p:nvSpPr>
        <p:spPr>
          <a:xfrm>
            <a:off x="343080" y="2800440"/>
            <a:ext cx="12142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Jefe del Departamento de Asuntos Jurídic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700"/>
          <p:cNvSpPr/>
          <p:nvPr/>
        </p:nvSpPr>
        <p:spPr>
          <a:xfrm>
            <a:off x="379440" y="2411280"/>
            <a:ext cx="115092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666"/>
          <p:cNvSpPr/>
          <p:nvPr/>
        </p:nvSpPr>
        <p:spPr>
          <a:xfrm>
            <a:off x="5381640" y="2411280"/>
            <a:ext cx="127800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652"/>
          <p:cNvSpPr/>
          <p:nvPr/>
        </p:nvSpPr>
        <p:spPr>
          <a:xfrm>
            <a:off x="1700280" y="2014560"/>
            <a:ext cx="3530520" cy="32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Declaración de situación patrimon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653"/>
          <p:cNvSpPr/>
          <p:nvPr/>
        </p:nvSpPr>
        <p:spPr>
          <a:xfrm>
            <a:off x="1708200" y="2800440"/>
            <a:ext cx="3530520" cy="40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cibe información de Declaración de situación patrimon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7" name="AutoShape 684"/>
          <p:cNvCxnSpPr>
            <a:stCxn id="256" idx="2"/>
          </p:cNvCxnSpPr>
          <p:nvPr/>
        </p:nvCxnSpPr>
        <p:spPr>
          <a:xfrm>
            <a:off x="3472920" y="3203640"/>
            <a:ext cx="252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8" name="AutoShape 74"/>
          <p:cNvSpPr/>
          <p:nvPr/>
        </p:nvSpPr>
        <p:spPr>
          <a:xfrm>
            <a:off x="3211560" y="2368440"/>
            <a:ext cx="504720" cy="2160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9" name="AutoShape 685"/>
          <p:cNvCxnSpPr/>
          <p:nvPr/>
        </p:nvCxnSpPr>
        <p:spPr>
          <a:xfrm>
            <a:off x="3472920" y="258444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0" name="Rectangle 653"/>
          <p:cNvSpPr/>
          <p:nvPr/>
        </p:nvSpPr>
        <p:spPr>
          <a:xfrm>
            <a:off x="1700280" y="3483000"/>
            <a:ext cx="3529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gistra la información en el control de relación y se analiza si está completa y correcta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1" name="AutoShape 684"/>
          <p:cNvCxnSpPr/>
          <p:nvPr/>
        </p:nvCxnSpPr>
        <p:spPr>
          <a:xfrm>
            <a:off x="3499920" y="385128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2" name="Rectangle 664"/>
          <p:cNvSpPr/>
          <p:nvPr/>
        </p:nvSpPr>
        <p:spPr>
          <a:xfrm>
            <a:off x="5373720" y="3311640"/>
            <a:ext cx="129528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Oficio / relación de sujetos obligados / declaración patrimonial electrónica / control de relación de sujetos obligad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661"/>
          <p:cNvSpPr/>
          <p:nvPr/>
        </p:nvSpPr>
        <p:spPr>
          <a:xfrm>
            <a:off x="333360" y="3419640"/>
            <a:ext cx="12240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Jefe del Departamento de Asuntos Jurídic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653"/>
          <p:cNvSpPr/>
          <p:nvPr/>
        </p:nvSpPr>
        <p:spPr>
          <a:xfrm>
            <a:off x="1700280" y="4643280"/>
            <a:ext cx="1657440" cy="3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analiza por qué no está completa y correc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663"/>
          <p:cNvSpPr/>
          <p:nvPr/>
        </p:nvSpPr>
        <p:spPr>
          <a:xfrm>
            <a:off x="5373720" y="4716360"/>
            <a:ext cx="129708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664"/>
          <p:cNvSpPr/>
          <p:nvPr/>
        </p:nvSpPr>
        <p:spPr>
          <a:xfrm>
            <a:off x="5373720" y="5148360"/>
            <a:ext cx="1295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Requerimiento / Control de sujetos obligados / ingres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7" name="AutoShape 684"/>
          <p:cNvCxnSpPr>
            <a:stCxn id="264" idx="2"/>
            <a:endCxn id="268" idx="0"/>
          </p:cNvCxnSpPr>
          <p:nvPr/>
        </p:nvCxnSpPr>
        <p:spPr>
          <a:xfrm>
            <a:off x="2528640" y="5040360"/>
            <a:ext cx="1080" cy="180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9" name="Rectangle 664"/>
          <p:cNvSpPr/>
          <p:nvPr/>
        </p:nvSpPr>
        <p:spPr>
          <a:xfrm>
            <a:off x="5373720" y="4572000"/>
            <a:ext cx="12952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Control de sujetos obligados / ingres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661"/>
          <p:cNvSpPr/>
          <p:nvPr/>
        </p:nvSpPr>
        <p:spPr>
          <a:xfrm>
            <a:off x="333360" y="471636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Jefe del Departamento de Asuntos Jurídic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656"/>
          <p:cNvSpPr/>
          <p:nvPr/>
        </p:nvSpPr>
        <p:spPr>
          <a:xfrm>
            <a:off x="1700280" y="5219640"/>
            <a:ext cx="16574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Con base al análisis se envía requerimiento a su superior inmedia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701"/>
          <p:cNvSpPr/>
          <p:nvPr/>
        </p:nvSpPr>
        <p:spPr>
          <a:xfrm>
            <a:off x="333360" y="521964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Jefe del Departamento  de Asuntos Jurídic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18 Rectángulo"/>
          <p:cNvSpPr/>
          <p:nvPr/>
        </p:nvSpPr>
        <p:spPr>
          <a:xfrm>
            <a:off x="3573360" y="4680000"/>
            <a:ext cx="1656000" cy="32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archiva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3" name="AutoShape 32"/>
          <p:cNvCxnSpPr/>
          <p:nvPr/>
        </p:nvCxnSpPr>
        <p:spPr>
          <a:xfrm>
            <a:off x="4365720" y="5003640"/>
            <a:ext cx="216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4" name="34 Decisión"/>
          <p:cNvSpPr/>
          <p:nvPr/>
        </p:nvSpPr>
        <p:spPr>
          <a:xfrm>
            <a:off x="2781360" y="4067280"/>
            <a:ext cx="1439640" cy="61272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Times New Roman"/>
              </a:rPr>
              <a:t>¿completa?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AutoShape 55"/>
          <p:cNvCxnSpPr>
            <a:stCxn id="274" idx="3"/>
            <a:endCxn id="272" idx="0"/>
          </p:cNvCxnSpPr>
          <p:nvPr/>
        </p:nvCxnSpPr>
        <p:spPr>
          <a:xfrm>
            <a:off x="4220640" y="4373280"/>
            <a:ext cx="181800" cy="306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6" name="48 CuadroTexto"/>
          <p:cNvSpPr/>
          <p:nvPr/>
        </p:nvSpPr>
        <p:spPr>
          <a:xfrm>
            <a:off x="3933720" y="4139640"/>
            <a:ext cx="714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48 CuadroTexto"/>
          <p:cNvSpPr/>
          <p:nvPr/>
        </p:nvSpPr>
        <p:spPr>
          <a:xfrm>
            <a:off x="2276640" y="4140360"/>
            <a:ext cx="71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8" name="AutoShape 55"/>
          <p:cNvCxnSpPr>
            <a:stCxn id="274" idx="1"/>
            <a:endCxn id="264" idx="0"/>
          </p:cNvCxnSpPr>
          <p:nvPr/>
        </p:nvCxnSpPr>
        <p:spPr>
          <a:xfrm flipV="1" rot="10800000">
            <a:off x="2528280" y="4372560"/>
            <a:ext cx="253080" cy="270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9" name="Oval 75"/>
          <p:cNvSpPr/>
          <p:nvPr/>
        </p:nvSpPr>
        <p:spPr>
          <a:xfrm>
            <a:off x="2133720" y="4356000"/>
            <a:ext cx="21564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0" name="AutoShape 684"/>
          <p:cNvCxnSpPr/>
          <p:nvPr/>
        </p:nvCxnSpPr>
        <p:spPr>
          <a:xfrm>
            <a:off x="2349000" y="4427280"/>
            <a:ext cx="143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1" name="Oval 75"/>
          <p:cNvSpPr/>
          <p:nvPr/>
        </p:nvSpPr>
        <p:spPr>
          <a:xfrm>
            <a:off x="4221000" y="5219640"/>
            <a:ext cx="287640" cy="289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Oval 34"/>
          <p:cNvSpPr/>
          <p:nvPr/>
        </p:nvSpPr>
        <p:spPr>
          <a:xfrm>
            <a:off x="4292640" y="7316640"/>
            <a:ext cx="5778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666"/>
          <p:cNvSpPr/>
          <p:nvPr/>
        </p:nvSpPr>
        <p:spPr>
          <a:xfrm>
            <a:off x="5381640" y="5435640"/>
            <a:ext cx="127800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653"/>
          <p:cNvSpPr/>
          <p:nvPr/>
        </p:nvSpPr>
        <p:spPr>
          <a:xfrm>
            <a:off x="1698480" y="6335640"/>
            <a:ext cx="144324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notifica al Contralor General lista de omisos y se inicia Procedimiento Especial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5" name="AutoShape 684"/>
          <p:cNvCxnSpPr>
            <a:endCxn id="286" idx="0"/>
          </p:cNvCxnSpPr>
          <p:nvPr/>
        </p:nvCxnSpPr>
        <p:spPr>
          <a:xfrm>
            <a:off x="2421000" y="6669000"/>
            <a:ext cx="2160" cy="16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7" name="Rectangle 664"/>
          <p:cNvSpPr/>
          <p:nvPr/>
        </p:nvSpPr>
        <p:spPr>
          <a:xfrm>
            <a:off x="5373720" y="6451560"/>
            <a:ext cx="12952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Notificación de sanción / Lista de omis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661"/>
          <p:cNvSpPr/>
          <p:nvPr/>
        </p:nvSpPr>
        <p:spPr>
          <a:xfrm>
            <a:off x="333360" y="6164280"/>
            <a:ext cx="1224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Jefe del Departamento de Asuntos Jurídic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18 Rectángulo"/>
          <p:cNvSpPr/>
          <p:nvPr/>
        </p:nvSpPr>
        <p:spPr>
          <a:xfrm>
            <a:off x="3857760" y="6335640"/>
            <a:ext cx="1439640" cy="333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notifica sanción a la persona involucrad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0" name="AutoShape 32"/>
          <p:cNvCxnSpPr>
            <a:stCxn id="289" idx="2"/>
            <a:endCxn id="282" idx="0"/>
          </p:cNvCxnSpPr>
          <p:nvPr/>
        </p:nvCxnSpPr>
        <p:spPr>
          <a:xfrm>
            <a:off x="4578480" y="6668640"/>
            <a:ext cx="360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1" name="34 Decisión"/>
          <p:cNvSpPr/>
          <p:nvPr/>
        </p:nvSpPr>
        <p:spPr>
          <a:xfrm>
            <a:off x="2776680" y="5877000"/>
            <a:ext cx="1444320" cy="50472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¿Cumple en tiempo y forma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2" name="AutoShape 55"/>
          <p:cNvCxnSpPr>
            <a:stCxn id="291" idx="3"/>
            <a:endCxn id="289" idx="0"/>
          </p:cNvCxnSpPr>
          <p:nvPr/>
        </p:nvCxnSpPr>
        <p:spPr>
          <a:xfrm>
            <a:off x="4220640" y="6129000"/>
            <a:ext cx="358200" cy="207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3" name="48 CuadroTexto"/>
          <p:cNvSpPr/>
          <p:nvPr/>
        </p:nvSpPr>
        <p:spPr>
          <a:xfrm>
            <a:off x="4076640" y="5947920"/>
            <a:ext cx="714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48 CuadroTexto"/>
          <p:cNvSpPr/>
          <p:nvPr/>
        </p:nvSpPr>
        <p:spPr>
          <a:xfrm>
            <a:off x="2205000" y="5948280"/>
            <a:ext cx="71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5" name="AutoShape 55"/>
          <p:cNvCxnSpPr>
            <a:stCxn id="291" idx="1"/>
            <a:endCxn id="284" idx="0"/>
          </p:cNvCxnSpPr>
          <p:nvPr/>
        </p:nvCxnSpPr>
        <p:spPr>
          <a:xfrm flipV="1" rot="10800000">
            <a:off x="2420280" y="6128280"/>
            <a:ext cx="356400" cy="207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6" name="Rectangle 663"/>
          <p:cNvSpPr/>
          <p:nvPr/>
        </p:nvSpPr>
        <p:spPr>
          <a:xfrm>
            <a:off x="5372280" y="9102600"/>
            <a:ext cx="129672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664"/>
          <p:cNvSpPr/>
          <p:nvPr/>
        </p:nvSpPr>
        <p:spPr>
          <a:xfrm>
            <a:off x="5373720" y="6896160"/>
            <a:ext cx="129528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Lista de omisos / E- ma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661"/>
          <p:cNvSpPr/>
          <p:nvPr/>
        </p:nvSpPr>
        <p:spPr>
          <a:xfrm>
            <a:off x="333360" y="688500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Contralor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Oval 75"/>
          <p:cNvSpPr/>
          <p:nvPr/>
        </p:nvSpPr>
        <p:spPr>
          <a:xfrm>
            <a:off x="2276640" y="7524720"/>
            <a:ext cx="28872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0" name="AutoShape 32"/>
          <p:cNvCxnSpPr/>
          <p:nvPr/>
        </p:nvCxnSpPr>
        <p:spPr>
          <a:xfrm>
            <a:off x="3715920" y="7171920"/>
            <a:ext cx="793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1" name="AutoShape 55"/>
          <p:cNvCxnSpPr>
            <a:stCxn id="268" idx="2"/>
            <a:endCxn id="291" idx="0"/>
          </p:cNvCxnSpPr>
          <p:nvPr/>
        </p:nvCxnSpPr>
        <p:spPr>
          <a:xfrm flipH="1" rot="16200000">
            <a:off x="2865240" y="5243040"/>
            <a:ext cx="297720" cy="9705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2" name="Oval 75"/>
          <p:cNvSpPr/>
          <p:nvPr/>
        </p:nvSpPr>
        <p:spPr>
          <a:xfrm>
            <a:off x="3429000" y="7020000"/>
            <a:ext cx="287280" cy="288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653"/>
          <p:cNvSpPr/>
          <p:nvPr/>
        </p:nvSpPr>
        <p:spPr>
          <a:xfrm>
            <a:off x="1700280" y="6831000"/>
            <a:ext cx="144288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nvía a Consejo General publicación de lista de omis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AutoShape 684"/>
          <p:cNvCxnSpPr>
            <a:stCxn id="286" idx="2"/>
            <a:endCxn id="299" idx="0"/>
          </p:cNvCxnSpPr>
          <p:nvPr/>
        </p:nvCxnSpPr>
        <p:spPr>
          <a:xfrm flipH="1">
            <a:off x="2420640" y="7164000"/>
            <a:ext cx="216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AutoShape 238"/>
          <p:cNvSpPr/>
          <p:nvPr/>
        </p:nvSpPr>
        <p:spPr>
          <a:xfrm>
            <a:off x="1557360" y="161784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AutoShape 239"/>
          <p:cNvSpPr/>
          <p:nvPr/>
        </p:nvSpPr>
        <p:spPr>
          <a:xfrm>
            <a:off x="5373720" y="161784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AutoShape 240"/>
          <p:cNvSpPr/>
          <p:nvPr/>
        </p:nvSpPr>
        <p:spPr>
          <a:xfrm>
            <a:off x="5373720" y="1908000"/>
            <a:ext cx="1295280" cy="612000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120000"/>
              <a:gd name="textAreaBottom" fmla="*/ 6092640 h 6120000"/>
            </a:gdLst>
            <a:ahLst/>
            <a:rect l="textAreaLeft" t="textAreaTop" r="textAreaRight" b="textAreaBottom"/>
            <a:pathLst>
              <a:path w="21600" h="102034">
                <a:moveTo>
                  <a:pt x="1564" y="0"/>
                </a:moveTo>
                <a:arcTo wR="1564" hR="1564" stAng="16200000" swAng="-5400000"/>
                <a:lnTo>
                  <a:pt x="0" y="100470"/>
                </a:lnTo>
                <a:arcTo wR="1564" hR="1564" stAng="10800000" swAng="-5400000"/>
                <a:lnTo>
                  <a:pt x="20036" y="102034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AutoShape 241"/>
          <p:cNvSpPr/>
          <p:nvPr/>
        </p:nvSpPr>
        <p:spPr>
          <a:xfrm>
            <a:off x="1557360" y="1908000"/>
            <a:ext cx="3816360" cy="612000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120000"/>
              <a:gd name="textAreaBottom" fmla="*/ 6094440 h 6120000"/>
            </a:gdLst>
            <a:ahLst/>
            <a:rect l="textAreaLeft" t="textAreaTop" r="textAreaRight" b="textAreaBottom"/>
            <a:pathLst>
              <a:path w="21600" h="34637">
                <a:moveTo>
                  <a:pt x="495" y="0"/>
                </a:moveTo>
                <a:arcTo wR="495" hR="495" stAng="16200000" swAng="-5400000"/>
                <a:lnTo>
                  <a:pt x="0" y="34142"/>
                </a:lnTo>
                <a:arcTo wR="495" hR="495" stAng="10800000" swAng="-5400000"/>
                <a:lnTo>
                  <a:pt x="21105" y="34637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AutoShape 242"/>
          <p:cNvSpPr/>
          <p:nvPr/>
        </p:nvSpPr>
        <p:spPr>
          <a:xfrm>
            <a:off x="333360" y="1908000"/>
            <a:ext cx="1224000" cy="612000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120000"/>
              <a:gd name="textAreaBottom" fmla="*/ 6094080 h 6120000"/>
            </a:gdLst>
            <a:ahLst/>
            <a:rect l="textAreaLeft" t="textAreaTop" r="textAreaRight" b="textAreaBottom"/>
            <a:pathLst>
              <a:path w="21600" h="107975">
                <a:moveTo>
                  <a:pt x="1564" y="0"/>
                </a:moveTo>
                <a:arcTo wR="1564" hR="1564" stAng="16200000" swAng="-5400000"/>
                <a:lnTo>
                  <a:pt x="0" y="106411"/>
                </a:lnTo>
                <a:arcTo wR="1564" hR="1564" stAng="10800000" swAng="-5400000"/>
                <a:lnTo>
                  <a:pt x="20036" y="107975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AutoShape 534"/>
          <p:cNvSpPr/>
          <p:nvPr/>
        </p:nvSpPr>
        <p:spPr>
          <a:xfrm>
            <a:off x="333360" y="161784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666"/>
          <p:cNvSpPr/>
          <p:nvPr/>
        </p:nvSpPr>
        <p:spPr>
          <a:xfrm>
            <a:off x="5383080" y="2800440"/>
            <a:ext cx="12780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Memorándum, Ofici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Cuadra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700"/>
          <p:cNvSpPr/>
          <p:nvPr/>
        </p:nvSpPr>
        <p:spPr>
          <a:xfrm>
            <a:off x="343080" y="2800440"/>
            <a:ext cx="12142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Jefe del Departamento de Asuntos Jurídic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700"/>
          <p:cNvSpPr/>
          <p:nvPr/>
        </p:nvSpPr>
        <p:spPr>
          <a:xfrm>
            <a:off x="379440" y="2411280"/>
            <a:ext cx="115092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666"/>
          <p:cNvSpPr/>
          <p:nvPr/>
        </p:nvSpPr>
        <p:spPr>
          <a:xfrm>
            <a:off x="5381640" y="2411280"/>
            <a:ext cx="127800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652"/>
          <p:cNvSpPr/>
          <p:nvPr/>
        </p:nvSpPr>
        <p:spPr>
          <a:xfrm>
            <a:off x="1700280" y="2014560"/>
            <a:ext cx="3530520" cy="32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Procedimiento por Ofic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653"/>
          <p:cNvSpPr/>
          <p:nvPr/>
        </p:nvSpPr>
        <p:spPr>
          <a:xfrm>
            <a:off x="1708200" y="2800440"/>
            <a:ext cx="3530520" cy="40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aliza un acuerdo de procedencia de procedimiento de respuesta administrativ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6" name="AutoShape 684"/>
          <p:cNvCxnSpPr>
            <a:stCxn id="315" idx="2"/>
          </p:cNvCxnSpPr>
          <p:nvPr/>
        </p:nvCxnSpPr>
        <p:spPr>
          <a:xfrm>
            <a:off x="3472920" y="3203640"/>
            <a:ext cx="252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AutoShape 74"/>
          <p:cNvSpPr/>
          <p:nvPr/>
        </p:nvSpPr>
        <p:spPr>
          <a:xfrm>
            <a:off x="3211560" y="2368440"/>
            <a:ext cx="504720" cy="2160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8" name="AutoShape 685"/>
          <p:cNvCxnSpPr/>
          <p:nvPr/>
        </p:nvCxnSpPr>
        <p:spPr>
          <a:xfrm>
            <a:off x="3472920" y="258444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9" name="Rectangle 653"/>
          <p:cNvSpPr/>
          <p:nvPr/>
        </p:nvSpPr>
        <p:spPr>
          <a:xfrm>
            <a:off x="1700280" y="3483000"/>
            <a:ext cx="3529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 emplaza a la persona involucrad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0" name="AutoShape 684"/>
          <p:cNvCxnSpPr/>
          <p:nvPr/>
        </p:nvCxnSpPr>
        <p:spPr>
          <a:xfrm>
            <a:off x="3499920" y="385128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1" name="Rectangle 664"/>
          <p:cNvSpPr/>
          <p:nvPr/>
        </p:nvSpPr>
        <p:spPr>
          <a:xfrm>
            <a:off x="5373720" y="3492360"/>
            <a:ext cx="129528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Pruebas / datos / documentos del cas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661"/>
          <p:cNvSpPr/>
          <p:nvPr/>
        </p:nvSpPr>
        <p:spPr>
          <a:xfrm>
            <a:off x="306360" y="3419640"/>
            <a:ext cx="12970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Jefe del Departamento  de Asuntos Jurídicos /Abogado (B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653"/>
          <p:cNvSpPr/>
          <p:nvPr/>
        </p:nvSpPr>
        <p:spPr>
          <a:xfrm>
            <a:off x="1700280" y="4643280"/>
            <a:ext cx="1657440" cy="3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cibe informe de hechos, pruebas y alegat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663"/>
          <p:cNvSpPr/>
          <p:nvPr/>
        </p:nvSpPr>
        <p:spPr>
          <a:xfrm>
            <a:off x="5373720" y="4716360"/>
            <a:ext cx="129708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664"/>
          <p:cNvSpPr/>
          <p:nvPr/>
        </p:nvSpPr>
        <p:spPr>
          <a:xfrm>
            <a:off x="5373720" y="5148360"/>
            <a:ext cx="1295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Pruebas / documentos del cas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6" name="AutoShape 684"/>
          <p:cNvCxnSpPr>
            <a:stCxn id="323" idx="2"/>
            <a:endCxn id="327" idx="0"/>
          </p:cNvCxnSpPr>
          <p:nvPr/>
        </p:nvCxnSpPr>
        <p:spPr>
          <a:xfrm>
            <a:off x="2528640" y="5040360"/>
            <a:ext cx="1080" cy="180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8" name="Rectangle 664"/>
          <p:cNvSpPr/>
          <p:nvPr/>
        </p:nvSpPr>
        <p:spPr>
          <a:xfrm>
            <a:off x="5373720" y="4572000"/>
            <a:ext cx="12952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Notificación / requerimiento / informe de hechos pruebas y alegatos / Resolución administrativa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661"/>
          <p:cNvSpPr/>
          <p:nvPr/>
        </p:nvSpPr>
        <p:spPr>
          <a:xfrm>
            <a:off x="333360" y="457200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Jefe del Departamento de Asuntos Jurídicos /Abogado (B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656"/>
          <p:cNvSpPr/>
          <p:nvPr/>
        </p:nvSpPr>
        <p:spPr>
          <a:xfrm>
            <a:off x="1700280" y="5219640"/>
            <a:ext cx="1657440" cy="20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analizan pruebas de desahog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701"/>
          <p:cNvSpPr/>
          <p:nvPr/>
        </p:nvSpPr>
        <p:spPr>
          <a:xfrm>
            <a:off x="333360" y="521964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Jefe del Departamento de Asuntos Jurídicos / Abogado (B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18 Rectángulo"/>
          <p:cNvSpPr/>
          <p:nvPr/>
        </p:nvSpPr>
        <p:spPr>
          <a:xfrm>
            <a:off x="3573360" y="4680000"/>
            <a:ext cx="1656000" cy="32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aliza acuerdo de rebeldía y se realiza resolución administrativ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2" name="AutoShape 32"/>
          <p:cNvCxnSpPr/>
          <p:nvPr/>
        </p:nvCxnSpPr>
        <p:spPr>
          <a:xfrm>
            <a:off x="4365720" y="5003640"/>
            <a:ext cx="216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3" name="34 Decisión"/>
          <p:cNvSpPr/>
          <p:nvPr/>
        </p:nvSpPr>
        <p:spPr>
          <a:xfrm>
            <a:off x="3141720" y="4067280"/>
            <a:ext cx="720720" cy="61272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Times New Roman"/>
              </a:rPr>
              <a:t>¿Contestó la persona?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4" name="AutoShape 55"/>
          <p:cNvCxnSpPr>
            <a:stCxn id="333" idx="3"/>
            <a:endCxn id="331" idx="0"/>
          </p:cNvCxnSpPr>
          <p:nvPr/>
        </p:nvCxnSpPr>
        <p:spPr>
          <a:xfrm>
            <a:off x="3862080" y="4373280"/>
            <a:ext cx="538920" cy="306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5" name="48 CuadroTexto"/>
          <p:cNvSpPr/>
          <p:nvPr/>
        </p:nvSpPr>
        <p:spPr>
          <a:xfrm>
            <a:off x="2714760" y="4191840"/>
            <a:ext cx="71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48 CuadroTexto"/>
          <p:cNvSpPr/>
          <p:nvPr/>
        </p:nvSpPr>
        <p:spPr>
          <a:xfrm>
            <a:off x="3573360" y="4140360"/>
            <a:ext cx="714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7" name="AutoShape 55"/>
          <p:cNvCxnSpPr>
            <a:stCxn id="333" idx="1"/>
            <a:endCxn id="323" idx="0"/>
          </p:cNvCxnSpPr>
          <p:nvPr/>
        </p:nvCxnSpPr>
        <p:spPr>
          <a:xfrm flipV="1" rot="10800000">
            <a:off x="2528280" y="4372560"/>
            <a:ext cx="613440" cy="270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8" name="Oval 75"/>
          <p:cNvSpPr/>
          <p:nvPr/>
        </p:nvSpPr>
        <p:spPr>
          <a:xfrm>
            <a:off x="2133720" y="4356000"/>
            <a:ext cx="21564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AutoShape 684"/>
          <p:cNvCxnSpPr/>
          <p:nvPr/>
        </p:nvCxnSpPr>
        <p:spPr>
          <a:xfrm>
            <a:off x="2349000" y="4427280"/>
            <a:ext cx="143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0" name="Oval 75"/>
          <p:cNvSpPr/>
          <p:nvPr/>
        </p:nvSpPr>
        <p:spPr>
          <a:xfrm>
            <a:off x="4221000" y="5219640"/>
            <a:ext cx="287640" cy="289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1" name="AutoShape 684"/>
          <p:cNvCxnSpPr/>
          <p:nvPr/>
        </p:nvCxnSpPr>
        <p:spPr>
          <a:xfrm>
            <a:off x="2565000" y="5425560"/>
            <a:ext cx="1080" cy="180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2" name="Rectangle 652"/>
          <p:cNvSpPr/>
          <p:nvPr/>
        </p:nvSpPr>
        <p:spPr>
          <a:xfrm>
            <a:off x="1708200" y="5730840"/>
            <a:ext cx="3530520" cy="27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dictamina resolución determinando si se sanciona o nó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3" name="AutoShape 681"/>
          <p:cNvCxnSpPr>
            <a:stCxn id="342" idx="2"/>
          </p:cNvCxnSpPr>
          <p:nvPr/>
        </p:nvCxnSpPr>
        <p:spPr>
          <a:xfrm>
            <a:off x="3472920" y="6004080"/>
            <a:ext cx="1080" cy="18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4" name="Oval 34"/>
          <p:cNvSpPr/>
          <p:nvPr/>
        </p:nvSpPr>
        <p:spPr>
          <a:xfrm>
            <a:off x="4292640" y="7596360"/>
            <a:ext cx="577800" cy="215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666"/>
          <p:cNvSpPr/>
          <p:nvPr/>
        </p:nvSpPr>
        <p:spPr>
          <a:xfrm>
            <a:off x="5383080" y="5722920"/>
            <a:ext cx="12780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Resolucion del cas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700"/>
          <p:cNvSpPr/>
          <p:nvPr/>
        </p:nvSpPr>
        <p:spPr>
          <a:xfrm>
            <a:off x="343080" y="5730840"/>
            <a:ext cx="121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Jefe del Departamento  de asuntos Jurídicos/Abogado (B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666"/>
          <p:cNvSpPr/>
          <p:nvPr/>
        </p:nvSpPr>
        <p:spPr>
          <a:xfrm>
            <a:off x="5381640" y="5435640"/>
            <a:ext cx="127800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653"/>
          <p:cNvSpPr/>
          <p:nvPr/>
        </p:nvSpPr>
        <p:spPr>
          <a:xfrm>
            <a:off x="1698480" y="6615000"/>
            <a:ext cx="144324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notifica al involucrado la resolu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9" name="AutoShape 684"/>
          <p:cNvCxnSpPr/>
          <p:nvPr/>
        </p:nvCxnSpPr>
        <p:spPr>
          <a:xfrm>
            <a:off x="2420640" y="694836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0" name="Rectangle 664"/>
          <p:cNvSpPr/>
          <p:nvPr/>
        </p:nvSpPr>
        <p:spPr>
          <a:xfrm>
            <a:off x="5373720" y="6730920"/>
            <a:ext cx="12952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Notificación de resolución y/o san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661"/>
          <p:cNvSpPr/>
          <p:nvPr/>
        </p:nvSpPr>
        <p:spPr>
          <a:xfrm>
            <a:off x="333360" y="6443640"/>
            <a:ext cx="1224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Contralor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18 Rectángulo"/>
          <p:cNvSpPr/>
          <p:nvPr/>
        </p:nvSpPr>
        <p:spPr>
          <a:xfrm>
            <a:off x="3857760" y="6615000"/>
            <a:ext cx="1439640" cy="333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notifica sanción a la persona involucrad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3" name="AutoShape 32"/>
          <p:cNvCxnSpPr>
            <a:stCxn id="352" idx="2"/>
            <a:endCxn id="354" idx="0"/>
          </p:cNvCxnSpPr>
          <p:nvPr/>
        </p:nvCxnSpPr>
        <p:spPr>
          <a:xfrm>
            <a:off x="4578480" y="6948360"/>
            <a:ext cx="360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5" name="34 Decisión"/>
          <p:cNvSpPr/>
          <p:nvPr/>
        </p:nvSpPr>
        <p:spPr>
          <a:xfrm>
            <a:off x="2776680" y="6156360"/>
            <a:ext cx="1444320" cy="50472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¿Sanción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6" name="AutoShape 55"/>
          <p:cNvCxnSpPr>
            <a:stCxn id="355" idx="3"/>
            <a:endCxn id="352" idx="0"/>
          </p:cNvCxnSpPr>
          <p:nvPr/>
        </p:nvCxnSpPr>
        <p:spPr>
          <a:xfrm>
            <a:off x="4220640" y="6408360"/>
            <a:ext cx="358200" cy="207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7" name="48 CuadroTexto"/>
          <p:cNvSpPr/>
          <p:nvPr/>
        </p:nvSpPr>
        <p:spPr>
          <a:xfrm>
            <a:off x="4076640" y="6227280"/>
            <a:ext cx="714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48 CuadroTexto"/>
          <p:cNvSpPr/>
          <p:nvPr/>
        </p:nvSpPr>
        <p:spPr>
          <a:xfrm>
            <a:off x="2205000" y="6227640"/>
            <a:ext cx="71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9" name="AutoShape 55"/>
          <p:cNvCxnSpPr>
            <a:stCxn id="355" idx="1"/>
            <a:endCxn id="348" idx="0"/>
          </p:cNvCxnSpPr>
          <p:nvPr/>
        </p:nvCxnSpPr>
        <p:spPr>
          <a:xfrm flipV="1" rot="10800000">
            <a:off x="2420280" y="6407640"/>
            <a:ext cx="356400" cy="207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0" name="Rectangle 663"/>
          <p:cNvSpPr/>
          <p:nvPr/>
        </p:nvSpPr>
        <p:spPr>
          <a:xfrm>
            <a:off x="5372280" y="9102600"/>
            <a:ext cx="129672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664"/>
          <p:cNvSpPr/>
          <p:nvPr/>
        </p:nvSpPr>
        <p:spPr>
          <a:xfrm>
            <a:off x="5373720" y="7175520"/>
            <a:ext cx="129528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Notificación de resolución y/o san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661"/>
          <p:cNvSpPr/>
          <p:nvPr/>
        </p:nvSpPr>
        <p:spPr>
          <a:xfrm>
            <a:off x="333360" y="716436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Contralor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Oval 75"/>
          <p:cNvSpPr/>
          <p:nvPr/>
        </p:nvSpPr>
        <p:spPr>
          <a:xfrm>
            <a:off x="2276640" y="7164360"/>
            <a:ext cx="28872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18 Rectángulo"/>
          <p:cNvSpPr/>
          <p:nvPr/>
        </p:nvSpPr>
        <p:spPr>
          <a:xfrm>
            <a:off x="3860640" y="7093080"/>
            <a:ext cx="144000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verifica aplicación de la san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4" name="AutoShape 32"/>
          <p:cNvCxnSpPr>
            <a:endCxn id="344" idx="0"/>
          </p:cNvCxnSpPr>
          <p:nvPr/>
        </p:nvCxnSpPr>
        <p:spPr>
          <a:xfrm>
            <a:off x="4581000" y="738036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5" name="AutoShape 32"/>
          <p:cNvCxnSpPr/>
          <p:nvPr/>
        </p:nvCxnSpPr>
        <p:spPr>
          <a:xfrm>
            <a:off x="3715920" y="7451280"/>
            <a:ext cx="793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6" name="Oval 75"/>
          <p:cNvSpPr/>
          <p:nvPr/>
        </p:nvSpPr>
        <p:spPr>
          <a:xfrm>
            <a:off x="3429000" y="7236000"/>
            <a:ext cx="287280" cy="288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AutoShape 238"/>
          <p:cNvSpPr/>
          <p:nvPr/>
        </p:nvSpPr>
        <p:spPr>
          <a:xfrm>
            <a:off x="1557360" y="163044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AutoShape 239"/>
          <p:cNvSpPr/>
          <p:nvPr/>
        </p:nvSpPr>
        <p:spPr>
          <a:xfrm>
            <a:off x="5373720" y="163044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AutoShape 240"/>
          <p:cNvSpPr/>
          <p:nvPr/>
        </p:nvSpPr>
        <p:spPr>
          <a:xfrm>
            <a:off x="5373720" y="1917720"/>
            <a:ext cx="1295280" cy="611028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110280"/>
              <a:gd name="textAreaBottom" fmla="*/ 6082920 h 6110280"/>
            </a:gdLst>
            <a:ahLst/>
            <a:rect l="textAreaLeft" t="textAreaTop" r="textAreaRight" b="textAreaBottom"/>
            <a:pathLst>
              <a:path w="21600" h="101872">
                <a:moveTo>
                  <a:pt x="1564" y="0"/>
                </a:moveTo>
                <a:arcTo wR="1564" hR="1564" stAng="16200000" swAng="-5400000"/>
                <a:lnTo>
                  <a:pt x="0" y="100308"/>
                </a:lnTo>
                <a:arcTo wR="1564" hR="1564" stAng="10800000" swAng="-5400000"/>
                <a:lnTo>
                  <a:pt x="20036" y="101872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AutoShape 241"/>
          <p:cNvSpPr/>
          <p:nvPr/>
        </p:nvSpPr>
        <p:spPr>
          <a:xfrm>
            <a:off x="1557360" y="1917720"/>
            <a:ext cx="3816360" cy="611028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110280"/>
              <a:gd name="textAreaBottom" fmla="*/ 6084720 h 6110280"/>
            </a:gdLst>
            <a:ahLst/>
            <a:rect l="textAreaLeft" t="textAreaTop" r="textAreaRight" b="textAreaBottom"/>
            <a:pathLst>
              <a:path w="21600" h="34582">
                <a:moveTo>
                  <a:pt x="495" y="0"/>
                </a:moveTo>
                <a:arcTo wR="495" hR="495" stAng="16200000" swAng="-5400000"/>
                <a:lnTo>
                  <a:pt x="0" y="34087"/>
                </a:lnTo>
                <a:arcTo wR="495" hR="495" stAng="10800000" swAng="-5400000"/>
                <a:lnTo>
                  <a:pt x="21105" y="34582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AutoShape 242"/>
          <p:cNvSpPr/>
          <p:nvPr/>
        </p:nvSpPr>
        <p:spPr>
          <a:xfrm>
            <a:off x="333360" y="1917720"/>
            <a:ext cx="1224000" cy="611028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110280"/>
              <a:gd name="textAreaBottom" fmla="*/ 6084360 h 6110280"/>
            </a:gdLst>
            <a:ahLst/>
            <a:rect l="textAreaLeft" t="textAreaTop" r="textAreaRight" b="textAreaBottom"/>
            <a:pathLst>
              <a:path w="21600" h="107803">
                <a:moveTo>
                  <a:pt x="1564" y="0"/>
                </a:moveTo>
                <a:arcTo wR="1564" hR="1564" stAng="16200000" swAng="-5400000"/>
                <a:lnTo>
                  <a:pt x="0" y="106239"/>
                </a:lnTo>
                <a:arcTo wR="1564" hR="1564" stAng="10800000" swAng="-5400000"/>
                <a:lnTo>
                  <a:pt x="20036" y="107803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AutoShape 534"/>
          <p:cNvSpPr/>
          <p:nvPr/>
        </p:nvSpPr>
        <p:spPr>
          <a:xfrm>
            <a:off x="333360" y="163044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AutoShape 648"/>
          <p:cNvSpPr/>
          <p:nvPr/>
        </p:nvSpPr>
        <p:spPr>
          <a:xfrm>
            <a:off x="3160800" y="254808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In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663"/>
          <p:cNvSpPr/>
          <p:nvPr/>
        </p:nvSpPr>
        <p:spPr>
          <a:xfrm>
            <a:off x="5364000" y="2943360"/>
            <a:ext cx="12970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664"/>
          <p:cNvSpPr/>
          <p:nvPr/>
        </p:nvSpPr>
        <p:spPr>
          <a:xfrm>
            <a:off x="5365800" y="3340080"/>
            <a:ext cx="12952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ocumentos de actos y omis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665"/>
          <p:cNvSpPr/>
          <p:nvPr/>
        </p:nvSpPr>
        <p:spPr>
          <a:xfrm>
            <a:off x="5365800" y="3772080"/>
            <a:ext cx="12826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ctam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660"/>
          <p:cNvSpPr/>
          <p:nvPr/>
        </p:nvSpPr>
        <p:spPr>
          <a:xfrm>
            <a:off x="325440" y="2798640"/>
            <a:ext cx="1224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Contralor General / Jefe del Departamento de Asuntos Jurídic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Rectangle 664"/>
          <p:cNvSpPr/>
          <p:nvPr/>
        </p:nvSpPr>
        <p:spPr>
          <a:xfrm>
            <a:off x="5365800" y="2882880"/>
            <a:ext cx="12952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ocumentos de actos u omis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661"/>
          <p:cNvSpPr/>
          <p:nvPr/>
        </p:nvSpPr>
        <p:spPr>
          <a:xfrm>
            <a:off x="325440" y="3340080"/>
            <a:ext cx="12240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Contralor General / Jefe del Departamento de Asuntos Jurídic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Rectangle 653"/>
          <p:cNvSpPr/>
          <p:nvPr/>
        </p:nvSpPr>
        <p:spPr>
          <a:xfrm>
            <a:off x="1692360" y="2882880"/>
            <a:ext cx="3529080" cy="28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cibe o recaba información de actos y omisiones de servidores públic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1" name="AutoShape 685"/>
          <p:cNvCxnSpPr/>
          <p:nvPr/>
        </p:nvCxnSpPr>
        <p:spPr>
          <a:xfrm>
            <a:off x="3452400" y="2712960"/>
            <a:ext cx="1080" cy="170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2" name="18 Rectángulo"/>
          <p:cNvSpPr/>
          <p:nvPr/>
        </p:nvSpPr>
        <p:spPr>
          <a:xfrm>
            <a:off x="1692360" y="3340080"/>
            <a:ext cx="3529080" cy="25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Verifica actos u omisiones de servidores públicos y se recaba información necesaria de cualquier instanc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18 Rectángulo"/>
          <p:cNvSpPr/>
          <p:nvPr/>
        </p:nvSpPr>
        <p:spPr>
          <a:xfrm>
            <a:off x="1692360" y="3772080"/>
            <a:ext cx="35290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aliza dictamen para revisar si es procedente o nó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4" name="AutoShape 32"/>
          <p:cNvCxnSpPr>
            <a:stCxn id="382" idx="2"/>
            <a:endCxn id="383" idx="0"/>
          </p:cNvCxnSpPr>
          <p:nvPr/>
        </p:nvCxnSpPr>
        <p:spPr>
          <a:xfrm>
            <a:off x="3455640" y="3594240"/>
            <a:ext cx="1080" cy="17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5" name="AutoShape 685"/>
          <p:cNvCxnSpPr>
            <a:stCxn id="380" idx="2"/>
            <a:endCxn id="382" idx="0"/>
          </p:cNvCxnSpPr>
          <p:nvPr/>
        </p:nvCxnSpPr>
        <p:spPr>
          <a:xfrm>
            <a:off x="3455640" y="3165120"/>
            <a:ext cx="1080" cy="17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6" name="Rectangle 701"/>
          <p:cNvSpPr/>
          <p:nvPr/>
        </p:nvSpPr>
        <p:spPr>
          <a:xfrm>
            <a:off x="334800" y="37720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Contralor General / Jefe del Departamento de Asuntos Jurídic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700"/>
          <p:cNvSpPr/>
          <p:nvPr/>
        </p:nvSpPr>
        <p:spPr>
          <a:xfrm>
            <a:off x="369720" y="1692360"/>
            <a:ext cx="11512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666"/>
          <p:cNvSpPr/>
          <p:nvPr/>
        </p:nvSpPr>
        <p:spPr>
          <a:xfrm>
            <a:off x="5372280" y="1692360"/>
            <a:ext cx="12776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653"/>
          <p:cNvSpPr/>
          <p:nvPr/>
        </p:nvSpPr>
        <p:spPr>
          <a:xfrm>
            <a:off x="1689120" y="2082960"/>
            <a:ext cx="3529080" cy="19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Procedimiento de Investig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0" name="AutoShape 649"/>
          <p:cNvCxnSpPr>
            <a:endCxn id="391" idx="0"/>
          </p:cNvCxnSpPr>
          <p:nvPr/>
        </p:nvCxnSpPr>
        <p:spPr>
          <a:xfrm>
            <a:off x="3471840" y="4078440"/>
            <a:ext cx="216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1" name="Rectangle 652"/>
          <p:cNvSpPr/>
          <p:nvPr/>
        </p:nvSpPr>
        <p:spPr>
          <a:xfrm>
            <a:off x="1708200" y="4290840"/>
            <a:ext cx="3530520" cy="27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dictamina resolución determinando si se sanciona o nó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2" name="AutoShape 681"/>
          <p:cNvCxnSpPr>
            <a:stCxn id="391" idx="2"/>
          </p:cNvCxnSpPr>
          <p:nvPr/>
        </p:nvCxnSpPr>
        <p:spPr>
          <a:xfrm>
            <a:off x="3472920" y="4564080"/>
            <a:ext cx="1080" cy="18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3" name="Oval 34"/>
          <p:cNvSpPr/>
          <p:nvPr/>
        </p:nvSpPr>
        <p:spPr>
          <a:xfrm>
            <a:off x="3213000" y="6732720"/>
            <a:ext cx="577800" cy="288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666"/>
          <p:cNvSpPr/>
          <p:nvPr/>
        </p:nvSpPr>
        <p:spPr>
          <a:xfrm>
            <a:off x="5383080" y="4282920"/>
            <a:ext cx="12780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Dictam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700"/>
          <p:cNvSpPr/>
          <p:nvPr/>
        </p:nvSpPr>
        <p:spPr>
          <a:xfrm>
            <a:off x="343080" y="4290840"/>
            <a:ext cx="121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Contralor General / Jefe del Departamento de Asuntos Jurídic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661"/>
          <p:cNvSpPr/>
          <p:nvPr/>
        </p:nvSpPr>
        <p:spPr>
          <a:xfrm>
            <a:off x="333360" y="5653080"/>
            <a:ext cx="1224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Contralor / Jefe de asuntos jurídic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18 Rectángulo"/>
          <p:cNvSpPr/>
          <p:nvPr/>
        </p:nvSpPr>
        <p:spPr>
          <a:xfrm>
            <a:off x="1628640" y="5651640"/>
            <a:ext cx="1584360" cy="50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notifica y se inicia Procedimiento de respuesta Administrativa por Of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34 Decisión"/>
          <p:cNvSpPr/>
          <p:nvPr/>
        </p:nvSpPr>
        <p:spPr>
          <a:xfrm>
            <a:off x="2776680" y="4789440"/>
            <a:ext cx="1444320" cy="50472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¿Procedent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9" name="AutoShape 55"/>
          <p:cNvCxnSpPr>
            <a:stCxn id="398" idx="3"/>
            <a:endCxn id="400" idx="0"/>
          </p:cNvCxnSpPr>
          <p:nvPr/>
        </p:nvCxnSpPr>
        <p:spPr>
          <a:xfrm>
            <a:off x="4221000" y="5041800"/>
            <a:ext cx="285120" cy="610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1" name="48 CuadroTexto"/>
          <p:cNvSpPr/>
          <p:nvPr/>
        </p:nvSpPr>
        <p:spPr>
          <a:xfrm>
            <a:off x="4076640" y="4860360"/>
            <a:ext cx="714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48 CuadroTexto"/>
          <p:cNvSpPr/>
          <p:nvPr/>
        </p:nvSpPr>
        <p:spPr>
          <a:xfrm>
            <a:off x="2205000" y="4861080"/>
            <a:ext cx="71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3" name="AutoShape 55"/>
          <p:cNvCxnSpPr>
            <a:stCxn id="398" idx="1"/>
            <a:endCxn id="397" idx="0"/>
          </p:cNvCxnSpPr>
          <p:nvPr/>
        </p:nvCxnSpPr>
        <p:spPr>
          <a:xfrm flipV="1" rot="10800000">
            <a:off x="2420280" y="5041440"/>
            <a:ext cx="356400" cy="610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4" name="Rectangle 663"/>
          <p:cNvSpPr/>
          <p:nvPr/>
        </p:nvSpPr>
        <p:spPr>
          <a:xfrm>
            <a:off x="5372280" y="7373880"/>
            <a:ext cx="129672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664"/>
          <p:cNvSpPr/>
          <p:nvPr/>
        </p:nvSpPr>
        <p:spPr>
          <a:xfrm>
            <a:off x="5381640" y="5646600"/>
            <a:ext cx="12952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Dictamen / Procedimiento de respuesta Administrativa por Of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18 Rectángulo"/>
          <p:cNvSpPr/>
          <p:nvPr/>
        </p:nvSpPr>
        <p:spPr>
          <a:xfrm>
            <a:off x="3708360" y="5651640"/>
            <a:ext cx="1592280" cy="50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notifica al involucrado la no procedenc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6" name="AutoShape 55"/>
          <p:cNvCxnSpPr>
            <a:stCxn id="400" idx="2"/>
            <a:endCxn id="393" idx="6"/>
          </p:cNvCxnSpPr>
          <p:nvPr/>
        </p:nvCxnSpPr>
        <p:spPr>
          <a:xfrm rot="5400000">
            <a:off x="3786120" y="6158160"/>
            <a:ext cx="723240" cy="715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7" name="AutoShape 55"/>
          <p:cNvCxnSpPr>
            <a:stCxn id="397" idx="2"/>
            <a:endCxn id="393" idx="2"/>
          </p:cNvCxnSpPr>
          <p:nvPr/>
        </p:nvCxnSpPr>
        <p:spPr>
          <a:xfrm flipH="1" rot="16200000">
            <a:off x="2455560" y="6119280"/>
            <a:ext cx="723240" cy="792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AutoShape 238"/>
          <p:cNvSpPr/>
          <p:nvPr/>
        </p:nvSpPr>
        <p:spPr>
          <a:xfrm>
            <a:off x="1557360" y="161928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AutoShape 239"/>
          <p:cNvSpPr/>
          <p:nvPr/>
        </p:nvSpPr>
        <p:spPr>
          <a:xfrm>
            <a:off x="5373720" y="161928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AutoShape 240"/>
          <p:cNvSpPr/>
          <p:nvPr/>
        </p:nvSpPr>
        <p:spPr>
          <a:xfrm>
            <a:off x="5373720" y="1908000"/>
            <a:ext cx="1295280" cy="612000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120000"/>
              <a:gd name="textAreaBottom" fmla="*/ 6092640 h 6120000"/>
            </a:gdLst>
            <a:ahLst/>
            <a:rect l="textAreaLeft" t="textAreaTop" r="textAreaRight" b="textAreaBottom"/>
            <a:pathLst>
              <a:path w="21600" h="102034">
                <a:moveTo>
                  <a:pt x="1564" y="0"/>
                </a:moveTo>
                <a:arcTo wR="1564" hR="1564" stAng="16200000" swAng="-5400000"/>
                <a:lnTo>
                  <a:pt x="0" y="100470"/>
                </a:lnTo>
                <a:arcTo wR="1564" hR="1564" stAng="10800000" swAng="-5400000"/>
                <a:lnTo>
                  <a:pt x="20036" y="102034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AutoShape 241"/>
          <p:cNvSpPr/>
          <p:nvPr/>
        </p:nvSpPr>
        <p:spPr>
          <a:xfrm>
            <a:off x="1557360" y="1908000"/>
            <a:ext cx="3816360" cy="612000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120000"/>
              <a:gd name="textAreaBottom" fmla="*/ 6094440 h 6120000"/>
            </a:gdLst>
            <a:ahLst/>
            <a:rect l="textAreaLeft" t="textAreaTop" r="textAreaRight" b="textAreaBottom"/>
            <a:pathLst>
              <a:path w="21600" h="34637">
                <a:moveTo>
                  <a:pt x="495" y="0"/>
                </a:moveTo>
                <a:arcTo wR="495" hR="495" stAng="16200000" swAng="-5400000"/>
                <a:lnTo>
                  <a:pt x="0" y="34142"/>
                </a:lnTo>
                <a:arcTo wR="495" hR="495" stAng="10800000" swAng="-5400000"/>
                <a:lnTo>
                  <a:pt x="21105" y="34637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AutoShape 242"/>
          <p:cNvSpPr/>
          <p:nvPr/>
        </p:nvSpPr>
        <p:spPr>
          <a:xfrm>
            <a:off x="333360" y="1908000"/>
            <a:ext cx="1224000" cy="612000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120000"/>
              <a:gd name="textAreaBottom" fmla="*/ 6094080 h 6120000"/>
            </a:gdLst>
            <a:ahLst/>
            <a:rect l="textAreaLeft" t="textAreaTop" r="textAreaRight" b="textAreaBottom"/>
            <a:pathLst>
              <a:path w="21600" h="107975">
                <a:moveTo>
                  <a:pt x="1564" y="0"/>
                </a:moveTo>
                <a:arcTo wR="1564" hR="1564" stAng="16200000" swAng="-5400000"/>
                <a:lnTo>
                  <a:pt x="0" y="106411"/>
                </a:lnTo>
                <a:arcTo wR="1564" hR="1564" stAng="10800000" swAng="-5400000"/>
                <a:lnTo>
                  <a:pt x="20036" y="107975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AutoShape 534"/>
          <p:cNvSpPr/>
          <p:nvPr/>
        </p:nvSpPr>
        <p:spPr>
          <a:xfrm>
            <a:off x="333360" y="161928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700"/>
          <p:cNvSpPr/>
          <p:nvPr/>
        </p:nvSpPr>
        <p:spPr>
          <a:xfrm>
            <a:off x="369720" y="1692360"/>
            <a:ext cx="11512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653"/>
          <p:cNvSpPr/>
          <p:nvPr/>
        </p:nvSpPr>
        <p:spPr>
          <a:xfrm>
            <a:off x="1689120" y="2085840"/>
            <a:ext cx="352908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Procedimiento Espec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AutoShape 648"/>
          <p:cNvSpPr/>
          <p:nvPr/>
        </p:nvSpPr>
        <p:spPr>
          <a:xfrm>
            <a:off x="3160800" y="254808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In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663"/>
          <p:cNvSpPr/>
          <p:nvPr/>
        </p:nvSpPr>
        <p:spPr>
          <a:xfrm>
            <a:off x="5364000" y="2943360"/>
            <a:ext cx="12970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664"/>
          <p:cNvSpPr/>
          <p:nvPr/>
        </p:nvSpPr>
        <p:spPr>
          <a:xfrm>
            <a:off x="5365800" y="3340080"/>
            <a:ext cx="12952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Notificación de emplazami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665"/>
          <p:cNvSpPr/>
          <p:nvPr/>
        </p:nvSpPr>
        <p:spPr>
          <a:xfrm>
            <a:off x="5365800" y="3772080"/>
            <a:ext cx="12826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Informe de omisión de DS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660"/>
          <p:cNvSpPr/>
          <p:nvPr/>
        </p:nvSpPr>
        <p:spPr>
          <a:xfrm>
            <a:off x="325440" y="2882880"/>
            <a:ext cx="1224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l Departamento de Asuntos Jurídic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664"/>
          <p:cNvSpPr/>
          <p:nvPr/>
        </p:nvSpPr>
        <p:spPr>
          <a:xfrm>
            <a:off x="5365800" y="2882880"/>
            <a:ext cx="12952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cuerdo de requerimiento por omisión de situación patrimon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661"/>
          <p:cNvSpPr/>
          <p:nvPr/>
        </p:nvSpPr>
        <p:spPr>
          <a:xfrm>
            <a:off x="325440" y="3340080"/>
            <a:ext cx="12240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l Departamento de Asuntos Jurídic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653"/>
          <p:cNvSpPr/>
          <p:nvPr/>
        </p:nvSpPr>
        <p:spPr>
          <a:xfrm>
            <a:off x="1692360" y="2882880"/>
            <a:ext cx="3529080" cy="28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mite acuerdo de requerimiento por omisión en la entrega de declaración de situación patrimon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4" name="AutoShape 685"/>
          <p:cNvCxnSpPr/>
          <p:nvPr/>
        </p:nvCxnSpPr>
        <p:spPr>
          <a:xfrm>
            <a:off x="3452400" y="2712960"/>
            <a:ext cx="1080" cy="170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5" name="18 Rectángulo"/>
          <p:cNvSpPr/>
          <p:nvPr/>
        </p:nvSpPr>
        <p:spPr>
          <a:xfrm>
            <a:off x="1692360" y="3340080"/>
            <a:ext cx="3529080" cy="25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hace notificación y emplazamiento al involucra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18 Rectángulo"/>
          <p:cNvSpPr/>
          <p:nvPr/>
        </p:nvSpPr>
        <p:spPr>
          <a:xfrm>
            <a:off x="1692360" y="3772080"/>
            <a:ext cx="35290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cibe informe con justificación de declaración de situación patrimon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AutoShape 32"/>
          <p:cNvCxnSpPr>
            <a:stCxn id="425" idx="2"/>
            <a:endCxn id="426" idx="0"/>
          </p:cNvCxnSpPr>
          <p:nvPr/>
        </p:nvCxnSpPr>
        <p:spPr>
          <a:xfrm>
            <a:off x="3455640" y="3594240"/>
            <a:ext cx="1080" cy="17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8" name="AutoShape 685"/>
          <p:cNvCxnSpPr>
            <a:stCxn id="423" idx="2"/>
            <a:endCxn id="425" idx="0"/>
          </p:cNvCxnSpPr>
          <p:nvPr/>
        </p:nvCxnSpPr>
        <p:spPr>
          <a:xfrm>
            <a:off x="3455640" y="3165120"/>
            <a:ext cx="1080" cy="17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9" name="Rectangle 701"/>
          <p:cNvSpPr/>
          <p:nvPr/>
        </p:nvSpPr>
        <p:spPr>
          <a:xfrm>
            <a:off x="334800" y="37720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l Departamento de Asuntos Jurídic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653"/>
          <p:cNvSpPr/>
          <p:nvPr/>
        </p:nvSpPr>
        <p:spPr>
          <a:xfrm>
            <a:off x="1698480" y="4670280"/>
            <a:ext cx="14432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gún las causas se valora para emitir respues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1" name="AutoShape 681"/>
          <p:cNvCxnSpPr>
            <a:endCxn id="432" idx="0"/>
          </p:cNvCxnSpPr>
          <p:nvPr/>
        </p:nvCxnSpPr>
        <p:spPr>
          <a:xfrm flipH="1">
            <a:off x="3464640" y="4066920"/>
            <a:ext cx="3420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3" name="AutoShape 684"/>
          <p:cNvCxnSpPr>
            <a:stCxn id="430" idx="2"/>
            <a:endCxn id="434" idx="0"/>
          </p:cNvCxnSpPr>
          <p:nvPr/>
        </p:nvCxnSpPr>
        <p:spPr>
          <a:xfrm flipH="1">
            <a:off x="2418480" y="5173560"/>
            <a:ext cx="2520" cy="26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5" name="Rectangle 664"/>
          <p:cNvSpPr/>
          <p:nvPr/>
        </p:nvSpPr>
        <p:spPr>
          <a:xfrm>
            <a:off x="5373720" y="4788000"/>
            <a:ext cx="12952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Resolución de sanción / justificación de DS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661"/>
          <p:cNvSpPr/>
          <p:nvPr/>
        </p:nvSpPr>
        <p:spPr>
          <a:xfrm>
            <a:off x="333360" y="4670280"/>
            <a:ext cx="1224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Contralor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18 Rectángulo"/>
          <p:cNvSpPr/>
          <p:nvPr/>
        </p:nvSpPr>
        <p:spPr>
          <a:xfrm>
            <a:off x="3857760" y="4670280"/>
            <a:ext cx="1439640" cy="503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dicta resolución y san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8" name="AutoShape 32"/>
          <p:cNvCxnSpPr>
            <a:stCxn id="437" idx="2"/>
            <a:endCxn id="439" idx="0"/>
          </p:cNvCxnSpPr>
          <p:nvPr/>
        </p:nvCxnSpPr>
        <p:spPr>
          <a:xfrm flipH="1">
            <a:off x="4575960" y="5173560"/>
            <a:ext cx="2520" cy="26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2" name="34 Decisión"/>
          <p:cNvSpPr/>
          <p:nvPr/>
        </p:nvSpPr>
        <p:spPr>
          <a:xfrm>
            <a:off x="2708280" y="4211640"/>
            <a:ext cx="1512720" cy="50472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¿Justificación valida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0" name="AutoShape 55"/>
          <p:cNvCxnSpPr>
            <a:stCxn id="432" idx="3"/>
            <a:endCxn id="437" idx="0"/>
          </p:cNvCxnSpPr>
          <p:nvPr/>
        </p:nvCxnSpPr>
        <p:spPr>
          <a:xfrm>
            <a:off x="4220640" y="4463640"/>
            <a:ext cx="358200" cy="207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1" name="48 CuadroTexto"/>
          <p:cNvSpPr/>
          <p:nvPr/>
        </p:nvSpPr>
        <p:spPr>
          <a:xfrm>
            <a:off x="2205000" y="4210920"/>
            <a:ext cx="71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48 CuadroTexto"/>
          <p:cNvSpPr/>
          <p:nvPr/>
        </p:nvSpPr>
        <p:spPr>
          <a:xfrm>
            <a:off x="4221000" y="4229280"/>
            <a:ext cx="714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3" name="AutoShape 55"/>
          <p:cNvCxnSpPr>
            <a:stCxn id="432" idx="1"/>
            <a:endCxn id="430" idx="0"/>
          </p:cNvCxnSpPr>
          <p:nvPr/>
        </p:nvCxnSpPr>
        <p:spPr>
          <a:xfrm flipV="1" rot="10800000">
            <a:off x="2420280" y="4462920"/>
            <a:ext cx="288000" cy="207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4" name="Rectangle 653"/>
          <p:cNvSpPr/>
          <p:nvPr/>
        </p:nvSpPr>
        <p:spPr>
          <a:xfrm>
            <a:off x="1698480" y="5437080"/>
            <a:ext cx="14432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 emplaza a la persona involucrad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4" name="AutoShape 684"/>
          <p:cNvCxnSpPr/>
          <p:nvPr/>
        </p:nvCxnSpPr>
        <p:spPr>
          <a:xfrm>
            <a:off x="2563560" y="594036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5" name="Rectangle 664"/>
          <p:cNvSpPr/>
          <p:nvPr/>
        </p:nvSpPr>
        <p:spPr>
          <a:xfrm>
            <a:off x="5373720" y="5554800"/>
            <a:ext cx="1295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Notificación de sanción / emplazami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661"/>
          <p:cNvSpPr/>
          <p:nvPr/>
        </p:nvSpPr>
        <p:spPr>
          <a:xfrm>
            <a:off x="333360" y="5437080"/>
            <a:ext cx="1224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Contralor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18 Rectángulo"/>
          <p:cNvSpPr/>
          <p:nvPr/>
        </p:nvSpPr>
        <p:spPr>
          <a:xfrm>
            <a:off x="3857760" y="5437080"/>
            <a:ext cx="1439640" cy="503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notifica resolución y sanción a la persona involucrad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7" name="AutoShape 32"/>
          <p:cNvCxnSpPr/>
          <p:nvPr/>
        </p:nvCxnSpPr>
        <p:spPr>
          <a:xfrm>
            <a:off x="4573080" y="5940360"/>
            <a:ext cx="396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8" name="Rectangle 663"/>
          <p:cNvSpPr/>
          <p:nvPr/>
        </p:nvSpPr>
        <p:spPr>
          <a:xfrm>
            <a:off x="5372280" y="7172280"/>
            <a:ext cx="12967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ectangle 664"/>
          <p:cNvSpPr/>
          <p:nvPr/>
        </p:nvSpPr>
        <p:spPr>
          <a:xfrm>
            <a:off x="5373720" y="7020000"/>
            <a:ext cx="12952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Notificación de san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661"/>
          <p:cNvSpPr/>
          <p:nvPr/>
        </p:nvSpPr>
        <p:spPr>
          <a:xfrm>
            <a:off x="333360" y="709308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Contralor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18 Rectángulo"/>
          <p:cNvSpPr/>
          <p:nvPr/>
        </p:nvSpPr>
        <p:spPr>
          <a:xfrm>
            <a:off x="2781360" y="6983280"/>
            <a:ext cx="792000" cy="468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notifica al involucra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2" name="AutoShape 32"/>
          <p:cNvCxnSpPr/>
          <p:nvPr/>
        </p:nvCxnSpPr>
        <p:spPr>
          <a:xfrm>
            <a:off x="3212640" y="7451640"/>
            <a:ext cx="252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3" name="34 Decisión"/>
          <p:cNvSpPr/>
          <p:nvPr/>
        </p:nvSpPr>
        <p:spPr>
          <a:xfrm>
            <a:off x="2135160" y="6156360"/>
            <a:ext cx="1025640" cy="61128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Times New Roman"/>
              </a:rPr>
              <a:t>¿Sanción?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4" name="AutoShape 55"/>
          <p:cNvCxnSpPr/>
          <p:nvPr/>
        </p:nvCxnSpPr>
        <p:spPr>
          <a:xfrm>
            <a:off x="3141720" y="6470640"/>
            <a:ext cx="411840" cy="504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5" name="48 CuadroTexto"/>
          <p:cNvSpPr/>
          <p:nvPr/>
        </p:nvSpPr>
        <p:spPr>
          <a:xfrm>
            <a:off x="1778040" y="6279480"/>
            <a:ext cx="71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48 CuadroTexto"/>
          <p:cNvSpPr/>
          <p:nvPr/>
        </p:nvSpPr>
        <p:spPr>
          <a:xfrm>
            <a:off x="3208320" y="6227640"/>
            <a:ext cx="71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7" name="AutoShape 55"/>
          <p:cNvCxnSpPr>
            <a:stCxn id="453" idx="1"/>
          </p:cNvCxnSpPr>
          <p:nvPr/>
        </p:nvCxnSpPr>
        <p:spPr>
          <a:xfrm flipV="1" rot="10800000">
            <a:off x="2025000" y="6462360"/>
            <a:ext cx="110160" cy="521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8" name="Oval 75"/>
          <p:cNvSpPr/>
          <p:nvPr/>
        </p:nvSpPr>
        <p:spPr>
          <a:xfrm>
            <a:off x="2565360" y="7451640"/>
            <a:ext cx="21600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9" name="AutoShape 684"/>
          <p:cNvCxnSpPr/>
          <p:nvPr/>
        </p:nvCxnSpPr>
        <p:spPr>
          <a:xfrm>
            <a:off x="2781000" y="7524360"/>
            <a:ext cx="432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0" name="Oval 75"/>
          <p:cNvSpPr/>
          <p:nvPr/>
        </p:nvSpPr>
        <p:spPr>
          <a:xfrm>
            <a:off x="1917720" y="7020000"/>
            <a:ext cx="287280" cy="288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Oval 34"/>
          <p:cNvSpPr/>
          <p:nvPr/>
        </p:nvSpPr>
        <p:spPr>
          <a:xfrm>
            <a:off x="2924280" y="7667640"/>
            <a:ext cx="577800" cy="289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Oval 75"/>
          <p:cNvSpPr/>
          <p:nvPr/>
        </p:nvSpPr>
        <p:spPr>
          <a:xfrm>
            <a:off x="4470480" y="694836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18 Rectángulo"/>
          <p:cNvSpPr/>
          <p:nvPr/>
        </p:nvSpPr>
        <p:spPr>
          <a:xfrm>
            <a:off x="3922560" y="6135840"/>
            <a:ext cx="1440000" cy="50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verifica aplicación de la san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4" name="AutoShape 32"/>
          <p:cNvCxnSpPr/>
          <p:nvPr/>
        </p:nvCxnSpPr>
        <p:spPr>
          <a:xfrm>
            <a:off x="4578120" y="6668640"/>
            <a:ext cx="1080" cy="27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AutoShape 238"/>
          <p:cNvSpPr/>
          <p:nvPr/>
        </p:nvSpPr>
        <p:spPr>
          <a:xfrm>
            <a:off x="1557360" y="161784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AutoShape 239"/>
          <p:cNvSpPr/>
          <p:nvPr/>
        </p:nvSpPr>
        <p:spPr>
          <a:xfrm>
            <a:off x="5373720" y="161784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AutoShape 240"/>
          <p:cNvSpPr/>
          <p:nvPr/>
        </p:nvSpPr>
        <p:spPr>
          <a:xfrm>
            <a:off x="5373720" y="1908000"/>
            <a:ext cx="1295280" cy="612000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120000"/>
              <a:gd name="textAreaBottom" fmla="*/ 6092640 h 6120000"/>
            </a:gdLst>
            <a:ahLst/>
            <a:rect l="textAreaLeft" t="textAreaTop" r="textAreaRight" b="textAreaBottom"/>
            <a:pathLst>
              <a:path w="21600" h="102034">
                <a:moveTo>
                  <a:pt x="1564" y="0"/>
                </a:moveTo>
                <a:arcTo wR="1564" hR="1564" stAng="16200000" swAng="-5400000"/>
                <a:lnTo>
                  <a:pt x="0" y="100470"/>
                </a:lnTo>
                <a:arcTo wR="1564" hR="1564" stAng="10800000" swAng="-5400000"/>
                <a:lnTo>
                  <a:pt x="20036" y="102034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AutoShape 241"/>
          <p:cNvSpPr/>
          <p:nvPr/>
        </p:nvSpPr>
        <p:spPr>
          <a:xfrm>
            <a:off x="1557360" y="1908000"/>
            <a:ext cx="3816360" cy="612000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120000"/>
              <a:gd name="textAreaBottom" fmla="*/ 6094440 h 6120000"/>
            </a:gdLst>
            <a:ahLst/>
            <a:rect l="textAreaLeft" t="textAreaTop" r="textAreaRight" b="textAreaBottom"/>
            <a:pathLst>
              <a:path w="21600" h="34637">
                <a:moveTo>
                  <a:pt x="495" y="0"/>
                </a:moveTo>
                <a:arcTo wR="495" hR="495" stAng="16200000" swAng="-5400000"/>
                <a:lnTo>
                  <a:pt x="0" y="34142"/>
                </a:lnTo>
                <a:arcTo wR="495" hR="495" stAng="10800000" swAng="-5400000"/>
                <a:lnTo>
                  <a:pt x="21105" y="34637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AutoShape 242"/>
          <p:cNvSpPr/>
          <p:nvPr/>
        </p:nvSpPr>
        <p:spPr>
          <a:xfrm>
            <a:off x="333360" y="1908000"/>
            <a:ext cx="1224000" cy="612000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120000"/>
              <a:gd name="textAreaBottom" fmla="*/ 6094080 h 6120000"/>
            </a:gdLst>
            <a:ahLst/>
            <a:rect l="textAreaLeft" t="textAreaTop" r="textAreaRight" b="textAreaBottom"/>
            <a:pathLst>
              <a:path w="21600" h="107975">
                <a:moveTo>
                  <a:pt x="1564" y="0"/>
                </a:moveTo>
                <a:arcTo wR="1564" hR="1564" stAng="16200000" swAng="-5400000"/>
                <a:lnTo>
                  <a:pt x="0" y="106411"/>
                </a:lnTo>
                <a:arcTo wR="1564" hR="1564" stAng="10800000" swAng="-5400000"/>
                <a:lnTo>
                  <a:pt x="20036" y="107975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AutoShape 534"/>
          <p:cNvSpPr/>
          <p:nvPr/>
        </p:nvSpPr>
        <p:spPr>
          <a:xfrm>
            <a:off x="333360" y="161784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700"/>
          <p:cNvSpPr/>
          <p:nvPr/>
        </p:nvSpPr>
        <p:spPr>
          <a:xfrm>
            <a:off x="369720" y="1692360"/>
            <a:ext cx="11512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653"/>
          <p:cNvSpPr/>
          <p:nvPr/>
        </p:nvSpPr>
        <p:spPr>
          <a:xfrm>
            <a:off x="1682640" y="2152800"/>
            <a:ext cx="3529080" cy="19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Normativ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AutoShape 648"/>
          <p:cNvSpPr/>
          <p:nvPr/>
        </p:nvSpPr>
        <p:spPr>
          <a:xfrm>
            <a:off x="3160800" y="254808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In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663"/>
          <p:cNvSpPr/>
          <p:nvPr/>
        </p:nvSpPr>
        <p:spPr>
          <a:xfrm>
            <a:off x="5364000" y="2943360"/>
            <a:ext cx="12970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Rectangle 664"/>
          <p:cNvSpPr/>
          <p:nvPr/>
        </p:nvSpPr>
        <p:spPr>
          <a:xfrm>
            <a:off x="5365800" y="3340080"/>
            <a:ext cx="12952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Proyecto de Normativid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Rectangle 665"/>
          <p:cNvSpPr/>
          <p:nvPr/>
        </p:nvSpPr>
        <p:spPr>
          <a:xfrm>
            <a:off x="5365800" y="3772080"/>
            <a:ext cx="12826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Proyecto de Normativid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660"/>
          <p:cNvSpPr/>
          <p:nvPr/>
        </p:nvSpPr>
        <p:spPr>
          <a:xfrm>
            <a:off x="325440" y="2882880"/>
            <a:ext cx="1224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l Departamento de Asuntos Jurídic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664"/>
          <p:cNvSpPr/>
          <p:nvPr/>
        </p:nvSpPr>
        <p:spPr>
          <a:xfrm>
            <a:off x="5365800" y="2882880"/>
            <a:ext cx="12952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Lineamientos / Políticas / Circulares / Manu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Rectangle 661"/>
          <p:cNvSpPr/>
          <p:nvPr/>
        </p:nvSpPr>
        <p:spPr>
          <a:xfrm>
            <a:off x="325440" y="3340080"/>
            <a:ext cx="12240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l Departamento de Asuntos Jurídic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Rectangle 653"/>
          <p:cNvSpPr/>
          <p:nvPr/>
        </p:nvSpPr>
        <p:spPr>
          <a:xfrm>
            <a:off x="1692360" y="2882880"/>
            <a:ext cx="3529080" cy="28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 analiza la necesidad de crear Normativid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1" name="AutoShape 685"/>
          <p:cNvCxnSpPr/>
          <p:nvPr/>
        </p:nvCxnSpPr>
        <p:spPr>
          <a:xfrm>
            <a:off x="3452400" y="2712960"/>
            <a:ext cx="1080" cy="170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2" name="18 Rectángulo"/>
          <p:cNvSpPr/>
          <p:nvPr/>
        </p:nvSpPr>
        <p:spPr>
          <a:xfrm>
            <a:off x="1692360" y="3340080"/>
            <a:ext cx="3529080" cy="25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labora un proyecto de Normativid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18 Rectángulo"/>
          <p:cNvSpPr/>
          <p:nvPr/>
        </p:nvSpPr>
        <p:spPr>
          <a:xfrm>
            <a:off x="1692360" y="3772080"/>
            <a:ext cx="35290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somete a consideración por parte de la Comisión de Reglamentos  y/o Consejo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4" name="AutoShape 32"/>
          <p:cNvCxnSpPr>
            <a:stCxn id="482" idx="2"/>
            <a:endCxn id="483" idx="0"/>
          </p:cNvCxnSpPr>
          <p:nvPr/>
        </p:nvCxnSpPr>
        <p:spPr>
          <a:xfrm>
            <a:off x="3455640" y="3594240"/>
            <a:ext cx="1080" cy="17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5" name="AutoShape 685"/>
          <p:cNvCxnSpPr>
            <a:stCxn id="480" idx="2"/>
            <a:endCxn id="482" idx="0"/>
          </p:cNvCxnSpPr>
          <p:nvPr/>
        </p:nvCxnSpPr>
        <p:spPr>
          <a:xfrm>
            <a:off x="3455640" y="3165120"/>
            <a:ext cx="1080" cy="17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6" name="Rectangle 701"/>
          <p:cNvSpPr/>
          <p:nvPr/>
        </p:nvSpPr>
        <p:spPr>
          <a:xfrm>
            <a:off x="334800" y="37720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l departamento de Asuntos Jurídic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Oval 34"/>
          <p:cNvSpPr/>
          <p:nvPr/>
        </p:nvSpPr>
        <p:spPr>
          <a:xfrm>
            <a:off x="2133720" y="5435640"/>
            <a:ext cx="577800" cy="288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Rectangle 653"/>
          <p:cNvSpPr/>
          <p:nvPr/>
        </p:nvSpPr>
        <p:spPr>
          <a:xfrm>
            <a:off x="1698480" y="4670280"/>
            <a:ext cx="14432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instala y se queda vigente en el IEPC y se le da seguimiento para su aplic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9" name="AutoShape 681"/>
          <p:cNvCxnSpPr>
            <a:endCxn id="490" idx="0"/>
          </p:cNvCxnSpPr>
          <p:nvPr/>
        </p:nvCxnSpPr>
        <p:spPr>
          <a:xfrm flipH="1">
            <a:off x="3498120" y="406692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1" name="AutoShape 684"/>
          <p:cNvCxnSpPr>
            <a:stCxn id="488" idx="2"/>
          </p:cNvCxnSpPr>
          <p:nvPr/>
        </p:nvCxnSpPr>
        <p:spPr>
          <a:xfrm flipH="1">
            <a:off x="2418480" y="5173560"/>
            <a:ext cx="2520" cy="26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2" name="Rectangle 664"/>
          <p:cNvSpPr/>
          <p:nvPr/>
        </p:nvSpPr>
        <p:spPr>
          <a:xfrm>
            <a:off x="5373720" y="4788000"/>
            <a:ext cx="12952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Proyecto de Normatividad aproba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Rectangle 661"/>
          <p:cNvSpPr/>
          <p:nvPr/>
        </p:nvSpPr>
        <p:spPr>
          <a:xfrm>
            <a:off x="333360" y="4670280"/>
            <a:ext cx="1224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Contralor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34 Decisión"/>
          <p:cNvSpPr/>
          <p:nvPr/>
        </p:nvSpPr>
        <p:spPr>
          <a:xfrm>
            <a:off x="2776680" y="4211640"/>
            <a:ext cx="1444320" cy="50472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¿Aprueba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4" name="AutoShape 55"/>
          <p:cNvCxnSpPr>
            <a:stCxn id="490" idx="3"/>
          </p:cNvCxnSpPr>
          <p:nvPr/>
        </p:nvCxnSpPr>
        <p:spPr>
          <a:xfrm>
            <a:off x="4220640" y="4463640"/>
            <a:ext cx="358200" cy="207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5" name="48 CuadroTexto"/>
          <p:cNvSpPr/>
          <p:nvPr/>
        </p:nvSpPr>
        <p:spPr>
          <a:xfrm>
            <a:off x="2205000" y="4210920"/>
            <a:ext cx="71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48 CuadroTexto"/>
          <p:cNvSpPr/>
          <p:nvPr/>
        </p:nvSpPr>
        <p:spPr>
          <a:xfrm>
            <a:off x="4221000" y="4229280"/>
            <a:ext cx="714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7" name="AutoShape 55"/>
          <p:cNvCxnSpPr>
            <a:stCxn id="490" idx="1"/>
            <a:endCxn id="488" idx="0"/>
          </p:cNvCxnSpPr>
          <p:nvPr/>
        </p:nvCxnSpPr>
        <p:spPr>
          <a:xfrm flipV="1" rot="10800000">
            <a:off x="2420280" y="4462920"/>
            <a:ext cx="356400" cy="207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8" name="Oval 75"/>
          <p:cNvSpPr/>
          <p:nvPr/>
        </p:nvSpPr>
        <p:spPr>
          <a:xfrm>
            <a:off x="4437000" y="471636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Oval 75"/>
          <p:cNvSpPr/>
          <p:nvPr/>
        </p:nvSpPr>
        <p:spPr>
          <a:xfrm>
            <a:off x="1773360" y="5219640"/>
            <a:ext cx="215640" cy="14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0" name="AutoShape 684"/>
          <p:cNvCxnSpPr/>
          <p:nvPr/>
        </p:nvCxnSpPr>
        <p:spPr>
          <a:xfrm>
            <a:off x="1989000" y="5292360"/>
            <a:ext cx="432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norma.martinez</cp:lastModifiedBy>
  <cp:lastPrinted>2013-07-09T19:23:00Z</cp:lastPrinted>
  <dcterms:modified xsi:type="dcterms:W3CDTF">2013-07-09T20:16:23Z</dcterms:modified>
  <cp:revision>360</cp:revision>
  <dc:subject/>
  <dc:title>Presentación de PowerPoint</dc:title>
</cp:coreProperties>
</file>