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939-17DA-41AE-BAB2-A03B0F3B14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532-9C94-4D9C-8576-BFF76DE5D1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8B67-B7C4-4E67-AE1C-9D4612E630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CD3-2152-4243-8466-1D2B97C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74F-4A0C-4895-B0BA-1927627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E40-101D-4926-BB18-228C110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69D-9264-4CF4-B237-E08ECEC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5BA-96B1-424B-87C2-D35AB49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072-63FD-414B-9D62-AC7E64E5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C59-D0A2-4180-8AB5-70EE3AE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E82-A822-4AA5-AD57-89E83BD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401-5165-43E7-A7C3-994E6A0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42F-2B81-4434-9941-A57456C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9D1-F059-4041-8A5D-FF683346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B58-2A65-4502-B9A8-27C04098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09F-1048-4C3A-9E51-24CA9E2B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210-D55A-4EF9-83DC-1AC419BF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2C4F-293D-4E79-9C41-AFEFA5D0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F3CA-7184-4E85-8B26-232983E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E135-D19A-4404-82A7-69056E33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E379-97DB-4C47-B5CE-AF3CBCD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9200-2E6E-4907-8C81-2229E05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DD8-474A-4170-9307-E7F76F8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3D1D-32E9-4955-9DB6-606C063E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D06-B903-4E88-80DE-DAA1CE9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3A7-E4B7-46AC-97FB-EF88DD67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301E-0260-4B92-92B5-B315B7B8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C20A538-A169-4287-9462-4EEF32009B2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175A-BA86-4623-9F3A-EF44B96D6D3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BEEF-2322-41F1-8F1B-1DF79CA6362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incluyo terminologia y se agregraron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torgar el nombramiento de los representantes de los partidos políticos ante las M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Identificar la asignación de los representantes de los partidos políticos ante mesa directiva de cas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DC: Mesa Directiva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calendario para registro de represen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771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listados o formatos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492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stado de partidos polít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7" idx="2"/>
            <a:endCxn id="163" idx="0"/>
          </p:cNvCxnSpPr>
          <p:nvPr/>
        </p:nvCxnSpPr>
        <p:spPr>
          <a:xfrm>
            <a:off x="3498480" y="2555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987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6272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 de M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lista a consejeros distritales para asignación de paquetes electorales y se remite el paquete a presidentes de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490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acreditación de personal de acuerdo a listado y se expide y se hace entrega de los nombramientos a los partidos polític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3" idx="2"/>
            <a:endCxn id="174" idx="0"/>
          </p:cNvCxnSpPr>
          <p:nvPr/>
        </p:nvCxnSpPr>
        <p:spPr>
          <a:xfrm flipH="1">
            <a:off x="3499560" y="334764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32"/>
          <p:cNvCxnSpPr>
            <a:stCxn id="174" idx="2"/>
          </p:cNvCxnSpPr>
          <p:nvPr/>
        </p:nvCxnSpPr>
        <p:spPr>
          <a:xfrm>
            <a:off x="3499920" y="3706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distritales / subcoordinador distrital /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al de organiz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 manual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rueban formatos de registro de representa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1"/>
          <p:cNvCxnSpPr>
            <a:endCxn id="167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2:01:14Z</dcterms:modified>
  <cp:revision>320</cp:revision>
  <dc:subject/>
  <dc:title>Presentación de PowerPoint</dc:title>
</cp:coreProperties>
</file>