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46D7-5863-4B52-BFA0-DFE0F82823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D50E-2498-45B7-9215-CE7B3B3BF2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1E9C-F7C8-44F2-A731-BE478EB396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7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88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3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Revisión Administ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5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52601C6B-1251-49DF-A6F1-B83FD6114D4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0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1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12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3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14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5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16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17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18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19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20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21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22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CDC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3578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645080"/>
          <a:ext cx="6048360" cy="8730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34"/>
          <p:cNvSpPr/>
          <p:nvPr/>
        </p:nvSpPr>
        <p:spPr>
          <a:xfrm>
            <a:off x="32868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Revisar periódicamente el Sistema de Gestión de Calidad del  Instituto Electoral y de Participacion Ciudadana para asegurar el cumplimiento de los requisitos de la Norma Internacional ISO 9001:20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35"/>
          <p:cNvSpPr/>
          <p:nvPr/>
        </p:nvSpPr>
        <p:spPr>
          <a:xfrm>
            <a:off x="333360" y="2166840"/>
            <a:ext cx="632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al Comité de Calidad de  Instituto Electoral y de Participación Ciudadana en el Proceso de Servicios de fiscalización, proceso administrativo Sancionador; y reclutamiento y Selección de Capacitadores Asistentes Electorales (CAE´S) del IEPCJ como apoyo en la Organización de las elecciones constitucionales y mecanismos de participación ciudadana del estado de Jalisco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6"/>
          <p:cNvSpPr/>
          <p:nvPr/>
        </p:nvSpPr>
        <p:spPr>
          <a:xfrm>
            <a:off x="325440" y="3078000"/>
            <a:ext cx="6335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DC: Comité de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GC: Sistema de Gestión de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00"/>
          <p:cNvSpPr/>
          <p:nvPr/>
        </p:nvSpPr>
        <p:spPr>
          <a:xfrm>
            <a:off x="1628640" y="1979640"/>
            <a:ext cx="3672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leva a cabo reunión como mínimo 2 veces al año, quedando a consideración del CDC realizar reuniones extraordinar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01"/>
          <p:cNvSpPr/>
          <p:nvPr/>
        </p:nvSpPr>
        <p:spPr>
          <a:xfrm>
            <a:off x="1628640" y="2556000"/>
            <a:ext cx="367200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 los miembros del CDC la  fecha exacta de la próxima reun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02"/>
          <p:cNvSpPr/>
          <p:nvPr/>
        </p:nvSpPr>
        <p:spPr>
          <a:xfrm>
            <a:off x="1649520" y="3059280"/>
            <a:ext cx="3632040" cy="160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ordinan con el Responsable de cada área la información para la revisión administrativa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sultados de Auditori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troalimentación del Cl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Desempeño de los procesos y conformidad del serv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Estado de Acciones correctivas y preventiva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Acciones de seguimiento de revisiones prev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Cambios que podrían afectar al SG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comendaciones para la mejor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Objetivos de Calida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Política de Calida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703"/>
          <p:cNvSpPr/>
          <p:nvPr/>
        </p:nvSpPr>
        <p:spPr>
          <a:xfrm>
            <a:off x="3068640" y="1692360"/>
            <a:ext cx="792000" cy="14436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AutoShape 704"/>
          <p:cNvCxnSpPr>
            <a:stCxn id="81" idx="2"/>
            <a:endCxn id="78" idx="0"/>
          </p:cNvCxnSpPr>
          <p:nvPr/>
        </p:nvCxnSpPr>
        <p:spPr>
          <a:xfrm>
            <a:off x="3465000" y="183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705"/>
          <p:cNvCxnSpPr>
            <a:stCxn id="78" idx="2"/>
            <a:endCxn id="79" idx="0"/>
          </p:cNvCxnSpPr>
          <p:nvPr/>
        </p:nvCxnSpPr>
        <p:spPr>
          <a:xfrm>
            <a:off x="3465000" y="2354400"/>
            <a:ext cx="10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706"/>
          <p:cNvCxnSpPr>
            <a:stCxn id="79" idx="2"/>
            <a:endCxn id="80" idx="0"/>
          </p:cNvCxnSpPr>
          <p:nvPr/>
        </p:nvCxnSpPr>
        <p:spPr>
          <a:xfrm>
            <a:off x="3465000" y="2793600"/>
            <a:ext cx="1080" cy="2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Text Box 707"/>
          <p:cNvSpPr/>
          <p:nvPr/>
        </p:nvSpPr>
        <p:spPr>
          <a:xfrm>
            <a:off x="1649520" y="4859280"/>
            <a:ext cx="363204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leva a cabo la revisión al asistir en su totalidad las personas que integran el CD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AutoShape 708"/>
          <p:cNvCxnSpPr>
            <a:stCxn id="80" idx="2"/>
            <a:endCxn id="85" idx="0"/>
          </p:cNvCxnSpPr>
          <p:nvPr/>
        </p:nvCxnSpPr>
        <p:spPr>
          <a:xfrm>
            <a:off x="3465000" y="4662000"/>
            <a:ext cx="108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710"/>
          <p:cNvCxnSpPr>
            <a:stCxn id="85" idx="2"/>
            <a:endCxn id="88" idx="0"/>
          </p:cNvCxnSpPr>
          <p:nvPr/>
        </p:nvCxnSpPr>
        <p:spPr>
          <a:xfrm>
            <a:off x="3465000" y="5097240"/>
            <a:ext cx="108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Text Box 711"/>
          <p:cNvSpPr/>
          <p:nvPr/>
        </p:nvSpPr>
        <p:spPr>
          <a:xfrm>
            <a:off x="333360" y="20397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12"/>
          <p:cNvSpPr/>
          <p:nvPr/>
        </p:nvSpPr>
        <p:spPr>
          <a:xfrm>
            <a:off x="333360" y="25560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13"/>
          <p:cNvSpPr/>
          <p:nvPr/>
        </p:nvSpPr>
        <p:spPr>
          <a:xfrm>
            <a:off x="333360" y="3492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 /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14"/>
          <p:cNvSpPr/>
          <p:nvPr/>
        </p:nvSpPr>
        <p:spPr>
          <a:xfrm>
            <a:off x="333360" y="4859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15"/>
          <p:cNvSpPr/>
          <p:nvPr/>
        </p:nvSpPr>
        <p:spPr>
          <a:xfrm>
            <a:off x="5373720" y="48592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16"/>
          <p:cNvSpPr/>
          <p:nvPr/>
        </p:nvSpPr>
        <p:spPr>
          <a:xfrm>
            <a:off x="5373720" y="255600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17"/>
          <p:cNvSpPr/>
          <p:nvPr/>
        </p:nvSpPr>
        <p:spPr>
          <a:xfrm>
            <a:off x="5373720" y="1979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Revisiones Administra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18"/>
          <p:cNvSpPr/>
          <p:nvPr/>
        </p:nvSpPr>
        <p:spPr>
          <a:xfrm>
            <a:off x="5373720" y="3071880"/>
            <a:ext cx="129528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ortes de Auditorias / Resultados de Encuestas de Satisfacción del Cliente / Concentrado de Acciones Correctivas y Preventivas /  Notificación de Altas, Bajas o Cambios / Indicadores de Desempeño /  Política de Calidad / Objetivos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19"/>
          <p:cNvSpPr/>
          <p:nvPr/>
        </p:nvSpPr>
        <p:spPr>
          <a:xfrm>
            <a:off x="1665360" y="5265720"/>
            <a:ext cx="36003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rata como mínimo los siguientes punto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sultados de Audi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troalimentación del Cl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Desempeño de los procesos y conformidad del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Estado de Acciones correctivas y preventiv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Acciones de seguimiento de revisiones previ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Cambios que podrían afectar al SG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Recomendaciones para la mejor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Política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Objetivos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20"/>
          <p:cNvSpPr/>
          <p:nvPr/>
        </p:nvSpPr>
        <p:spPr>
          <a:xfrm>
            <a:off x="1665360" y="6912000"/>
            <a:ext cx="3600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 los acuerdos y compromisos de la revisión, tales com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La mejora de la eficacia del SG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La mejora del servicio en relación con los requisitos del clien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264960" indent="-856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MS PGothic"/>
              </a:rPr>
              <a:t>Las necesidades de recursos detectad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721"/>
          <p:cNvCxnSpPr>
            <a:stCxn id="88" idx="2"/>
            <a:endCxn id="97" idx="0"/>
          </p:cNvCxnSpPr>
          <p:nvPr/>
        </p:nvCxnSpPr>
        <p:spPr>
          <a:xfrm>
            <a:off x="3465000" y="673272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AutoShape 722"/>
          <p:cNvSpPr/>
          <p:nvPr/>
        </p:nvSpPr>
        <p:spPr>
          <a:xfrm>
            <a:off x="3105000" y="7740720"/>
            <a:ext cx="719280" cy="14436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723"/>
          <p:cNvCxnSpPr>
            <a:stCxn id="97" idx="2"/>
            <a:endCxn id="99" idx="0"/>
          </p:cNvCxnSpPr>
          <p:nvPr/>
        </p:nvCxnSpPr>
        <p:spPr>
          <a:xfrm>
            <a:off x="3465000" y="75592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Text Box 724"/>
          <p:cNvSpPr/>
          <p:nvPr/>
        </p:nvSpPr>
        <p:spPr>
          <a:xfrm>
            <a:off x="333360" y="5724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25"/>
          <p:cNvSpPr/>
          <p:nvPr/>
        </p:nvSpPr>
        <p:spPr>
          <a:xfrm>
            <a:off x="333360" y="6950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GC / 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26"/>
          <p:cNvSpPr/>
          <p:nvPr/>
        </p:nvSpPr>
        <p:spPr>
          <a:xfrm>
            <a:off x="5373720" y="70930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27"/>
          <p:cNvSpPr/>
          <p:nvPr/>
        </p:nvSpPr>
        <p:spPr>
          <a:xfrm>
            <a:off x="5373720" y="5448240"/>
            <a:ext cx="1295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inuta de Juntas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centrado de Acciones  Correctivas y Preventivas / Resultados de Encuestas de Satisfacción del Cliente / Indicadores de Desemp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6-16T18:32:09Z</dcterms:modified>
  <cp:revision>158</cp:revision>
  <dc:subject/>
  <dc:title>Presentación de PowerPoint</dc:title>
</cp:coreProperties>
</file>