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E87C-9444-44A9-BFD8-818D54A8625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EF01-3FB3-4E21-B8C6-0DA444B3614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6934-A704-407A-8D38-B648A24E3C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A39C-EB04-4FC8-9425-16891D64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6EA4-C4C4-4008-AAF5-7B71F5D7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2EFC-1BD3-42A9-8B3A-558FD3E3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31CF-36E4-4144-9614-C0E73047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2CEE-CD8F-4063-A1BA-41C59D59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C4EA-1A4E-4ED3-B145-1413CBEF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363F-44C9-4C7B-B841-53F3243D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282B-B91F-4346-A6A7-A11163E5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E272-51C2-464F-8368-1636322E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56EB-0AF3-4654-A2A4-3FAD1D66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90B0-332E-4903-AD4B-971A97BA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06F-A229-4056-BC2A-C4A34A98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2F9A-1259-4D93-85B5-7521F5036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E39D-EDBF-49AA-89CB-339830EB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A35D-7859-40BD-B2FF-55460361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2586-5147-4358-9C99-A07515D6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7673-1AF5-465E-87EA-49E312CB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D480-7604-4A21-B228-2854FFCB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A710-C3C5-4AE8-94F2-ABC7952C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2803-BB68-40E8-A471-A4CC9679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86AF-B3CA-4EDF-BF26-3E75854A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5337-6C0D-4D23-A2B6-F7721635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A1D8-EE3A-49A6-80F8-F8F00739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3208-D6DB-4AB1-AD9A-16263C0F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vit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84B97F15-FE1D-4038-B929-EB753D1340F5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06280"/>
            <a:ext cx="316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1C4D-63A7-4305-A7BA-3C8B5EA8A96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2787-92FF-436A-B233-50D1A2490EF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Recibir, dar tramite y coadyuvar con UTI en entregar la información respecto delas solicitudes presentadas en términos de la ley de Transparencia e Información Pública del Estado de Jalisco y del Código Electoral y de Participación Ciudadana del Estado de Jalis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156120" y="169380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39440" y="185868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39800" y="19810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re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28640" y="2324160"/>
            <a:ext cx="360072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da vista al Consejero Presidente  de la Comisión de Adquisi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45960" y="42861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5"/>
          <p:cNvSpPr/>
          <p:nvPr/>
        </p:nvSpPr>
        <p:spPr>
          <a:xfrm>
            <a:off x="5315040" y="30686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vit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15040" y="2270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>
            <a:stCxn id="162" idx="2"/>
            <a:endCxn id="163" idx="0"/>
          </p:cNvCxnSpPr>
          <p:nvPr/>
        </p:nvCxnSpPr>
        <p:spPr>
          <a:xfrm flipH="1">
            <a:off x="3428280" y="2196720"/>
            <a:ext cx="11880" cy="1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endCxn id="169" idx="0"/>
          </p:cNvCxnSpPr>
          <p:nvPr/>
        </p:nvCxnSpPr>
        <p:spPr>
          <a:xfrm>
            <a:off x="3459240" y="2914560"/>
            <a:ext cx="21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700"/>
          <p:cNvSpPr/>
          <p:nvPr/>
        </p:nvSpPr>
        <p:spPr>
          <a:xfrm>
            <a:off x="417600" y="234324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27018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15040" y="26845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56"/>
          <p:cNvSpPr/>
          <p:nvPr/>
        </p:nvSpPr>
        <p:spPr>
          <a:xfrm>
            <a:off x="1660680" y="3059280"/>
            <a:ext cx="3600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giran invit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45960" y="34941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670040" y="34686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n solicitudes de aclaración de empresas sobre las invitaciones giradas vía correo electrónico, en su cas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644480" y="4257720"/>
            <a:ext cx="3600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logística de la sesión en la que tendrá verificativo la apertura de los sobres con la propuestas económ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32"/>
          <p:cNvCxnSpPr>
            <a:endCxn id="175" idx="0"/>
          </p:cNvCxnSpPr>
          <p:nvPr/>
        </p:nvCxnSpPr>
        <p:spPr>
          <a:xfrm>
            <a:off x="3444480" y="406692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18 Rectángulo"/>
          <p:cNvSpPr/>
          <p:nvPr/>
        </p:nvSpPr>
        <p:spPr>
          <a:xfrm flipV="1" rot="10800000">
            <a:off x="1663200" y="4700520"/>
            <a:ext cx="359748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esahoga la sesión de la Comisión de Adquisiciones en la que se adjudica a tun proveedor y se elabora la minuta respectiv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32"/>
          <p:cNvCxnSpPr>
            <a:endCxn id="177" idx="1"/>
          </p:cNvCxnSpPr>
          <p:nvPr/>
        </p:nvCxnSpPr>
        <p:spPr>
          <a:xfrm>
            <a:off x="3458880" y="448452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Rectangle 701"/>
          <p:cNvSpPr/>
          <p:nvPr/>
        </p:nvSpPr>
        <p:spPr>
          <a:xfrm>
            <a:off x="380880" y="3033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01"/>
          <p:cNvSpPr/>
          <p:nvPr/>
        </p:nvSpPr>
        <p:spPr>
          <a:xfrm>
            <a:off x="345960" y="38545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91000" y="3529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Electrónico vía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391000" y="38862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ormato correspondencia recibi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18 Rectángulo"/>
          <p:cNvSpPr/>
          <p:nvPr/>
        </p:nvSpPr>
        <p:spPr>
          <a:xfrm>
            <a:off x="1658880" y="594216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mite orden de compr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32"/>
          <p:cNvCxnSpPr/>
          <p:nvPr/>
        </p:nvCxnSpPr>
        <p:spPr>
          <a:xfrm>
            <a:off x="3406320" y="57261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Rectangle 666"/>
          <p:cNvSpPr/>
          <p:nvPr/>
        </p:nvSpPr>
        <p:spPr>
          <a:xfrm>
            <a:off x="5315040" y="19098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00"/>
          <p:cNvSpPr/>
          <p:nvPr/>
        </p:nvSpPr>
        <p:spPr>
          <a:xfrm>
            <a:off x="417600" y="1981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1"/>
          <p:cNvSpPr/>
          <p:nvPr/>
        </p:nvSpPr>
        <p:spPr>
          <a:xfrm>
            <a:off x="345960" y="47005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66"/>
          <p:cNvSpPr/>
          <p:nvPr/>
        </p:nvSpPr>
        <p:spPr>
          <a:xfrm>
            <a:off x="5391000" y="4718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AutoShape 32"/>
          <p:cNvCxnSpPr/>
          <p:nvPr/>
        </p:nvCxnSpPr>
        <p:spPr>
          <a:xfrm>
            <a:off x="3406320" y="621504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Rectangle 666"/>
          <p:cNvSpPr/>
          <p:nvPr/>
        </p:nvSpPr>
        <p:spPr>
          <a:xfrm>
            <a:off x="5391000" y="43419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ormatos de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684"/>
          <p:cNvCxnSpPr>
            <a:stCxn id="169" idx="2"/>
            <a:endCxn id="174" idx="0"/>
          </p:cNvCxnSpPr>
          <p:nvPr/>
        </p:nvCxnSpPr>
        <p:spPr>
          <a:xfrm>
            <a:off x="3460320" y="3347640"/>
            <a:ext cx="10440" cy="12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Oval 34"/>
          <p:cNvSpPr/>
          <p:nvPr/>
        </p:nvSpPr>
        <p:spPr>
          <a:xfrm>
            <a:off x="3117960" y="6445080"/>
            <a:ext cx="57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18 Rectángulo"/>
          <p:cNvSpPr/>
          <p:nvPr/>
        </p:nvSpPr>
        <p:spPr>
          <a:xfrm>
            <a:off x="1670040" y="38592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n los sobres cerrados con las propuestas económica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32"/>
          <p:cNvCxnSpPr/>
          <p:nvPr/>
        </p:nvCxnSpPr>
        <p:spPr>
          <a:xfrm>
            <a:off x="3444480" y="366372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18 Rectángulo"/>
          <p:cNvSpPr/>
          <p:nvPr/>
        </p:nvSpPr>
        <p:spPr>
          <a:xfrm flipV="1" rot="10800000">
            <a:off x="1663200" y="5237280"/>
            <a:ext cx="3597480" cy="48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hace del conocimiento de los proveedores el sentido del fall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AutoShape 32"/>
          <p:cNvCxnSpPr/>
          <p:nvPr/>
        </p:nvCxnSpPr>
        <p:spPr>
          <a:xfrm>
            <a:off x="3428640" y="502128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Rectangle 653"/>
          <p:cNvSpPr/>
          <p:nvPr/>
        </p:nvSpPr>
        <p:spPr>
          <a:xfrm>
            <a:off x="1628640" y="2673360"/>
            <a:ext cx="360072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lleva a cabo sesión en la que se aprueba girar invitaciones a proveedor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AutoShape 681"/>
          <p:cNvCxnSpPr>
            <a:stCxn id="163" idx="2"/>
            <a:endCxn id="197" idx="0"/>
          </p:cNvCxnSpPr>
          <p:nvPr/>
        </p:nvCxnSpPr>
        <p:spPr>
          <a:xfrm flipH="1">
            <a:off x="3428280" y="2556000"/>
            <a:ext cx="1080" cy="11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Rectangle 701"/>
          <p:cNvSpPr/>
          <p:nvPr/>
        </p:nvSpPr>
        <p:spPr>
          <a:xfrm>
            <a:off x="345960" y="5365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01"/>
          <p:cNvSpPr/>
          <p:nvPr/>
        </p:nvSpPr>
        <p:spPr>
          <a:xfrm>
            <a:off x="345960" y="644508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01"/>
          <p:cNvSpPr/>
          <p:nvPr/>
        </p:nvSpPr>
        <p:spPr>
          <a:xfrm>
            <a:off x="345960" y="59421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66"/>
          <p:cNvSpPr/>
          <p:nvPr/>
        </p:nvSpPr>
        <p:spPr>
          <a:xfrm>
            <a:off x="5391000" y="53290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rreo electrónico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66"/>
          <p:cNvSpPr/>
          <p:nvPr/>
        </p:nvSpPr>
        <p:spPr>
          <a:xfrm>
            <a:off x="5391000" y="5942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rreo electrónico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5-01T17:23:01Z</dcterms:modified>
  <cp:revision>317</cp:revision>
  <dc:subject/>
  <dc:title>Presentación de PowerPoint</dc:title>
</cp:coreProperties>
</file>