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63F8-DE08-4879-986A-DE21D95A46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B229-B7C0-494F-B0B3-19AB0A60E9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785-FC90-4FCD-9BE5-E700D35FC0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8FC-5E48-48AF-9C64-E2E86C30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766-DB4A-4249-9DC7-6E524A1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E4-1267-4D25-BE27-D591008E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B56-E92F-4E6F-BDF2-B3603246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E5F-8DFD-47F3-92FB-6165A855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F13-1797-4E1F-BA9E-C4A43C4D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785-D382-4CDD-8EF3-EABDE42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F0F-6BC1-429A-8F21-742EC36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C2E-17EB-402C-BD31-F863D8B5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1FE-523A-4A9A-82B8-3277946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FDB-D847-4D5D-AAC9-73B59D17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581-A328-4D3D-A282-5A66030B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E3DD-56AD-40FD-BA4F-36714704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1B33-946E-406F-9C06-B3B138A2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D28-E3B8-4BF0-8CE9-52AF773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59D5-61CC-4E7E-91C9-69A4289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51EC-F164-4FCF-955E-18FAF436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8585-3546-46C2-B66C-B6C8D16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11E-FD6F-4486-874B-16D52921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7ED-C24B-4E31-BDB2-80BC8B6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34E-4379-4A1E-A870-D1E9942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8D5-CE5A-4907-B5E3-1B840BB1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5CDA-3A39-4AD9-8B0D-61125A0A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70C-1F9D-4367-9275-92D151F4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dición y Publicación de lib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2031EB0-1317-49FA-97B5-6FA8ACBE67A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481-75D5-48C3-BB69-9221EF08D2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B63-63A9-4820-8027-1F3021CB075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dificacion de conec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pertinencia y calidad de las publicaciones del IEPC de acuerdo al programa de actividades anuales y apegados a un 95% de su cumpl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dición y publicación de libros emitidos por el IEPC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o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 de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148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quisición de bienes y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4857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empresa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envía archivo dig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32"/>
          <p:cNvCxnSpPr>
            <a:stCxn id="164" idx="2"/>
            <a:endCxn id="166" idx="0"/>
          </p:cNvCxnSpPr>
          <p:nvPr/>
        </p:nvCxnSpPr>
        <p:spPr>
          <a:xfrm>
            <a:off x="3499920" y="47145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recepción de propuestas de publicacion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314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56 Rombo"/>
          <p:cNvSpPr/>
          <p:nvPr/>
        </p:nvSpPr>
        <p:spPr>
          <a:xfrm>
            <a:off x="3090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7 CuadroTexto"/>
          <p:cNvSpPr/>
          <p:nvPr/>
        </p:nvSpPr>
        <p:spPr>
          <a:xfrm>
            <a:off x="3141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71" idx="1"/>
          </p:cNvCxnSpPr>
          <p:nvPr/>
        </p:nvCxnSpPr>
        <p:spPr>
          <a:xfrm flipV="1" rot="10800000">
            <a:off x="2493360" y="315000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72 CuadroTexto"/>
          <p:cNvSpPr/>
          <p:nvPr/>
        </p:nvSpPr>
        <p:spPr>
          <a:xfrm>
            <a:off x="393372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73 CuadroTexto"/>
          <p:cNvSpPr/>
          <p:nvPr/>
        </p:nvSpPr>
        <p:spPr>
          <a:xfrm>
            <a:off x="270828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1" idx="3"/>
            <a:endCxn id="177" idx="0"/>
          </p:cNvCxnSpPr>
          <p:nvPr/>
        </p:nvCxnSpPr>
        <p:spPr>
          <a:xfrm>
            <a:off x="3948120" y="315072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Rectangle 656"/>
          <p:cNvSpPr/>
          <p:nvPr/>
        </p:nvSpPr>
        <p:spPr>
          <a:xfrm>
            <a:off x="3573360" y="3348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 contacta a los involucrados y se solicita texto para su 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4989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48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5"/>
          <p:cNvSpPr/>
          <p:nvPr/>
        </p:nvSpPr>
        <p:spPr>
          <a:xfrm>
            <a:off x="2421000" y="334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mite al comité editorial para conocimiento y análisis y se envía a la comisión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91000" y="2627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rden del día / P-OPE-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9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opuesta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3360" y="39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6"/>
          <p:cNvSpPr/>
          <p:nvPr/>
        </p:nvSpPr>
        <p:spPr>
          <a:xfrm>
            <a:off x="1700280" y="3992400"/>
            <a:ext cx="360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edición y diseño al texto para solicitar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6" idx="2"/>
            <a:endCxn id="189" idx="0"/>
          </p:cNvCxnSpPr>
          <p:nvPr/>
        </p:nvCxnSpPr>
        <p:spPr>
          <a:xfrm>
            <a:off x="3499920" y="50734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7" idx="2"/>
            <a:endCxn id="164" idx="0"/>
          </p:cNvCxnSpPr>
          <p:nvPr/>
        </p:nvCxnSpPr>
        <p:spPr>
          <a:xfrm flipH="1">
            <a:off x="3499560" y="4352760"/>
            <a:ext cx="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649"/>
          <p:cNvCxnSpPr>
            <a:stCxn id="162" idx="2"/>
            <a:endCxn id="182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2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64 Conector angular"/>
          <p:cNvCxnSpPr>
            <a:stCxn id="177" idx="2"/>
            <a:endCxn id="187" idx="0"/>
          </p:cNvCxnSpPr>
          <p:nvPr/>
        </p:nvCxnSpPr>
        <p:spPr>
          <a:xfrm rot="5400000">
            <a:off x="3827880" y="3381480"/>
            <a:ext cx="284400" cy="937440"/>
          </a:xfrm>
          <a:prstGeom prst="bentConnector3">
            <a:avLst>
              <a:gd name="adj1" fmla="val 4993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Rectangle 666"/>
          <p:cNvSpPr/>
          <p:nvPr/>
        </p:nvSpPr>
        <p:spPr>
          <a:xfrm>
            <a:off x="539100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pia de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1700280" y="5506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pruebas de impresión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51000" y="5508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89" idx="2"/>
          </p:cNvCxnSpPr>
          <p:nvPr/>
        </p:nvCxnSpPr>
        <p:spPr>
          <a:xfrm>
            <a:off x="3499920" y="572256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34"/>
          <p:cNvSpPr/>
          <p:nvPr/>
        </p:nvSpPr>
        <p:spPr>
          <a:xfrm>
            <a:off x="4076640" y="70182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63374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37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99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60642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6172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400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2565360" y="5938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635328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0"/>
          </p:cNvCxnSpPr>
          <p:nvPr/>
        </p:nvCxnSpPr>
        <p:spPr>
          <a:xfrm>
            <a:off x="3948120" y="6173640"/>
            <a:ext cx="418320" cy="27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8" name="AutoShape 32"/>
          <p:cNvCxnSpPr>
            <a:stCxn id="203" idx="2"/>
          </p:cNvCxnSpPr>
          <p:nvPr/>
        </p:nvCxnSpPr>
        <p:spPr>
          <a:xfrm flipH="1">
            <a:off x="2493360" y="673056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Oval 75"/>
          <p:cNvSpPr/>
          <p:nvPr/>
        </p:nvSpPr>
        <p:spPr>
          <a:xfrm>
            <a:off x="2421000" y="702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234936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/>
          <p:nvPr/>
        </p:nvCxnSpPr>
        <p:spPr>
          <a:xfrm>
            <a:off x="2565000" y="5292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Oval 75"/>
          <p:cNvSpPr/>
          <p:nvPr/>
        </p:nvSpPr>
        <p:spPr>
          <a:xfrm>
            <a:off x="4870440" y="680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/>
          <p:nvPr/>
        </p:nvCxnSpPr>
        <p:spPr>
          <a:xfrm flipH="1">
            <a:off x="4365360" y="687528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3500280" y="6443640"/>
            <a:ext cx="17305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manda a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>
            <a:stCxn id="207" idx="2"/>
            <a:endCxn id="197" idx="0"/>
          </p:cNvCxnSpPr>
          <p:nvPr/>
        </p:nvCxnSpPr>
        <p:spPr>
          <a:xfrm flipH="1">
            <a:off x="4365000" y="6732360"/>
            <a:ext cx="10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5:56Z</dcterms:modified>
  <cp:revision>339</cp:revision>
  <dc:subject/>
  <dc:title>Presentación de PowerPoint</dc:title>
</cp:coreProperties>
</file>