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</p:sldIdLst>
  <p:sldSz cx="6858000" cy="9144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9736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2133720" y="696960"/>
            <a:ext cx="2614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DD8CE-7BBF-4BFC-A9B6-72ED1707052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A059E-6F1E-4D1E-8AB4-418884891BB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2133720" y="696960"/>
            <a:ext cx="2614320" cy="34862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71627-9215-465E-A016-6A4A805070A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2133720" y="696960"/>
            <a:ext cx="2614320" cy="34862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ADA1-5D17-4135-B00D-735E3A67F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D83C-1C10-445E-9AAA-E6FD518D0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865F-B598-447F-BC34-D0D3FF2C3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5F69-47BD-4FDE-89B9-5146AB16B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1E7B-B2FC-43D4-8D29-5A9E680D4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6D5D-431B-4B68-987A-9C040804D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9463-7F55-4748-9313-620665566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D82F-EA97-4FAD-B461-22358C86D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C406-F12A-47C7-B2FA-90BF48199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36BB-A2B6-49A6-87A3-C9A0CB3F4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DF6B-B48D-41C9-9337-A1E64486B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7149-5B67-491A-9E48-8525F098F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9BADD-110D-4ECA-A091-6890C6906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9A1E1-12E9-4B00-9ECB-94480A45B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0A3C0-E91E-43E9-A1CA-6FDDB5490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3CDA7-FD90-42C1-B03A-BA0E23051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D0533-B64D-4369-964F-B72017B32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7751B-314C-484C-BD49-F10C2D577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5026C-D915-43D9-9081-4B4766FC0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2136B-D421-4F1F-83B2-0C23822DE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167CB-CDCC-4791-8632-1AB79AF7F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E93AF-5F6E-47A9-974D-879B9FB53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A1DA9-1D16-460B-B4AE-59EE3B92C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B8AE6-5C19-47E4-8A90-1312EA550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eguimiento Inter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</a:t>
            </a:r>
            <a:fld id="{661FC269-8998-4241-853B-DE882B6BD8A6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 de  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97360"/>
            <a:ext cx="3166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Director de Gen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34080" y="8748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-ADM-4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23-12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23-12-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EBBDD-3286-4986-A63F-6E15880FD780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6BD8B-DFEF-46B3-8CD5-9483D24945B0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5"/>
          <p:cNvSpPr/>
          <p:nvPr/>
        </p:nvSpPr>
        <p:spPr>
          <a:xfrm>
            <a:off x="333360" y="445464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87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76280" y="4842000"/>
          <a:ext cx="6048360" cy="88884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3-12-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Text Box 224"/>
          <p:cNvSpPr/>
          <p:nvPr/>
        </p:nvSpPr>
        <p:spPr>
          <a:xfrm>
            <a:off x="336600" y="1366920"/>
            <a:ext cx="6340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Eficientar la ejecución y operación de actividades del personal de la Dirección General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25"/>
          <p:cNvSpPr/>
          <p:nvPr/>
        </p:nvSpPr>
        <p:spPr>
          <a:xfrm>
            <a:off x="343080" y="2158920"/>
            <a:ext cx="632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Este procedimiento aplica para apoyar y facilitar las labores del personal de la Dirección General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26"/>
          <p:cNvSpPr/>
          <p:nvPr/>
        </p:nvSpPr>
        <p:spPr>
          <a:xfrm>
            <a:off x="333360" y="2860560"/>
            <a:ext cx="6335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N/A (no aplic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AutoShape 648"/>
          <p:cNvSpPr/>
          <p:nvPr/>
        </p:nvSpPr>
        <p:spPr>
          <a:xfrm>
            <a:off x="3214800" y="1692360"/>
            <a:ext cx="574560" cy="1648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1" name="AutoShape 649"/>
          <p:cNvCxnSpPr>
            <a:stCxn id="160" idx="2"/>
            <a:endCxn id="162" idx="0"/>
          </p:cNvCxnSpPr>
          <p:nvPr/>
        </p:nvCxnSpPr>
        <p:spPr>
          <a:xfrm flipH="1">
            <a:off x="3498120" y="1857240"/>
            <a:ext cx="3960" cy="12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2" name="Rectangle 652"/>
          <p:cNvSpPr/>
          <p:nvPr/>
        </p:nvSpPr>
        <p:spPr>
          <a:xfrm>
            <a:off x="1698480" y="197964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e  realiza el Informe de Actividades Semanal  de la Dirección Gener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653"/>
          <p:cNvSpPr/>
          <p:nvPr/>
        </p:nvSpPr>
        <p:spPr>
          <a:xfrm>
            <a:off x="1698480" y="2340000"/>
            <a:ext cx="360072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e turna el seguimiento de actividades de acuerdo a informes y perfil de person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" name="AutoShape 681"/>
          <p:cNvCxnSpPr>
            <a:stCxn id="162" idx="2"/>
            <a:endCxn id="163" idx="0"/>
          </p:cNvCxnSpPr>
          <p:nvPr/>
        </p:nvCxnSpPr>
        <p:spPr>
          <a:xfrm>
            <a:off x="3498480" y="219528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5" name="AutoShape 684"/>
          <p:cNvCxnSpPr>
            <a:stCxn id="163" idx="2"/>
            <a:endCxn id="166" idx="0"/>
          </p:cNvCxnSpPr>
          <p:nvPr/>
        </p:nvCxnSpPr>
        <p:spPr>
          <a:xfrm>
            <a:off x="3498840" y="2626920"/>
            <a:ext cx="216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7" name="Rectangle 700"/>
          <p:cNvSpPr/>
          <p:nvPr/>
        </p:nvSpPr>
        <p:spPr>
          <a:xfrm>
            <a:off x="404640" y="2341440"/>
            <a:ext cx="1151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s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666"/>
          <p:cNvSpPr/>
          <p:nvPr/>
        </p:nvSpPr>
        <p:spPr>
          <a:xfrm>
            <a:off x="5373720" y="1959120"/>
            <a:ext cx="127800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Informe de Actividades semanal de la Dirección Gener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700"/>
          <p:cNvSpPr/>
          <p:nvPr/>
        </p:nvSpPr>
        <p:spPr>
          <a:xfrm>
            <a:off x="404640" y="1835280"/>
            <a:ext cx="1151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Jefe de Departamento / Secretar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701"/>
          <p:cNvSpPr/>
          <p:nvPr/>
        </p:nvSpPr>
        <p:spPr>
          <a:xfrm>
            <a:off x="333360" y="27003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</a:t>
            </a: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efe de departamento / coordinadore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701"/>
          <p:cNvSpPr/>
          <p:nvPr/>
        </p:nvSpPr>
        <p:spPr>
          <a:xfrm>
            <a:off x="333360" y="320508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Jefes de Departamento/ coordinadores/ Secretar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656"/>
          <p:cNvSpPr/>
          <p:nvPr/>
        </p:nvSpPr>
        <p:spPr>
          <a:xfrm>
            <a:off x="1700280" y="2771640"/>
            <a:ext cx="360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e le da seguimiento a las actividades programadas  y no programadas por las direccione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656"/>
          <p:cNvSpPr/>
          <p:nvPr/>
        </p:nvSpPr>
        <p:spPr>
          <a:xfrm>
            <a:off x="1701720" y="3319560"/>
            <a:ext cx="3600360" cy="36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e actualiza el Informe de Actividades Semanal de la Dirección Gener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3" name="AutoShape 32"/>
          <p:cNvCxnSpPr>
            <a:stCxn id="166" idx="2"/>
            <a:endCxn id="172" idx="0"/>
          </p:cNvCxnSpPr>
          <p:nvPr/>
        </p:nvCxnSpPr>
        <p:spPr>
          <a:xfrm>
            <a:off x="3499920" y="3131640"/>
            <a:ext cx="2520" cy="188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" name="AutoShape 32"/>
          <p:cNvCxnSpPr>
            <a:stCxn id="172" idx="2"/>
            <a:endCxn id="175" idx="0"/>
          </p:cNvCxnSpPr>
          <p:nvPr/>
        </p:nvCxnSpPr>
        <p:spPr>
          <a:xfrm>
            <a:off x="3501720" y="3681000"/>
            <a:ext cx="1080" cy="165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6" name="Rectangle 701"/>
          <p:cNvSpPr/>
          <p:nvPr/>
        </p:nvSpPr>
        <p:spPr>
          <a:xfrm>
            <a:off x="333360" y="378000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s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656"/>
          <p:cNvSpPr/>
          <p:nvPr/>
        </p:nvSpPr>
        <p:spPr>
          <a:xfrm>
            <a:off x="1701720" y="3846600"/>
            <a:ext cx="360036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e envía al Director General para su revisión y toma de decisiones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Oval 34"/>
          <p:cNvSpPr/>
          <p:nvPr/>
        </p:nvSpPr>
        <p:spPr>
          <a:xfrm>
            <a:off x="3214800" y="4284720"/>
            <a:ext cx="576000" cy="287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8" name="AutoShape 32"/>
          <p:cNvCxnSpPr>
            <a:stCxn id="175" idx="2"/>
          </p:cNvCxnSpPr>
          <p:nvPr/>
        </p:nvCxnSpPr>
        <p:spPr>
          <a:xfrm flipH="1">
            <a:off x="3499560" y="4134960"/>
            <a:ext cx="2520" cy="150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9" name="Rectangle 666"/>
          <p:cNvSpPr/>
          <p:nvPr/>
        </p:nvSpPr>
        <p:spPr>
          <a:xfrm>
            <a:off x="5373720" y="2328840"/>
            <a:ext cx="127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Informe de Actividades semanal de la Dirección Gener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666"/>
          <p:cNvSpPr/>
          <p:nvPr/>
        </p:nvSpPr>
        <p:spPr>
          <a:xfrm>
            <a:off x="5383080" y="2711520"/>
            <a:ext cx="127656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Informe de Actividades semanal de la Dirección Gener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666"/>
          <p:cNvSpPr/>
          <p:nvPr/>
        </p:nvSpPr>
        <p:spPr>
          <a:xfrm>
            <a:off x="5373720" y="3173400"/>
            <a:ext cx="127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Informe de Actividades semanal de la Dirección Gener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666"/>
          <p:cNvSpPr/>
          <p:nvPr/>
        </p:nvSpPr>
        <p:spPr>
          <a:xfrm>
            <a:off x="5383080" y="3713040"/>
            <a:ext cx="127656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Informe de Actividades semanal de la Dirección Gener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israel.perez</cp:lastModifiedBy>
  <dcterms:modified xsi:type="dcterms:W3CDTF">2013-07-11T16:11:10Z</dcterms:modified>
  <cp:revision>314</cp:revision>
  <dc:subject/>
  <dc:title>Presentación de PowerPoint</dc:title>
</cp:coreProperties>
</file>