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45B6-F2EC-45C4-A7A2-830B8CE50B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E1E3-CA57-4219-BC0F-72D50BEA40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4713-7263-4C56-A2D3-1ACBCF9DFE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BAF-F79A-4B04-BE5B-E4F583C0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B1E-DABA-4E78-9330-469F56E1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FD6-3774-405A-824A-6411B7A3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64C-60C2-4DBD-A8F3-8629362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1B1-BF04-42F5-B0F1-BB5D197A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E61-BAEF-478A-A3A4-D76DFD26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4A0-4C64-4A18-8AC2-B768C5D4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A4C-AB02-4B15-A391-48B206A8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63C-1E53-4E28-A96F-5AE7608D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B07-A982-481A-B8FF-643A0608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283-B472-4BFA-8BC9-AB562920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430-5AC6-43C2-946C-9B9B84FD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7D41-B934-44EF-ABF0-01675D64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B12F-8020-4706-AB58-8453831B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DAB7-0068-4794-B42A-7AC2C3F0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1BC6-5859-4C4C-A186-2145DDEF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8950-51A4-4537-AD3E-FB57F3AA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EE1B-6F84-40DC-81C9-C2CC76A5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767-D50C-434A-92BA-F004FBC1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E63D-E609-4D00-9D69-83BF040E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9CDD-C52A-4C34-92D7-C8BCDCB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1B54-34E9-44B3-9934-F2BF4364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58BB-980E-4F4E-95FB-3CDE6641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0174-41CF-40EC-ACA0-D595F66D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dición y Publicación de lib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2573DBD-B87B-457F-A816-155EA61B70B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FB86-E67E-427A-8647-9314D989EB6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0DF-85BB-450A-8F8E-A63E75F894D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pertinencia y calidad de las publicaciones del IEPC de acuerdo al programa de actividades anuales y apegados a un 95% de su cumpli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opuesta de publ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31488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18 Rectángulo"/>
          <p:cNvSpPr/>
          <p:nvPr/>
        </p:nvSpPr>
        <p:spPr>
          <a:xfrm>
            <a:off x="1700280" y="4498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quisición de bienes y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1700280" y="48578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licita a empresa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y se envía archivo digi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32"/>
          <p:cNvCxnSpPr>
            <a:stCxn id="164" idx="2"/>
            <a:endCxn id="166" idx="0"/>
          </p:cNvCxnSpPr>
          <p:nvPr/>
        </p:nvCxnSpPr>
        <p:spPr>
          <a:xfrm>
            <a:off x="3499920" y="47145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recepción de propuestas de publicaciones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3314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56 Rombo"/>
          <p:cNvSpPr/>
          <p:nvPr/>
        </p:nvSpPr>
        <p:spPr>
          <a:xfrm>
            <a:off x="3090960" y="2971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57 CuadroTexto"/>
          <p:cNvSpPr/>
          <p:nvPr/>
        </p:nvSpPr>
        <p:spPr>
          <a:xfrm>
            <a:off x="3141720" y="3041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64 Conector angular"/>
          <p:cNvCxnSpPr>
            <a:stCxn id="171" idx="1"/>
          </p:cNvCxnSpPr>
          <p:nvPr/>
        </p:nvCxnSpPr>
        <p:spPr>
          <a:xfrm flipV="1" rot="10800000">
            <a:off x="2493360" y="315000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4" name="72 CuadroTexto"/>
          <p:cNvSpPr/>
          <p:nvPr/>
        </p:nvSpPr>
        <p:spPr>
          <a:xfrm>
            <a:off x="393372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73 CuadroTexto"/>
          <p:cNvSpPr/>
          <p:nvPr/>
        </p:nvSpPr>
        <p:spPr>
          <a:xfrm>
            <a:off x="270828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1" idx="3"/>
            <a:endCxn id="177" idx="0"/>
          </p:cNvCxnSpPr>
          <p:nvPr/>
        </p:nvCxnSpPr>
        <p:spPr>
          <a:xfrm>
            <a:off x="3948120" y="315072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Rectangle 656"/>
          <p:cNvSpPr/>
          <p:nvPr/>
        </p:nvSpPr>
        <p:spPr>
          <a:xfrm>
            <a:off x="3573360" y="334800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e contacta a los involucrados y se solicita texto para su 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44989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COM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48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5"/>
          <p:cNvSpPr/>
          <p:nvPr/>
        </p:nvSpPr>
        <p:spPr>
          <a:xfrm>
            <a:off x="2421000" y="334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mite al comité editorial para conocimiento y análisis y se envía a la comisión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91000" y="2627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rden del día / P-OPE-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3959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opuesta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33360" y="39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56"/>
          <p:cNvSpPr/>
          <p:nvPr/>
        </p:nvSpPr>
        <p:spPr>
          <a:xfrm>
            <a:off x="1700280" y="3992400"/>
            <a:ext cx="3601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edición y diseño al texto para solicitar 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6" idx="2"/>
            <a:endCxn id="189" idx="0"/>
          </p:cNvCxnSpPr>
          <p:nvPr/>
        </p:nvCxnSpPr>
        <p:spPr>
          <a:xfrm>
            <a:off x="3499920" y="50734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32"/>
          <p:cNvCxnSpPr>
            <a:stCxn id="187" idx="2"/>
            <a:endCxn id="164" idx="0"/>
          </p:cNvCxnSpPr>
          <p:nvPr/>
        </p:nvCxnSpPr>
        <p:spPr>
          <a:xfrm flipH="1">
            <a:off x="3499560" y="4352760"/>
            <a:ext cx="252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649"/>
          <p:cNvCxnSpPr>
            <a:stCxn id="162" idx="2"/>
            <a:endCxn id="182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649"/>
          <p:cNvCxnSpPr>
            <a:stCxn id="182" idx="2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64 Conector angular"/>
          <p:cNvCxnSpPr>
            <a:stCxn id="177" idx="2"/>
            <a:endCxn id="187" idx="0"/>
          </p:cNvCxnSpPr>
          <p:nvPr/>
        </p:nvCxnSpPr>
        <p:spPr>
          <a:xfrm rot="5400000">
            <a:off x="3827880" y="3381480"/>
            <a:ext cx="284400" cy="937440"/>
          </a:xfrm>
          <a:prstGeom prst="bentConnector3">
            <a:avLst>
              <a:gd name="adj1" fmla="val 4993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Rectangle 666"/>
          <p:cNvSpPr/>
          <p:nvPr/>
        </p:nvSpPr>
        <p:spPr>
          <a:xfrm>
            <a:off x="5391000" y="5508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pia de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8 Rectángulo"/>
          <p:cNvSpPr/>
          <p:nvPr/>
        </p:nvSpPr>
        <p:spPr>
          <a:xfrm>
            <a:off x="1700280" y="5506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pruebas de impresión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51000" y="550872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>
            <a:stCxn id="189" idx="2"/>
          </p:cNvCxnSpPr>
          <p:nvPr/>
        </p:nvCxnSpPr>
        <p:spPr>
          <a:xfrm>
            <a:off x="3499920" y="572256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34"/>
          <p:cNvSpPr/>
          <p:nvPr/>
        </p:nvSpPr>
        <p:spPr>
          <a:xfrm>
            <a:off x="4149720" y="70182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6"/>
          <p:cNvSpPr/>
          <p:nvPr/>
        </p:nvSpPr>
        <p:spPr>
          <a:xfrm>
            <a:off x="5373720" y="63374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37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994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60642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61725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4005360" y="5938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2565360" y="5938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635328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197" idx="0"/>
          </p:cNvCxnSpPr>
          <p:nvPr/>
        </p:nvCxnSpPr>
        <p:spPr>
          <a:xfrm>
            <a:off x="3948120" y="6173640"/>
            <a:ext cx="489600" cy="845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7" name="AutoShape 32"/>
          <p:cNvCxnSpPr>
            <a:stCxn id="203" idx="2"/>
          </p:cNvCxnSpPr>
          <p:nvPr/>
        </p:nvCxnSpPr>
        <p:spPr>
          <a:xfrm flipH="1">
            <a:off x="2493360" y="673056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Oval 75"/>
          <p:cNvSpPr/>
          <p:nvPr/>
        </p:nvSpPr>
        <p:spPr>
          <a:xfrm>
            <a:off x="2421000" y="7020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75"/>
          <p:cNvSpPr/>
          <p:nvPr/>
        </p:nvSpPr>
        <p:spPr>
          <a:xfrm>
            <a:off x="2349360" y="521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32"/>
          <p:cNvCxnSpPr/>
          <p:nvPr/>
        </p:nvCxnSpPr>
        <p:spPr>
          <a:xfrm>
            <a:off x="2565000" y="529236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Oval 75"/>
          <p:cNvSpPr/>
          <p:nvPr/>
        </p:nvSpPr>
        <p:spPr>
          <a:xfrm>
            <a:off x="5013360" y="637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 flipH="1">
            <a:off x="4436640" y="644328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1:19:18Z</dcterms:modified>
  <cp:revision>336</cp:revision>
  <dc:subject/>
  <dc:title>Presentación de PowerPoint</dc:title>
</cp:coreProperties>
</file>