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36FD-33D1-4B46-81B7-682D489F84E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F42D-67EA-4B44-83BA-361BC7BB8A9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5B5B-76AE-4EE3-8669-82BF12DFDFB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4179-B1C0-413F-B55A-50F0AB7A5A1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5C47-F250-45A6-9167-D338652F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C4E3-71BE-4BE4-A60D-63D6A3E6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D1AB-D774-451C-823B-1FBB4157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1D1E-2794-4E6F-96AE-3C5A89B1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CB6C-2658-48C4-8D88-31E2CF32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FB3E-082F-4F9D-9341-F9671587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DD54-8FE2-4A28-ACAE-C60B10F0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122A-777C-4745-99CF-05E4398E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4C02-AF2C-4445-A6FD-D4F4EED9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085B-6D81-469E-997B-CBF1D15D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0FB4-5BAE-4FC1-8F3E-C721F842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D90A-573E-483E-BEA1-3BEC89B6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EC63-B883-4608-A324-8D5E2F9D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EABF-3868-49B7-9BB6-8D6DEA58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E3E0-E7BF-4918-93A5-A2B95B70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37DE-D384-4028-BF6C-003675CD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AA9C-A775-4E87-9E03-AB32D12B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1CC8-F518-4896-B519-3C5E887C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53A5-BB92-4971-9167-CE4777C5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F321-59F7-4714-8243-079C45E6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79DC-1EBB-44D0-8BB0-1209B850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D28F-A25D-4EE5-A921-4D1F68F5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2F5D-24DC-451D-9AEE-8E833DA0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8F36-5314-47C2-B7FA-9B4C0731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F99A5-73D0-4D21-9FA6-206B22F7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16235-9471-40BA-ABCE-4E7F3411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963AB-3CEB-44C6-A5A9-50045209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67963-0B66-4500-B216-12924C59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1FD0D-93F1-4BEF-AFE0-85FED1FF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E5C59-C0C9-4CF0-9BAA-4B693259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59367-7E23-4582-8DAF-CDE7B5C4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C6484-8BF1-4278-A0CF-D5E2CBAB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9E13D-CE4F-4C08-9CC4-0A88CD27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5686A-AB5C-495D-AA2E-37297DE0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F37EE-F150-4300-A1CE-64B728DB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A5753-738B-465E-829F-AAF7DAB6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Monitoreo de med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36FC42F2-E381-46E4-926C-448981C2BBC0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Comunicación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P-OPE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62E4-D4EB-4A15-9E8D-BB032DFA8FA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5E4E-51C4-4CF0-8A66-983F5ED0B99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F54C-7018-45DB-A1C6-B882998793B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Mantener enterado al personal directivo del IEPC sobre la información de actividades y funciones que desarrolla el instituto y recopilar y analizar información que sobre el instituto difundan los medios masivos de comunicación, mediante la elaboración de productos como la síntesis de prensa y la de monitoreo de medio electrónic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1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Carpeta Informativa: Recopilación de notas de interés para el IEPC, con recortes periodísticos, notas de internet, radio en el portales de interne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Master: Recopilación de notas de video en D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212580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29068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4130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visa 5 diarios locales para recabar notas acerca del instituto y notas de 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29178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aliza síntesis y se recopilan notas en carpeta informa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73720" y="36385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rpeta informativa / pagina we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29019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iódicos / carpeta informa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81"/>
          <p:cNvCxnSpPr>
            <a:stCxn id="203" idx="2"/>
            <a:endCxn id="204" idx="0"/>
          </p:cNvCxnSpPr>
          <p:nvPr/>
        </p:nvCxnSpPr>
        <p:spPr>
          <a:xfrm>
            <a:off x="3498480" y="26290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4"/>
          <p:cNvCxnSpPr>
            <a:stCxn id="204" idx="2"/>
            <a:endCxn id="209" idx="0"/>
          </p:cNvCxnSpPr>
          <p:nvPr/>
        </p:nvCxnSpPr>
        <p:spPr>
          <a:xfrm>
            <a:off x="3498840" y="31334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700"/>
          <p:cNvSpPr/>
          <p:nvPr/>
        </p:nvSpPr>
        <p:spPr>
          <a:xfrm>
            <a:off x="404640" y="2773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/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3360" y="3133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/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33321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rpeta informativa / pagina we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700280" y="32781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saca copia y se escanea para clasificación de notas y se sube a la red en la categoría determi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>
            <a:stCxn id="209" idx="2"/>
          </p:cNvCxnSpPr>
          <p:nvPr/>
        </p:nvCxnSpPr>
        <p:spPr>
          <a:xfrm>
            <a:off x="3499920" y="34938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18 Rectángulo"/>
          <p:cNvSpPr/>
          <p:nvPr/>
        </p:nvSpPr>
        <p:spPr>
          <a:xfrm>
            <a:off x="1700280" y="3637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para VoBo de final de información  se analizan camb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32"/>
          <p:cNvCxnSpPr>
            <a:stCxn id="214" idx="2"/>
          </p:cNvCxnSpPr>
          <p:nvPr/>
        </p:nvCxnSpPr>
        <p:spPr>
          <a:xfrm>
            <a:off x="3499920" y="38527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Rectangle 701"/>
          <p:cNvSpPr/>
          <p:nvPr/>
        </p:nvSpPr>
        <p:spPr>
          <a:xfrm>
            <a:off x="333360" y="3565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/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66"/>
          <p:cNvSpPr/>
          <p:nvPr/>
        </p:nvSpPr>
        <p:spPr>
          <a:xfrm>
            <a:off x="5373720" y="2325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iódicos / carpeta informa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00"/>
          <p:cNvSpPr/>
          <p:nvPr/>
        </p:nvSpPr>
        <p:spPr>
          <a:xfrm>
            <a:off x="404640" y="234144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/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4"/>
          <p:cNvSpPr/>
          <p:nvPr/>
        </p:nvSpPr>
        <p:spPr>
          <a:xfrm>
            <a:off x="3213000" y="406728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03"/>
          <p:cNvSpPr/>
          <p:nvPr/>
        </p:nvSpPr>
        <p:spPr>
          <a:xfrm>
            <a:off x="2205000" y="164772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Periódicos y artículos de inter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648"/>
          <p:cNvSpPr/>
          <p:nvPr/>
        </p:nvSpPr>
        <p:spPr>
          <a:xfrm>
            <a:off x="3214800" y="212580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649"/>
          <p:cNvCxnSpPr>
            <a:stCxn id="227" idx="2"/>
            <a:endCxn id="229" idx="0"/>
          </p:cNvCxnSpPr>
          <p:nvPr/>
        </p:nvCxnSpPr>
        <p:spPr>
          <a:xfrm flipH="1">
            <a:off x="3498120" y="229068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Rectangle 652"/>
          <p:cNvSpPr/>
          <p:nvPr/>
        </p:nvSpPr>
        <p:spPr>
          <a:xfrm>
            <a:off x="1698480" y="24130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visan grabaciones de noticieros locales de un día a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53"/>
          <p:cNvSpPr/>
          <p:nvPr/>
        </p:nvSpPr>
        <p:spPr>
          <a:xfrm>
            <a:off x="1698480" y="29178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aliza bitácora de notas trascendentales o del IEPC y se graba en un master (DV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5"/>
          <p:cNvSpPr/>
          <p:nvPr/>
        </p:nvSpPr>
        <p:spPr>
          <a:xfrm>
            <a:off x="5373720" y="36385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ta converti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66"/>
          <p:cNvSpPr/>
          <p:nvPr/>
        </p:nvSpPr>
        <p:spPr>
          <a:xfrm>
            <a:off x="5373720" y="29019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itácora de medios / ma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681"/>
          <p:cNvCxnSpPr>
            <a:stCxn id="229" idx="2"/>
            <a:endCxn id="230" idx="0"/>
          </p:cNvCxnSpPr>
          <p:nvPr/>
        </p:nvCxnSpPr>
        <p:spPr>
          <a:xfrm>
            <a:off x="3498480" y="26290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AutoShape 684"/>
          <p:cNvCxnSpPr>
            <a:stCxn id="230" idx="2"/>
            <a:endCxn id="235" idx="0"/>
          </p:cNvCxnSpPr>
          <p:nvPr/>
        </p:nvCxnSpPr>
        <p:spPr>
          <a:xfrm>
            <a:off x="3498840" y="31334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Rectangle 700"/>
          <p:cNvSpPr/>
          <p:nvPr/>
        </p:nvSpPr>
        <p:spPr>
          <a:xfrm>
            <a:off x="404640" y="2773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/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01"/>
          <p:cNvSpPr/>
          <p:nvPr/>
        </p:nvSpPr>
        <p:spPr>
          <a:xfrm>
            <a:off x="333360" y="3133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66"/>
          <p:cNvSpPr/>
          <p:nvPr/>
        </p:nvSpPr>
        <p:spPr>
          <a:xfrm>
            <a:off x="5373720" y="33321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aster / C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56"/>
          <p:cNvSpPr/>
          <p:nvPr/>
        </p:nvSpPr>
        <p:spPr>
          <a:xfrm>
            <a:off x="1700280" y="32781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da la información a auxiliar y la convierte a un CD extra en formato accesible para to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AutoShape 685"/>
          <p:cNvCxnSpPr>
            <a:stCxn id="235" idx="2"/>
          </p:cNvCxnSpPr>
          <p:nvPr/>
        </p:nvCxnSpPr>
        <p:spPr>
          <a:xfrm>
            <a:off x="3499920" y="34938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18 Rectángulo"/>
          <p:cNvSpPr/>
          <p:nvPr/>
        </p:nvSpPr>
        <p:spPr>
          <a:xfrm>
            <a:off x="1700280" y="3637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información a presidente, consejero, Secretario ejecutivo, Director General y se verifica entre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AutoShape 32"/>
          <p:cNvCxnSpPr>
            <a:stCxn id="240" idx="2"/>
          </p:cNvCxnSpPr>
          <p:nvPr/>
        </p:nvCxnSpPr>
        <p:spPr>
          <a:xfrm>
            <a:off x="3499920" y="38527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Rectangle 701"/>
          <p:cNvSpPr/>
          <p:nvPr/>
        </p:nvSpPr>
        <p:spPr>
          <a:xfrm>
            <a:off x="333360" y="3565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66"/>
          <p:cNvSpPr/>
          <p:nvPr/>
        </p:nvSpPr>
        <p:spPr>
          <a:xfrm>
            <a:off x="5373720" y="2325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Grab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700"/>
          <p:cNvSpPr/>
          <p:nvPr/>
        </p:nvSpPr>
        <p:spPr>
          <a:xfrm>
            <a:off x="404640" y="234144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/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34"/>
          <p:cNvSpPr/>
          <p:nvPr/>
        </p:nvSpPr>
        <p:spPr>
          <a:xfrm>
            <a:off x="3213000" y="406728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503"/>
          <p:cNvSpPr/>
          <p:nvPr/>
        </p:nvSpPr>
        <p:spPr>
          <a:xfrm>
            <a:off x="2205000" y="164772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Televisión y radi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2-14T03:15:08Z</dcterms:modified>
  <cp:revision>324</cp:revision>
  <dc:subject/>
  <dc:title>Presentación de PowerPoint</dc:title>
</cp:coreProperties>
</file>