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2AC0-BE26-4018-92DF-268AB52206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24EA-2E7A-4D62-BB3F-804FCF2E70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989E-8A17-4117-8169-C0583E78F2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0D0-4B0A-4103-99DA-D7731E12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B83-91C9-484C-A780-91830DB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6B4-081E-49A5-AF64-7957C72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DD2-F0B2-41C4-A644-07B72904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2B0-7D9D-46C0-96FD-4D6A098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B82-C33F-44D9-A3A3-53E4BBB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151-1F23-4DDC-818D-D554D88A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9ED-82A8-459C-ADC5-443B0B2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E21-D7FB-463A-B001-6BFDD15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B89-379E-4598-85AF-4ACB6F37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06F-2079-4F35-922C-18F2C8ED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436-DEEF-415D-B53A-5F81BAEC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12C4-87A6-492D-8A30-3F221CCC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7FC7-8386-47B3-AE21-6493163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C967-221B-450B-8947-DE1D7AF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F227-177F-4F73-ADF4-75EDC1BA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11BB-F454-4668-8CE0-BE7B5BFD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A8E3-09EE-4555-99DB-CAC710E6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2A4-8355-4D2B-AC12-99E1961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0933-BC56-4CE5-9374-16D7F59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D6F6-C78F-4388-AFB6-9844CAD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3911-D5D2-4292-9B72-2602B22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CAD4-5BA4-4DED-9C60-AFD10F12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5B48-49EF-471E-A02D-6DA397D1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Not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A18FBBAF-0151-43CC-A1F4-789DFCD0B5E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1FC0-4EED-4EA4-AF8E-94D70B13E3B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298-D5EF-4613-9F78-E0769A8A520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notificación de documentos de parte del Instituto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documentación a notificar  de las áreas y se clasif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73720" y="33876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notificaciones recibida y entregadas / certificaciones /formato de notificaciones por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18 Rectángulo"/>
          <p:cNvSpPr/>
          <p:nvPr/>
        </p:nvSpPr>
        <p:spPr>
          <a:xfrm>
            <a:off x="1700280" y="5145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 en los acuses de oficios notific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1908000"/>
            <a:ext cx="1278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notificaciones recibidas y entregadas / formato de notificaciones por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0"/>
          <p:cNvSpPr/>
          <p:nvPr/>
        </p:nvSpPr>
        <p:spPr>
          <a:xfrm>
            <a:off x="333360" y="2124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01"/>
          <p:cNvSpPr/>
          <p:nvPr/>
        </p:nvSpPr>
        <p:spPr>
          <a:xfrm>
            <a:off x="333360" y="33876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ditor / 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56 Rombo"/>
          <p:cNvSpPr/>
          <p:nvPr/>
        </p:nvSpPr>
        <p:spPr>
          <a:xfrm>
            <a:off x="3090960" y="304488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7 CuadroTexto"/>
          <p:cNvSpPr/>
          <p:nvPr/>
        </p:nvSpPr>
        <p:spPr>
          <a:xfrm>
            <a:off x="3141720" y="31147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notific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64 Conector angular"/>
          <p:cNvCxnSpPr>
            <a:stCxn id="168" idx="1"/>
            <a:endCxn id="171" idx="0"/>
          </p:cNvCxnSpPr>
          <p:nvPr/>
        </p:nvCxnSpPr>
        <p:spPr>
          <a:xfrm flipV="1" rot="10800000">
            <a:off x="2456640" y="3223080"/>
            <a:ext cx="634320" cy="268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2" name="72 CuadroTexto"/>
          <p:cNvSpPr/>
          <p:nvPr/>
        </p:nvSpPr>
        <p:spPr>
          <a:xfrm>
            <a:off x="263700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64 Conector angular"/>
          <p:cNvCxnSpPr>
            <a:stCxn id="168" idx="3"/>
            <a:endCxn id="175" idx="0"/>
          </p:cNvCxnSpPr>
          <p:nvPr/>
        </p:nvCxnSpPr>
        <p:spPr>
          <a:xfrm>
            <a:off x="3948120" y="3223800"/>
            <a:ext cx="489600" cy="197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5" name="Rectangle 656"/>
          <p:cNvSpPr/>
          <p:nvPr/>
        </p:nvSpPr>
        <p:spPr>
          <a:xfrm>
            <a:off x="3573360" y="342108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evanta certifica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51451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33360" y="50734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75"/>
          <p:cNvSpPr/>
          <p:nvPr/>
        </p:nvSpPr>
        <p:spPr>
          <a:xfrm>
            <a:off x="2349360" y="3492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3213000" y="56563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5" idx="2"/>
            <a:endCxn id="180" idx="0"/>
          </p:cNvCxnSpPr>
          <p:nvPr/>
        </p:nvCxnSpPr>
        <p:spPr>
          <a:xfrm flipH="1">
            <a:off x="4436280" y="3781080"/>
            <a:ext cx="25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2"/>
          <p:cNvSpPr/>
          <p:nvPr/>
        </p:nvSpPr>
        <p:spPr>
          <a:xfrm>
            <a:off x="1700280" y="2627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notifica seg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n la vía correspon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2556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Publicación / notificación di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33360" y="26989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032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adrante de actualizado de SE / cuadrante de notificaciones recibidas y entregadas / formato de notificaciones por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0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tific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56"/>
          <p:cNvSpPr/>
          <p:nvPr/>
        </p:nvSpPr>
        <p:spPr>
          <a:xfrm>
            <a:off x="3573360" y="4065480"/>
            <a:ext cx="172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leva y actualiza cuadrante de notificaciones junto con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endCxn id="178" idx="0"/>
          </p:cNvCxnSpPr>
          <p:nvPr/>
        </p:nvCxnSpPr>
        <p:spPr>
          <a:xfrm>
            <a:off x="3499920" y="536400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0" idx="2"/>
          </p:cNvCxnSpPr>
          <p:nvPr/>
        </p:nvCxnSpPr>
        <p:spPr>
          <a:xfrm flipH="1">
            <a:off x="4436280" y="442548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49"/>
          <p:cNvCxnSpPr>
            <a:stCxn id="162" idx="2"/>
            <a:endCxn id="181" idx="0"/>
          </p:cNvCxnSpPr>
          <p:nvPr/>
        </p:nvCxnSpPr>
        <p:spPr>
          <a:xfrm>
            <a:off x="3498840" y="234000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49"/>
          <p:cNvCxnSpPr>
            <a:stCxn id="181" idx="2"/>
          </p:cNvCxnSpPr>
          <p:nvPr/>
        </p:nvCxnSpPr>
        <p:spPr>
          <a:xfrm flipH="1">
            <a:off x="3499560" y="2842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Oval 75"/>
          <p:cNvSpPr/>
          <p:nvPr/>
        </p:nvSpPr>
        <p:spPr>
          <a:xfrm>
            <a:off x="3068640" y="37800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3284280" y="39240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0T18:28:35Z</dcterms:modified>
  <cp:revision>338</cp:revision>
  <dc:subject/>
  <dc:title>Presentación de PowerPoint</dc:title>
</cp:coreProperties>
</file>