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0911-EFF7-4EA4-BF3E-CE0A41BD02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985-320D-40E6-8216-E0B080D783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ABB-68B7-4CE4-8DAA-64DE323F72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7DD-8FC0-46E5-90E0-1643E0D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6BE-4822-46AB-963E-F213BCBA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B49-FEC2-4659-97C4-1A4E5DB3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8E5-3360-4745-9386-D0C99FD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E8E-9EF8-41EF-8342-28026717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4C3-C883-484E-B324-5DA15A6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927-74BE-40A7-B72F-0B7532F9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9A8-DF04-429C-A5EA-503504EA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43B-E417-44B3-B593-94532C1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D6A-D454-478F-BE49-0EA736D3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A16-FEA9-40E3-9138-47A615F8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9C0-B9A0-417A-A3AA-BDE50C3C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DF82-548A-4487-96F3-21C716C9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64AA-A3AF-4639-B195-47B4F507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F17-2DF5-4426-AC79-17232C9F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A68-1381-4A80-AAAB-8243BA7C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4EAA-BD14-45EA-A8C3-2F2D2755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27F8-FE49-43AE-9292-0D19B52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0FFA-7FAE-4D2B-A8B6-81B6F84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9F59-5BEC-4AA2-88E7-63A1DAB0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EE7-F31D-4715-94EC-FD7BD862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5C65-6337-4CF5-B2DD-792D358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35D-8588-43AF-84C7-4BCE737E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58E5-0EF5-4261-9E54-9840E71E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AF4C-80FA-41F7-B287-A1E9794E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F3331-7C81-4A91-84AA-9B17E84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2C2B-6DF2-4815-9FD7-06FD033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2963-A700-4CA7-ACC0-6570E6E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FC7A-FE81-491E-9120-098DE95A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B88D-7AF6-4FA3-AE3A-184950FD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67C1-A86B-457D-91B6-72C87E9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D47B-00EA-497B-B5A6-E517EDE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BC92-658F-410C-B1CD-77A3C20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7E04-6328-47DB-B579-161AAF89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205F-DD58-4204-AA44-38196E00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2AD6-98B9-470F-8F72-B285A10D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Geografia y Diseño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933EC56-D248-4CAD-B598-5BEB5ACF184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6CC3-E246-4176-830D-A86DF699CAE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651A-C324-4D4B-B892-6A63D7598E9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2F0F-A968-4C25-A15D-F11DB244BC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definió la terminología uti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Realizar los estudios necesarios para determinar los ajustes a la geografía electoral y la determinación de la división en distritos electorales uninominales del Estado conforme al último censo de población y vivienda realizado por el INEGI; y coadyuvar con el Secretario Ejecutivo en el diseño y supervisión de la elaboración de la documentación y material electoral necesario; apoyar a la Comisión de Adquisiciones y Enajenaciones del Instituto Electoral, aportando las especificaciones técnicas correspondientes a la documentación y material electoral; supervisar la impresión y producción de la documentación y material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38140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ctualización de la cartografía y geografía electoral así como el diseño y revisión del material y documentación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NEGI: Instituto Nacional de Geografía e Informát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05272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ivisión del territorio de acuerdo al padr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2484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propuesta a Secretaria Ejecutiva para  presentar al pleno del Instituto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geografía / coordinadores centrales / 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-0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 21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840" y="2268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 flipH="1">
            <a:off x="3499560" y="270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s material y documentación / proyección de material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proyectos para material y documentación electoral y proyección de material por distrito y por municip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rá la actualización cartográfica y se presentará  a  la Secretaria Ejecutiva para la circulación entre integrantes del  Consejo del Ple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icitación correspondiente y se envía a Secretaria Ejecu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y se envía características a la empresa donde se elaborará el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tos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visión de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76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enso de población y vivienda  / padrón electoral / propuesta de división de territorio / Manual de Organización/ Manual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a el la dirección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ta de material electoral / 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distribución del material y la documentación electoral a bodega general y posteriormente a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stribuyen de acuerdo al número de casillas  electorales en cada Distrito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32"/>
          <p:cNvCxnSpPr>
            <a:stCxn id="237" idx="2"/>
          </p:cNvCxnSpPr>
          <p:nvPr/>
        </p:nvCxnSpPr>
        <p:spPr>
          <a:xfrm>
            <a:off x="3499920" y="5365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564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aterial a los Presidentes de las Mesas Directiva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2"/>
          <p:cNvCxnSpPr/>
          <p:nvPr/>
        </p:nvCxnSpPr>
        <p:spPr>
          <a:xfrm>
            <a:off x="3499920" y="5724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y documen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34"/>
          <p:cNvSpPr/>
          <p:nvPr/>
        </p:nvSpPr>
        <p:spPr>
          <a:xfrm>
            <a:off x="3213000" y="58690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alatorre</cp:lastModifiedBy>
  <dcterms:modified xsi:type="dcterms:W3CDTF">2012-03-06T19:04:35Z</dcterms:modified>
  <cp:revision>321</cp:revision>
  <dc:subject/>
  <dc:title>Presentación de PowerPoint</dc:title>
</cp:coreProperties>
</file>