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E694-7179-4483-B5D5-207B128FAD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686-76D1-42E0-B011-CF12A09F3A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7EAA-4935-4298-B36D-342713DF7E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968-C55C-4C86-972F-7BFE7748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B49-C2FF-4EC1-86ED-68C880F6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400-3212-4A41-BBE1-84A598B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67C-A046-4092-A117-5CBE466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DFD-45DB-44DA-8066-61EC6084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F6D-4DB3-4C4F-A1F3-CD7592A7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FE7-A88D-4E01-B1C4-982F8F54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A06-50B7-446C-B8AF-CAD97A7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6C1-B01B-4EA7-B29F-5EA46D0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E08-E483-4A61-9658-F150EAA6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050-BAE5-466E-BEBC-9FE1F13F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457-E789-4C43-8F2A-CB88E643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634E-1F00-40A7-B515-81A1AC52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BB0D-0146-4535-8162-0949FBDC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F56-868C-4FD7-A817-B25C70BB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9B7A-EF06-41DF-9647-087F4751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A899-D357-4B9E-81C1-F275861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36A3-E0F0-47D7-9258-B3BB114B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9B87-927E-4EC4-A148-96B8D556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5415-156E-4215-884A-5752A012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D756-D586-466F-87B4-AA6B3FF4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21C4-0031-4D88-A58C-E0CD627E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11B2-F535-4504-B800-0D2AFE14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2F3D-EB9C-45A7-A68C-55BBBB40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Imágenes para 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307D4B8-2979-43EC-8F1A-3858A542751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04C-E5C1-4B13-9D85-8FA055A2CDF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6A14-B793-476B-A65D-38D1C507106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 la impresión de las imágenes que se incluirán en la rev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gestión de im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á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genes e ilustraciones para la producción de la revista que edita 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n invitaciones a personas seleccionadas arti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>
            <a:stCxn id="164" idx="2"/>
          </p:cNvCxnSpPr>
          <p:nvPr/>
        </p:nvCxnSpPr>
        <p:spPr>
          <a:xfrm flipH="1">
            <a:off x="3498480" y="320364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66"/>
          <p:cNvSpPr/>
          <p:nvPr/>
        </p:nvSpPr>
        <p:spPr>
          <a:xfrm>
            <a:off x="5373720" y="37479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corr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rrecciones con 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5865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má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e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58644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ja lista la revista para incluir tex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6" idx="2"/>
            <a:endCxn id="168" idx="0"/>
          </p:cNvCxnSpPr>
          <p:nvPr/>
        </p:nvCxnSpPr>
        <p:spPr>
          <a:xfrm>
            <a:off x="3499920" y="5721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37479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3090960" y="34052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3141720" y="34750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>
            <a:stCxn id="173" idx="1"/>
            <a:endCxn id="176" idx="0"/>
          </p:cNvCxnSpPr>
          <p:nvPr/>
        </p:nvCxnSpPr>
        <p:spPr>
          <a:xfrm flipV="1" rot="10800000">
            <a:off x="2493360" y="35841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3933720" y="3349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73 CuadroTexto"/>
          <p:cNvSpPr/>
          <p:nvPr/>
        </p:nvSpPr>
        <p:spPr>
          <a:xfrm>
            <a:off x="2708280" y="3349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628640" y="376380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autor para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3" idx="3"/>
            <a:endCxn id="180" idx="0"/>
          </p:cNvCxnSpPr>
          <p:nvPr/>
        </p:nvCxnSpPr>
        <p:spPr>
          <a:xfrm>
            <a:off x="3948120" y="358416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Rectangle 656"/>
          <p:cNvSpPr/>
          <p:nvPr/>
        </p:nvSpPr>
        <p:spPr>
          <a:xfrm>
            <a:off x="3573360" y="37814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diseño para primera f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6" idx="2"/>
            <a:endCxn id="182" idx="0"/>
          </p:cNvCxnSpPr>
          <p:nvPr/>
        </p:nvCxnSpPr>
        <p:spPr>
          <a:xfrm flipH="1">
            <a:off x="2493360" y="414144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5865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Diseñ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75"/>
          <p:cNvSpPr/>
          <p:nvPr/>
        </p:nvSpPr>
        <p:spPr>
          <a:xfrm>
            <a:off x="2421000" y="500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34"/>
          <p:cNvSpPr/>
          <p:nvPr/>
        </p:nvSpPr>
        <p:spPr>
          <a:xfrm>
            <a:off x="3213000" y="637236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80" idx="2"/>
            <a:endCxn id="189" idx="0"/>
          </p:cNvCxnSpPr>
          <p:nvPr/>
        </p:nvCxnSpPr>
        <p:spPr>
          <a:xfrm flipH="1">
            <a:off x="4436280" y="414144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imer paquete de imá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medio magné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primera revisión y tratamiento de las imá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6"/>
          <p:cNvSpPr/>
          <p:nvPr/>
        </p:nvSpPr>
        <p:spPr>
          <a:xfrm>
            <a:off x="5302080" y="2916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cciones / 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4392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1"/>
          <p:cNvSpPr/>
          <p:nvPr/>
        </p:nvSpPr>
        <p:spPr>
          <a:xfrm>
            <a:off x="333360" y="439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señ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6"/>
          <p:cNvSpPr/>
          <p:nvPr/>
        </p:nvSpPr>
        <p:spPr>
          <a:xfrm>
            <a:off x="1628640" y="440856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ordinan posibles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3573360" y="442584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rimera propuesta de dis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32"/>
          <p:cNvCxnSpPr>
            <a:stCxn id="182" idx="2"/>
          </p:cNvCxnSpPr>
          <p:nvPr/>
        </p:nvCxnSpPr>
        <p:spPr>
          <a:xfrm flipH="1">
            <a:off x="2491560" y="478620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32"/>
          <p:cNvCxnSpPr>
            <a:stCxn id="168" idx="2"/>
            <a:endCxn id="187" idx="0"/>
          </p:cNvCxnSpPr>
          <p:nvPr/>
        </p:nvCxnSpPr>
        <p:spPr>
          <a:xfrm>
            <a:off x="3499920" y="608004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32"/>
          <p:cNvCxnSpPr>
            <a:stCxn id="189" idx="2"/>
          </p:cNvCxnSpPr>
          <p:nvPr/>
        </p:nvCxnSpPr>
        <p:spPr>
          <a:xfrm flipH="1">
            <a:off x="4436280" y="478584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649"/>
          <p:cNvCxnSpPr>
            <a:stCxn id="162" idx="2"/>
            <a:endCxn id="190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649"/>
          <p:cNvCxnSpPr>
            <a:stCxn id="190" idx="2"/>
            <a:endCxn id="164" idx="0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Oval 75"/>
          <p:cNvSpPr/>
          <p:nvPr/>
        </p:nvSpPr>
        <p:spPr>
          <a:xfrm>
            <a:off x="4221000" y="3276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2"/>
          <p:cNvCxnSpPr>
            <a:stCxn id="202" idx="1"/>
          </p:cNvCxnSpPr>
          <p:nvPr/>
        </p:nvCxnSpPr>
        <p:spPr>
          <a:xfrm flipH="1" flipV="1">
            <a:off x="3499560" y="3276000"/>
            <a:ext cx="753480" cy="3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1:13:44Z</dcterms:modified>
  <cp:revision>334</cp:revision>
  <dc:subject/>
  <dc:title>Presentación de PowerPoint</dc:title>
</cp:coreProperties>
</file>