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FE6D-0517-4431-8B7B-F7525169593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C40A-9108-4208-B2D7-974D48B0FF7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9B34-5477-4A37-8B0E-ADADFB3FA03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C8F1-A2A0-488D-B29B-7D5F916430B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37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ec0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138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43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Acciones Correctivas y Preventiv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RSG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45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2C9210E4-3FAB-4E31-81D8-C81CBC355AB1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147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1" lang="es-E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sor de Preside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48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AutoShape 149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Rectangle 150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51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Line 152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AutoShape 153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54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55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Text Box 156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1" lang="es-E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57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58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Oval 159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12"/>
          <p:cNvSpPr/>
          <p:nvPr/>
        </p:nvSpPr>
        <p:spPr>
          <a:xfrm>
            <a:off x="333360" y="1332000"/>
            <a:ext cx="6319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stablecer y mantener una metodología para controlar las no conformidades en el Sistema de Gestión de Calidad del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Instituto Electoral y de Participacion Ciudadana del Estado de Jalisco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y evitar su recurrencia y/o ocurrencia según correspon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13"/>
          <p:cNvSpPr/>
          <p:nvPr/>
        </p:nvSpPr>
        <p:spPr>
          <a:xfrm>
            <a:off x="339840" y="1908000"/>
            <a:ext cx="632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ste procedimiento aplica a las no conformidades detectadas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en el Proceso d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14"/>
          <p:cNvSpPr/>
          <p:nvPr/>
        </p:nvSpPr>
        <p:spPr>
          <a:xfrm>
            <a:off x="330120" y="2549520"/>
            <a:ext cx="63388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1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  <a:ea typeface="Arial"/>
              </a:rPr>
              <a:t>No Conformidad: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  <a:ea typeface="Arial"/>
              </a:rPr>
              <a:t>incumplimiento de un requisito especificad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1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  <a:ea typeface="Arial"/>
              </a:rPr>
              <a:t>Acción Correctiva: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Acción tomada para eliminar la causa de una no conformidad detectada u otra situación indeseable, la cuál puede ser generada por : resultados de auditorias, operación/proceso, queja/reclamación, incumplimiento de indicadores de desempeño de los proces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1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  <a:ea typeface="Arial"/>
              </a:rPr>
              <a:t>Acción Preventiva: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Acción tomada para evitar que suceda una no conformidad u otra situación indeseable, la cuál puede ser generada por : resultados de auditorias, operación/proceso, queja/reclamación, por tendencia de indicador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1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Seguidor: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 Auditor interno designado al seguimiento de una acción correctiv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224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33"/>
          <p:cNvSpPr/>
          <p:nvPr/>
        </p:nvSpPr>
        <p:spPr>
          <a:xfrm>
            <a:off x="333360" y="432756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76280" y="4788000"/>
          <a:ext cx="6048360" cy="87300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2" name="AutoShape 572"/>
          <p:cNvCxnSpPr>
            <a:stCxn id="73" idx="2"/>
            <a:endCxn id="74" idx="0"/>
          </p:cNvCxnSpPr>
          <p:nvPr/>
        </p:nvCxnSpPr>
        <p:spPr>
          <a:xfrm flipH="1">
            <a:off x="3452040" y="2993760"/>
            <a:ext cx="252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AutoShape 589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590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91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592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593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59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537"/>
          <p:cNvSpPr/>
          <p:nvPr/>
        </p:nvSpPr>
        <p:spPr>
          <a:xfrm>
            <a:off x="5372280" y="2050920"/>
            <a:ext cx="1296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T-RSG-01/ Acciones Correctivas y Preven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38"/>
          <p:cNvSpPr/>
          <p:nvPr/>
        </p:nvSpPr>
        <p:spPr>
          <a:xfrm>
            <a:off x="333360" y="19749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sponsable de Área / Auditor Interno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42"/>
          <p:cNvSpPr/>
          <p:nvPr/>
        </p:nvSpPr>
        <p:spPr>
          <a:xfrm>
            <a:off x="333360" y="3301920"/>
            <a:ext cx="1238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45"/>
          <p:cNvSpPr/>
          <p:nvPr/>
        </p:nvSpPr>
        <p:spPr>
          <a:xfrm>
            <a:off x="5372280" y="2684520"/>
            <a:ext cx="129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ciones Correctivas y Preven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46"/>
          <p:cNvSpPr/>
          <p:nvPr/>
        </p:nvSpPr>
        <p:spPr>
          <a:xfrm>
            <a:off x="5372280" y="3878280"/>
            <a:ext cx="129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ciones Correctivas y Preven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47"/>
          <p:cNvSpPr/>
          <p:nvPr/>
        </p:nvSpPr>
        <p:spPr>
          <a:xfrm>
            <a:off x="5370480" y="6426360"/>
            <a:ext cx="129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ciones Correctivas y Preven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49"/>
          <p:cNvSpPr/>
          <p:nvPr/>
        </p:nvSpPr>
        <p:spPr>
          <a:xfrm>
            <a:off x="5375160" y="4716360"/>
            <a:ext cx="1268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ciones Correctivas y Preven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AutoShape 552"/>
          <p:cNvCxnSpPr>
            <a:stCxn id="89" idx="2"/>
            <a:endCxn id="90" idx="0"/>
          </p:cNvCxnSpPr>
          <p:nvPr/>
        </p:nvCxnSpPr>
        <p:spPr>
          <a:xfrm flipH="1">
            <a:off x="3452040" y="1852560"/>
            <a:ext cx="2520" cy="14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AutoShape 556"/>
          <p:cNvSpPr/>
          <p:nvPr/>
        </p:nvSpPr>
        <p:spPr>
          <a:xfrm>
            <a:off x="3129120" y="1692360"/>
            <a:ext cx="647640" cy="1602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61"/>
          <p:cNvSpPr/>
          <p:nvPr/>
        </p:nvSpPr>
        <p:spPr>
          <a:xfrm>
            <a:off x="1628640" y="2000160"/>
            <a:ext cx="36482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dentifica el problema, inconveniente o problema potencial y lo registra en formato Acciones Correctivas y Preven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63"/>
          <p:cNvSpPr/>
          <p:nvPr/>
        </p:nvSpPr>
        <p:spPr>
          <a:xfrm>
            <a:off x="1633680" y="3895560"/>
            <a:ext cx="3638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a al Responsable de Área que cuenta con una no conformidad o una no conformidad potencial y le entrega el formato correspon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64"/>
          <p:cNvSpPr/>
          <p:nvPr/>
        </p:nvSpPr>
        <p:spPr>
          <a:xfrm>
            <a:off x="1628640" y="2755800"/>
            <a:ext cx="364824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a al 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65"/>
          <p:cNvSpPr/>
          <p:nvPr/>
        </p:nvSpPr>
        <p:spPr>
          <a:xfrm>
            <a:off x="1668600" y="6429240"/>
            <a:ext cx="3617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n caso de ser necesario designa equipo de trabajo para solucionar la no conform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66"/>
          <p:cNvSpPr/>
          <p:nvPr/>
        </p:nvSpPr>
        <p:spPr>
          <a:xfrm>
            <a:off x="1628640" y="3286080"/>
            <a:ext cx="36482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naliza si procede la acción y en caso de que se requiera asigna número de control, seguidor y la registra en el concentrado de ac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67"/>
          <p:cNvSpPr/>
          <p:nvPr/>
        </p:nvSpPr>
        <p:spPr>
          <a:xfrm>
            <a:off x="1643040" y="5468760"/>
            <a:ext cx="1571760" cy="50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naliza e Identifica la causa del problema, establece acciones correctivas y fechas compromi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AutoShape 568"/>
          <p:cNvCxnSpPr>
            <a:stCxn id="91" idx="2"/>
            <a:endCxn id="95" idx="0"/>
          </p:cNvCxnSpPr>
          <p:nvPr/>
        </p:nvCxnSpPr>
        <p:spPr>
          <a:xfrm>
            <a:off x="3451680" y="4265280"/>
            <a:ext cx="1044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570"/>
          <p:cNvCxnSpPr>
            <a:stCxn id="92" idx="2"/>
            <a:endCxn id="97" idx="0"/>
          </p:cNvCxnSpPr>
          <p:nvPr/>
        </p:nvCxnSpPr>
        <p:spPr>
          <a:xfrm flipH="1">
            <a:off x="3465000" y="6799320"/>
            <a:ext cx="1368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AutoShape 571"/>
          <p:cNvCxnSpPr>
            <a:stCxn id="90" idx="2"/>
            <a:endCxn id="73" idx="0"/>
          </p:cNvCxnSpPr>
          <p:nvPr/>
        </p:nvCxnSpPr>
        <p:spPr>
          <a:xfrm flipH="1">
            <a:off x="3452040" y="2371320"/>
            <a:ext cx="2520" cy="38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AutoShape 573"/>
          <p:cNvCxnSpPr>
            <a:stCxn id="74" idx="2"/>
            <a:endCxn id="91" idx="0"/>
          </p:cNvCxnSpPr>
          <p:nvPr/>
        </p:nvCxnSpPr>
        <p:spPr>
          <a:xfrm flipH="1">
            <a:off x="3452040" y="3655800"/>
            <a:ext cx="2520" cy="24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Line 574"/>
          <p:cNvSpPr/>
          <p:nvPr/>
        </p:nvSpPr>
        <p:spPr>
          <a:xfrm flipH="1">
            <a:off x="3448440" y="4532760"/>
            <a:ext cx="321840" cy="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75"/>
          <p:cNvSpPr/>
          <p:nvPr/>
        </p:nvSpPr>
        <p:spPr>
          <a:xfrm>
            <a:off x="3784680" y="4413240"/>
            <a:ext cx="290520" cy="223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AutoShape 576"/>
          <p:cNvCxnSpPr>
            <a:stCxn id="97" idx="2"/>
            <a:endCxn id="103" idx="0"/>
          </p:cNvCxnSpPr>
          <p:nvPr/>
        </p:nvCxnSpPr>
        <p:spPr>
          <a:xfrm>
            <a:off x="3465000" y="7512120"/>
            <a:ext cx="1080" cy="20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Text Box 595"/>
          <p:cNvSpPr/>
          <p:nvPr/>
        </p:nvSpPr>
        <p:spPr>
          <a:xfrm>
            <a:off x="333360" y="3908520"/>
            <a:ext cx="1238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559"/>
          <p:cNvSpPr/>
          <p:nvPr/>
        </p:nvSpPr>
        <p:spPr>
          <a:xfrm>
            <a:off x="3286080" y="7715160"/>
            <a:ext cx="357120" cy="21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03"/>
          <p:cNvSpPr/>
          <p:nvPr/>
        </p:nvSpPr>
        <p:spPr>
          <a:xfrm>
            <a:off x="5373720" y="3143160"/>
            <a:ext cx="12952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ciones Correctivas y Preventivas / Concentrado de Acciones Correctivas y Preven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56 Rectángulo"/>
          <p:cNvSpPr/>
          <p:nvPr/>
        </p:nvSpPr>
        <p:spPr>
          <a:xfrm>
            <a:off x="3786120" y="5334120"/>
            <a:ext cx="15001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naliza e Identifica la causa del problema potencial, establece acciones preventivas y fechas compromis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38"/>
          <p:cNvSpPr/>
          <p:nvPr/>
        </p:nvSpPr>
        <p:spPr>
          <a:xfrm>
            <a:off x="2781360" y="4727520"/>
            <a:ext cx="1361880" cy="417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¿ Es Acción Correctiva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AutoShape 41"/>
          <p:cNvCxnSpPr>
            <a:stCxn id="95" idx="2"/>
            <a:endCxn id="93" idx="0"/>
          </p:cNvCxnSpPr>
          <p:nvPr/>
        </p:nvCxnSpPr>
        <p:spPr>
          <a:xfrm rot="5400000">
            <a:off x="2442600" y="5130360"/>
            <a:ext cx="324360" cy="353160"/>
          </a:xfrm>
          <a:prstGeom prst="bentConnector3">
            <a:avLst>
              <a:gd name="adj1" fmla="val 28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AutoShape 42"/>
          <p:cNvCxnSpPr>
            <a:stCxn id="95" idx="4"/>
            <a:endCxn id="106" idx="0"/>
          </p:cNvCxnSpPr>
          <p:nvPr/>
        </p:nvCxnSpPr>
        <p:spPr>
          <a:xfrm flipH="1" rot="16200000">
            <a:off x="4245480" y="5042160"/>
            <a:ext cx="189720" cy="394560"/>
          </a:xfrm>
          <a:prstGeom prst="bentConnector3">
            <a:avLst>
              <a:gd name="adj1" fmla="val 7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Text Box 48"/>
          <p:cNvSpPr/>
          <p:nvPr/>
        </p:nvSpPr>
        <p:spPr>
          <a:xfrm>
            <a:off x="2643120" y="4870440"/>
            <a:ext cx="28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9"/>
          <p:cNvSpPr/>
          <p:nvPr/>
        </p:nvSpPr>
        <p:spPr>
          <a:xfrm>
            <a:off x="4000680" y="48704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00"/>
          <p:cNvSpPr/>
          <p:nvPr/>
        </p:nvSpPr>
        <p:spPr>
          <a:xfrm>
            <a:off x="1643040" y="7000920"/>
            <a:ext cx="3643200" cy="50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lena el formato de Acciones Correctivas y Preventivas y lo entrega o envía al Representante del SGC en un tiempo NO mayor a 3 días hábiles después de haber recibido la a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AutoShape 41"/>
          <p:cNvCxnSpPr>
            <a:stCxn id="93" idx="2"/>
            <a:endCxn id="92" idx="0"/>
          </p:cNvCxnSpPr>
          <p:nvPr/>
        </p:nvCxnSpPr>
        <p:spPr>
          <a:xfrm flipH="1" rot="16200000">
            <a:off x="2726640" y="5679000"/>
            <a:ext cx="452880" cy="1048320"/>
          </a:xfrm>
          <a:prstGeom prst="bentConnector3">
            <a:avLst>
              <a:gd name="adj1" fmla="val 645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AutoShape 42"/>
          <p:cNvCxnSpPr>
            <a:stCxn id="106" idx="2"/>
            <a:endCxn id="92" idx="0"/>
          </p:cNvCxnSpPr>
          <p:nvPr/>
        </p:nvCxnSpPr>
        <p:spPr>
          <a:xfrm rot="5400000">
            <a:off x="3851280" y="5744160"/>
            <a:ext cx="311760" cy="1059480"/>
          </a:xfrm>
          <a:prstGeom prst="bentConnector3">
            <a:avLst>
              <a:gd name="adj1" fmla="val 499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Text Box 537"/>
          <p:cNvSpPr/>
          <p:nvPr/>
        </p:nvSpPr>
        <p:spPr>
          <a:xfrm>
            <a:off x="5372280" y="5578560"/>
            <a:ext cx="1296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T-RSG-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37"/>
          <p:cNvSpPr/>
          <p:nvPr/>
        </p:nvSpPr>
        <p:spPr>
          <a:xfrm>
            <a:off x="5373720" y="7162920"/>
            <a:ext cx="1297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T-RSG-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38"/>
          <p:cNvSpPr/>
          <p:nvPr/>
        </p:nvSpPr>
        <p:spPr>
          <a:xfrm>
            <a:off x="333360" y="270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sponsable de Área / Auditor Interno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38"/>
          <p:cNvSpPr/>
          <p:nvPr/>
        </p:nvSpPr>
        <p:spPr>
          <a:xfrm>
            <a:off x="333360" y="4711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sponsable de Área / Auditor Interno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38"/>
          <p:cNvSpPr/>
          <p:nvPr/>
        </p:nvSpPr>
        <p:spPr>
          <a:xfrm>
            <a:off x="333360" y="5508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sponsable de Área / Auditor Interno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38"/>
          <p:cNvSpPr/>
          <p:nvPr/>
        </p:nvSpPr>
        <p:spPr>
          <a:xfrm>
            <a:off x="333360" y="64389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sponsable de Área / Auditor Interno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38"/>
          <p:cNvSpPr/>
          <p:nvPr/>
        </p:nvSpPr>
        <p:spPr>
          <a:xfrm>
            <a:off x="333360" y="70866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sponsable de Área / Auditor Interno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589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590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591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592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593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59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51"/>
          <p:cNvSpPr/>
          <p:nvPr/>
        </p:nvSpPr>
        <p:spPr>
          <a:xfrm>
            <a:off x="5372280" y="2252520"/>
            <a:ext cx="1342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T-RSG-01 / Concentrado de Acciones Correctivas y Preven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AutoShape 558"/>
          <p:cNvCxnSpPr>
            <a:stCxn id="128" idx="2"/>
            <a:endCxn id="129" idx="0"/>
          </p:cNvCxnSpPr>
          <p:nvPr/>
        </p:nvCxnSpPr>
        <p:spPr>
          <a:xfrm>
            <a:off x="3477960" y="2730600"/>
            <a:ext cx="5400" cy="2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Text Box 560"/>
          <p:cNvSpPr/>
          <p:nvPr/>
        </p:nvSpPr>
        <p:spPr>
          <a:xfrm>
            <a:off x="1652760" y="2219400"/>
            <a:ext cx="3649320" cy="50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gistra fecha compromiso en el concentrado de acciones correctivas y preventivas y entrega copia del Registro de Acciones Correctivas y Preventivas al seguidor asign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96"/>
          <p:cNvSpPr/>
          <p:nvPr/>
        </p:nvSpPr>
        <p:spPr>
          <a:xfrm>
            <a:off x="324000" y="2282760"/>
            <a:ext cx="1238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AutoShape 601"/>
          <p:cNvCxnSpPr>
            <a:stCxn id="132" idx="4"/>
            <a:endCxn id="128" idx="0"/>
          </p:cNvCxnSpPr>
          <p:nvPr/>
        </p:nvCxnSpPr>
        <p:spPr>
          <a:xfrm>
            <a:off x="3465360" y="1999800"/>
            <a:ext cx="1368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Oval 559"/>
          <p:cNvSpPr/>
          <p:nvPr/>
        </p:nvSpPr>
        <p:spPr>
          <a:xfrm>
            <a:off x="3286080" y="1697040"/>
            <a:ext cx="357120" cy="303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1658880" y="4309920"/>
            <a:ext cx="1555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ierra la acción y notifica al Coordinador Administra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5367240" y="3646440"/>
            <a:ext cx="13017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ciones Correctivas y  Preven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5373720" y="4321080"/>
            <a:ext cx="1295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ncentrado de Acciones Correctivas y Preven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328680" y="367344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gui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3857760" y="4319640"/>
            <a:ext cx="1441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a al 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2"/>
          <p:cNvSpPr/>
          <p:nvPr/>
        </p:nvSpPr>
        <p:spPr>
          <a:xfrm>
            <a:off x="1647720" y="2987640"/>
            <a:ext cx="3668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n tiempo verifica que las acciones correctivas y preventivas sean efectivas (mediante evidencio y/o en sitio según corresponda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3"/>
          <p:cNvSpPr/>
          <p:nvPr/>
        </p:nvSpPr>
        <p:spPr>
          <a:xfrm>
            <a:off x="333360" y="307980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gui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5"/>
          <p:cNvSpPr/>
          <p:nvPr/>
        </p:nvSpPr>
        <p:spPr>
          <a:xfrm>
            <a:off x="5373720" y="3084480"/>
            <a:ext cx="1293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T-RSG-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37"/>
          <p:cNvCxnSpPr>
            <a:stCxn id="129" idx="2"/>
            <a:endCxn id="141" idx="0"/>
          </p:cNvCxnSpPr>
          <p:nvPr/>
        </p:nvCxnSpPr>
        <p:spPr>
          <a:xfrm>
            <a:off x="3482640" y="3362040"/>
            <a:ext cx="3960" cy="23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AutoShape 38"/>
          <p:cNvSpPr/>
          <p:nvPr/>
        </p:nvSpPr>
        <p:spPr>
          <a:xfrm>
            <a:off x="2735280" y="3592440"/>
            <a:ext cx="1500120" cy="352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¿La Acción es Efectiva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AutoShape 41"/>
          <p:cNvCxnSpPr>
            <a:stCxn id="141" idx="2"/>
            <a:endCxn id="133" idx="0"/>
          </p:cNvCxnSpPr>
          <p:nvPr/>
        </p:nvCxnSpPr>
        <p:spPr>
          <a:xfrm rot="5400000">
            <a:off x="2402640" y="3978000"/>
            <a:ext cx="365760" cy="299160"/>
          </a:xfrm>
          <a:prstGeom prst="bentConnector3">
            <a:avLst>
              <a:gd name="adj1" fmla="val 3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AutoShape 42"/>
          <p:cNvCxnSpPr>
            <a:stCxn id="141" idx="4"/>
            <a:endCxn id="137" idx="0"/>
          </p:cNvCxnSpPr>
          <p:nvPr/>
        </p:nvCxnSpPr>
        <p:spPr>
          <a:xfrm flipH="1" rot="16200000">
            <a:off x="4218480" y="3960360"/>
            <a:ext cx="37548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Text Box 48"/>
          <p:cNvSpPr/>
          <p:nvPr/>
        </p:nvSpPr>
        <p:spPr>
          <a:xfrm>
            <a:off x="2571840" y="3749760"/>
            <a:ext cx="28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9"/>
          <p:cNvSpPr/>
          <p:nvPr/>
        </p:nvSpPr>
        <p:spPr>
          <a:xfrm>
            <a:off x="4143240" y="37497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1643040" y="4964040"/>
            <a:ext cx="1596960" cy="7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tualiza el Concentrado de Acciones Correctivas y  Preventivas y salvaguarda la evidencia de la solución a la acción verific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1644480" y="5992920"/>
            <a:ext cx="1597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Monitorea indicadores de desempeño y toma ac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5373720" y="5826240"/>
            <a:ext cx="1341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dicadores de Desempeño / Acciones Correctivas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ciones Preventivas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Mejora Contin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3860640" y="4964040"/>
            <a:ext cx="1441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n caso de ser necesario asigna nuevo folio y actualiza el Concentrado de Acciones Correctivas y Preven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5367240" y="4892760"/>
            <a:ext cx="1301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ciones Correctivas y Preventivas / Concentrado de Acciones Correctivas y Preven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22"/>
          <p:cNvSpPr/>
          <p:nvPr/>
        </p:nvSpPr>
        <p:spPr>
          <a:xfrm>
            <a:off x="4435560" y="5816520"/>
            <a:ext cx="288720" cy="290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AutoShape 25"/>
          <p:cNvCxnSpPr>
            <a:stCxn id="146" idx="2"/>
            <a:endCxn id="147" idx="0"/>
          </p:cNvCxnSpPr>
          <p:nvPr/>
        </p:nvCxnSpPr>
        <p:spPr>
          <a:xfrm>
            <a:off x="2440440" y="5748120"/>
            <a:ext cx="2520" cy="24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47" idx="2"/>
            <a:endCxn id="154" idx="0"/>
          </p:cNvCxnSpPr>
          <p:nvPr/>
        </p:nvCxnSpPr>
        <p:spPr>
          <a:xfrm flipH="1">
            <a:off x="2435040" y="6367320"/>
            <a:ext cx="86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49" idx="2"/>
            <a:endCxn id="151" idx="0"/>
          </p:cNvCxnSpPr>
          <p:nvPr/>
        </p:nvCxnSpPr>
        <p:spPr>
          <a:xfrm flipH="1">
            <a:off x="4579560" y="5609880"/>
            <a:ext cx="2160" cy="20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AutoShape 30"/>
          <p:cNvSpPr/>
          <p:nvPr/>
        </p:nvSpPr>
        <p:spPr>
          <a:xfrm>
            <a:off x="2133720" y="6583320"/>
            <a:ext cx="601560" cy="1904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58"/>
          <p:cNvSpPr/>
          <p:nvPr/>
        </p:nvSpPr>
        <p:spPr>
          <a:xfrm>
            <a:off x="333360" y="5114880"/>
            <a:ext cx="1238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9"/>
          <p:cNvSpPr/>
          <p:nvPr/>
        </p:nvSpPr>
        <p:spPr>
          <a:xfrm>
            <a:off x="333360" y="5981760"/>
            <a:ext cx="1238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AutoShape 25"/>
          <p:cNvCxnSpPr>
            <a:stCxn id="133" idx="2"/>
            <a:endCxn id="146" idx="0"/>
          </p:cNvCxnSpPr>
          <p:nvPr/>
        </p:nvCxnSpPr>
        <p:spPr>
          <a:xfrm>
            <a:off x="2435760" y="4684680"/>
            <a:ext cx="540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AutoShape 28"/>
          <p:cNvCxnSpPr>
            <a:stCxn id="137" idx="2"/>
            <a:endCxn id="149" idx="0"/>
          </p:cNvCxnSpPr>
          <p:nvPr/>
        </p:nvCxnSpPr>
        <p:spPr>
          <a:xfrm>
            <a:off x="4578480" y="4694040"/>
            <a:ext cx="3600" cy="27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Text Box 16"/>
          <p:cNvSpPr/>
          <p:nvPr/>
        </p:nvSpPr>
        <p:spPr>
          <a:xfrm>
            <a:off x="347760" y="437832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gui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3-29T00:45:31Z</dcterms:modified>
  <cp:revision>224</cp:revision>
  <dc:subject/>
  <dc:title>Presentación de PowerPoint</dc:title>
</cp:coreProperties>
</file>