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8651-34A7-4C79-A8B8-221079C81E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54DC-91DA-4F30-AF21-3FDC688949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5E0E-8680-4BA6-9173-2489D6B099D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B8A6-9C11-4E5A-A53D-CBCDD9765FA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E503-C3B9-4DB4-B0B9-7D0FB2D906D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053-0936-4686-A0B9-42C58ED2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C53-DCFF-4292-9823-65B0405E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3E6C-E9C1-46A3-A5AF-286F3ADD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5A4-CD8F-4883-AE6A-DB94C480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25C-5505-4000-8176-2445E95E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91B-F41B-40E4-B756-3460DF23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ED5C-FA60-433C-8870-E14B1673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2682-B683-49DE-B9F9-9736717D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49F9-FD20-4273-8640-EEB09932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8BAB-DF30-49B4-818A-77F1C917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9FE-7686-4DC7-9AEE-44E8D6ED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BC17-D53D-46CD-B093-87A101ED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3B8B-84CA-44B1-AB43-567DB944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C84C-D496-46CE-B6BF-8A8167F6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C5E0-0655-463E-A269-C041188C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43EB-FE0C-419D-9518-32FDBA81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5B77-FF31-481C-86CA-E69C49B0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BA02-B884-41D9-B037-E9E4E594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E737-FD96-4537-926C-CA5378A6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645F-5F02-40EC-BEB0-53ECECCB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4A40-029D-4FC4-8BD7-8C370812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5625-DA5B-40B4-8236-28B0C1E7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D45B-C61E-4B73-9C2D-2C8A5EE5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C03A-54BF-4D86-8F55-1F9F7CE3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BC7AE-EDA9-47EC-94ED-42A7FBB0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AA3C8-14F8-4B07-A52F-FEBC0A94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E6A31-A16A-422D-841B-8AB24D44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4B07A-12D3-440D-9338-F8E3BD8B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00B97-A68E-41E1-8822-E09ABCDD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288EE-7F19-4A9D-A392-BD6A528B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EE525-99A0-479D-9054-F96AB5E5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D34C7-FEEC-4068-8A50-A73A4511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50F40-515A-4624-8E98-A413FA25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433FB-8788-4CF5-9A0B-FA799948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02529-28AE-44D5-A6E2-6A319D0D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36D79-F623-48B7-8E92-4768620D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65FE1-5C07-4E03-8167-3B099EBE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D56F4-F622-4D2B-AD74-A722B584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03F35-A3DC-4A1F-A87F-62D18D3B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239CB-611E-4767-9595-E280FA68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DE511-03A2-4459-BC91-062CAF78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5CD6E-2648-4619-949C-A7BBEC50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D763F-5019-49DF-AF25-77AC86B8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5B26A-25DE-470E-B38B-C9E41596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6808C-5CDF-4311-909B-E95B9D4F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BB035-40B3-4BDA-A119-70DDB4F3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E151B-1B7D-4D43-8AF4-71621DD9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FA0D8-27F5-49C2-974B-89F323E8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5097B-B063-4359-B542-48ADC8DD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713CA-B544-412C-8E56-6EED65E3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8296A-946B-4FBD-868A-84769932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EE0D4-76C3-42FF-80F8-AC9BCFC0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164F1-5AC7-4EDE-BA4E-BC57B002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29A55-63CE-4938-8796-229E205E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CD484-B457-455C-B2F3-EF4810CD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6F910-2A85-4B0D-B08C-F35B2BBD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2A1C7-C228-4C38-8668-E63A6180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DF8BA-749B-42D8-9DD0-B0029C02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CBA0D-9FDB-4975-8C88-166AAAD8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79E68-30E8-40B0-8E89-B5EA8000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citación Elect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BD252758-89C4-4247-852C-4064E06FFE6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irector Capacitación Electoral y Educación Cív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0-02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A1F8-8C17-48E2-BCB9-4C3C9F354177}" type="slidenum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D3DB-0122-4FC7-B912-DA7A5364A45C}" type="slidenum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1732-C943-4482-8729-E63166408DC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B1BE-FA4B-49D3-A26B-CB54BFEB06A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E6C7-6330-4314-8B03-9CF9F2C69CB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gmentación del proced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rrección de re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-02-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umplir con la función estatal de organizar procesos electorales para la renovación de titulares de los poderes legislativo y ejecutivo, así como los Ayuntamientos, mediante elecciones libres, auténticas y periód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25"/>
          <p:cNvSpPr/>
          <p:nvPr/>
        </p:nvSpPr>
        <p:spPr>
          <a:xfrm>
            <a:off x="343080" y="2158920"/>
            <a:ext cx="63259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de capacitación electoral en el proceso de certificación de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Servicios de Fiscalización, Proceso Administrativo Sancionador; y Reclutamiento y Selección de Capacitadores Asistentes Electorales (CAEs)  del IEPCJ como apoyo en la Organización de las elecciones constitucionales y mecanismos de participación ciudadana en 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26"/>
          <p:cNvSpPr/>
          <p:nvPr/>
        </p:nvSpPr>
        <p:spPr>
          <a:xfrm>
            <a:off x="333360" y="2860560"/>
            <a:ext cx="63356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AES:  Capacitadores Asistentes Electo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INSEL: Sistema de Información y Seguimiento Electo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V: Curriculum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503"/>
          <p:cNvSpPr/>
          <p:nvPr/>
        </p:nvSpPr>
        <p:spPr>
          <a:xfrm>
            <a:off x="2205000" y="1647720"/>
            <a:ext cx="2519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ELECCI</a:t>
            </a:r>
            <a:r>
              <a:rPr b="1" lang="is-IS" sz="1100" spc="-1" strike="noStrike">
                <a:solidFill>
                  <a:srgbClr val="000000"/>
                </a:solidFill>
                <a:latin typeface="Arial Narrow"/>
              </a:rPr>
              <a:t>Ó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N Y CONTRATACION DE PERSONAL CENTRAL Y DISTRI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648"/>
          <p:cNvSpPr/>
          <p:nvPr/>
        </p:nvSpPr>
        <p:spPr>
          <a:xfrm>
            <a:off x="3214800" y="23400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AutoShape 649"/>
          <p:cNvCxnSpPr>
            <a:stCxn id="284" idx="2"/>
            <a:endCxn id="286" idx="0"/>
          </p:cNvCxnSpPr>
          <p:nvPr/>
        </p:nvCxnSpPr>
        <p:spPr>
          <a:xfrm flipH="1">
            <a:off x="3498120" y="2504880"/>
            <a:ext cx="39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Rectangle 652"/>
          <p:cNvSpPr/>
          <p:nvPr/>
        </p:nvSpPr>
        <p:spPr>
          <a:xfrm>
            <a:off x="1698480" y="26496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la convocatoria para inicio de proceso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53"/>
          <p:cNvSpPr/>
          <p:nvPr/>
        </p:nvSpPr>
        <p:spPr>
          <a:xfrm>
            <a:off x="1701720" y="33066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ontrata personal eventual: distrital y central a perfil requerido y se informa a Dirección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65"/>
          <p:cNvSpPr/>
          <p:nvPr/>
        </p:nvSpPr>
        <p:spPr>
          <a:xfrm>
            <a:off x="5373720" y="416232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valuación de cur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66"/>
          <p:cNvSpPr/>
          <p:nvPr/>
        </p:nvSpPr>
        <p:spPr>
          <a:xfrm>
            <a:off x="5369040" y="3271680"/>
            <a:ext cx="127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lación de aspirantes / P-ADM -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681"/>
          <p:cNvCxnSpPr>
            <a:stCxn id="291" idx="2"/>
            <a:endCxn id="287" idx="0"/>
          </p:cNvCxnSpPr>
          <p:nvPr/>
        </p:nvCxnSpPr>
        <p:spPr>
          <a:xfrm>
            <a:off x="3492000" y="3160440"/>
            <a:ext cx="1044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AutoShape 684"/>
          <p:cNvCxnSpPr>
            <a:stCxn id="287" idx="2"/>
            <a:endCxn id="293" idx="0"/>
          </p:cNvCxnSpPr>
          <p:nvPr/>
        </p:nvCxnSpPr>
        <p:spPr>
          <a:xfrm>
            <a:off x="3501720" y="3522240"/>
            <a:ext cx="108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Rectangle 700"/>
          <p:cNvSpPr/>
          <p:nvPr/>
        </p:nvSpPr>
        <p:spPr>
          <a:xfrm>
            <a:off x="396720" y="294804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701"/>
          <p:cNvSpPr/>
          <p:nvPr/>
        </p:nvSpPr>
        <p:spPr>
          <a:xfrm>
            <a:off x="333360" y="36702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área de capacitación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66"/>
          <p:cNvSpPr/>
          <p:nvPr/>
        </p:nvSpPr>
        <p:spPr>
          <a:xfrm>
            <a:off x="5373720" y="36576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urso a coordinadores / personal eventual / manual de bienveni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56"/>
          <p:cNvSpPr/>
          <p:nvPr/>
        </p:nvSpPr>
        <p:spPr>
          <a:xfrm>
            <a:off x="1701720" y="37288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pacita a personal contratado de las áreas del institu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AutoShape 685"/>
          <p:cNvCxnSpPr>
            <a:stCxn id="293" idx="2"/>
          </p:cNvCxnSpPr>
          <p:nvPr/>
        </p:nvCxnSpPr>
        <p:spPr>
          <a:xfrm>
            <a:off x="3501720" y="394488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18 Rectángulo"/>
          <p:cNvSpPr/>
          <p:nvPr/>
        </p:nvSpPr>
        <p:spPr>
          <a:xfrm>
            <a:off x="1701720" y="40878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evaluación del curso a capacit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66"/>
          <p:cNvSpPr/>
          <p:nvPr/>
        </p:nvSpPr>
        <p:spPr>
          <a:xfrm>
            <a:off x="5373720" y="2649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eclara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00"/>
          <p:cNvSpPr/>
          <p:nvPr/>
        </p:nvSpPr>
        <p:spPr>
          <a:xfrm>
            <a:off x="404640" y="257796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652"/>
          <p:cNvSpPr/>
          <p:nvPr/>
        </p:nvSpPr>
        <p:spPr>
          <a:xfrm>
            <a:off x="1692360" y="29448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epción de C. V. y Sel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AutoShape 681"/>
          <p:cNvCxnSpPr/>
          <p:nvPr/>
        </p:nvCxnSpPr>
        <p:spPr>
          <a:xfrm>
            <a:off x="3492000" y="2863800"/>
            <a:ext cx="1044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700"/>
          <p:cNvSpPr/>
          <p:nvPr/>
        </p:nvSpPr>
        <p:spPr>
          <a:xfrm>
            <a:off x="406440" y="327168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701"/>
          <p:cNvSpPr/>
          <p:nvPr/>
        </p:nvSpPr>
        <p:spPr>
          <a:xfrm>
            <a:off x="333360" y="41274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área de capacitación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666"/>
          <p:cNvSpPr/>
          <p:nvPr/>
        </p:nvSpPr>
        <p:spPr>
          <a:xfrm>
            <a:off x="5373720" y="29941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. V. / formato de recibi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32"/>
          <p:cNvCxnSpPr/>
          <p:nvPr/>
        </p:nvCxnSpPr>
        <p:spPr>
          <a:xfrm>
            <a:off x="3525480" y="430344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Oval 34"/>
          <p:cNvSpPr/>
          <p:nvPr/>
        </p:nvSpPr>
        <p:spPr>
          <a:xfrm>
            <a:off x="3213000" y="44496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648"/>
          <p:cNvSpPr/>
          <p:nvPr/>
        </p:nvSpPr>
        <p:spPr>
          <a:xfrm>
            <a:off x="3068640" y="1979640"/>
            <a:ext cx="86508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649"/>
          <p:cNvCxnSpPr>
            <a:stCxn id="313" idx="2"/>
            <a:endCxn id="315" idx="0"/>
          </p:cNvCxnSpPr>
          <p:nvPr/>
        </p:nvCxnSpPr>
        <p:spPr>
          <a:xfrm flipH="1">
            <a:off x="3498480" y="21445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Rectangle 652"/>
          <p:cNvSpPr/>
          <p:nvPr/>
        </p:nvSpPr>
        <p:spPr>
          <a:xfrm>
            <a:off x="1698480" y="22892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publica la convocatoria de CA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53"/>
          <p:cNvSpPr/>
          <p:nvPr/>
        </p:nvSpPr>
        <p:spPr>
          <a:xfrm>
            <a:off x="1701720" y="29462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n entrevistas a los aspirantes a CA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661"/>
          <p:cNvSpPr/>
          <p:nvPr/>
        </p:nvSpPr>
        <p:spPr>
          <a:xfrm>
            <a:off x="330120" y="35496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ubcoordinadores distritales / subcoordinadores distritales / CA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AutoShape 681"/>
          <p:cNvCxnSpPr>
            <a:stCxn id="319" idx="2"/>
            <a:endCxn id="316" idx="0"/>
          </p:cNvCxnSpPr>
          <p:nvPr/>
        </p:nvCxnSpPr>
        <p:spPr>
          <a:xfrm>
            <a:off x="3492000" y="2800080"/>
            <a:ext cx="1044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AutoShape 684"/>
          <p:cNvCxnSpPr>
            <a:stCxn id="316" idx="2"/>
            <a:endCxn id="321" idx="0"/>
          </p:cNvCxnSpPr>
          <p:nvPr/>
        </p:nvCxnSpPr>
        <p:spPr>
          <a:xfrm>
            <a:off x="3501720" y="3161880"/>
            <a:ext cx="108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Rectangle 656"/>
          <p:cNvSpPr/>
          <p:nvPr/>
        </p:nvSpPr>
        <p:spPr>
          <a:xfrm>
            <a:off x="1701720" y="33685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plica examen  a los aspirantes a CA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685"/>
          <p:cNvCxnSpPr>
            <a:stCxn id="321" idx="2"/>
          </p:cNvCxnSpPr>
          <p:nvPr/>
        </p:nvCxnSpPr>
        <p:spPr>
          <a:xfrm>
            <a:off x="3501720" y="358452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3" name="Rectangle 701"/>
          <p:cNvSpPr/>
          <p:nvPr/>
        </p:nvSpPr>
        <p:spPr>
          <a:xfrm>
            <a:off x="333360" y="254952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es distritales de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18 Rectángulo"/>
          <p:cNvSpPr/>
          <p:nvPr/>
        </p:nvSpPr>
        <p:spPr>
          <a:xfrm>
            <a:off x="1701720" y="3727440"/>
            <a:ext cx="3600360" cy="216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hace una selección de los CA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701"/>
          <p:cNvSpPr/>
          <p:nvPr/>
        </p:nvSpPr>
        <p:spPr>
          <a:xfrm>
            <a:off x="333360" y="29494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es distritales de capacitación / subcoordinadores centrales de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700"/>
          <p:cNvSpPr/>
          <p:nvPr/>
        </p:nvSpPr>
        <p:spPr>
          <a:xfrm>
            <a:off x="404640" y="22176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652"/>
          <p:cNvSpPr/>
          <p:nvPr/>
        </p:nvSpPr>
        <p:spPr>
          <a:xfrm>
            <a:off x="1692360" y="25844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n Solicitudes de Aspirante a C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7" name="AutoShape 681"/>
          <p:cNvCxnSpPr/>
          <p:nvPr/>
        </p:nvCxnSpPr>
        <p:spPr>
          <a:xfrm>
            <a:off x="3492000" y="2503440"/>
            <a:ext cx="1044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8" name="Rectangle 666"/>
          <p:cNvSpPr/>
          <p:nvPr/>
        </p:nvSpPr>
        <p:spPr>
          <a:xfrm>
            <a:off x="5373720" y="22892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voca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66"/>
          <p:cNvSpPr/>
          <p:nvPr/>
        </p:nvSpPr>
        <p:spPr>
          <a:xfrm>
            <a:off x="5373720" y="25621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66"/>
          <p:cNvSpPr/>
          <p:nvPr/>
        </p:nvSpPr>
        <p:spPr>
          <a:xfrm>
            <a:off x="5373720" y="29224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 de Entrevi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66"/>
          <p:cNvSpPr/>
          <p:nvPr/>
        </p:nvSpPr>
        <p:spPr>
          <a:xfrm>
            <a:off x="5373720" y="33544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xa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66"/>
          <p:cNvSpPr/>
          <p:nvPr/>
        </p:nvSpPr>
        <p:spPr>
          <a:xfrm>
            <a:off x="5373720" y="37148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o de CAES aprob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701"/>
          <p:cNvSpPr/>
          <p:nvPr/>
        </p:nvSpPr>
        <p:spPr>
          <a:xfrm>
            <a:off x="341280" y="4524480"/>
            <a:ext cx="12240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es distritales de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18 Rectángulo"/>
          <p:cNvSpPr/>
          <p:nvPr/>
        </p:nvSpPr>
        <p:spPr>
          <a:xfrm>
            <a:off x="1689120" y="41860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ontrata a capacitadores asistentes electorales (CA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18 Rectángulo"/>
          <p:cNvSpPr/>
          <p:nvPr/>
        </p:nvSpPr>
        <p:spPr>
          <a:xfrm>
            <a:off x="1689120" y="4608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pacita a CAES para sus funcion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32"/>
          <p:cNvCxnSpPr>
            <a:stCxn id="334" idx="2"/>
            <a:endCxn id="335" idx="0"/>
          </p:cNvCxnSpPr>
          <p:nvPr/>
        </p:nvCxnSpPr>
        <p:spPr>
          <a:xfrm>
            <a:off x="3489120" y="4401720"/>
            <a:ext cx="108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7" name="Rectangle 701"/>
          <p:cNvSpPr/>
          <p:nvPr/>
        </p:nvSpPr>
        <p:spPr>
          <a:xfrm>
            <a:off x="333360" y="414324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área de capacitación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666"/>
          <p:cNvSpPr/>
          <p:nvPr/>
        </p:nvSpPr>
        <p:spPr>
          <a:xfrm>
            <a:off x="5381640" y="421632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-ADM-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666"/>
          <p:cNvSpPr/>
          <p:nvPr/>
        </p:nvSpPr>
        <p:spPr>
          <a:xfrm>
            <a:off x="5381640" y="50245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T-OPE-01 Estrategia general de capacitadores electorales / Cuestionario de aptitud y disponibilidad /Carta notificación / materia de capacitación a ciudadanos insacul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AutoShape 32"/>
          <p:cNvCxnSpPr>
            <a:stCxn id="335" idx="2"/>
            <a:endCxn id="341" idx="0"/>
          </p:cNvCxnSpPr>
          <p:nvPr/>
        </p:nvCxnSpPr>
        <p:spPr>
          <a:xfrm flipH="1">
            <a:off x="3484080" y="4824000"/>
            <a:ext cx="576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Rectangle 666"/>
          <p:cNvSpPr/>
          <p:nvPr/>
        </p:nvSpPr>
        <p:spPr>
          <a:xfrm>
            <a:off x="5381640" y="45036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ursos CAES / Manual de Bienvenida / guía técnica para capacit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18 Rectángulo"/>
          <p:cNvSpPr/>
          <p:nvPr/>
        </p:nvSpPr>
        <p:spPr>
          <a:xfrm>
            <a:off x="1684440" y="50608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hace evaluación a CA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701"/>
          <p:cNvSpPr/>
          <p:nvPr/>
        </p:nvSpPr>
        <p:spPr>
          <a:xfrm>
            <a:off x="341280" y="48816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es distritales de capacitación / subcoordinadores centrales de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AutoShape 32"/>
          <p:cNvCxnSpPr>
            <a:stCxn id="341" idx="2"/>
          </p:cNvCxnSpPr>
          <p:nvPr/>
        </p:nvCxnSpPr>
        <p:spPr>
          <a:xfrm>
            <a:off x="3484440" y="5276520"/>
            <a:ext cx="1512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AutoShape 685"/>
          <p:cNvCxnSpPr>
            <a:stCxn id="324" idx="2"/>
          </p:cNvCxnSpPr>
          <p:nvPr/>
        </p:nvCxnSpPr>
        <p:spPr>
          <a:xfrm flipH="1">
            <a:off x="3499560" y="3943080"/>
            <a:ext cx="252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6" name="Oval 34"/>
          <p:cNvSpPr/>
          <p:nvPr/>
        </p:nvSpPr>
        <p:spPr>
          <a:xfrm>
            <a:off x="3193920" y="55292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03"/>
          <p:cNvSpPr/>
          <p:nvPr/>
        </p:nvSpPr>
        <p:spPr>
          <a:xfrm>
            <a:off x="2205000" y="1647720"/>
            <a:ext cx="266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CLUTAMIENTO Y SELECCI</a:t>
            </a:r>
            <a:r>
              <a:rPr b="1" lang="is-IS" sz="1100" spc="-1" strike="noStrike">
                <a:solidFill>
                  <a:srgbClr val="000000"/>
                </a:solidFill>
                <a:latin typeface="Arial Narrow"/>
              </a:rPr>
              <a:t>Ó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N DE CAE´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648"/>
          <p:cNvSpPr/>
          <p:nvPr/>
        </p:nvSpPr>
        <p:spPr>
          <a:xfrm>
            <a:off x="3068640" y="2556000"/>
            <a:ext cx="86508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661"/>
          <p:cNvSpPr/>
          <p:nvPr/>
        </p:nvSpPr>
        <p:spPr>
          <a:xfrm>
            <a:off x="341280" y="33703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ubcoordinadores distritales / subcoordinadores distritales / CA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701"/>
          <p:cNvSpPr/>
          <p:nvPr/>
        </p:nvSpPr>
        <p:spPr>
          <a:xfrm>
            <a:off x="341280" y="27939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es distritales de capacitación / subcoordinadores centrales de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18 Rectángulo"/>
          <p:cNvSpPr/>
          <p:nvPr/>
        </p:nvSpPr>
        <p:spPr>
          <a:xfrm>
            <a:off x="1698480" y="2973240"/>
            <a:ext cx="3600720" cy="2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notificación y capacitación a ciudadanos insaculados de acuerdo a sorteo generado por Consejo General y Consejos Distrit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61"/>
          <p:cNvSpPr/>
          <p:nvPr/>
        </p:nvSpPr>
        <p:spPr>
          <a:xfrm>
            <a:off x="339840" y="39448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 /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666"/>
          <p:cNvSpPr/>
          <p:nvPr/>
        </p:nvSpPr>
        <p:spPr>
          <a:xfrm>
            <a:off x="5381640" y="35686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Listado de ciudad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18 Rectángulo"/>
          <p:cNvSpPr/>
          <p:nvPr/>
        </p:nvSpPr>
        <p:spPr>
          <a:xfrm>
            <a:off x="1709640" y="3541680"/>
            <a:ext cx="3600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 listado de ciudadanos aptos y dispuestos y se seleccionan los Funcionarios de Mesa Directiva de Cas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AutoShape 32"/>
          <p:cNvCxnSpPr>
            <a:stCxn id="357" idx="2"/>
            <a:endCxn id="360" idx="0"/>
          </p:cNvCxnSpPr>
          <p:nvPr/>
        </p:nvCxnSpPr>
        <p:spPr>
          <a:xfrm>
            <a:off x="3498480" y="3227040"/>
            <a:ext cx="1188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32"/>
          <p:cNvCxnSpPr>
            <a:stCxn id="360" idx="2"/>
            <a:endCxn id="363" idx="0"/>
          </p:cNvCxnSpPr>
          <p:nvPr/>
        </p:nvCxnSpPr>
        <p:spPr>
          <a:xfrm flipH="1">
            <a:off x="3507480" y="3757680"/>
            <a:ext cx="252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Rectangle 661"/>
          <p:cNvSpPr/>
          <p:nvPr/>
        </p:nvSpPr>
        <p:spPr>
          <a:xfrm>
            <a:off x="333360" y="41972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ubcoordinadores distritales / subcoordinadores distritales / CA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666"/>
          <p:cNvSpPr/>
          <p:nvPr/>
        </p:nvSpPr>
        <p:spPr>
          <a:xfrm>
            <a:off x="5381640" y="3835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mbramiento / materia de capacitación a funcionarios directivos de casilla / 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18 Rectángulo"/>
          <p:cNvSpPr/>
          <p:nvPr/>
        </p:nvSpPr>
        <p:spPr>
          <a:xfrm>
            <a:off x="1708200" y="394344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capacitación a funcionarios de mesa directiva de cas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AutoShape 32"/>
          <p:cNvCxnSpPr/>
          <p:nvPr/>
        </p:nvCxnSpPr>
        <p:spPr>
          <a:xfrm flipH="1">
            <a:off x="3498480" y="4132080"/>
            <a:ext cx="1008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Rectangle 661"/>
          <p:cNvSpPr/>
          <p:nvPr/>
        </p:nvSpPr>
        <p:spPr>
          <a:xfrm>
            <a:off x="339840" y="473724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666"/>
          <p:cNvSpPr/>
          <p:nvPr/>
        </p:nvSpPr>
        <p:spPr>
          <a:xfrm>
            <a:off x="5391000" y="4643280"/>
            <a:ext cx="127656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18 Rectángulo"/>
          <p:cNvSpPr/>
          <p:nvPr/>
        </p:nvSpPr>
        <p:spPr>
          <a:xfrm>
            <a:off x="1673280" y="46274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informe por parte de Coordinadores Distrital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661"/>
          <p:cNvSpPr/>
          <p:nvPr/>
        </p:nvSpPr>
        <p:spPr>
          <a:xfrm>
            <a:off x="333360" y="502596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666"/>
          <p:cNvSpPr/>
          <p:nvPr/>
        </p:nvSpPr>
        <p:spPr>
          <a:xfrm>
            <a:off x="5389560" y="5003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18 Rectángulo"/>
          <p:cNvSpPr/>
          <p:nvPr/>
        </p:nvSpPr>
        <p:spPr>
          <a:xfrm>
            <a:off x="1708200" y="49878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informe final de direc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AutoShape 32"/>
          <p:cNvCxnSpPr/>
          <p:nvPr/>
        </p:nvCxnSpPr>
        <p:spPr>
          <a:xfrm>
            <a:off x="3507840" y="520380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32"/>
          <p:cNvCxnSpPr>
            <a:stCxn id="354" idx="2"/>
            <a:endCxn id="357" idx="0"/>
          </p:cNvCxnSpPr>
          <p:nvPr/>
        </p:nvCxnSpPr>
        <p:spPr>
          <a:xfrm flipH="1">
            <a:off x="3498120" y="2720520"/>
            <a:ext cx="396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5" name="18 Rectángulo"/>
          <p:cNvSpPr/>
          <p:nvPr/>
        </p:nvSpPr>
        <p:spPr>
          <a:xfrm>
            <a:off x="1708200" y="42688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aliza simulacro de la Jornada Elec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AutoShape 32"/>
          <p:cNvCxnSpPr/>
          <p:nvPr/>
        </p:nvCxnSpPr>
        <p:spPr>
          <a:xfrm flipH="1">
            <a:off x="3498480" y="4492440"/>
            <a:ext cx="1008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AutoShape 32"/>
          <p:cNvCxnSpPr>
            <a:endCxn id="372" idx="0"/>
          </p:cNvCxnSpPr>
          <p:nvPr/>
        </p:nvCxnSpPr>
        <p:spPr>
          <a:xfrm flipH="1">
            <a:off x="3507480" y="4844520"/>
            <a:ext cx="25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Oval 34"/>
          <p:cNvSpPr/>
          <p:nvPr/>
        </p:nvSpPr>
        <p:spPr>
          <a:xfrm>
            <a:off x="3193920" y="534996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666"/>
          <p:cNvSpPr/>
          <p:nvPr/>
        </p:nvSpPr>
        <p:spPr>
          <a:xfrm>
            <a:off x="5381640" y="2577960"/>
            <a:ext cx="1278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T-OPE-01 /Estrategia general de capacitadores electorales / Cuestionario de aptitud y disponibilidad /Carta notificación / materia de capacitación a ciudadanos insacul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503"/>
          <p:cNvSpPr/>
          <p:nvPr/>
        </p:nvSpPr>
        <p:spPr>
          <a:xfrm>
            <a:off x="2205000" y="1647720"/>
            <a:ext cx="2519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CAPACITACION ELECTORAL A FUNCIONARIOS DE MESA DIRECTIVA DE CASIL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666"/>
          <p:cNvSpPr/>
          <p:nvPr/>
        </p:nvSpPr>
        <p:spPr>
          <a:xfrm>
            <a:off x="5373720" y="4284720"/>
            <a:ext cx="1276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jaime.montano</cp:lastModifiedBy>
  <dcterms:modified xsi:type="dcterms:W3CDTF">2012-04-26T17:25:42Z</dcterms:modified>
  <cp:revision>354</cp:revision>
  <dc:subject/>
  <dc:title>Presentación de PowerPoint</dc:title>
</cp:coreProperties>
</file>