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CF79-E1F4-4301-B69A-29D4383321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FAD8-6F3C-4D63-BEF1-3A7037D408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23BC-6B2C-49F6-87CA-78B023B576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8CE-D24F-4D06-A4F1-2B0F5A31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85E-2706-46E3-9057-B14E118A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B6E-4070-407F-B789-C64D34E8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061-5370-4F70-AF68-89081601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70B-209A-49CF-97A1-F6EE1A6D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C5F-44E4-4B2E-BCB3-F4D4B6D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5EB-CF51-4926-8DEA-4A78D2DB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E10-D494-41DA-B615-0D26E50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25B-6EAF-4835-A140-83E09DD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FE4-650E-4EF4-B5C9-172BCDC8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A45-54BE-4B1B-A1CA-6087E6C9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563-5286-498D-AA09-FDA75062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DA3E-3948-4BD5-8830-B9294FB9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0624-BB71-4BF4-9727-EB1319FE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BAAA-EA4F-4CFD-BACC-BE089D6C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9E95-E4FC-4D49-B2F1-261A7AF5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519F-0E2A-44AE-A861-718240DE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6CE2-3A03-4BC5-94EA-586B55B1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7D8B-F4DB-4C72-8B80-8DFDAFD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EE8B-A960-432D-B3CB-1BECA568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A763-6AC9-4851-AF3B-F037478D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3E51-0AC5-4C6A-9B45-EB697A84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64D2-FC52-4375-8426-5050E15E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B45B-5152-4319-8EA1-5AC007EB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8D6F-1BD1-4DF2-926D-C92E5531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BAC3-7AC5-475A-B5E0-5FD36B19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32BF-35CF-410C-9905-F968BE14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FFA1-1FCD-4F7E-92F7-82563E16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1E2B-42E2-4872-B69A-F784BC17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3F91-8F3B-4643-937A-F8CF647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A514-1DE6-4176-BC63-DE265061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FA16-44BC-44EC-89DA-D0B2009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33AA-781C-4914-82DB-3897618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2A2E-8209-4AB0-81E4-685DB10B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BF8E-477A-4C01-850F-EE4A4500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8578-20DF-41A6-8F74-3162A5FA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a eventos realizados por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EF07C000-6A9F-4C59-A2D8-893F0E98F8EB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A072-1B02-46A2-972E-6018E3580AB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CFD7-06DA-4836-94F1-BAF6ED8A6CB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C201-F958-471D-B0E9-0DA1E80DE4D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tender las diversas necesidades de las actividades de las diferentes Direcciones, cumpliendo en tiempo y forma en un 95% lo solici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mencionado a continuación es para colaborar con los eventos que lleva el IEPC, los cuales requieren ayuda técn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aba o se recibe información para eventos que realiza el IEPC por parte de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la invitación o desplegados con orden del día a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 con espec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invitación / ordenes de inser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480" y="219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89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omociona el evento a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habilita el lugar y se recaba la información para su difusión y se entrega a medi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va logística del evento en medios de comun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y se realiza boletín informativo y se actualizan redes so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boletín para darlo a conocer a medios y se revisa con director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comunicación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619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tos / video / boletín inform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Video  / audio / f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rganiza rueda de prensa con evidencias de video, audio y fotos ( se eliminan en un lapso de 2 día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P-ADM-15 / P-OPE-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69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boletín / rueda de pren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y difunde a reporteros de la fuente y jefes de información junto con la edi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pot publicit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 la trascendencia del evento y si es necesario se realizaran una capsula de video para su difusión en redes sociales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í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213000" y="565164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endCxn id="239" idx="0"/>
          </p:cNvCxnSpPr>
          <p:nvPr/>
        </p:nvCxnSpPr>
        <p:spPr>
          <a:xfrm>
            <a:off x="3499920" y="536364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2-14T19:09:53Z</dcterms:modified>
  <cp:revision>322</cp:revision>
  <dc:subject/>
  <dc:title>Presentación de PowerPoint</dc:title>
</cp:coreProperties>
</file>