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4DA9-C20B-4969-BC92-CB0B28A248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0266-7EFA-419D-9B1C-1D2D542468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599C-DE10-4353-B5F1-F72E17C633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C5C-4F82-4CA3-A28B-E9F690FC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D0C-15E3-4394-BC7C-390107C9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AE3-D0CF-4E11-AE28-285A33F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B69-2D8F-41D7-84FE-7AE780A0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66D-915F-43F7-A304-60464A26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609-627D-4FC6-B6B8-ADADFF7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8CB-B4DF-47E6-9496-04043BC2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BFC-3CB6-4159-AE07-3BA39936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B22-BFAC-42E7-BA76-9B4CD294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0F4-A245-4F55-836D-F5DDC6BD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459-C3E6-4755-B5F3-4E0F28A2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BCA-1774-4C83-ABDA-9E218A09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aboracion de Estadi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EC226F8-E9DA-4EA0-A75D-24929D2582C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1390-FE79-48CD-9B87-073118395C4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TEPJF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   Tribunal Electoral del Poder Judicial de la Fede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TEPJEJ                       Tribunal Electoral del Poder Judicial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JURISPRUDENCIA  Interpretación jurídica que realizan órganos jurisdiccionales con la finalidad de aclarar posibles laguna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    en las leyes, se crea a través de las reiteradas interpretaciones que hacen los tribunales en sus resolu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6640" y="19969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3560" y="216216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3"/>
          <p:cNvSpPr/>
          <p:nvPr/>
        </p:nvSpPr>
        <p:spPr>
          <a:xfrm>
            <a:off x="1698480" y="234000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olecta información sobre medios de impugnación y procedimientos administrativos para las memori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4"/>
          <p:cNvSpPr/>
          <p:nvPr/>
        </p:nvSpPr>
        <p:spPr>
          <a:xfrm>
            <a:off x="5364000" y="5086440"/>
            <a:ext cx="1295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TEP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EPJ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5"/>
          <p:cNvSpPr/>
          <p:nvPr/>
        </p:nvSpPr>
        <p:spPr>
          <a:xfrm>
            <a:off x="5373720" y="565956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TEP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EPJ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199692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4"/>
          <p:cNvCxnSpPr>
            <a:stCxn id="121" idx="2"/>
            <a:endCxn id="126" idx="0"/>
          </p:cNvCxnSpPr>
          <p:nvPr/>
        </p:nvCxnSpPr>
        <p:spPr>
          <a:xfrm>
            <a:off x="346356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700"/>
          <p:cNvSpPr/>
          <p:nvPr/>
        </p:nvSpPr>
        <p:spPr>
          <a:xfrm>
            <a:off x="333360" y="1996920"/>
            <a:ext cx="1222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73720" y="284328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xpe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0"/>
          <p:cNvSpPr/>
          <p:nvPr/>
        </p:nvSpPr>
        <p:spPr>
          <a:xfrm>
            <a:off x="333360" y="3348000"/>
            <a:ext cx="122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3720" y="3348000"/>
            <a:ext cx="127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56"/>
          <p:cNvSpPr/>
          <p:nvPr/>
        </p:nvSpPr>
        <p:spPr>
          <a:xfrm>
            <a:off x="1700280" y="2843280"/>
            <a:ext cx="35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estadísticas de medios de impugnación y procedimientos administrativos para las memori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85"/>
          <p:cNvCxnSpPr>
            <a:stCxn id="126" idx="2"/>
            <a:endCxn id="133" idx="0"/>
          </p:cNvCxnSpPr>
          <p:nvPr/>
        </p:nvCxnSpPr>
        <p:spPr>
          <a:xfrm>
            <a:off x="3463560" y="3132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700280" y="5075280"/>
            <a:ext cx="3529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de jurisprudencias y criterios de Sala Superior y Salas Regionales del Tribunal Electoral del Poder Judicial de la Fede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AutoShape 685"/>
          <p:cNvCxnSpPr>
            <a:stCxn id="133" idx="2"/>
            <a:endCxn id="134" idx="0"/>
          </p:cNvCxnSpPr>
          <p:nvPr/>
        </p:nvCxnSpPr>
        <p:spPr>
          <a:xfrm>
            <a:off x="3463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653"/>
          <p:cNvSpPr/>
          <p:nvPr/>
        </p:nvSpPr>
        <p:spPr>
          <a:xfrm>
            <a:off x="1700280" y="3348000"/>
            <a:ext cx="3529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aboración de los cuadrantes relativos a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ocedimientos de quej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mandas lab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rsos de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rsos de ape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de inconform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para la protección de los derechos político-electorales del ciudad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 de revisión constitu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nuncias pen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de ampa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iniestros ante asegurad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3176640" y="6227640"/>
            <a:ext cx="57780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18 Rectángulo"/>
          <p:cNvSpPr/>
          <p:nvPr/>
        </p:nvSpPr>
        <p:spPr>
          <a:xfrm>
            <a:off x="1700280" y="5651640"/>
            <a:ext cx="35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vestigar y estudiar legislaciones en materi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5"/>
          <p:cNvCxnSpPr>
            <a:stCxn id="134" idx="2"/>
            <a:endCxn id="137" idx="0"/>
          </p:cNvCxnSpPr>
          <p:nvPr/>
        </p:nvCxnSpPr>
        <p:spPr>
          <a:xfrm>
            <a:off x="3463560" y="5437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32"/>
          <p:cNvCxnSpPr/>
          <p:nvPr/>
        </p:nvCxnSpPr>
        <p:spPr>
          <a:xfrm>
            <a:off x="3474720" y="594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701"/>
          <p:cNvSpPr/>
          <p:nvPr/>
        </p:nvSpPr>
        <p:spPr>
          <a:xfrm>
            <a:off x="334800" y="5667480"/>
            <a:ext cx="1224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01"/>
          <p:cNvSpPr/>
          <p:nvPr/>
        </p:nvSpPr>
        <p:spPr>
          <a:xfrm>
            <a:off x="333360" y="5075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00"/>
          <p:cNvSpPr/>
          <p:nvPr/>
        </p:nvSpPr>
        <p:spPr>
          <a:xfrm>
            <a:off x="334800" y="2340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6"/>
          <p:cNvSpPr/>
          <p:nvPr/>
        </p:nvSpPr>
        <p:spPr>
          <a:xfrm>
            <a:off x="539100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xpe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11T18:09:06Z</cp:lastPrinted>
  <dcterms:modified xsi:type="dcterms:W3CDTF">2011-10-27T22:02:06Z</dcterms:modified>
  <cp:revision>301</cp:revision>
  <dc:subject/>
  <dc:title>Presentación de PowerPoint</dc:title>
</cp:coreProperties>
</file>