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90A2-7560-44B8-A505-26622C94D7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299E-B5D5-47DE-AC58-CDFBB0DF92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0F46-8B68-4515-B831-EE3563B8F1E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426F-8CA1-43CA-9D2A-3E026233DC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E20F-F3E6-4B2F-A658-31BED0F9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FEF9-AACD-47E2-AEF0-2A3FA80F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A79-5F0F-4A02-8F12-F4A99D94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07D2-092F-478D-B165-4F29055A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9DC-0976-4868-A217-5578378C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454-2FDC-4C5E-8FC6-258C4700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67D-3CA5-4C4F-A15A-7323763A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82F-9DC4-4C96-A1FB-65B9630F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183-1E8C-41F7-B512-A29C1A64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3B3B-5C90-49E0-B6C9-AD136D4F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78A-7CD9-47E8-A2F5-C8207617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8C6-C19F-48BC-9FA2-C9C3012A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2699-3EB9-4D58-AA64-58C1DF36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7E96-8DFC-41E8-B330-69D81E46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1688-B5F8-42D9-AAFF-1BB82287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ED53-F968-4D64-9FD2-5E75C6F4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5E4C-435C-44A2-B7E8-F8A9F57A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E126-888B-42BD-B995-55B93F6B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3798-E7A8-4A02-8E2A-30B32E98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59EF-A482-4988-9170-7DB24F85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4F89-6CCA-422A-B112-385D0C17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AF27-01A7-48D4-A1DB-6DEC562D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3B7B-4ABF-4FA4-AA94-5F187C91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49FB-68CB-42D9-AEA7-AD689C74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DFAEE-163F-4F81-A468-434AE792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06AE4-96F0-4287-B291-C435E47D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931AA-B8EC-4793-8A24-951E916A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472B-2DE4-47AF-98E2-ED69188D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3B741-A572-41BE-85F3-68A0F427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3D8EE-BF64-42B0-B120-D4F021DA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53421-EE6E-4113-8C67-57795892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BDA48-A871-4912-90EA-AF7CC6BE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F9CD-7FF3-44EC-B395-B22F6B50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4FD86-5829-410A-BA1B-84100297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F9EA6-0C69-4662-A002-C643180A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392C2-9956-4886-A02A-86B45AC2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onitoreo de med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EBB3BC08-C522-4F9C-B21F-F2FA66D57FB8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-OPE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9D83-CDB8-46D6-ACD7-5DE3ED848E8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93D1-8B34-4762-B661-2C5A4D7DE2B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1855-1746-4594-8A78-09B47E8FBE1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90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4130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visa 5 diarios locales para recabar notas acerca del instituto y notas de 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9178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síntesis y se recopilan notas en carp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3638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rpeta informativa / pagina w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iódicos / carp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6290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31334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773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13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33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rpeta informativa / pagina w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278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saca copia y se escanea para clasificación de notas y se sube a la red en la categoría determin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</p:cNvCxnSpPr>
          <p:nvPr/>
        </p:nvCxnSpPr>
        <p:spPr>
          <a:xfrm>
            <a:off x="3499920" y="3493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3637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para VoBo de final de información  se analizan camb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14" idx="2"/>
          </p:cNvCxnSpPr>
          <p:nvPr/>
        </p:nvCxnSpPr>
        <p:spPr>
          <a:xfrm>
            <a:off x="3499920" y="3852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325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eriódicos / carpeta informa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0"/>
          <p:cNvSpPr/>
          <p:nvPr/>
        </p:nvSpPr>
        <p:spPr>
          <a:xfrm>
            <a:off x="404640" y="234144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3213000" y="406728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Periodicos y articulos de inter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649"/>
          <p:cNvCxnSpPr>
            <a:stCxn id="227" idx="2"/>
            <a:endCxn id="229" idx="0"/>
          </p:cNvCxnSpPr>
          <p:nvPr/>
        </p:nvCxnSpPr>
        <p:spPr>
          <a:xfrm flipH="1">
            <a:off x="3498120" y="2290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Rectangle 652"/>
          <p:cNvSpPr/>
          <p:nvPr/>
        </p:nvSpPr>
        <p:spPr>
          <a:xfrm>
            <a:off x="1698480" y="24130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visan grabaciones de noticieros locales de un día a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53"/>
          <p:cNvSpPr/>
          <p:nvPr/>
        </p:nvSpPr>
        <p:spPr>
          <a:xfrm>
            <a:off x="1698480" y="29178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bitácora de notas trascendentales o del IEPC y se graba en un master (DV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5"/>
          <p:cNvSpPr/>
          <p:nvPr/>
        </p:nvSpPr>
        <p:spPr>
          <a:xfrm>
            <a:off x="5373720" y="3638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ta converti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itácora de medios / ma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681"/>
          <p:cNvCxnSpPr>
            <a:stCxn id="229" idx="2"/>
            <a:endCxn id="230" idx="0"/>
          </p:cNvCxnSpPr>
          <p:nvPr/>
        </p:nvCxnSpPr>
        <p:spPr>
          <a:xfrm>
            <a:off x="3498480" y="26290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684"/>
          <p:cNvCxnSpPr>
            <a:stCxn id="230" idx="2"/>
            <a:endCxn id="235" idx="0"/>
          </p:cNvCxnSpPr>
          <p:nvPr/>
        </p:nvCxnSpPr>
        <p:spPr>
          <a:xfrm>
            <a:off x="3498840" y="31334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Rectangle 700"/>
          <p:cNvSpPr/>
          <p:nvPr/>
        </p:nvSpPr>
        <p:spPr>
          <a:xfrm>
            <a:off x="404640" y="2773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01"/>
          <p:cNvSpPr/>
          <p:nvPr/>
        </p:nvSpPr>
        <p:spPr>
          <a:xfrm>
            <a:off x="333360" y="313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333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aster / C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56"/>
          <p:cNvSpPr/>
          <p:nvPr/>
        </p:nvSpPr>
        <p:spPr>
          <a:xfrm>
            <a:off x="1700280" y="3278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da la información a auxiliar y la convierte a un CD extra en formato accesible para to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AutoShape 685"/>
          <p:cNvCxnSpPr>
            <a:stCxn id="235" idx="2"/>
          </p:cNvCxnSpPr>
          <p:nvPr/>
        </p:nvCxnSpPr>
        <p:spPr>
          <a:xfrm>
            <a:off x="3499920" y="3493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18 Rectángulo"/>
          <p:cNvSpPr/>
          <p:nvPr/>
        </p:nvSpPr>
        <p:spPr>
          <a:xfrm>
            <a:off x="1700280" y="3637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información a presidente, consejero, Secretario ejecutivo y se verifica entre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AutoShape 32"/>
          <p:cNvCxnSpPr>
            <a:stCxn id="240" idx="2"/>
          </p:cNvCxnSpPr>
          <p:nvPr/>
        </p:nvCxnSpPr>
        <p:spPr>
          <a:xfrm>
            <a:off x="3499920" y="3852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6"/>
          <p:cNvSpPr/>
          <p:nvPr/>
        </p:nvSpPr>
        <p:spPr>
          <a:xfrm>
            <a:off x="5373720" y="2325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Grab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00"/>
          <p:cNvSpPr/>
          <p:nvPr/>
        </p:nvSpPr>
        <p:spPr>
          <a:xfrm>
            <a:off x="404640" y="234144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/ técnico /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34"/>
          <p:cNvSpPr/>
          <p:nvPr/>
        </p:nvSpPr>
        <p:spPr>
          <a:xfrm>
            <a:off x="3213000" y="406728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Television y rad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1-01T06:16:20Z</dcterms:modified>
  <cp:revision>320</cp:revision>
  <dc:subject/>
  <dc:title>Presentación de PowerPoint</dc:title>
</cp:coreProperties>
</file>