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4D5D-7392-40D4-9266-F5265D9E0BE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BFA9-41F8-40B2-9EB3-0B9F79FFD93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89CD-44F7-4184-BBF8-864B5E7A143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B55D-A152-495A-91BA-24D2419F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7348-3B34-40CF-9279-26F347E8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F22C-D7D6-43DE-B9F8-55BA02B3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90E1-132E-40E2-8744-2F8E5269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A3BB-D707-41A2-B6D1-5FF33B09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EA8F-0CDE-4745-9486-AF9F17CE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D409-F4A0-400D-9EDD-6612AA0A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201B-B0B1-491A-81D3-791A4889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19E1-C275-4D10-8AB8-7ACD173F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9D63-A707-45D7-BF87-FDE27A68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A170-0474-4C1C-9CAB-C00084814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F92F-2B84-4145-88B6-2740D8FA1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85D4-5616-4FB4-A721-28553F45F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ADD6-2A0E-4C1E-9164-2672C252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93A5-FB1E-4E4E-9493-96FFC520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D79C-835E-44AD-BE16-60EF96DC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1656-38B2-497C-A65B-E947EE1F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1790-D314-4146-A1B1-D214982F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FDA9-0F51-43E4-BEC0-ADC25D1C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0DF8-A684-43D3-8CD3-96105599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5333-8096-4E22-A369-A5287187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F8E3-FA57-47B9-A6C4-46B581BF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3C10-C9B9-4184-8794-8FBB8EDD5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0343-6AF2-4ED3-AB73-804ABCEB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jecución de Activid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3578E25C-1A04-40A0-BAE6-DA92F7D4A5B5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5-07-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6528-780C-4C94-AB74-E5FF21509913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294A-AE35-4FA5-B775-4340DD1BE5A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mbios en referencias, actividades y nombre del proced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mbio de actividades en el proced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-07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ficientar la ejecución y operación de las actividades de las Direcciones del IEP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apoyar y dar seguimiento a las actividades de las áreas del IEP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219564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2360520"/>
            <a:ext cx="3960" cy="269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262908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cibe correspondencia de la Dirección General vía E-mail y la registra en la r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3203640"/>
            <a:ext cx="3600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visan diariamente los registros de folios y correspondencia para estar informado de las actividades de las Direccion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5"/>
          <p:cNvSpPr/>
          <p:nvPr/>
        </p:nvSpPr>
        <p:spPr>
          <a:xfrm>
            <a:off x="5373720" y="3780000"/>
            <a:ext cx="12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ocumento con mod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3132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olios /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681"/>
          <p:cNvCxnSpPr>
            <a:stCxn id="162" idx="2"/>
            <a:endCxn id="163" idx="0"/>
          </p:cNvCxnSpPr>
          <p:nvPr/>
        </p:nvCxnSpPr>
        <p:spPr>
          <a:xfrm>
            <a:off x="3498480" y="291636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AutoShape 684"/>
          <p:cNvCxnSpPr>
            <a:stCxn id="163" idx="2"/>
            <a:endCxn id="168" idx="0"/>
          </p:cNvCxnSpPr>
          <p:nvPr/>
        </p:nvCxnSpPr>
        <p:spPr>
          <a:xfrm>
            <a:off x="3498840" y="3492000"/>
            <a:ext cx="216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Rectangle 700"/>
          <p:cNvSpPr/>
          <p:nvPr/>
        </p:nvSpPr>
        <p:spPr>
          <a:xfrm>
            <a:off x="404640" y="320508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sonal de la Dirección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1"/>
          <p:cNvSpPr/>
          <p:nvPr/>
        </p:nvSpPr>
        <p:spPr>
          <a:xfrm>
            <a:off x="333360" y="3780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General / Jefe de Departamento / 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1"/>
          <p:cNvSpPr/>
          <p:nvPr/>
        </p:nvSpPr>
        <p:spPr>
          <a:xfrm>
            <a:off x="333360" y="4356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General / Jefe de Departamento / 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73720" y="435600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Documento con mod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6"/>
          <p:cNvSpPr/>
          <p:nvPr/>
        </p:nvSpPr>
        <p:spPr>
          <a:xfrm>
            <a:off x="5373720" y="26290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olios / Correspon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700"/>
          <p:cNvSpPr/>
          <p:nvPr/>
        </p:nvSpPr>
        <p:spPr>
          <a:xfrm>
            <a:off x="404640" y="255600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56"/>
          <p:cNvSpPr/>
          <p:nvPr/>
        </p:nvSpPr>
        <p:spPr>
          <a:xfrm>
            <a:off x="1700280" y="378000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Los encargados del área correspondiente informan a DG de asuntos importantes y se les da seguimient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56"/>
          <p:cNvSpPr/>
          <p:nvPr/>
        </p:nvSpPr>
        <p:spPr>
          <a:xfrm>
            <a:off x="1700280" y="4356000"/>
            <a:ext cx="3600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cotejan las actividades de las Direcciones con el informe semanal y agenda de las direccion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32"/>
          <p:cNvCxnSpPr>
            <a:stCxn id="168" idx="2"/>
            <a:endCxn id="175" idx="0"/>
          </p:cNvCxnSpPr>
          <p:nvPr/>
        </p:nvCxnSpPr>
        <p:spPr>
          <a:xfrm>
            <a:off x="3499920" y="40672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AutoShape 32"/>
          <p:cNvCxnSpPr/>
          <p:nvPr/>
        </p:nvCxnSpPr>
        <p:spPr>
          <a:xfrm>
            <a:off x="3499920" y="4645080"/>
            <a:ext cx="108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Oval 34"/>
          <p:cNvSpPr/>
          <p:nvPr/>
        </p:nvSpPr>
        <p:spPr>
          <a:xfrm>
            <a:off x="3213000" y="5076720"/>
            <a:ext cx="57636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3-07-23T15:01:40Z</dcterms:modified>
  <cp:revision>311</cp:revision>
  <dc:subject/>
  <dc:title>Presentación de PowerPoint</dc:title>
</cp:coreProperties>
</file>