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A8FC-8B33-4016-8ED0-4FD326ACF7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2FB-B8BF-4379-B5BC-E36373C165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5293-A59A-4623-B96B-2F59FB1097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B37-07D8-4C74-9C6E-17362C31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BF1-8579-44A5-AAF6-F3D88DB5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219-478F-4BE7-A75B-BC488A2E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DB0-BF06-4D32-A2D5-0EF6E25B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8FD-387D-4159-83CF-22FCDB94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709-78A8-4444-B33A-F6112384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977-89DE-4D82-959C-99470053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644-77C2-4E87-8ADE-F42C9EDD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786-BA28-4E26-9FE4-965D86CB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726-B7E7-4B06-93AD-79CD2C3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B59-BF84-41C3-B4D9-E1C49210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0A8-44B4-4F0D-A52E-509AF497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3AEF-DCE3-4220-BF04-F430878B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52B5-549D-4410-9B28-AF671024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6B7D-E85A-4AF9-B291-F19E1078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6961-9D43-4E90-9D07-E794961E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867A-0AA8-4B26-805F-ADAA9D11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AFB9-43AF-4CA6-8199-9761C5F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4C2A-FC88-4B33-A06E-9A9AC88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D258-E56B-4822-A129-22C0BFE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6DA3-6BA4-40AD-8851-EE80E0F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3D73-EB87-41EE-B7C1-7ED7763F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D77D-BF7D-426F-A151-5A8156D7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8738-8DA6-4448-8190-1661F91A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D074DCF-C608-4C89-81E2-B467999CBBE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6B34-7F8F-4BAD-9175-4B87969D040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97E9-C4E4-4E63-AEB3-E0625A2BBE1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poyar a las diversas áreas del Institutos en la optimización de sus procesos, mediante el desarrollo y/o la implementación de sistemas y servicios informáticos y de telecomunicaciones (art.25 VII, reglamento intern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la solicitud de realización de software o programa con copia a Dirección General para VoBo o autoriz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 área respectiva se le envía una solicitud para reunión de trabajo y conocer requerimientos específ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3063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684"/>
          <p:cNvCxnSpPr>
            <a:stCxn id="163" idx="2"/>
            <a:endCxn id="171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2987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noce en reunión la problem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tica y se plantean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>
            <a:stCxn id="171" idx="2"/>
            <a:endCxn id="180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53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n modificaciones y queda para el VoBo del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5"/>
          <p:cNvCxnSpPr>
            <a:stCxn id="180" idx="2"/>
            <a:endCxn id="181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3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esenta propuesta de programa o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464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3213000" y="68756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sarrolla el software con elementos ya aprob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uebas y reuniones con person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5" idx="2"/>
            <a:endCxn id="186" idx="0"/>
          </p:cNvCxnSpPr>
          <p:nvPr/>
        </p:nvCxnSpPr>
        <p:spPr>
          <a:xfrm>
            <a:off x="3499920" y="407052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18 Rectángulo"/>
          <p:cNvSpPr/>
          <p:nvPr/>
        </p:nvSpPr>
        <p:spPr>
          <a:xfrm>
            <a:off x="1700280" y="4716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el demo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6" idx="2"/>
            <a:endCxn id="188" idx="0"/>
          </p:cNvCxnSpPr>
          <p:nvPr/>
        </p:nvCxnSpPr>
        <p:spPr>
          <a:xfrm>
            <a:off x="3499920" y="4427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685"/>
          <p:cNvCxnSpPr>
            <a:stCxn id="181" idx="2"/>
            <a:endCxn id="185" idx="0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32"/>
          <p:cNvCxnSpPr>
            <a:stCxn id="188" idx="2"/>
          </p:cNvCxnSpPr>
          <p:nvPr/>
        </p:nvCxnSpPr>
        <p:spPr>
          <a:xfrm>
            <a:off x="3499920" y="493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3" idx="2"/>
            <a:endCxn id="194" idx="0"/>
          </p:cNvCxnSpPr>
          <p:nvPr/>
        </p:nvCxnSpPr>
        <p:spPr>
          <a:xfrm>
            <a:off x="4400280" y="588312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emo / 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Oficio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55227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5954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01"/>
          <p:cNvSpPr/>
          <p:nvPr/>
        </p:nvSpPr>
        <p:spPr>
          <a:xfrm>
            <a:off x="333360" y="55227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Informática / Director del área solicitante 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56 Rombo"/>
          <p:cNvSpPr/>
          <p:nvPr/>
        </p:nvSpPr>
        <p:spPr>
          <a:xfrm>
            <a:off x="3090960" y="5092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57 CuadroTexto"/>
          <p:cNvSpPr/>
          <p:nvPr/>
        </p:nvSpPr>
        <p:spPr>
          <a:xfrm>
            <a:off x="3141720" y="51274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 lo que se esperab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4" idx="1"/>
            <a:endCxn id="207" idx="0"/>
          </p:cNvCxnSpPr>
          <p:nvPr/>
        </p:nvCxnSpPr>
        <p:spPr>
          <a:xfrm flipV="1" rot="10800000">
            <a:off x="2529720" y="5271120"/>
            <a:ext cx="561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72 CuadroTexto"/>
          <p:cNvSpPr/>
          <p:nvPr/>
        </p:nvSpPr>
        <p:spPr>
          <a:xfrm>
            <a:off x="2708280" y="50198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73 CuadroTexto"/>
          <p:cNvSpPr/>
          <p:nvPr/>
        </p:nvSpPr>
        <p:spPr>
          <a:xfrm>
            <a:off x="3860640" y="5003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6"/>
          <p:cNvSpPr/>
          <p:nvPr/>
        </p:nvSpPr>
        <p:spPr>
          <a:xfrm>
            <a:off x="3643200" y="559584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lizan cor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64 Conector angular"/>
          <p:cNvCxnSpPr>
            <a:stCxn id="204" idx="3"/>
            <a:endCxn id="193" idx="0"/>
          </p:cNvCxnSpPr>
          <p:nvPr/>
        </p:nvCxnSpPr>
        <p:spPr>
          <a:xfrm>
            <a:off x="3947760" y="5271840"/>
            <a:ext cx="453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1" name="Oval 75"/>
          <p:cNvSpPr/>
          <p:nvPr/>
        </p:nvSpPr>
        <p:spPr>
          <a:xfrm>
            <a:off x="2492280" y="449892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649"/>
          <p:cNvCxnSpPr/>
          <p:nvPr/>
        </p:nvCxnSpPr>
        <p:spPr>
          <a:xfrm>
            <a:off x="2708280" y="457164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773360" y="5595840"/>
            <a:ext cx="151272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da el VoBo para instalacion y uso del area solicit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stCxn id="214" idx="2"/>
            <a:endCxn id="184" idx="2"/>
          </p:cNvCxnSpPr>
          <p:nvPr/>
        </p:nvCxnSpPr>
        <p:spPr>
          <a:xfrm flipH="1" rot="16200000">
            <a:off x="2583360" y="6390360"/>
            <a:ext cx="577080" cy="682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Rectangle 656"/>
          <p:cNvSpPr/>
          <p:nvPr/>
        </p:nvSpPr>
        <p:spPr>
          <a:xfrm>
            <a:off x="1773360" y="615456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pacita al personal que lo utiliz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221000" y="6084720"/>
            <a:ext cx="36036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07" idx="2"/>
            <a:endCxn id="214" idx="0"/>
          </p:cNvCxnSpPr>
          <p:nvPr/>
        </p:nvCxnSpPr>
        <p:spPr>
          <a:xfrm>
            <a:off x="2530080" y="59400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cp:lastPrinted>2011-11-01T15:43:06Z</cp:lastPrinted>
  <dcterms:modified xsi:type="dcterms:W3CDTF">2012-02-13T21:15:36Z</dcterms:modified>
  <cp:revision>298</cp:revision>
  <dc:subject/>
  <dc:title>Presentación de PowerPoint</dc:title>
</cp:coreProperties>
</file>