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CAD2-8CDC-4A31-8508-58E9370712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50F9-86CB-4939-AC84-7AFB4217779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78FA-5E4E-4BB2-B7B4-8C9467D501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A07-525A-4628-B258-34302A5B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DC3-9D6C-4983-9FB9-BD1C1E8B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14C-91C6-4994-A4F5-73C52C29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1A0-A714-47D9-B496-04B1951E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1601-EE79-45A6-A710-650AB5DA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CCF-E3FA-4E4C-9B11-1748C339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FC1A-7A4C-4F51-B8F3-9D3883EB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D469-A75E-46A5-8593-6D498EBA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4A8B-DB6F-4536-AE36-341B5371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86B7-BCC5-4688-83E8-E2E9E2D4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97A-D395-4DFA-9156-7AD91848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4555-5E39-4246-AF76-64A83ED2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3052-AAD7-4DBE-A3DC-64F05A7E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5DAC-BF26-42B6-9ACE-15D76795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D8E1-AA17-4919-A91B-390904D1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07C5-DCF6-4D67-80E8-DABBE54B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7F97-6DB3-41CB-BA64-2E0728AA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F06F-790B-4B63-A3E7-EDD20CD7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2461-731A-46DF-8D61-94B1C334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83F4-EB6F-4AE4-A871-B50AC8E8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C6D7-8492-4161-8655-D3F6C76F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5959-943D-4991-B0E9-72090AB5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346C-95A3-4DC3-A0C7-9B5BBC1F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E9F6-8464-4B1E-8336-DD7AB669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tención en Ventani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1A079471-87C4-482C-B2C6-60DDAF9A0D49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-COM-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3-12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C2DA-BB8D-4E9B-B1D9-3877C85FF39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B4AC-BF53-4203-B9E6-E19A0AA1A24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-12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fectuar con la autorización de los órganos ejecutivos, las compras de bienes y servicios necesarios para el optimo funcionamiento del IEPC, salvo en los casos en que se requiera realizar un procedimiento distinto de conformidad con el reglamento para las adquisiciones y enajenaciones del institut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entrega de material que hay en almacén a las diferentes áreas del Institut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requisición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n autorizaciones y se verifica existencia en el siste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6"/>
          <p:cNvSpPr/>
          <p:nvPr/>
        </p:nvSpPr>
        <p:spPr>
          <a:xfrm>
            <a:off x="5373720" y="23670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5"/>
          <p:cNvCxnSpPr>
            <a:endCxn id="168" idx="0"/>
          </p:cNvCxnSpPr>
          <p:nvPr/>
        </p:nvCxnSpPr>
        <p:spPr>
          <a:xfrm flipH="1">
            <a:off x="4580640" y="3646080"/>
            <a:ext cx="1080" cy="85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666"/>
          <p:cNvSpPr/>
          <p:nvPr/>
        </p:nvSpPr>
        <p:spPr>
          <a:xfrm>
            <a:off x="5362560" y="1990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0"/>
          <p:cNvSpPr/>
          <p:nvPr/>
        </p:nvSpPr>
        <p:spPr>
          <a:xfrm>
            <a:off x="333360" y="32767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4"/>
          <p:cNvSpPr/>
          <p:nvPr/>
        </p:nvSpPr>
        <p:spPr>
          <a:xfrm>
            <a:off x="5373720" y="306072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almacén / adminpa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18 Rectángulo"/>
          <p:cNvSpPr/>
          <p:nvPr/>
        </p:nvSpPr>
        <p:spPr>
          <a:xfrm>
            <a:off x="1700280" y="320364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mercancía y se da de baja en el sist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56 Rombo"/>
          <p:cNvSpPr/>
          <p:nvPr/>
        </p:nvSpPr>
        <p:spPr>
          <a:xfrm>
            <a:off x="3089160" y="2844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57 CuadroTexto"/>
          <p:cNvSpPr/>
          <p:nvPr/>
        </p:nvSpPr>
        <p:spPr>
          <a:xfrm>
            <a:off x="3068640" y="2914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Existenci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64 Conector angular"/>
          <p:cNvCxnSpPr>
            <a:stCxn id="174" idx="1"/>
          </p:cNvCxnSpPr>
          <p:nvPr/>
        </p:nvCxnSpPr>
        <p:spPr>
          <a:xfrm flipV="1" rot="10800000">
            <a:off x="2491560" y="302400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7" name="72 CuadroTexto"/>
          <p:cNvSpPr/>
          <p:nvPr/>
        </p:nvSpPr>
        <p:spPr>
          <a:xfrm>
            <a:off x="270684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64 Conector angular"/>
          <p:cNvCxnSpPr>
            <a:stCxn id="174" idx="3"/>
            <a:endCxn id="179" idx="0"/>
          </p:cNvCxnSpPr>
          <p:nvPr/>
        </p:nvCxnSpPr>
        <p:spPr>
          <a:xfrm>
            <a:off x="3946320" y="3024360"/>
            <a:ext cx="56412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0" name="73 CuadroTexto"/>
          <p:cNvSpPr/>
          <p:nvPr/>
        </p:nvSpPr>
        <p:spPr>
          <a:xfrm>
            <a:off x="400536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18 Rectángulo"/>
          <p:cNvSpPr/>
          <p:nvPr/>
        </p:nvSpPr>
        <p:spPr>
          <a:xfrm>
            <a:off x="3933720" y="3203640"/>
            <a:ext cx="115272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forma al encargado de compras la falta de materi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685"/>
          <p:cNvCxnSpPr/>
          <p:nvPr/>
        </p:nvCxnSpPr>
        <p:spPr>
          <a:xfrm>
            <a:off x="3499920" y="2627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64 Conector angular"/>
          <p:cNvCxnSpPr>
            <a:stCxn id="173" idx="2"/>
            <a:endCxn id="168" idx="2"/>
          </p:cNvCxnSpPr>
          <p:nvPr/>
        </p:nvCxnSpPr>
        <p:spPr>
          <a:xfrm flipH="1" rot="16200000">
            <a:off x="2834640" y="3150000"/>
            <a:ext cx="900720" cy="2016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68" name="Oval 34"/>
          <p:cNvSpPr/>
          <p:nvPr/>
        </p:nvSpPr>
        <p:spPr>
          <a:xfrm>
            <a:off x="4292640" y="450072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3-29T16:02:05Z</dcterms:modified>
  <cp:revision>345</cp:revision>
  <dc:subject/>
  <dc:title>Presentación de PowerPoint</dc:title>
</cp:coreProperties>
</file>