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E17-AC7D-4513-BFBC-91172FAE7D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704B-63D6-4AD3-8222-C148D4982C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1AC-A64B-4363-AA80-E738347BEB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52D-6757-4165-9B0D-39B564AA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454-6E22-40E7-8D19-AC08D571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1F5-D959-4D73-B16E-540CD51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C65-D1BC-4693-8FF0-392C56F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2AD-3139-4A7F-ABA5-446D7CD3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85F-3CFD-4AA3-8E7B-486B4846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C09-9AF8-49DE-8BAD-27F7F8D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F94-4716-41E5-9251-6D26CFD5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712-ACA1-4200-9FDB-549F6098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8A0-04E7-4060-85EA-E056241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05F-66A1-4E6E-B298-E6C0509E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27F-50D9-408A-80E9-A8A1DB1A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4E0E-1234-44BA-B9F3-9262D5D3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2E46-2F96-4412-859E-98474CBE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378C-108A-4FC5-BBEA-AD0AA039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EAEF-B18B-4FF1-9F54-D2E8B6F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EFFF-DFBC-4272-809E-516A19E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B5A-99F4-4532-B269-D4CD7E82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68FF-E8D6-4F42-B3BC-D599EFA5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52AB-C652-461D-B905-9E4C52D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CC2E-DFCB-4B81-91AE-9B34138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2BF7-FFC5-486D-B8C0-8C68A115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EEFB-80A9-4FD9-9BF1-028D9F40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2CDD-E5A2-48B5-9F41-FBA5A4B7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CAE74F6-8A1C-41F4-BF95-FF8AEBEE71A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2D89-D1BF-467B-A75D-BF1BB8CD3AB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CE5-3713-403D-A84F-40B4C2F7984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ibir, dar tramite y coadyuvar con UTI en entregar la información respecto delas solicitudes presentadas en términos de la ley de Transparencia e Información Pública del Estado de Jalisco y d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3"/>
          <p:cNvSpPr/>
          <p:nvPr/>
        </p:nvSpPr>
        <p:spPr>
          <a:xfrm>
            <a:off x="5373720" y="2700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5"/>
          <p:cNvSpPr/>
          <p:nvPr/>
        </p:nvSpPr>
        <p:spPr>
          <a:xfrm>
            <a:off x="5373720" y="30592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73720" y="1979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es por transparencia / acuse de recibo INFOMEX/ carpeta de recibido de INFOM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0"/>
          <p:cNvSpPr/>
          <p:nvPr/>
        </p:nvSpPr>
        <p:spPr>
          <a:xfrm>
            <a:off x="333360" y="2340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4"/>
          <p:cNvSpPr/>
          <p:nvPr/>
        </p:nvSpPr>
        <p:spPr>
          <a:xfrm>
            <a:off x="5373720" y="27003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01"/>
          <p:cNvSpPr/>
          <p:nvPr/>
        </p:nvSpPr>
        <p:spPr>
          <a:xfrm>
            <a:off x="333360" y="306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234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ión de programa INFOMEX diari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directora para elaborar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7" idx="2"/>
            <a:endCxn id="168" idx="0"/>
          </p:cNvCxnSpPr>
          <p:nvPr/>
        </p:nvCxnSpPr>
        <p:spPr>
          <a:xfrm>
            <a:off x="3499920" y="255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18 Rectángulo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 la información para determinar su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32"/>
          <p:cNvCxnSpPr>
            <a:stCxn id="168" idx="2"/>
            <a:endCxn id="17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INFOMEX / P-ADM-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UTI respuesta con información neces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0" idx="2"/>
            <a:endCxn id="175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32"/>
          <p:cNvCxnSpPr>
            <a:stCxn id="179" idx="2"/>
            <a:endCxn id="167" idx="0"/>
          </p:cNvCxnSpPr>
          <p:nvPr/>
        </p:nvCxnSpPr>
        <p:spPr>
          <a:xfrm flipH="1">
            <a:off x="3499560" y="1856880"/>
            <a:ext cx="252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12:45Z</dcterms:modified>
  <cp:revision>315</cp:revision>
  <dc:subject/>
  <dc:title>Presentación de PowerPoint</dc:title>
</cp:coreProperties>
</file>