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79E1-FF4A-4E77-9FED-B5F4513DA2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907-460D-4207-9390-0269FAA3E4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92F-08CC-436C-B29B-9779DDA46C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B9F-846A-4963-98D6-75EA7A25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277-1E58-4E45-8A6B-9D46D20D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BAF-8055-4B6B-8241-B242006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9B9-9358-48FA-840D-9BDABB08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738-7DB4-4AA3-BFBA-49086CB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0EB-5875-4A98-9514-67BFB97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02E-5695-4DE6-8FC8-1169A93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7E3-0A68-488B-B921-6E58C30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3B5-68DD-419F-AAEE-0814584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B0B-3A5E-4821-AFA3-1B792A6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846-DCDF-43DE-BAEF-63DB175F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796-5BDB-4334-B53C-8F50116B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454D-AD59-431C-BD56-5C569963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AD18-80C4-4CDF-AA63-A09E49C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FA08-B209-4572-8164-5D0FFEE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2E1-ADE3-404E-95BA-5503E76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5780-B138-45AC-A9F4-1E7077CB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C44B-580E-4C41-89F5-317B1D6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0819-5266-4F42-87E2-DE048FD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C411-5C6B-440B-890D-076B437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91B5-E611-41DA-9D84-03D6D97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C702-B7C1-4B5F-838E-239D3472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D37E-1C9D-4F8F-9304-24AAE7CD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A974-39C6-4291-8FE4-E09FDD2F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612C4B8-54A6-442E-847D-522E9F5CDD6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4BB-85A5-4689-A837-E4B11F6DDC1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ABF4-C23B-4F48-AA3E-DF45211F456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3"/>
          <p:cNvSpPr/>
          <p:nvPr/>
        </p:nvSpPr>
        <p:spPr>
          <a:xfrm>
            <a:off x="5373720" y="2700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5"/>
          <p:cNvSpPr/>
          <p:nvPr/>
        </p:nvSpPr>
        <p:spPr>
          <a:xfrm>
            <a:off x="5373720" y="30592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73720" y="1979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es por transparencia / acuse de recibo INFOMEX/ carpeta de recibido de INFOME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0"/>
          <p:cNvSpPr/>
          <p:nvPr/>
        </p:nvSpPr>
        <p:spPr>
          <a:xfrm>
            <a:off x="333360" y="2340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4"/>
          <p:cNvSpPr/>
          <p:nvPr/>
        </p:nvSpPr>
        <p:spPr>
          <a:xfrm>
            <a:off x="5373720" y="27003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 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01"/>
          <p:cNvSpPr/>
          <p:nvPr/>
        </p:nvSpPr>
        <p:spPr>
          <a:xfrm>
            <a:off x="333360" y="306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234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ión de programa INFOMEX diari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directora para elaborar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7" idx="2"/>
            <a:endCxn id="168" idx="0"/>
          </p:cNvCxnSpPr>
          <p:nvPr/>
        </p:nvCxnSpPr>
        <p:spPr>
          <a:xfrm>
            <a:off x="3499920" y="255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18 Rectángulo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 la información para determinar si se puede publicar o 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32"/>
          <p:cNvCxnSpPr>
            <a:stCxn id="168" idx="2"/>
            <a:endCxn id="17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use de recibo INFOMEX / P-OPE- TRAN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UTI respuesta con información neces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0" idx="2"/>
            <a:endCxn id="175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32"/>
          <p:cNvCxnSpPr>
            <a:stCxn id="179" idx="2"/>
            <a:endCxn id="167" idx="0"/>
          </p:cNvCxnSpPr>
          <p:nvPr/>
        </p:nvCxnSpPr>
        <p:spPr>
          <a:xfrm flipH="1">
            <a:off x="3499560" y="1856880"/>
            <a:ext cx="252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8T14:48:54Z</dcterms:modified>
  <cp:revision>312</cp:revision>
  <dc:subject/>
  <dc:title>Presentación de PowerPoint</dc:title>
</cp:coreProperties>
</file>