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48AD-206E-4437-9908-43B9848110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D52C-8E1C-4E01-AC31-DEDCA0683A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BC41-324D-4209-8736-AB0AA6B3C8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4D5-520F-4FC1-BF81-E645ED80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8AB-DE1B-4CCC-A106-5D5F59CB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569-6B1B-426F-BFAB-B8EFCE9D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AF5-4DB6-4AC4-8ACC-DDBBFDBA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445-001A-4818-939A-3A1B156F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A2A-08A1-40C3-BD77-07C1ACAB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3FC-B067-418F-BA4B-4AF0767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D39-E920-471A-8284-24A8C8AD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FED-C35D-40DF-B688-410CC5C6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422-E56B-4B55-9B98-5A21819F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FC3-E154-482D-8A7B-E11A2246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9BA-9226-48F4-927F-A94AAE18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2AD2-F2B8-44AF-BFF3-4A9413C0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CE84-318B-4704-AD6B-0F9671A8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FB69-9748-43E1-94C3-ADAE121B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D705-379F-4418-BFE2-8EA4C85B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8DFB-0D78-45C9-943E-61F5DA62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FEF2-A699-40EA-B711-C17F4CBC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F073-E3B5-4493-8330-AFDACB2D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9186-9CA3-4E2E-91EB-CE734F26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25A6-95A9-4D59-B640-0F30DB51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2892-2611-4325-9470-DA9456CA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CEDA-E3B5-44E2-B99D-2F673500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4EE4-4FF6-40A8-A20C-2BD08B11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licitudes a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2CDBC112-5ABC-42EA-BC39-839A6E9B0D8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B4DC-017C-41FB-9CBE-33DB60D7FE8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E04F-6869-49CF-8AB5-1BB8F6AFC4A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respuesta a las solicitudes ingresadas de la ciudadanía y de las diferentes área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registro y aprobación de solicitudes a presidencia por el personal que integra esta ár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ación para conocimiento o aprobación de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2036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erimiento de bienes materiales / acuerdos del pleno / of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56 Rombo"/>
          <p:cNvSpPr/>
          <p:nvPr/>
        </p:nvSpPr>
        <p:spPr>
          <a:xfrm>
            <a:off x="2997360" y="340056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7 CuadroTexto"/>
          <p:cNvSpPr/>
          <p:nvPr/>
        </p:nvSpPr>
        <p:spPr>
          <a:xfrm>
            <a:off x="2997360" y="341964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 y agend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64 Conector angular"/>
          <p:cNvCxnSpPr>
            <a:stCxn id="165" idx="1"/>
            <a:endCxn id="168" idx="0"/>
          </p:cNvCxnSpPr>
          <p:nvPr/>
        </p:nvCxnSpPr>
        <p:spPr>
          <a:xfrm flipV="1" rot="10800000">
            <a:off x="2564640" y="3590640"/>
            <a:ext cx="43272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9" name="72 CuadroTexto"/>
          <p:cNvSpPr/>
          <p:nvPr/>
        </p:nvSpPr>
        <p:spPr>
          <a:xfrm>
            <a:off x="263700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73 CuadroTexto"/>
          <p:cNvSpPr/>
          <p:nvPr/>
        </p:nvSpPr>
        <p:spPr>
          <a:xfrm>
            <a:off x="400536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65" idx="3"/>
            <a:endCxn id="172" idx="0"/>
          </p:cNvCxnSpPr>
          <p:nvPr/>
        </p:nvCxnSpPr>
        <p:spPr>
          <a:xfrm>
            <a:off x="3947760" y="3591000"/>
            <a:ext cx="49140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Rectangle 656"/>
          <p:cNvSpPr/>
          <p:nvPr/>
        </p:nvSpPr>
        <p:spPr>
          <a:xfrm>
            <a:off x="357336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notifica al área correspondiente de decisión de presidencia con correcciones o rechazo de la pet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774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documentación y se regis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91000" y="261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140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documento u oficio num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49"/>
          <p:cNvCxnSpPr>
            <a:stCxn id="162" idx="2"/>
            <a:endCxn id="174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presidente y/o a Secretario Particular para aprobación o age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044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enda / Documento u 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 / 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49"/>
          <p:cNvCxnSpPr>
            <a:endCxn id="180" idx="0"/>
          </p:cNvCxnSpPr>
          <p:nvPr/>
        </p:nvCxnSpPr>
        <p:spPr>
          <a:xfrm>
            <a:off x="349884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49"/>
          <p:cNvCxnSpPr>
            <a:stCxn id="180" idx="2"/>
          </p:cNvCxnSpPr>
          <p:nvPr/>
        </p:nvCxnSpPr>
        <p:spPr>
          <a:xfrm>
            <a:off x="3499920" y="3203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56"/>
          <p:cNvSpPr/>
          <p:nvPr/>
        </p:nvSpPr>
        <p:spPr>
          <a:xfrm>
            <a:off x="170028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área correspondiente para su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91000" y="53690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51000" y="53690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4078440" y="488160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4078440" y="494820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7" idx="1"/>
            <a:endCxn id="190" idx="0"/>
          </p:cNvCxnSpPr>
          <p:nvPr/>
        </p:nvCxnSpPr>
        <p:spPr>
          <a:xfrm flipV="1" rot="10800000">
            <a:off x="4031640" y="5070240"/>
            <a:ext cx="46800" cy="335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72 CuadroTexto"/>
          <p:cNvSpPr/>
          <p:nvPr/>
        </p:nvSpPr>
        <p:spPr>
          <a:xfrm>
            <a:off x="384336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73 CuadroTexto"/>
          <p:cNvSpPr/>
          <p:nvPr/>
        </p:nvSpPr>
        <p:spPr>
          <a:xfrm>
            <a:off x="492444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7" idx="3"/>
            <a:endCxn id="194" idx="0"/>
          </p:cNvCxnSpPr>
          <p:nvPr/>
        </p:nvCxnSpPr>
        <p:spPr>
          <a:xfrm>
            <a:off x="5028840" y="5070600"/>
            <a:ext cx="111960" cy="367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Rectangle 656"/>
          <p:cNvSpPr/>
          <p:nvPr/>
        </p:nvSpPr>
        <p:spPr>
          <a:xfrm>
            <a:off x="3357720" y="5405400"/>
            <a:ext cx="1350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n correcciones u observaciones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995720" y="543708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49"/>
          <p:cNvCxnSpPr/>
          <p:nvPr/>
        </p:nvCxnSpPr>
        <p:spPr>
          <a:xfrm>
            <a:off x="4581000" y="4500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649"/>
          <p:cNvCxnSpPr/>
          <p:nvPr/>
        </p:nvCxnSpPr>
        <p:spPr>
          <a:xfrm>
            <a:off x="4076280" y="579384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75"/>
          <p:cNvSpPr/>
          <p:nvPr/>
        </p:nvSpPr>
        <p:spPr>
          <a:xfrm>
            <a:off x="3933720" y="60134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2"/>
          <p:cNvSpPr/>
          <p:nvPr/>
        </p:nvSpPr>
        <p:spPr>
          <a:xfrm>
            <a:off x="1700280" y="6370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reportes semanales y se reenvía al Secretario partic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91000" y="6299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33360" y="64422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49"/>
          <p:cNvCxnSpPr>
            <a:stCxn id="168" idx="2"/>
          </p:cNvCxnSpPr>
          <p:nvPr/>
        </p:nvCxnSpPr>
        <p:spPr>
          <a:xfrm>
            <a:off x="2565000" y="450036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652"/>
          <p:cNvSpPr/>
          <p:nvPr/>
        </p:nvSpPr>
        <p:spPr>
          <a:xfrm>
            <a:off x="1700280" y="6732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reportes semanales de a las diferentes áreas y se analiz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6661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s sema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0"/>
          <p:cNvSpPr/>
          <p:nvPr/>
        </p:nvSpPr>
        <p:spPr>
          <a:xfrm>
            <a:off x="333360" y="6804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49"/>
          <p:cNvCxnSpPr>
            <a:endCxn id="202" idx="0"/>
          </p:cNvCxnSpPr>
          <p:nvPr/>
        </p:nvCxnSpPr>
        <p:spPr>
          <a:xfrm>
            <a:off x="3498840" y="658800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649"/>
          <p:cNvCxnSpPr>
            <a:stCxn id="202" idx="2"/>
          </p:cNvCxnSpPr>
          <p:nvPr/>
        </p:nvCxnSpPr>
        <p:spPr>
          <a:xfrm>
            <a:off x="349992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2"/>
          <p:cNvSpPr/>
          <p:nvPr/>
        </p:nvSpPr>
        <p:spPr>
          <a:xfrm>
            <a:off x="1700280" y="71643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con el Director general reporte mensual de todas las áreas y toman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91000" y="7093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00"/>
          <p:cNvSpPr/>
          <p:nvPr/>
        </p:nvSpPr>
        <p:spPr>
          <a:xfrm>
            <a:off x="333360" y="7236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49"/>
          <p:cNvCxnSpPr>
            <a:stCxn id="207" idx="2"/>
            <a:endCxn id="173" idx="0"/>
          </p:cNvCxnSpPr>
          <p:nvPr/>
        </p:nvCxnSpPr>
        <p:spPr>
          <a:xfrm>
            <a:off x="3499920" y="7451280"/>
            <a:ext cx="25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9T19:08:21Z</dcterms:modified>
  <cp:revision>342</cp:revision>
  <dc:subject/>
  <dc:title>Presentación de PowerPoint</dc:title>
</cp:coreProperties>
</file>