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58CC-8D73-4763-814C-4B0A7D9B5B7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3F2B-87D2-49B4-BEA5-E312E83296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507A-9CB3-4782-B05D-13AF30AEBE6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3B8-9F60-4C0E-BD8E-D47EC2F4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A035-5410-47F9-B3BE-AB07250B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87C-DD98-4517-833B-2B6EFBD1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8F0-F59C-4624-A3E2-FA62654D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DE86-BB8C-4BDC-BB81-B172AA88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64F-99A3-4576-81B5-297592FD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135-07B1-4FBB-811E-14AE5E06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62EB-9E86-49EC-B890-E3DB3682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EDAD-B6BF-4EAA-A42B-D5F72B6A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58C-5958-4D08-8571-ADF7934D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0012-3E70-4790-B6EF-9DFEA1DB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C01-3AE5-4D9E-B4D6-77B2386B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B43B-35CD-447C-B2FD-9D415843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2554-D2D5-4BC5-B1C4-D9B5C5BF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F866-3977-4F0B-A6DE-94AA9171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1B54-D465-4995-98F1-8E0F821B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8967-3605-4D10-B65E-4C3593BA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9A68-77C6-476D-BCCA-DB01FC2C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C29A-6132-4E0E-9DA0-C613470C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3F12-16F5-42DC-B780-EAF4C910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2E64-2D03-47D8-8CD5-DB5D35D7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48F5-50E0-462C-B191-562345AF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B2CB-D176-449D-AE5C-62C17635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ED8D-E11A-4467-A368-C2C7613A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tención en Ventani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02DB149B-A112-4C59-8290-AB37E92BE3EE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ción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02-07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BC18-8410-47B4-8313-0184716FF84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AE56-5A08-485B-8465-D7D2E44AE79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signación de activ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-07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Abastecer del material solicitado por las diferentes áreas oportunamente para el correcto funcionamiento de las labores del 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entrega de material en stock de recursos materiales del IEP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Stock: Material en reserva del almacén para el cual no es necesario contar con requisición previamente autorizada para su compr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requisición de Recursos Mate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n autorizaciones y se verifica existenci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86320" y="320508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3670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recursos materiales / Control Inventario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AutoShape 685"/>
          <p:cNvCxnSpPr/>
          <p:nvPr/>
        </p:nvCxnSpPr>
        <p:spPr>
          <a:xfrm flipH="1">
            <a:off x="4509360" y="3646440"/>
            <a:ext cx="1080" cy="78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666"/>
          <p:cNvSpPr/>
          <p:nvPr/>
        </p:nvSpPr>
        <p:spPr>
          <a:xfrm>
            <a:off x="5362560" y="19908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quisición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0"/>
          <p:cNvSpPr/>
          <p:nvPr/>
        </p:nvSpPr>
        <p:spPr>
          <a:xfrm>
            <a:off x="333360" y="327672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4"/>
          <p:cNvSpPr/>
          <p:nvPr/>
        </p:nvSpPr>
        <p:spPr>
          <a:xfrm>
            <a:off x="5380200" y="37368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recursos materiales / Control de Inventar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18 Rectángulo"/>
          <p:cNvSpPr/>
          <p:nvPr/>
        </p:nvSpPr>
        <p:spPr>
          <a:xfrm>
            <a:off x="1700280" y="3489480"/>
            <a:ext cx="1152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trega mercancía y se da de baja en el control de Inventar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56 Rombo"/>
          <p:cNvSpPr/>
          <p:nvPr/>
        </p:nvSpPr>
        <p:spPr>
          <a:xfrm>
            <a:off x="3089160" y="284472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57 CuadroTexto"/>
          <p:cNvSpPr/>
          <p:nvPr/>
        </p:nvSpPr>
        <p:spPr>
          <a:xfrm>
            <a:off x="3068640" y="2914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Existencia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64 Conector angular"/>
          <p:cNvCxnSpPr>
            <a:stCxn id="174" idx="1"/>
          </p:cNvCxnSpPr>
          <p:nvPr/>
        </p:nvCxnSpPr>
        <p:spPr>
          <a:xfrm flipV="1" rot="10800000">
            <a:off x="2491560" y="302400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7" name="72 CuadroTexto"/>
          <p:cNvSpPr/>
          <p:nvPr/>
        </p:nvSpPr>
        <p:spPr>
          <a:xfrm>
            <a:off x="270684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64 Conector angular"/>
          <p:cNvCxnSpPr>
            <a:stCxn id="174" idx="3"/>
            <a:endCxn id="179" idx="0"/>
          </p:cNvCxnSpPr>
          <p:nvPr/>
        </p:nvCxnSpPr>
        <p:spPr>
          <a:xfrm>
            <a:off x="3946320" y="3024360"/>
            <a:ext cx="56412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0" name="73 CuadroTexto"/>
          <p:cNvSpPr/>
          <p:nvPr/>
        </p:nvSpPr>
        <p:spPr>
          <a:xfrm>
            <a:off x="4005360" y="27716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18 Rectángulo"/>
          <p:cNvSpPr/>
          <p:nvPr/>
        </p:nvSpPr>
        <p:spPr>
          <a:xfrm>
            <a:off x="3933720" y="3203640"/>
            <a:ext cx="115272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informa al encargado de compras la falta de materi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685"/>
          <p:cNvCxnSpPr/>
          <p:nvPr/>
        </p:nvCxnSpPr>
        <p:spPr>
          <a:xfrm>
            <a:off x="3499920" y="2627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64 Conector angular"/>
          <p:cNvCxnSpPr>
            <a:stCxn id="173" idx="2"/>
            <a:endCxn id="183" idx="2"/>
          </p:cNvCxnSpPr>
          <p:nvPr/>
        </p:nvCxnSpPr>
        <p:spPr>
          <a:xfrm flipH="1" rot="16200000">
            <a:off x="2977560" y="3292920"/>
            <a:ext cx="614880" cy="2016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3" name="Oval 34"/>
          <p:cNvSpPr/>
          <p:nvPr/>
        </p:nvSpPr>
        <p:spPr>
          <a:xfrm>
            <a:off x="4292640" y="4500720"/>
            <a:ext cx="57636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0"/>
          <p:cNvSpPr/>
          <p:nvPr/>
        </p:nvSpPr>
        <p:spPr>
          <a:xfrm>
            <a:off x="312840" y="36813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sistente de Almacén/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Selene Martinez Peralta</cp:lastModifiedBy>
  <cp:lastPrinted>2013-08-15T16:50:37Z</cp:lastPrinted>
  <dcterms:modified xsi:type="dcterms:W3CDTF">2013-08-15T16:51:26Z</dcterms:modified>
  <cp:revision>354</cp:revision>
  <dc:subject/>
  <dc:title>Presentación de PowerPoint</dc:title>
</cp:coreProperties>
</file>