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FAFB-26D4-4080-ACD4-6823B42570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DFA9-E88A-49EB-8918-9D68565CA8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75CC-3725-4128-BCC9-185A6D34CD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233-2E1A-4193-8E6A-59D347E1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2B1-40F3-4582-AF94-1CA38CAB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E0B-039E-4374-9C94-C650A527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10B-8372-4C41-858B-86682761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B83-2AFA-4C60-88EA-5E360431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A25-F7AD-46C3-B50C-68B2F038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5D2-53DB-496E-9DD8-35503C96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3AE-2D71-4FE7-A52D-E64B242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D56-4DFA-4CCA-A42F-2D5AA7E1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9CE-B915-4C1F-A870-8083064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144-056E-4435-96FC-90B451EB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46A-953A-4E4C-9D9A-60396CF1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0AD6-D9F6-41EC-8961-FE3AFF07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E861-C35A-48A9-8F11-4638DE34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A43D-059E-4451-9909-A04984DC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E7C7-D1C7-4A0E-9EC1-2C24C6AC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5DF7-5B81-4C84-B51C-B8F84C88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DBE-16C7-4428-90FF-6BD7EDC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576E-123A-4A71-ADBB-EFB194CD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244A-969A-43AA-8AA1-2D05BD74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AAE6-3E5F-4AF7-9E63-33F2FFB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487D-E6A1-4312-8116-F4CB9806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2EBB-F6D3-4C77-B882-7E5CEF36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EBED-6B42-4C4E-A6BB-CF550EF7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vit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8BA5512-2ABC-4323-97E0-23145A4CAFC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598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Técnico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30-04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F8C4-47E2-42C8-97BF-3BFD664BEA7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8547-11FA-4E07-A565-71542AC58A4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Referencias, Actividades y 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mitir invitaciones a los proveedores a fin de que presenten cotizaciones respecto de bienes y/o servicios requeridos por las diversas área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s invitaciones que realiza la dirección hacia los proveedores para recibir cotizaciones de productos o servicios que se requiere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(no aplic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56120" y="16938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39440" y="18586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39800" y="198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28640" y="23241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Da vista al Consejero Presidente  de la 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45960" y="42861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15040" y="3068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15040" y="227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 flipH="1">
            <a:off x="3428280" y="2196720"/>
            <a:ext cx="118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endCxn id="169" idx="0"/>
          </p:cNvCxnSpPr>
          <p:nvPr/>
        </p:nvCxnSpPr>
        <p:spPr>
          <a:xfrm>
            <a:off x="3459240" y="291456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17600" y="23432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018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15040" y="268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660680" y="3059280"/>
            <a:ext cx="360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Gira 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45960" y="349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670040" y="34686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solicitudes de aclaración de empresas sobre las invitaciones giradas vía correo electrónico, en su ca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644480" y="425772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logística de la sesión en la que tendrá verificativo la apertura de los sobres con la propuestas econó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endCxn id="175" idx="0"/>
          </p:cNvCxnSpPr>
          <p:nvPr/>
        </p:nvCxnSpPr>
        <p:spPr>
          <a:xfrm>
            <a:off x="3444480" y="40669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 flipV="1" rot="10800000">
            <a:off x="1663200" y="4700520"/>
            <a:ext cx="35974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ahoga la sesión de la Comisión de Adquisiciones en la que se adjudica a un proveedor y se elabora la minuta respec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endCxn id="177" idx="1"/>
          </p:cNvCxnSpPr>
          <p:nvPr/>
        </p:nvCxnSpPr>
        <p:spPr>
          <a:xfrm>
            <a:off x="3458880" y="448452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80880" y="3033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45960" y="3854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52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 vía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38862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guimient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1658880" y="59421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Emite orden de compra al proveedor adjudic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/>
          <p:nvPr/>
        </p:nvCxnSpPr>
        <p:spPr>
          <a:xfrm>
            <a:off x="3406320" y="57261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15040" y="190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17600" y="1981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1"/>
          <p:cNvSpPr/>
          <p:nvPr/>
        </p:nvSpPr>
        <p:spPr>
          <a:xfrm>
            <a:off x="345960" y="47005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91000" y="4718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/>
          <p:nvPr/>
        </p:nvCxnSpPr>
        <p:spPr>
          <a:xfrm>
            <a:off x="3403080" y="658944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66"/>
          <p:cNvSpPr/>
          <p:nvPr/>
        </p:nvSpPr>
        <p:spPr>
          <a:xfrm>
            <a:off x="5391000" y="43419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gistro de invitaciones giradas / check li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4"/>
          <p:cNvCxnSpPr>
            <a:stCxn id="169" idx="2"/>
            <a:endCxn id="174" idx="0"/>
          </p:cNvCxnSpPr>
          <p:nvPr/>
        </p:nvCxnSpPr>
        <p:spPr>
          <a:xfrm>
            <a:off x="3460320" y="3347640"/>
            <a:ext cx="1044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Oval 34"/>
          <p:cNvSpPr/>
          <p:nvPr/>
        </p:nvSpPr>
        <p:spPr>
          <a:xfrm>
            <a:off x="3114720" y="6804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670040" y="3859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los sobres cerrados con las propuestas económic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/>
          <p:nvPr/>
        </p:nvCxnSpPr>
        <p:spPr>
          <a:xfrm>
            <a:off x="3444480" y="366372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18 Rectángulo"/>
          <p:cNvSpPr/>
          <p:nvPr/>
        </p:nvSpPr>
        <p:spPr>
          <a:xfrm flipV="1" rot="10800000">
            <a:off x="1663200" y="5237280"/>
            <a:ext cx="3597480" cy="4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Hace del conocimiento de los proveedores el sentido del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>
            <a:off x="3428640" y="5021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3"/>
          <p:cNvSpPr/>
          <p:nvPr/>
        </p:nvSpPr>
        <p:spPr>
          <a:xfrm>
            <a:off x="1628640" y="2673360"/>
            <a:ext cx="360072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leva a cabo sesión en la que se aprueba girar invitaciones a proveed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1"/>
          <p:cNvCxnSpPr>
            <a:stCxn id="163" idx="2"/>
            <a:endCxn id="197" idx="0"/>
          </p:cNvCxnSpPr>
          <p:nvPr/>
        </p:nvCxnSpPr>
        <p:spPr>
          <a:xfrm flipH="1">
            <a:off x="3428280" y="255600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01"/>
          <p:cNvSpPr/>
          <p:nvPr/>
        </p:nvSpPr>
        <p:spPr>
          <a:xfrm>
            <a:off x="345960" y="53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45960" y="6445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45960" y="5942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91000" y="53290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rreo electrónico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5942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Orden de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676520" y="6373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Remite constancias de la compra aprobada a la Dirección Jurídica para la elaboración del contrato en su cas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/>
          <p:nvPr/>
        </p:nvCxnSpPr>
        <p:spPr>
          <a:xfrm>
            <a:off x="3403080" y="61578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Rectangle 666"/>
          <p:cNvSpPr/>
          <p:nvPr/>
        </p:nvSpPr>
        <p:spPr>
          <a:xfrm>
            <a:off x="5445000" y="63943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1"/>
          <p:cNvSpPr/>
          <p:nvPr/>
        </p:nvSpPr>
        <p:spPr>
          <a:xfrm>
            <a:off x="324000" y="6375240"/>
            <a:ext cx="1223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3-05-02T18:02:50Z</cp:lastPrinted>
  <dcterms:modified xsi:type="dcterms:W3CDTF">2014-07-14T19:34:38Z</dcterms:modified>
  <cp:revision>331</cp:revision>
  <dc:subject/>
  <dc:title>Presentación de PowerPoint</dc:title>
</cp:coreProperties>
</file>