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D25E-9DE3-4CD5-9B24-1EDC8E091A7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F51E-E090-41EA-AF08-0D17F706BA5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FE6F-EC6C-4C96-BE9A-42DC3413E62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BCAB-C666-4BAE-82F2-75787348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671-C689-457B-884C-D2A03276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23CE-59E4-4207-BCD5-E89F499D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C02-0533-46E1-AA88-A28E0637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9A55-ED8C-4D48-999A-239DF869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9E9F-6C48-400B-B560-A8AC570D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1F99-4766-41E6-831A-23B99C3E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BB7A-7BDF-48EB-959B-9A7FCBDD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7CB1-56E8-4C37-AFAB-FC281F3C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7CCC-4497-487E-942D-4C8630FA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8AA-3C33-4FC5-8641-90D0A042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E9FD-5B79-4C10-A920-4737BECC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C326-8CB0-4592-AD22-C34E1F23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8CFD-CAFB-4202-92EB-3FBA5FF2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16AA-534F-4113-8828-C3726792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5CF9-6746-4081-AF56-7A255402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08AB-39A5-454F-B6EB-CB636019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E6E1-4A37-4971-9AEB-165BAEC4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41A1-F7AC-441A-9243-55B7A675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D235-0526-49B8-BD50-F5E714D7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A808-54E7-43B8-A17F-D59B542E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7C8B-C5B0-4595-8FF1-6DC60CDA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761C-31BD-4B40-84CA-8CD4360E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72C2-5A4C-43FD-8A54-6638E777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8F7A0-D570-473C-B4A8-9A650490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317D4-1DB6-434D-AB51-CE0C5B66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21400-4C4D-4090-A9F3-575ECE53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27D7B-3A75-4283-B475-4D3F606C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D9430-0359-4AC0-BDC2-90CBEEDB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ABE8D-E6C7-40E6-947A-578948EC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76EB7-4053-43C1-A912-E8AAF157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B8B1B-DC08-4C9A-95C6-9E09EE9A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328FB-A340-44DB-8AAA-27DFD59E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6D15D-0E12-40A5-8C8F-40E2B872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115FB-47E1-4FA6-B46E-487E0B41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5F824-FD2E-4E78-82F7-B882B083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tención a eventos realizados por IE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97AEF69B-D332-48A3-A97A-9EE0F35FE60F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C44F-A559-43A7-89B1-F5EBDFBA71D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36B5-A6FE-414D-B88A-06F79293638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716F-F79A-4EF8-BCBD-0BE191A437B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tender las diversas necesidades de las actividades de las diferentes Direcciones, cumpliendo en tiempo y forma con lo solicita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l procedimiento mencionado a continuación es para colaborar con los eventos que lleva el IEPC, los cuales requieren ayuda técn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aba o se recibe información para eventos que realiza el IEPC por parte de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484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la invitación o desplegados con orden del día a medios de comunicación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n con espec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1"/>
          <p:cNvSpPr/>
          <p:nvPr/>
        </p:nvSpPr>
        <p:spPr>
          <a:xfrm>
            <a:off x="333360" y="4140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5"/>
          <p:cNvSpPr/>
          <p:nvPr/>
        </p:nvSpPr>
        <p:spPr>
          <a:xfrm>
            <a:off x="5373720" y="32050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er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6"/>
          <p:cNvSpPr/>
          <p:nvPr/>
        </p:nvSpPr>
        <p:spPr>
          <a:xfrm>
            <a:off x="5373720" y="246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rden del día / invitación / ordenes de inser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681"/>
          <p:cNvCxnSpPr>
            <a:stCxn id="203" idx="2"/>
            <a:endCxn id="204" idx="0"/>
          </p:cNvCxnSpPr>
          <p:nvPr/>
        </p:nvCxnSpPr>
        <p:spPr>
          <a:xfrm>
            <a:off x="3498480" y="2195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684"/>
          <p:cNvCxnSpPr>
            <a:stCxn id="204" idx="2"/>
            <a:endCxn id="210" idx="0"/>
          </p:cNvCxnSpPr>
          <p:nvPr/>
        </p:nvCxnSpPr>
        <p:spPr>
          <a:xfrm>
            <a:off x="3498840" y="270000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Rectangle 700"/>
          <p:cNvSpPr/>
          <p:nvPr/>
        </p:nvSpPr>
        <p:spPr>
          <a:xfrm>
            <a:off x="404640" y="23400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289872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56"/>
          <p:cNvSpPr/>
          <p:nvPr/>
        </p:nvSpPr>
        <p:spPr>
          <a:xfrm>
            <a:off x="1700280" y="2844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promociona el evento a medio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685"/>
          <p:cNvCxnSpPr>
            <a:stCxn id="210" idx="2"/>
          </p:cNvCxnSpPr>
          <p:nvPr/>
        </p:nvCxnSpPr>
        <p:spPr>
          <a:xfrm>
            <a:off x="3499920" y="3060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Rectangle 701"/>
          <p:cNvSpPr/>
          <p:nvPr/>
        </p:nvSpPr>
        <p:spPr>
          <a:xfrm>
            <a:off x="333360" y="3490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1700280" y="3203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habilita el lugar y se recaba la información para su difusión y se entrega a medio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18 Rectángulo"/>
          <p:cNvSpPr/>
          <p:nvPr/>
        </p:nvSpPr>
        <p:spPr>
          <a:xfrm>
            <a:off x="1700280" y="3564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lleva logística del evento en medios de comunicación y se realiza boletín informativo y se actualizan redes soci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32"/>
          <p:cNvCxnSpPr>
            <a:stCxn id="216" idx="2"/>
            <a:endCxn id="217" idx="0"/>
          </p:cNvCxnSpPr>
          <p:nvPr/>
        </p:nvCxnSpPr>
        <p:spPr>
          <a:xfrm>
            <a:off x="3499920" y="34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18 Rectángulo"/>
          <p:cNvSpPr/>
          <p:nvPr/>
        </p:nvSpPr>
        <p:spPr>
          <a:xfrm>
            <a:off x="1700280" y="3924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boletín para darlo a conocer a medios y se revisa con director para Vo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AutoShape 32"/>
          <p:cNvCxnSpPr>
            <a:stCxn id="217" idx="2"/>
            <a:endCxn id="219" idx="0"/>
          </p:cNvCxnSpPr>
          <p:nvPr/>
        </p:nvCxnSpPr>
        <p:spPr>
          <a:xfrm>
            <a:off x="3499920" y="37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comunicación / director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73720" y="3564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tos / video / boletín inform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66"/>
          <p:cNvSpPr/>
          <p:nvPr/>
        </p:nvSpPr>
        <p:spPr>
          <a:xfrm>
            <a:off x="5373720" y="4284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Video  / audio / fo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18 Rectángulo"/>
          <p:cNvSpPr/>
          <p:nvPr/>
        </p:nvSpPr>
        <p:spPr>
          <a:xfrm>
            <a:off x="1700280" y="4282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organiza rueda de prensa con evidencias de video, audio y fotos ( se eliminan en un lapso de 2 día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32"/>
          <p:cNvCxnSpPr>
            <a:stCxn id="219" idx="2"/>
            <a:endCxn id="225" idx="0"/>
          </p:cNvCxnSpPr>
          <p:nvPr/>
        </p:nvCxnSpPr>
        <p:spPr>
          <a:xfrm>
            <a:off x="3499920" y="4140360"/>
            <a:ext cx="108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32"/>
          <p:cNvCxnSpPr/>
          <p:nvPr/>
        </p:nvCxnSpPr>
        <p:spPr>
          <a:xfrm>
            <a:off x="3347640" y="485136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Rectangle 666"/>
          <p:cNvSpPr/>
          <p:nvPr/>
        </p:nvSpPr>
        <p:spPr>
          <a:xfrm>
            <a:off x="5373720" y="18921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rden del día / P-ADM-15 / P-OPE-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61"/>
          <p:cNvSpPr/>
          <p:nvPr/>
        </p:nvSpPr>
        <p:spPr>
          <a:xfrm>
            <a:off x="333360" y="4716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6"/>
          <p:cNvSpPr/>
          <p:nvPr/>
        </p:nvSpPr>
        <p:spPr>
          <a:xfrm>
            <a:off x="5373720" y="4788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boletín informativ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18 Rectángulo"/>
          <p:cNvSpPr/>
          <p:nvPr/>
        </p:nvSpPr>
        <p:spPr>
          <a:xfrm>
            <a:off x="1700280" y="4788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y difunde a reporteros de la fuente y jefes de información junto con la edi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32"/>
          <p:cNvCxnSpPr>
            <a:stCxn id="225" idx="2"/>
            <a:endCxn id="232" idx="0"/>
          </p:cNvCxnSpPr>
          <p:nvPr/>
        </p:nvCxnSpPr>
        <p:spPr>
          <a:xfrm>
            <a:off x="3499920" y="44985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32"/>
          <p:cNvCxnSpPr>
            <a:stCxn id="232" idx="2"/>
          </p:cNvCxnSpPr>
          <p:nvPr/>
        </p:nvCxnSpPr>
        <p:spPr>
          <a:xfrm>
            <a:off x="3499920" y="5003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Rectangle 661"/>
          <p:cNvSpPr/>
          <p:nvPr/>
        </p:nvSpPr>
        <p:spPr>
          <a:xfrm>
            <a:off x="333360" y="51498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6"/>
          <p:cNvSpPr/>
          <p:nvPr/>
        </p:nvSpPr>
        <p:spPr>
          <a:xfrm>
            <a:off x="5373720" y="5148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pot publicitar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18 Rectángulo"/>
          <p:cNvSpPr/>
          <p:nvPr/>
        </p:nvSpPr>
        <p:spPr>
          <a:xfrm>
            <a:off x="1700280" y="51498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naliza la trascendencia del evento y si es necesario se realizaran una capsula de video para su difusión en redes sociales del IE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6"/>
          <p:cNvSpPr/>
          <p:nvPr/>
        </p:nvSpPr>
        <p:spPr>
          <a:xfrm>
            <a:off x="5373720" y="3979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oletín informativ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34"/>
          <p:cNvSpPr/>
          <p:nvPr/>
        </p:nvSpPr>
        <p:spPr>
          <a:xfrm>
            <a:off x="3213000" y="565164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AutoShape 32"/>
          <p:cNvCxnSpPr>
            <a:endCxn id="239" idx="0"/>
          </p:cNvCxnSpPr>
          <p:nvPr/>
        </p:nvCxnSpPr>
        <p:spPr>
          <a:xfrm>
            <a:off x="3499920" y="5363640"/>
            <a:ext cx="25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4-17T14:45:44Z</dcterms:modified>
  <cp:revision>327</cp:revision>
  <dc:subject/>
  <dc:title>Presentación de PowerPoint</dc:title>
</cp:coreProperties>
</file>