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A0EE-C95F-4544-91A9-015906442AA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7816-F0E4-478D-AC04-04E6D982921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144D-8428-4824-998D-D2A8B5BDAD0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DFF8-14F5-452B-B978-5E7D4E284C8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rocedimientos administrativos sanciona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BA019FB2-A4E6-48A9-B028-2BC01E6BC315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juríd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ADM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0-05-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84200"/>
            <a:ext cx="1619280" cy="70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mbios en los indic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mbio en las actividades y en las refere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-05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Sustanciar y tramitar los distintos tipos de procedimientos sancionadores administrativos previstos por el código electoral estatal, con la finalidad de determinar si resulta procedente sancionar o absolver a los sujetos denunciados por posibles violaciones cometidas a la normatividad en cita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38040" y="1928880"/>
            <a:ext cx="6326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sancionar o absolver a los denunciados en el proceso de “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Servicios de Fiscalización, Proceso Administrativo Sancionador; y Reclutamiento y Selección de Capacitadores Asistentes Electorales (CAEs)  del IEPCJ como apoyo en la Organización de las elecciones constitucionales y mecanismos de participación ciudadana en el Estado de Jalisco”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8040" y="2641680"/>
            <a:ext cx="6335640" cy="18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ALEGATOS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 Escrito en que las partes,representantes y abogados expone los fundamentos del derecho de su cliente e impugna los del adversar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EMPLAZAMIENTO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itación para que una persona dé razón de algo o comparezca en un ju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MEDIDA CAUTELAR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Los actos procesales que determine la comisión a petición del denunciante o propuesta de la secretaria ejecutiva fin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de lograr la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esación de los actos o hecho que constituyan la presunta infracción, evitar la producción de daños irreparables la afectación de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los principios que rigen los procesos electorales o la vulneración de los bienes jurídicos tutelas por las disposiciones contenidas en el código,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hasta en tanto se apruebe la resolución definitiv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RADICACIÓN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Acuerdo mediante el cual se tiene por recibido el procedimiento sancionador y se le asigna un número conforme al cuadrante 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orrespond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28840" y="3433680"/>
            <a:ext cx="57492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/>
          <p:nvPr/>
        </p:nvCxnSpPr>
        <p:spPr>
          <a:xfrm>
            <a:off x="3501720" y="3604680"/>
            <a:ext cx="1080" cy="16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709640" y="3770280"/>
            <a:ext cx="3530520" cy="23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presentan o se instauran los procedimientos administrativos sancionadores ordinarios y/o especi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66"/>
          <p:cNvSpPr/>
          <p:nvPr/>
        </p:nvSpPr>
        <p:spPr>
          <a:xfrm>
            <a:off x="5373720" y="38354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AutoShape 681"/>
          <p:cNvCxnSpPr/>
          <p:nvPr/>
        </p:nvCxnSpPr>
        <p:spPr>
          <a:xfrm>
            <a:off x="3509640" y="4000680"/>
            <a:ext cx="108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Rectangle 701"/>
          <p:cNvSpPr/>
          <p:nvPr/>
        </p:nvSpPr>
        <p:spPr>
          <a:xfrm>
            <a:off x="333360" y="3851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34 Decisión"/>
          <p:cNvSpPr/>
          <p:nvPr/>
        </p:nvSpPr>
        <p:spPr>
          <a:xfrm>
            <a:off x="2714760" y="4210200"/>
            <a:ext cx="1584360" cy="504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¿Ordinarios o Especiales?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AutoShape 55"/>
          <p:cNvCxnSpPr>
            <a:stCxn id="84" idx="3"/>
          </p:cNvCxnSpPr>
          <p:nvPr/>
        </p:nvCxnSpPr>
        <p:spPr>
          <a:xfrm>
            <a:off x="4298760" y="4462200"/>
            <a:ext cx="246600" cy="324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48 CuadroTexto"/>
          <p:cNvSpPr/>
          <p:nvPr/>
        </p:nvSpPr>
        <p:spPr>
          <a:xfrm>
            <a:off x="2060640" y="41385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Ordinari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48 CuadroTexto"/>
          <p:cNvSpPr/>
          <p:nvPr/>
        </p:nvSpPr>
        <p:spPr>
          <a:xfrm>
            <a:off x="4292640" y="41385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Especia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AutoShape 55"/>
          <p:cNvCxnSpPr>
            <a:stCxn id="84" idx="1"/>
          </p:cNvCxnSpPr>
          <p:nvPr/>
        </p:nvCxnSpPr>
        <p:spPr>
          <a:xfrm flipV="1" rot="10800000">
            <a:off x="2383560" y="4461480"/>
            <a:ext cx="331200" cy="324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AutoShape 55"/>
          <p:cNvCxnSpPr>
            <a:endCxn id="90" idx="2"/>
          </p:cNvCxnSpPr>
          <p:nvPr/>
        </p:nvCxnSpPr>
        <p:spPr>
          <a:xfrm flipH="1" rot="16200000">
            <a:off x="2527920" y="4858920"/>
            <a:ext cx="612000" cy="90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AutoShape 55"/>
          <p:cNvCxnSpPr>
            <a:endCxn id="90" idx="6"/>
          </p:cNvCxnSpPr>
          <p:nvPr/>
        </p:nvCxnSpPr>
        <p:spPr>
          <a:xfrm rot="5400000">
            <a:off x="3860640" y="4931280"/>
            <a:ext cx="612000" cy="756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Text Box 503"/>
          <p:cNvSpPr/>
          <p:nvPr/>
        </p:nvSpPr>
        <p:spPr>
          <a:xfrm>
            <a:off x="1773360" y="3059280"/>
            <a:ext cx="345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Procedimientos Administrativos Sanciona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4"/>
          <p:cNvSpPr/>
          <p:nvPr/>
        </p:nvSpPr>
        <p:spPr>
          <a:xfrm>
            <a:off x="3284640" y="5435640"/>
            <a:ext cx="504720" cy="36036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61"/>
          <p:cNvSpPr/>
          <p:nvPr/>
        </p:nvSpPr>
        <p:spPr>
          <a:xfrm>
            <a:off x="333360" y="37069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61"/>
          <p:cNvSpPr/>
          <p:nvPr/>
        </p:nvSpPr>
        <p:spPr>
          <a:xfrm>
            <a:off x="333360" y="4210200"/>
            <a:ext cx="122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61"/>
          <p:cNvSpPr/>
          <p:nvPr/>
        </p:nvSpPr>
        <p:spPr>
          <a:xfrm>
            <a:off x="5373720" y="3706920"/>
            <a:ext cx="129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61"/>
          <p:cNvSpPr/>
          <p:nvPr/>
        </p:nvSpPr>
        <p:spPr>
          <a:xfrm>
            <a:off x="5373720" y="421020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de Quej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74"/>
          <p:cNvSpPr/>
          <p:nvPr/>
        </p:nvSpPr>
        <p:spPr>
          <a:xfrm>
            <a:off x="2133720" y="4788000"/>
            <a:ext cx="504720" cy="215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74"/>
          <p:cNvSpPr/>
          <p:nvPr/>
        </p:nvSpPr>
        <p:spPr>
          <a:xfrm>
            <a:off x="4292640" y="4788000"/>
            <a:ext cx="504720" cy="215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AutoShape 649"/>
          <p:cNvCxnSpPr/>
          <p:nvPr/>
        </p:nvCxnSpPr>
        <p:spPr>
          <a:xfrm flipH="1">
            <a:off x="3453840" y="2180880"/>
            <a:ext cx="1080" cy="19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Rectangle 652"/>
          <p:cNvSpPr/>
          <p:nvPr/>
        </p:nvSpPr>
        <p:spPr>
          <a:xfrm>
            <a:off x="1698480" y="2379600"/>
            <a:ext cx="353088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cibe el escrito de queja en la dirección jurídica,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800" spc="-1" strike="noStrike">
                <a:solidFill>
                  <a:srgbClr val="ff0000"/>
                </a:solidFill>
                <a:latin typeface="Times New Roman"/>
              </a:rPr>
              <a:t>donde es sellado, firmado de recibido asentando la fecha y hora de recepción,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 con posterioridad se registra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53"/>
          <p:cNvSpPr/>
          <p:nvPr/>
        </p:nvSpPr>
        <p:spPr>
          <a:xfrm>
            <a:off x="1698480" y="2906640"/>
            <a:ext cx="353088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da aviso al director y este determina cua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 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atenderá la queja presentada, el jefe de departamento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le da seguimiento al asunto, elaborando un expediente para agregar las constancias necesari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60"/>
          <p:cNvSpPr/>
          <p:nvPr/>
        </p:nvSpPr>
        <p:spPr>
          <a:xfrm>
            <a:off x="333360" y="3564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63"/>
          <p:cNvSpPr/>
          <p:nvPr/>
        </p:nvSpPr>
        <p:spPr>
          <a:xfrm>
            <a:off x="5372280" y="353700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64"/>
          <p:cNvSpPr/>
          <p:nvPr/>
        </p:nvSpPr>
        <p:spPr>
          <a:xfrm>
            <a:off x="5367240" y="4427640"/>
            <a:ext cx="129564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 de Emplaza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65"/>
          <p:cNvSpPr/>
          <p:nvPr/>
        </p:nvSpPr>
        <p:spPr>
          <a:xfrm>
            <a:off x="5380200" y="4932360"/>
            <a:ext cx="1282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tes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66"/>
          <p:cNvSpPr/>
          <p:nvPr/>
        </p:nvSpPr>
        <p:spPr>
          <a:xfrm>
            <a:off x="5373720" y="2379600"/>
            <a:ext cx="1278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adrante 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nuncia present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AutoShape 681"/>
          <p:cNvCxnSpPr/>
          <p:nvPr/>
        </p:nvCxnSpPr>
        <p:spPr>
          <a:xfrm>
            <a:off x="3462120" y="2771280"/>
            <a:ext cx="1080" cy="13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AutoShape 684"/>
          <p:cNvCxnSpPr>
            <a:stCxn id="107" idx="2"/>
            <a:endCxn id="115" idx="0"/>
          </p:cNvCxnSpPr>
          <p:nvPr/>
        </p:nvCxnSpPr>
        <p:spPr>
          <a:xfrm>
            <a:off x="3463560" y="3446640"/>
            <a:ext cx="1080" cy="11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Rectangle 700"/>
          <p:cNvSpPr/>
          <p:nvPr/>
        </p:nvSpPr>
        <p:spPr>
          <a:xfrm>
            <a:off x="341280" y="2379600"/>
            <a:ext cx="1214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701"/>
          <p:cNvSpPr/>
          <p:nvPr/>
        </p:nvSpPr>
        <p:spPr>
          <a:xfrm>
            <a:off x="336600" y="2913120"/>
            <a:ext cx="122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66"/>
          <p:cNvSpPr/>
          <p:nvPr/>
        </p:nvSpPr>
        <p:spPr>
          <a:xfrm>
            <a:off x="5373720" y="2913120"/>
            <a:ext cx="127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adrante 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de Quej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60"/>
          <p:cNvSpPr/>
          <p:nvPr/>
        </p:nvSpPr>
        <p:spPr>
          <a:xfrm>
            <a:off x="341280" y="4057560"/>
            <a:ext cx="122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64"/>
          <p:cNvSpPr/>
          <p:nvPr/>
        </p:nvSpPr>
        <p:spPr>
          <a:xfrm>
            <a:off x="5373720" y="4057560"/>
            <a:ext cx="1295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er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61"/>
          <p:cNvSpPr/>
          <p:nvPr/>
        </p:nvSpPr>
        <p:spPr>
          <a:xfrm>
            <a:off x="330120" y="4437000"/>
            <a:ext cx="122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66"/>
          <p:cNvSpPr/>
          <p:nvPr/>
        </p:nvSpPr>
        <p:spPr>
          <a:xfrm>
            <a:off x="5373720" y="3564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er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56"/>
          <p:cNvSpPr/>
          <p:nvPr/>
        </p:nvSpPr>
        <p:spPr>
          <a:xfrm>
            <a:off x="1700280" y="3564000"/>
            <a:ext cx="3529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emite acuerdo de radicación o en su caso de prevención y se analiza si existe solicitud de medida cautela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AutoShape 685"/>
          <p:cNvCxnSpPr/>
          <p:nvPr/>
        </p:nvCxnSpPr>
        <p:spPr>
          <a:xfrm>
            <a:off x="3446640" y="3932280"/>
            <a:ext cx="216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Rectangle 653"/>
          <p:cNvSpPr/>
          <p:nvPr/>
        </p:nvSpPr>
        <p:spPr>
          <a:xfrm>
            <a:off x="1701720" y="4057560"/>
            <a:ext cx="352764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emite acuerdo de admisión o desechamiento en un plazo de cinco día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34"/>
          <p:cNvSpPr/>
          <p:nvPr/>
        </p:nvSpPr>
        <p:spPr>
          <a:xfrm>
            <a:off x="3160800" y="6875640"/>
            <a:ext cx="574560" cy="28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01"/>
          <p:cNvSpPr/>
          <p:nvPr/>
        </p:nvSpPr>
        <p:spPr>
          <a:xfrm>
            <a:off x="336600" y="4940280"/>
            <a:ext cx="1224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ficialía de part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74"/>
          <p:cNvSpPr/>
          <p:nvPr/>
        </p:nvSpPr>
        <p:spPr>
          <a:xfrm>
            <a:off x="3200400" y="1965240"/>
            <a:ext cx="504720" cy="2160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18 Rectángulo"/>
          <p:cNvSpPr/>
          <p:nvPr/>
        </p:nvSpPr>
        <p:spPr>
          <a:xfrm>
            <a:off x="1701720" y="4437000"/>
            <a:ext cx="352764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mplazamiento al denunciado, contando con un termino de cinco días para dar contestación a la queja instaurada en su cont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18 Rectángulo"/>
          <p:cNvSpPr/>
          <p:nvPr/>
        </p:nvSpPr>
        <p:spPr>
          <a:xfrm>
            <a:off x="1704960" y="6299280"/>
            <a:ext cx="3529080" cy="24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De ser aprobado el proyecto de resolución en la comisión este se somete a consideración del Consej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65"/>
          <p:cNvSpPr/>
          <p:nvPr/>
        </p:nvSpPr>
        <p:spPr>
          <a:xfrm>
            <a:off x="5386320" y="5345280"/>
            <a:ext cx="12826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er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65"/>
          <p:cNvSpPr/>
          <p:nvPr/>
        </p:nvSpPr>
        <p:spPr>
          <a:xfrm>
            <a:off x="5380200" y="5791320"/>
            <a:ext cx="12826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01"/>
          <p:cNvSpPr/>
          <p:nvPr/>
        </p:nvSpPr>
        <p:spPr>
          <a:xfrm>
            <a:off x="330120" y="5345280"/>
            <a:ext cx="1224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01"/>
          <p:cNvSpPr/>
          <p:nvPr/>
        </p:nvSpPr>
        <p:spPr>
          <a:xfrm>
            <a:off x="330120" y="5791320"/>
            <a:ext cx="1224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01"/>
          <p:cNvSpPr/>
          <p:nvPr/>
        </p:nvSpPr>
        <p:spPr>
          <a:xfrm>
            <a:off x="336600" y="6299280"/>
            <a:ext cx="122400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sejero Presid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o Ejecu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701"/>
          <p:cNvSpPr/>
          <p:nvPr/>
        </p:nvSpPr>
        <p:spPr>
          <a:xfrm>
            <a:off x="5386320" y="6299280"/>
            <a:ext cx="128268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to  de Resolució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18 Rectángulo"/>
          <p:cNvSpPr/>
          <p:nvPr/>
        </p:nvSpPr>
        <p:spPr>
          <a:xfrm>
            <a:off x="1704960" y="493236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recibe el escrito de contestación y se ordena la apertura de un periodo de investigación hasta por cuarenta días, pudiendo duplicarse este plaz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18 Rectángulo"/>
          <p:cNvSpPr/>
          <p:nvPr/>
        </p:nvSpPr>
        <p:spPr>
          <a:xfrm>
            <a:off x="1698480" y="5345280"/>
            <a:ext cx="35290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Concluido el periodo de investigación se abre un periodo de alegatos con duración de cinco dí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18 Rectángulo"/>
          <p:cNvSpPr/>
          <p:nvPr/>
        </p:nvSpPr>
        <p:spPr>
          <a:xfrm>
            <a:off x="1685880" y="5791320"/>
            <a:ext cx="352908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elabora proyecto de resolución y es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nviado a Secretaria Ejecutiva, para que esta lo remita a la Comisión de Quejas y Denuncias para su aprobación, dentro de un plazo de diez días, pudiendo duplicarse este plaz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AutoShape 685"/>
          <p:cNvCxnSpPr/>
          <p:nvPr/>
        </p:nvCxnSpPr>
        <p:spPr>
          <a:xfrm>
            <a:off x="3441240" y="4301640"/>
            <a:ext cx="2520" cy="1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AutoShape 685"/>
          <p:cNvCxnSpPr/>
          <p:nvPr/>
        </p:nvCxnSpPr>
        <p:spPr>
          <a:xfrm>
            <a:off x="3449160" y="4807080"/>
            <a:ext cx="108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AutoShape 685"/>
          <p:cNvCxnSpPr/>
          <p:nvPr/>
        </p:nvCxnSpPr>
        <p:spPr>
          <a:xfrm>
            <a:off x="3448080" y="5219280"/>
            <a:ext cx="2160" cy="1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AutoShape 685"/>
          <p:cNvCxnSpPr/>
          <p:nvPr/>
        </p:nvCxnSpPr>
        <p:spPr>
          <a:xfrm>
            <a:off x="3447720" y="5654160"/>
            <a:ext cx="1080" cy="148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AutoShape 685"/>
          <p:cNvCxnSpPr/>
          <p:nvPr/>
        </p:nvCxnSpPr>
        <p:spPr>
          <a:xfrm>
            <a:off x="3447720" y="6173280"/>
            <a:ext cx="1080" cy="12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AutoShape 685"/>
          <p:cNvCxnSpPr>
            <a:endCxn id="125" idx="0"/>
          </p:cNvCxnSpPr>
          <p:nvPr/>
        </p:nvCxnSpPr>
        <p:spPr>
          <a:xfrm>
            <a:off x="3441600" y="6548040"/>
            <a:ext cx="7200" cy="32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Rectangle 653"/>
          <p:cNvSpPr/>
          <p:nvPr/>
        </p:nvSpPr>
        <p:spPr>
          <a:xfrm>
            <a:off x="1647720" y="1687680"/>
            <a:ext cx="3529080" cy="22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Procedimiento Sancionador Ordin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63"/>
          <p:cNvSpPr/>
          <p:nvPr/>
        </p:nvSpPr>
        <p:spPr>
          <a:xfrm>
            <a:off x="5372280" y="353700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64"/>
          <p:cNvSpPr/>
          <p:nvPr/>
        </p:nvSpPr>
        <p:spPr>
          <a:xfrm>
            <a:off x="5367240" y="4427640"/>
            <a:ext cx="129564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 de Emplaza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65"/>
          <p:cNvSpPr/>
          <p:nvPr/>
        </p:nvSpPr>
        <p:spPr>
          <a:xfrm>
            <a:off x="5380200" y="4932360"/>
            <a:ext cx="1282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 de Audi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66"/>
          <p:cNvSpPr/>
          <p:nvPr/>
        </p:nvSpPr>
        <p:spPr>
          <a:xfrm>
            <a:off x="5373720" y="2379600"/>
            <a:ext cx="1278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adrante 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scrito Present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66"/>
          <p:cNvSpPr/>
          <p:nvPr/>
        </p:nvSpPr>
        <p:spPr>
          <a:xfrm>
            <a:off x="5373720" y="2913120"/>
            <a:ext cx="127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adrante 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de Quej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64"/>
          <p:cNvSpPr/>
          <p:nvPr/>
        </p:nvSpPr>
        <p:spPr>
          <a:xfrm>
            <a:off x="5373720" y="4057560"/>
            <a:ext cx="1295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er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66"/>
          <p:cNvSpPr/>
          <p:nvPr/>
        </p:nvSpPr>
        <p:spPr>
          <a:xfrm>
            <a:off x="5373720" y="3564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er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65"/>
          <p:cNvSpPr/>
          <p:nvPr/>
        </p:nvSpPr>
        <p:spPr>
          <a:xfrm>
            <a:off x="5386320" y="5715000"/>
            <a:ext cx="12826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royecto de Re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65"/>
          <p:cNvSpPr/>
          <p:nvPr/>
        </p:nvSpPr>
        <p:spPr>
          <a:xfrm>
            <a:off x="5380200" y="6161040"/>
            <a:ext cx="12826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AutoShape 649"/>
          <p:cNvCxnSpPr/>
          <p:nvPr/>
        </p:nvCxnSpPr>
        <p:spPr>
          <a:xfrm flipH="1">
            <a:off x="3458520" y="2180880"/>
            <a:ext cx="1080" cy="19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Rectangle 652"/>
          <p:cNvSpPr/>
          <p:nvPr/>
        </p:nvSpPr>
        <p:spPr>
          <a:xfrm>
            <a:off x="1698480" y="2379600"/>
            <a:ext cx="353088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cibe el escrito de queja en la dirección jurídica,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800" spc="-1" strike="noStrike">
                <a:solidFill>
                  <a:srgbClr val="ff0000"/>
                </a:solidFill>
                <a:latin typeface="Times New Roman"/>
              </a:rPr>
              <a:t>donde es sellado, firmado de recibido asentando la fecha y hora de recepción, 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n posterioridad se registra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53"/>
          <p:cNvSpPr/>
          <p:nvPr/>
        </p:nvSpPr>
        <p:spPr>
          <a:xfrm>
            <a:off x="1698480" y="2906640"/>
            <a:ext cx="353088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da aviso al director y este determina cua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 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atenderá la queja presentada, el cua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cibe el documento firmando de recibido en el cuadrante y le da seguimiento al asunto, elaborando un expediente para agregar las constancias necesari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AutoShape 681"/>
          <p:cNvCxnSpPr/>
          <p:nvPr/>
        </p:nvCxnSpPr>
        <p:spPr>
          <a:xfrm>
            <a:off x="3465000" y="2771280"/>
            <a:ext cx="1080" cy="13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AutoShape 684"/>
          <p:cNvCxnSpPr>
            <a:stCxn id="162" idx="2"/>
            <a:endCxn id="165" idx="0"/>
          </p:cNvCxnSpPr>
          <p:nvPr/>
        </p:nvCxnSpPr>
        <p:spPr>
          <a:xfrm>
            <a:off x="3463920" y="3446640"/>
            <a:ext cx="2160" cy="11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Rectangle 656"/>
          <p:cNvSpPr/>
          <p:nvPr/>
        </p:nvSpPr>
        <p:spPr>
          <a:xfrm>
            <a:off x="1700280" y="356400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emite acuerdo de radicación o en su caso de prevención y se analiza si existe solicitud de medida cautela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685"/>
          <p:cNvCxnSpPr>
            <a:stCxn id="165" idx="2"/>
            <a:endCxn id="167" idx="0"/>
          </p:cNvCxnSpPr>
          <p:nvPr/>
        </p:nvCxnSpPr>
        <p:spPr>
          <a:xfrm>
            <a:off x="3465000" y="3850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Rectangle 653"/>
          <p:cNvSpPr/>
          <p:nvPr/>
        </p:nvSpPr>
        <p:spPr>
          <a:xfrm>
            <a:off x="1701720" y="3995640"/>
            <a:ext cx="35276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emite acuerdo de admisión o desechamiento, dentro de un plazo de veinticuatro hora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34"/>
          <p:cNvSpPr/>
          <p:nvPr/>
        </p:nvSpPr>
        <p:spPr>
          <a:xfrm>
            <a:off x="3141720" y="6386400"/>
            <a:ext cx="57636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74"/>
          <p:cNvSpPr/>
          <p:nvPr/>
        </p:nvSpPr>
        <p:spPr>
          <a:xfrm>
            <a:off x="3200400" y="1965240"/>
            <a:ext cx="504720" cy="2160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18 Rectángulo"/>
          <p:cNvSpPr/>
          <p:nvPr/>
        </p:nvSpPr>
        <p:spPr>
          <a:xfrm>
            <a:off x="1701720" y="4437000"/>
            <a:ext cx="352764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mplazamiento al denunciado, notificándole que debe comparecer a la audiencia de contestación, pruebas y alegatos, dentro de un plazo de cuarenta y ocho hora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18 Rectángulo"/>
          <p:cNvSpPr/>
          <p:nvPr/>
        </p:nvSpPr>
        <p:spPr>
          <a:xfrm>
            <a:off x="1706400" y="4927680"/>
            <a:ext cx="35308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desahoga la audiencia de contestación, pruebas y alega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18 Rectángulo"/>
          <p:cNvSpPr/>
          <p:nvPr/>
        </p:nvSpPr>
        <p:spPr>
          <a:xfrm>
            <a:off x="1698480" y="5832360"/>
            <a:ext cx="3529080" cy="2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 proyecto de resolución es sometido a consideración del Consej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AutoShape 685"/>
          <p:cNvCxnSpPr/>
          <p:nvPr/>
        </p:nvCxnSpPr>
        <p:spPr>
          <a:xfrm>
            <a:off x="3460320" y="4301640"/>
            <a:ext cx="2520" cy="1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AutoShape 685"/>
          <p:cNvCxnSpPr/>
          <p:nvPr/>
        </p:nvCxnSpPr>
        <p:spPr>
          <a:xfrm>
            <a:off x="3468240" y="4801680"/>
            <a:ext cx="1080" cy="1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AutoShape 685"/>
          <p:cNvCxnSpPr/>
          <p:nvPr/>
        </p:nvCxnSpPr>
        <p:spPr>
          <a:xfrm>
            <a:off x="3468240" y="5156280"/>
            <a:ext cx="396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AutoShape 685"/>
          <p:cNvCxnSpPr/>
          <p:nvPr/>
        </p:nvCxnSpPr>
        <p:spPr>
          <a:xfrm>
            <a:off x="3424680" y="608292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Rectangle 653"/>
          <p:cNvSpPr/>
          <p:nvPr/>
        </p:nvSpPr>
        <p:spPr>
          <a:xfrm>
            <a:off x="1647720" y="1687680"/>
            <a:ext cx="3529080" cy="22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Procedimiento Sancionador Espec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60"/>
          <p:cNvSpPr/>
          <p:nvPr/>
        </p:nvSpPr>
        <p:spPr>
          <a:xfrm>
            <a:off x="333360" y="3564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700"/>
          <p:cNvSpPr/>
          <p:nvPr/>
        </p:nvSpPr>
        <p:spPr>
          <a:xfrm>
            <a:off x="341280" y="2379600"/>
            <a:ext cx="1214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701"/>
          <p:cNvSpPr/>
          <p:nvPr/>
        </p:nvSpPr>
        <p:spPr>
          <a:xfrm>
            <a:off x="336600" y="2913120"/>
            <a:ext cx="122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0"/>
          <p:cNvSpPr/>
          <p:nvPr/>
        </p:nvSpPr>
        <p:spPr>
          <a:xfrm>
            <a:off x="341280" y="4057560"/>
            <a:ext cx="122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61"/>
          <p:cNvSpPr/>
          <p:nvPr/>
        </p:nvSpPr>
        <p:spPr>
          <a:xfrm>
            <a:off x="330120" y="4437000"/>
            <a:ext cx="122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01"/>
          <p:cNvSpPr/>
          <p:nvPr/>
        </p:nvSpPr>
        <p:spPr>
          <a:xfrm>
            <a:off x="336600" y="4940280"/>
            <a:ext cx="1224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701"/>
          <p:cNvSpPr/>
          <p:nvPr/>
        </p:nvSpPr>
        <p:spPr>
          <a:xfrm>
            <a:off x="330120" y="5715000"/>
            <a:ext cx="1224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sejero Presid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o Ejecu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701"/>
          <p:cNvSpPr/>
          <p:nvPr/>
        </p:nvSpPr>
        <p:spPr>
          <a:xfrm>
            <a:off x="330120" y="6161040"/>
            <a:ext cx="1224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65"/>
          <p:cNvSpPr/>
          <p:nvPr/>
        </p:nvSpPr>
        <p:spPr>
          <a:xfrm>
            <a:off x="5376960" y="5302080"/>
            <a:ext cx="12826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18 Rectángulo"/>
          <p:cNvSpPr/>
          <p:nvPr/>
        </p:nvSpPr>
        <p:spPr>
          <a:xfrm>
            <a:off x="1703520" y="5297400"/>
            <a:ext cx="353052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elabora proyecto de resolución en un plazo de veinticuatro horas y es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nviado al Consejero Presidente a efecto de que convoque a sesión en las próximas setenta y dos hor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AutoShape 685"/>
          <p:cNvCxnSpPr/>
          <p:nvPr/>
        </p:nvCxnSpPr>
        <p:spPr>
          <a:xfrm>
            <a:off x="3446640" y="5707080"/>
            <a:ext cx="360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" name="Rectangle 701"/>
          <p:cNvSpPr/>
          <p:nvPr/>
        </p:nvSpPr>
        <p:spPr>
          <a:xfrm>
            <a:off x="333360" y="5310360"/>
            <a:ext cx="1224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Fernando Sánchez Aguirre</cp:lastModifiedBy>
  <cp:lastPrinted>2013-08-15T16:22:05Z</cp:lastPrinted>
  <dcterms:modified xsi:type="dcterms:W3CDTF">2013-08-15T16:24:02Z</dcterms:modified>
  <cp:revision>324</cp:revision>
  <dc:subject/>
  <dc:title>Presentación de PowerPoint</dc:title>
</cp:coreProperties>
</file>