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C45-47CD-47D7-823A-45A821C435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12B2-4DC4-4F61-AA19-1E7AAF2AC1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39C5-D648-4229-8A6D-35911AFE2C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9C5-9CB7-4EA3-BDA1-ACCF0D04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0E3-3A9D-4C87-89A1-FD7AF7E9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69F-6998-4EC0-A147-DE7EA808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D43-F5A7-42B7-ABF7-35A67242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95E-28AB-427D-9375-0FFC78C5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D0C-FA27-48C9-8F3A-F342422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BF0-17DB-4682-B709-A38BFA6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1C8-C5CD-4243-A346-EABFCF71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0A1-E036-4531-BDC2-ED0D1CC8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645-3A07-423E-8B10-7C73E5AE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6BA-3999-4728-84CA-F3728FEF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369-C1AB-4745-80F3-82590749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7CFF-7CFB-446A-8814-4C219836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B9C6-8AD8-4051-92AE-187F8047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5721-96BB-4325-8B24-B68CACAE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6712-ED10-49B1-81DB-0CF0EFB2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4BF7-D039-4568-A6EA-2BCF74E2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700-B5EB-4CD5-BBE7-A699BAE9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E6F5-2059-4154-ABA3-11EE3BFA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5F3-5B53-4EDB-A753-4CCA765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D25C-3C86-40E6-B193-E30B994C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C4C5-E472-4B6B-ACE4-8EB1C576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3675-600A-43D2-B711-430B9DE1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6EA-590B-41DD-93AC-6179AEA3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CC6D-EF83-4CB6-918B-52B63472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A495-4F7A-45F3-B057-B93E1E56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D636-DB51-403A-8B46-B8B9BFA7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82BC-AEC8-4DC4-B887-95A3C852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09AF-C516-4B22-A5C5-EAD83131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1F00-B60D-41A2-805E-8F4D4117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8A33-42F7-4DED-BDD9-9D398462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E9AA-645A-436E-A299-4E94B874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E20F-E9F8-4E8B-9B65-694F3CB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2484-B610-416E-8224-CA3B9FD9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D8FE-8BF0-43B5-B68B-978BF9C3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580C-C3A1-45A1-BC15-E5F1AC43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ísiticas de Imagen del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C6A900E1-A331-419B-ABFA-EEFFA9594C7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-OPE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2AC4-589C-44A3-B449-C4D2C4EB8CD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FFD4-1034-43C6-89C2-4E62FD658FF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DE0C-A882-4569-97B6-4B32401D521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nocer el trato periodístico hacia el IEPC de los reporteros de la fuente, editorialistas y columnistas de los diversos diarios locales, presentando un informe final a la presidencia para su análisis y toma de decisiones respecto de los propios medio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aplica para la elaboración de estadísticas y revisar la imagen que los principales periódicos locales tienen del 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CUMENTO CONFINENCIAL: Expediente donde solo el director del area y personal de presidencia tienen acceso a su lectu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información de carpeta informativa cada 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epara información de medios y se acomodan en orden cronológico y por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si la nota para revisar es positiva, negativa o neutra y registro con síntesis de la nota y au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utiliza información para grafica información de acuerdo a su clas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997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informe a presidente graficas con análisis de estadística de im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stCxn id="215" idx="2"/>
            <a:endCxn id="216" idx="0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40528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321300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32"/>
          <p:cNvCxnSpPr>
            <a:endCxn id="222" idx="0"/>
          </p:cNvCxnSpPr>
          <p:nvPr/>
        </p:nvCxnSpPr>
        <p:spPr>
          <a:xfrm>
            <a:off x="3499920" y="421272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6T00:32:29Z</dcterms:modified>
  <cp:revision>325</cp:revision>
  <dc:subject/>
  <dc:title>Presentación de PowerPoint</dc:title>
</cp:coreProperties>
</file>