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79E90-1300-4422-BA5D-119EBE790DE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55689-7603-43AF-A665-EEDD55BFFE3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942F4-94A7-4C14-B9DA-DD6BB397699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4144-9AB9-421F-84F3-FB0C51017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C1B4-7F9E-463A-8A4E-EF509F1AB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157C-EEBB-4E56-B926-C1F66354B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04D8-9FF7-46CC-87B3-2F0685DB7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B495-452B-4F15-957F-B15707177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FC2F-801D-482C-B4A8-9B58F51B7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1728-53B9-42E3-A8A8-860B8739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C9DD-3BA3-4340-9DCF-7855A22F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9EA8-B91D-4EB5-BCE3-E8C3895B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EFC3-D759-4C46-BD21-C9A11D79B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D356-96BF-4B09-B1DF-54C1655CC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A95A-D016-4819-B7E8-545F05CEE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BFBD8-3C2C-4095-971E-90AD4DF84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B343C-C906-4767-9404-0FF25B52F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82DB3-3277-4A00-B4DD-ADB884595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6B763-31B4-4686-87AE-60C9252AE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2616E-1CC5-4ECE-A320-BFD74B7F5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15375-AB51-424A-9CD3-7FD2BE285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BE3B8-BDE0-484F-A8B2-332B9C01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1BCF3-41B3-4876-971D-A7E2DF64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2E00D-6263-4791-8148-6152D3B3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647B7-C8B4-430B-85EE-F0F26F79C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169D5-FA03-46D9-83BC-125DBBD38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E8AB0-0057-4C9A-AAD1-1152D71AE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ntrega de Combust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79EAB64C-6E94-4116-B507-50BB34DB06B4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ción de Administración y Finanz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 P-OPE-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2-01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2-01-1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5E275-231C-47C0-B701-9079EBF1B38D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8356B-A923-4A9A-BAE0-95E3F0A9755D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-01-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Text Box 224"/>
          <p:cNvSpPr/>
          <p:nvPr/>
        </p:nvSpPr>
        <p:spPr>
          <a:xfrm>
            <a:off x="336600" y="1366920"/>
            <a:ext cx="634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Abastecer de combustible a las diferentes áreas del IEPC para desarrollar labores necesarias de cada direcció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Uso exclusivo del personal del IEP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6"/>
          <p:cNvSpPr/>
          <p:nvPr/>
        </p:nvSpPr>
        <p:spPr>
          <a:xfrm>
            <a:off x="333360" y="286056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N/A (No aplica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665"/>
          <p:cNvSpPr/>
          <p:nvPr/>
        </p:nvSpPr>
        <p:spPr>
          <a:xfrm>
            <a:off x="5392800" y="2502000"/>
            <a:ext cx="12826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mai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700"/>
          <p:cNvSpPr/>
          <p:nvPr/>
        </p:nvSpPr>
        <p:spPr>
          <a:xfrm>
            <a:off x="385920" y="2486160"/>
            <a:ext cx="11509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AutoShape 685"/>
          <p:cNvCxnSpPr/>
          <p:nvPr/>
        </p:nvCxnSpPr>
        <p:spPr>
          <a:xfrm>
            <a:off x="4509720" y="3646440"/>
            <a:ext cx="1080" cy="56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" name="Rectangle 660"/>
          <p:cNvSpPr/>
          <p:nvPr/>
        </p:nvSpPr>
        <p:spPr>
          <a:xfrm>
            <a:off x="333360" y="313992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4"/>
          <p:cNvSpPr/>
          <p:nvPr/>
        </p:nvSpPr>
        <p:spPr>
          <a:xfrm>
            <a:off x="5380200" y="3703680"/>
            <a:ext cx="129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istema en líne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18 Rectángulo"/>
          <p:cNvSpPr/>
          <p:nvPr/>
        </p:nvSpPr>
        <p:spPr>
          <a:xfrm>
            <a:off x="1700280" y="3652920"/>
            <a:ext cx="1314360" cy="50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 recarga a la tarjeta electrónica correspondiente, mediante sistema en lín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56 Rombo"/>
          <p:cNvSpPr/>
          <p:nvPr/>
        </p:nvSpPr>
        <p:spPr>
          <a:xfrm>
            <a:off x="3063960" y="2087640"/>
            <a:ext cx="857160" cy="43164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57 CuadroTexto"/>
          <p:cNvSpPr/>
          <p:nvPr/>
        </p:nvSpPr>
        <p:spPr>
          <a:xfrm>
            <a:off x="3056040" y="214956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Forma de entreg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72 CuadroTexto"/>
          <p:cNvSpPr/>
          <p:nvPr/>
        </p:nvSpPr>
        <p:spPr>
          <a:xfrm>
            <a:off x="2146320" y="1922400"/>
            <a:ext cx="8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Recarga Electrón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73 CuadroTexto"/>
          <p:cNvSpPr/>
          <p:nvPr/>
        </p:nvSpPr>
        <p:spPr>
          <a:xfrm>
            <a:off x="4052880" y="19191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Vales de Gasolin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18 Rectángulo"/>
          <p:cNvSpPr/>
          <p:nvPr/>
        </p:nvSpPr>
        <p:spPr>
          <a:xfrm>
            <a:off x="3921120" y="3132000"/>
            <a:ext cx="1152360" cy="503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recibe formato solicitud de vales de gasolina, por personal del área solicit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" name="AutoShape 685"/>
          <p:cNvCxnSpPr/>
          <p:nvPr/>
        </p:nvCxnSpPr>
        <p:spPr>
          <a:xfrm>
            <a:off x="3501720" y="187164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2" name="Oval 34"/>
          <p:cNvSpPr/>
          <p:nvPr/>
        </p:nvSpPr>
        <p:spPr>
          <a:xfrm>
            <a:off x="2205000" y="547200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660"/>
          <p:cNvSpPr/>
          <p:nvPr/>
        </p:nvSpPr>
        <p:spPr>
          <a:xfrm>
            <a:off x="325440" y="365292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52"/>
          <p:cNvSpPr/>
          <p:nvPr/>
        </p:nvSpPr>
        <p:spPr>
          <a:xfrm>
            <a:off x="1662120" y="2502000"/>
            <a:ext cx="1352520" cy="63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ibe correo de petición de gasolina, con los datos requeridos por parte del área solicita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" name="64 Conector angular"/>
          <p:cNvCxnSpPr/>
          <p:nvPr/>
        </p:nvCxnSpPr>
        <p:spPr>
          <a:xfrm flipV="1" rot="10800000">
            <a:off x="2458440" y="2305440"/>
            <a:ext cx="597600" cy="1803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76" name="64 Conector angular"/>
          <p:cNvCxnSpPr>
            <a:endCxn id="170" idx="0"/>
          </p:cNvCxnSpPr>
          <p:nvPr/>
        </p:nvCxnSpPr>
        <p:spPr>
          <a:xfrm flipH="1" rot="16200000">
            <a:off x="3795480" y="2430720"/>
            <a:ext cx="826200" cy="577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77" name="AutoShape 685"/>
          <p:cNvCxnSpPr/>
          <p:nvPr/>
        </p:nvCxnSpPr>
        <p:spPr>
          <a:xfrm>
            <a:off x="2458800" y="3139920"/>
            <a:ext cx="1080" cy="49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8" name="18 Rectángulo"/>
          <p:cNvSpPr/>
          <p:nvPr/>
        </p:nvSpPr>
        <p:spPr>
          <a:xfrm>
            <a:off x="3943440" y="5219640"/>
            <a:ext cx="1152360" cy="503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entregan Vales de Gasolina al personal del área solicit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18 Rectángulo"/>
          <p:cNvSpPr/>
          <p:nvPr/>
        </p:nvSpPr>
        <p:spPr>
          <a:xfrm>
            <a:off x="3943440" y="4248000"/>
            <a:ext cx="1152360" cy="6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llena información correspondiente en concentrado de Consumos de Vales de Gasoli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" name="AutoShape 685"/>
          <p:cNvCxnSpPr/>
          <p:nvPr/>
        </p:nvCxnSpPr>
        <p:spPr>
          <a:xfrm>
            <a:off x="4509720" y="4848120"/>
            <a:ext cx="108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685"/>
          <p:cNvCxnSpPr/>
          <p:nvPr/>
        </p:nvCxnSpPr>
        <p:spPr>
          <a:xfrm flipH="1">
            <a:off x="2901240" y="5579640"/>
            <a:ext cx="1019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AutoShape 685"/>
          <p:cNvCxnSpPr/>
          <p:nvPr/>
        </p:nvCxnSpPr>
        <p:spPr>
          <a:xfrm>
            <a:off x="2458800" y="4157640"/>
            <a:ext cx="1080" cy="127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3" name="Rectangle 665"/>
          <p:cNvSpPr/>
          <p:nvPr/>
        </p:nvSpPr>
        <p:spPr>
          <a:xfrm>
            <a:off x="5392800" y="3097080"/>
            <a:ext cx="12826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olicitud de vales de gasolin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660"/>
          <p:cNvSpPr/>
          <p:nvPr/>
        </p:nvSpPr>
        <p:spPr>
          <a:xfrm>
            <a:off x="349200" y="425124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664"/>
          <p:cNvSpPr/>
          <p:nvPr/>
        </p:nvSpPr>
        <p:spPr>
          <a:xfrm>
            <a:off x="5373720" y="4248000"/>
            <a:ext cx="129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ncentrado de Consumos de Vales de Gasolin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660"/>
          <p:cNvSpPr/>
          <p:nvPr/>
        </p:nvSpPr>
        <p:spPr>
          <a:xfrm>
            <a:off x="349200" y="521496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665"/>
          <p:cNvSpPr/>
          <p:nvPr/>
        </p:nvSpPr>
        <p:spPr>
          <a:xfrm>
            <a:off x="5386320" y="5248440"/>
            <a:ext cx="12826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Vales de gasolin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cp:lastPrinted>2012-04-19T00:40:42Z</cp:lastPrinted>
  <dcterms:modified xsi:type="dcterms:W3CDTF">2012-06-13T16:12:15Z</dcterms:modified>
  <cp:revision>362</cp:revision>
  <dc:subject/>
  <dc:title>Presentación de PowerPoint</dc:title>
</cp:coreProperties>
</file>