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63BA-D440-48D6-BEAB-695C070293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B89-C44E-45D1-A03C-E9E055E3F4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5FC0-CB50-419F-8F64-DB7A13AB2B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78A-072F-406F-B2D6-3B41CB50F8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7D0-D3C1-40A0-A719-ABA47CEA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1FC-8B90-4786-A72B-358D84A2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FAE-4234-4162-B005-E58BA5D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D02-ACA4-4FA2-8C7D-895832C9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F87-A33A-4BD8-A883-88F157D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A89-7082-44AB-8A72-FCCB8743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315-8234-47E4-872D-A364AE3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213-C830-410B-A45D-C69210E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F80-8014-4F4D-AB5B-73602CD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956-9116-4249-9535-A04E7B42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101-62D0-41CC-A6B4-C000908B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E00-E533-4315-99DE-FFF1F891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B978-3345-4502-BED6-C19E090D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E6D0-21B1-479B-83B3-774C8C9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5A2D-D8FB-45F9-9D34-ABB096D8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D6F7-1D85-4043-B8CB-7771E75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CEA6-FA88-43A1-920C-CA89110A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3BFD-CE2F-4A37-8DCA-11EE3AD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0A9-3B3B-409E-940A-32F5B43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3E6B-59F9-44B9-9C47-3C11961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E406-756D-4EEC-9B76-2288430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5DEE-FDA1-463A-9C1D-BF44994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D17F-24F8-49EE-B055-DEA58ADB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4D0-8431-4FA3-B2E0-0BEF3ED8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8F95EF90-9592-4A10-80C8-E636584E2EC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744-D779-4171-B8C4-CA3B3BBAD8D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4469-6568-41EE-8F4F-E339A917F1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acuerdos que en el ámbito de las atribuciones correspondan a cada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n este espacio se pondrá en que se certificara la empresa aun no esta definido los procesos  a certificar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control de recibidos</a:t>
            </a:r>
            <a:r>
              <a:rPr b="0" lang="es-ES" sz="900" spc="-1" strike="noStrike">
                <a:solidFill>
                  <a:srgbClr val="ff0000"/>
                </a:solidFill>
                <a:latin typeface="Times New Roman"/>
              </a:rPr>
              <a:t> y se integra expe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comuni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documentación a directora para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proyecto a titular del área para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80" idx="2"/>
            <a:endCxn id="182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Formula correcciones u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2" idx="2"/>
            <a:endCxn id="184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úne con el presidente de la Comisión para revisión del proyec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4" idx="2"/>
            <a:endCxn id="190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municad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interno prev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ia a jefe de area para incorporar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3"/>
          </p:cNvCxnSpPr>
          <p:nvPr/>
        </p:nvCxnSpPr>
        <p:spPr>
          <a:xfrm>
            <a:off x="3948120" y="5776560"/>
            <a:ext cx="993960" cy="11502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Oval 75"/>
          <p:cNvSpPr/>
          <p:nvPr/>
        </p:nvSpPr>
        <p:spPr>
          <a:xfrm>
            <a:off x="3860640" y="70930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64 Conector angular"/>
          <p:cNvCxnSpPr>
            <a:stCxn id="209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9" idx="3"/>
          </p:cNvCxnSpPr>
          <p:nvPr/>
        </p:nvCxnSpPr>
        <p:spPr>
          <a:xfrm>
            <a:off x="3946680" y="3311640"/>
            <a:ext cx="4528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5"/>
          <p:cNvSpPr/>
          <p:nvPr/>
        </p:nvSpPr>
        <p:spPr>
          <a:xfrm>
            <a:off x="429264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directora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1628640" y="6818400"/>
            <a:ext cx="331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6"/>
          <p:cNvSpPr/>
          <p:nvPr/>
        </p:nvSpPr>
        <p:spPr>
          <a:xfrm>
            <a:off x="1628640" y="738036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Proyecta orden del día y convoca a reunión de trabajo prev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28640" y="701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3428640" y="7597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49"/>
          <p:cNvCxnSpPr/>
          <p:nvPr/>
        </p:nvCxnSpPr>
        <p:spPr>
          <a:xfrm flipH="1">
            <a:off x="3428280" y="72356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328464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24000" y="535788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exo  a dictamen /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/>
          <p:nvPr/>
        </p:nvCxnSpPr>
        <p:spPr>
          <a:xfrm>
            <a:off x="3499920" y="190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2482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y se incorporan al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Establece logística de la sesió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</p:cNvCxnSpPr>
          <p:nvPr/>
        </p:nvCxnSpPr>
        <p:spPr>
          <a:xfrm>
            <a:off x="22762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convocatoria para sesión formal de co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50" idx="2"/>
            <a:endCxn id="252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Formatos de sesion / Check list 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/ minuta de juntas / acta dictamen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>
            <a:stCxn id="252" idx="2"/>
            <a:endCxn id="258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>
            <a:stCxn id="258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arpetas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1"/>
          <p:cNvSpPr/>
          <p:nvPr/>
        </p:nvSpPr>
        <p:spPr>
          <a:xfrm>
            <a:off x="333360" y="478944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56 Rombo"/>
          <p:cNvSpPr/>
          <p:nvPr/>
        </p:nvSpPr>
        <p:spPr>
          <a:xfrm>
            <a:off x="3090960" y="4589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57 CuadroTexto"/>
          <p:cNvSpPr/>
          <p:nvPr/>
        </p:nvSpPr>
        <p:spPr>
          <a:xfrm>
            <a:off x="3141720" y="4659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áme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64 Conector angular"/>
          <p:cNvCxnSpPr>
            <a:stCxn id="264" idx="1"/>
            <a:endCxn id="267" idx="0"/>
          </p:cNvCxnSpPr>
          <p:nvPr/>
        </p:nvCxnSpPr>
        <p:spPr>
          <a:xfrm flipV="1" rot="10800000">
            <a:off x="2493360" y="4768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8" name="72 CuadroTexto"/>
          <p:cNvSpPr/>
          <p:nvPr/>
        </p:nvSpPr>
        <p:spPr>
          <a:xfrm>
            <a:off x="2708280" y="4516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73 CuadroTexto"/>
          <p:cNvSpPr/>
          <p:nvPr/>
        </p:nvSpPr>
        <p:spPr>
          <a:xfrm>
            <a:off x="3860640" y="45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628640" y="4948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Recaba firmas de dictamen aprobado y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4 Conector angular"/>
          <p:cNvCxnSpPr>
            <a:stCxn id="264" idx="3"/>
            <a:endCxn id="271" idx="0"/>
          </p:cNvCxnSpPr>
          <p:nvPr/>
        </p:nvCxnSpPr>
        <p:spPr>
          <a:xfrm>
            <a:off x="3947760" y="4768920"/>
            <a:ext cx="63396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56 Rombo"/>
          <p:cNvSpPr/>
          <p:nvPr/>
        </p:nvSpPr>
        <p:spPr>
          <a:xfrm>
            <a:off x="3089160" y="2124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2997360" y="219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</p:cNvCxnSpPr>
          <p:nvPr/>
        </p:nvCxnSpPr>
        <p:spPr>
          <a:xfrm flipV="1" rot="10800000">
            <a:off x="2491560" y="23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70684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2303280"/>
            <a:ext cx="491040" cy="82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6"/>
          <p:cNvSpPr/>
          <p:nvPr/>
        </p:nvSpPr>
        <p:spPr>
          <a:xfrm>
            <a:off x="1830240" y="5846760"/>
            <a:ext cx="3313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información a informática y transparencia para su publ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/>
          <p:nvPr/>
        </p:nvCxnSpPr>
        <p:spPr>
          <a:xfrm>
            <a:off x="2491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4723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56"/>
          <p:cNvSpPr/>
          <p:nvPr/>
        </p:nvSpPr>
        <p:spPr>
          <a:xfrm>
            <a:off x="1843200" y="6205680"/>
            <a:ext cx="3314520" cy="2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rchiva documentación en su carpeta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644640" y="60624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2"/>
          <p:cNvCxnSpPr/>
          <p:nvPr/>
        </p:nvCxnSpPr>
        <p:spPr>
          <a:xfrm>
            <a:off x="2706480" y="643428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Rectangle 656"/>
          <p:cNvSpPr/>
          <p:nvPr/>
        </p:nvSpPr>
        <p:spPr>
          <a:xfrm>
            <a:off x="1844640" y="657684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lmacena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6"/>
          <p:cNvSpPr/>
          <p:nvPr/>
        </p:nvSpPr>
        <p:spPr>
          <a:xfrm>
            <a:off x="5373720" y="5364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- mail / P-OPE-01 / P- ADM-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6"/>
          <p:cNvSpPr/>
          <p:nvPr/>
        </p:nvSpPr>
        <p:spPr>
          <a:xfrm>
            <a:off x="3860640" y="493236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caba firmas de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649"/>
          <p:cNvCxnSpPr>
            <a:endCxn id="246" idx="0"/>
          </p:cNvCxnSpPr>
          <p:nvPr/>
        </p:nvCxnSpPr>
        <p:spPr>
          <a:xfrm>
            <a:off x="3499920" y="687528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Rectangle 656"/>
          <p:cNvSpPr/>
          <p:nvPr/>
        </p:nvSpPr>
        <p:spPr>
          <a:xfrm>
            <a:off x="1808280" y="536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io Ejecu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32"/>
          <p:cNvCxnSpPr/>
          <p:nvPr/>
        </p:nvCxnSpPr>
        <p:spPr>
          <a:xfrm>
            <a:off x="3573000" y="558180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nstituto Electoral y de Participaciòn Ciudadana </cp:lastModifiedBy>
  <dcterms:modified xsi:type="dcterms:W3CDTF">2011-12-15T20:42:35Z</dcterms:modified>
  <cp:revision>316</cp:revision>
  <dc:subject/>
  <dc:title>Presentación de PowerPoint</dc:title>
</cp:coreProperties>
</file>