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AEF8-56D5-4FEC-A0C0-3920E2FA08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0D5-B776-4358-B20E-9392F5EDF9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A9A7-13B5-4D0D-B1B9-712AE1FF70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F3A-D85F-4564-8871-E9242B17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5DD-9ECA-467C-92F5-8A1FAB63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0E0-2F54-45F7-AE20-D3C15F55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C08-C22D-4659-A86B-8C8208F0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DE2-334F-4BF5-9144-D99AF91C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F19-A544-46A5-BC66-C78CB3C8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455-89B1-4F9A-BF53-57D9C0F3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E27-3F22-41D8-92F7-120857FC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309-AC35-41C1-AA61-46A4327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19B-D314-4E42-9F17-0FC8CF74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16A-F7BE-4532-8B65-BC566089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9A9-AEC0-4C0E-A27A-4B4C5F6F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17D3-CCA6-4361-8021-898894BC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F42C-30E0-42CC-94A3-8D6BA2B4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C2D8-8ACD-4C5F-8806-3AC979EE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9D7F-7279-4D5D-83A6-E71CDB92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23D1-9249-4772-B08B-AE589499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D0FE-C62F-4241-9E52-9A274B8C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EF0B-3A18-4435-9E6B-0D6606C2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2F27-EA1F-4F33-BD1E-46DED94F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42D-34EE-490D-AC67-A70E940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1D57-BB84-42A9-BDE6-D1FE05F6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7B29-FA95-4E73-8962-FA848DDA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3CC6-2563-4960-A499-C3D4239B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6FFB-8C35-4355-A87C-5F277E65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3FD9B-B779-4E27-BC0F-FEB07D60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EACC-6EDD-4A6F-A8E9-6B4A9EC3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FFDD-79D0-420B-9F4D-F7D36306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B0F7-A682-429D-9BA4-F854B462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38B0-9B21-4F5C-9919-14FE3006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2B310-D27B-4083-8F3E-335D50BA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ADB1-739C-4739-9415-E4FB3B3D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05C6-770D-487C-B0FF-9AA9D3E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AAD9-46D1-4B07-BA63-AA465A65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7E0F-9B3D-4D4C-8F91-62D3DE28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97E7-E9B9-4CE5-9E6C-E7ACB4FD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valuación y segu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5E930C0-3D22-4267-B2F9-80B0F52A50C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B71C-655E-4572-BBBB-A29D5088746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8439-EEAD-4A2C-BBB1-B8049B79CF8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29FD-764B-409F-8F38-002A984037F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valuar, supervisar y dar seguimiento a las actividades de capacitación que realizan los CAES mediante los reportes de productividad que arroja el SINS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de evaluación y seguimiento aplica para dar seguimiento a las actividades de los CAES en el proceso de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INSEL: Sistema de Información y Seguimiento Elec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AES:  Capacitadores Asistentes Electo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ZORES: Zona de Responsa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ARES: Areas de Responsa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analizan las necesidades del sistema electrónico para evaluación y seguimiento de la capacitación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700280" y="2484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l software y se realiza el man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1"/>
          <p:cNvSpPr/>
          <p:nvPr/>
        </p:nvSpPr>
        <p:spPr>
          <a:xfrm>
            <a:off x="333360" y="4373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y sub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65"/>
          <p:cNvSpPr/>
          <p:nvPr/>
        </p:nvSpPr>
        <p:spPr>
          <a:xfrm>
            <a:off x="5373720" y="3205080"/>
            <a:ext cx="1282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66"/>
          <p:cNvSpPr/>
          <p:nvPr/>
        </p:nvSpPr>
        <p:spPr>
          <a:xfrm>
            <a:off x="5373720" y="24685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T-OPE-01 / P-OPE-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681"/>
          <p:cNvCxnSpPr>
            <a:stCxn id="203" idx="2"/>
            <a:endCxn id="204" idx="0"/>
          </p:cNvCxnSpPr>
          <p:nvPr/>
        </p:nvCxnSpPr>
        <p:spPr>
          <a:xfrm>
            <a:off x="3498840" y="219564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684"/>
          <p:cNvCxnSpPr>
            <a:stCxn id="204" idx="2"/>
            <a:endCxn id="210" idx="0"/>
          </p:cNvCxnSpPr>
          <p:nvPr/>
        </p:nvCxnSpPr>
        <p:spPr>
          <a:xfrm flipH="1">
            <a:off x="3499560" y="27000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700"/>
          <p:cNvSpPr/>
          <p:nvPr/>
        </p:nvSpPr>
        <p:spPr>
          <a:xfrm>
            <a:off x="404640" y="24861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284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2771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56"/>
          <p:cNvSpPr/>
          <p:nvPr/>
        </p:nvSpPr>
        <p:spPr>
          <a:xfrm>
            <a:off x="1700280" y="2844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 información de personal eventual de capacit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685"/>
          <p:cNvCxnSpPr>
            <a:stCxn id="210" idx="2"/>
          </p:cNvCxnSpPr>
          <p:nvPr/>
        </p:nvCxnSpPr>
        <p:spPr>
          <a:xfrm>
            <a:off x="3499920" y="3060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Rectangle 701"/>
          <p:cNvSpPr/>
          <p:nvPr/>
        </p:nvSpPr>
        <p:spPr>
          <a:xfrm>
            <a:off x="333360" y="3490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8 Rectángulo"/>
          <p:cNvSpPr/>
          <p:nvPr/>
        </p:nvSpPr>
        <p:spPr>
          <a:xfrm>
            <a:off x="1700280" y="32036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la vinculación distrital con los coordinadores distrital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1700280" y="356400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rean ZORES con subcoordinadores (áreas geográficas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32"/>
          <p:cNvCxnSpPr>
            <a:stCxn id="216" idx="2"/>
            <a:endCxn id="217" idx="0"/>
          </p:cNvCxnSpPr>
          <p:nvPr/>
        </p:nvCxnSpPr>
        <p:spPr>
          <a:xfrm>
            <a:off x="3499920" y="3419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8 Rectángulo"/>
          <p:cNvSpPr/>
          <p:nvPr/>
        </p:nvSpPr>
        <p:spPr>
          <a:xfrm>
            <a:off x="1700280" y="392436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asignan ARES a capacitadores en el sist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AutoShape 32"/>
          <p:cNvCxnSpPr>
            <a:stCxn id="217" idx="2"/>
            <a:endCxn id="219" idx="0"/>
          </p:cNvCxnSpPr>
          <p:nvPr/>
        </p:nvCxnSpPr>
        <p:spPr>
          <a:xfrm>
            <a:off x="3499920" y="3779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701"/>
          <p:cNvSpPr/>
          <p:nvPr/>
        </p:nvSpPr>
        <p:spPr>
          <a:xfrm>
            <a:off x="333360" y="327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1"/>
          <p:cNvSpPr/>
          <p:nvPr/>
        </p:nvSpPr>
        <p:spPr>
          <a:xfrm>
            <a:off x="333360" y="3851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ubcoordin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3564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66"/>
          <p:cNvSpPr/>
          <p:nvPr/>
        </p:nvSpPr>
        <p:spPr>
          <a:xfrm>
            <a:off x="5373720" y="4284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8 Rectángulo"/>
          <p:cNvSpPr/>
          <p:nvPr/>
        </p:nvSpPr>
        <p:spPr>
          <a:xfrm>
            <a:off x="1700280" y="437184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ptura información recabada y se archivan document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>
            <a:stCxn id="219" idx="2"/>
            <a:endCxn id="225" idx="0"/>
          </p:cNvCxnSpPr>
          <p:nvPr/>
        </p:nvCxnSpPr>
        <p:spPr>
          <a:xfrm>
            <a:off x="3499920" y="414000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666"/>
          <p:cNvSpPr/>
          <p:nvPr/>
        </p:nvSpPr>
        <p:spPr>
          <a:xfrm>
            <a:off x="5373720" y="18921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 para SINSE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00"/>
          <p:cNvSpPr/>
          <p:nvPr/>
        </p:nvSpPr>
        <p:spPr>
          <a:xfrm>
            <a:off x="404640" y="1908000"/>
            <a:ext cx="11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32"/>
          <p:cNvCxnSpPr>
            <a:stCxn id="225" idx="2"/>
          </p:cNvCxnSpPr>
          <p:nvPr/>
        </p:nvCxnSpPr>
        <p:spPr>
          <a:xfrm>
            <a:off x="3499920" y="45874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Rectangle 666"/>
          <p:cNvSpPr/>
          <p:nvPr/>
        </p:nvSpPr>
        <p:spPr>
          <a:xfrm>
            <a:off x="5373720" y="39798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3213000" y="6443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1"/>
          <p:cNvSpPr/>
          <p:nvPr/>
        </p:nvSpPr>
        <p:spPr>
          <a:xfrm>
            <a:off x="333360" y="48610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pturis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66"/>
          <p:cNvSpPr/>
          <p:nvPr/>
        </p:nvSpPr>
        <p:spPr>
          <a:xfrm>
            <a:off x="5373720" y="477216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valuaciones / 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18 Rectángulo"/>
          <p:cNvSpPr/>
          <p:nvPr/>
        </p:nvSpPr>
        <p:spPr>
          <a:xfrm>
            <a:off x="1700280" y="4859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alizan evaluaciones y se  emiten reportes de productividad de CAES y en base a lo obtenido se realizan supervis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AutoShape 32"/>
          <p:cNvCxnSpPr>
            <a:stCxn id="234" idx="2"/>
          </p:cNvCxnSpPr>
          <p:nvPr/>
        </p:nvCxnSpPr>
        <p:spPr>
          <a:xfrm>
            <a:off x="3499920" y="5075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Rectangle 661"/>
          <p:cNvSpPr/>
          <p:nvPr/>
        </p:nvSpPr>
        <p:spPr>
          <a:xfrm>
            <a:off x="333360" y="5381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es centrales  /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5292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18 Rectángulo"/>
          <p:cNvSpPr/>
          <p:nvPr/>
        </p:nvSpPr>
        <p:spPr>
          <a:xfrm>
            <a:off x="1700280" y="538020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aban datos de funcionarios de casi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AutoShape 32"/>
          <p:cNvCxnSpPr>
            <a:stCxn id="238" idx="2"/>
          </p:cNvCxnSpPr>
          <p:nvPr/>
        </p:nvCxnSpPr>
        <p:spPr>
          <a:xfrm>
            <a:off x="3499920" y="55954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Rectangle 661"/>
          <p:cNvSpPr/>
          <p:nvPr/>
        </p:nvSpPr>
        <p:spPr>
          <a:xfrm>
            <a:off x="333360" y="58849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/ C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ordinadores centrales / coordinadores Distrit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6"/>
          <p:cNvSpPr/>
          <p:nvPr/>
        </p:nvSpPr>
        <p:spPr>
          <a:xfrm>
            <a:off x="5373720" y="5796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onocimientos / SIN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18 Rectángulo"/>
          <p:cNvSpPr/>
          <p:nvPr/>
        </p:nvSpPr>
        <p:spPr>
          <a:xfrm>
            <a:off x="1700280" y="58831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miten reportes de productividad y se supervisa y toman acciones correctivas y se entregan reconocimiento a capacitado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32"/>
          <p:cNvCxnSpPr>
            <a:stCxn id="242" idx="2"/>
            <a:endCxn id="231" idx="0"/>
          </p:cNvCxnSpPr>
          <p:nvPr/>
        </p:nvCxnSpPr>
        <p:spPr>
          <a:xfrm>
            <a:off x="3499920" y="6098760"/>
            <a:ext cx="2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46:41Z</dcterms:modified>
  <cp:revision>335</cp:revision>
  <dc:subject/>
  <dc:title>Presentación de PowerPoint</dc:title>
</cp:coreProperties>
</file>