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3A6-9263-400B-81EF-4F587D13F4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AD7-84A4-422B-9BEC-60345A75F3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BA7-8F22-4258-8570-7052EE340B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4DF1-00B4-4318-B679-FF0DCED708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3EA-F234-4267-931A-2029715D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DA2-80F6-4D1B-847E-A3B5ED9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35F-B69B-4D4D-B2D8-5E23F1B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A49-2758-4197-9E4B-CA2D2F58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110-0AE9-426B-981C-A919EA8F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D61-1325-4C02-9437-4B68AE1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91B-01F0-4004-AA89-847107D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2CF-1690-49CC-8E6B-B7A72B1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02B-0D43-4EF9-B50F-3F7799F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CF0-C15C-40A2-97AB-9E244DDD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D3E-F22F-4B9C-8293-01085E11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D54-6FCD-4BEA-A733-C28C347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CEFA-427C-4F0A-A8D8-BD4336BA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8C20-6D91-49A3-9241-5ED2EF1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16D3-5CF2-46D2-8B78-ED6462E1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C586-C146-416F-B6E7-E62A4EB0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DF76-5E2B-4FDA-882D-CD591D69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F1BA-F5B1-4EE3-9DA6-9C84AF40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7476-5990-487F-A654-26B119C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5DDB-800E-4FF7-9683-ED8D64A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BDEE-4923-4A52-824C-9D2A981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0056-046D-47D2-B7CE-960562D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D421-566C-45E6-B84B-C859F3FF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3C80-F85B-40CC-819C-B48DE370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E18AF85A-C243-476A-AD9B-297E8A8D40D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CFC-4560-403F-8069-19A8206BB41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F474-9B55-442E-8F05-7C2AD784AE5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Llevar el registro y actualización del padrón de provee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la solicitud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/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ntegra expediente y guarda copia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18 Rectángulo"/>
          <p:cNvSpPr/>
          <p:nvPr/>
        </p:nvSpPr>
        <p:spPr>
          <a:xfrm>
            <a:off x="1700280" y="3562200"/>
            <a:ext cx="1152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Envía requerimiento firmado por el Consejero Presidente de la Comisión de Adquisi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698480" y="414036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32"/>
          <p:cNvCxnSpPr/>
          <p:nvPr/>
        </p:nvCxnSpPr>
        <p:spPr>
          <a:xfrm>
            <a:off x="227628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32"/>
          <p:cNvCxnSpPr>
            <a:stCxn id="187" idx="2"/>
          </p:cNvCxnSpPr>
          <p:nvPr/>
        </p:nvCxnSpPr>
        <p:spPr>
          <a:xfrm flipH="1">
            <a:off x="2275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722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90960" y="56530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  <a:endCxn id="198" idx="0"/>
          </p:cNvCxnSpPr>
          <p:nvPr/>
        </p:nvCxnSpPr>
        <p:spPr>
          <a:xfrm flipV="1" rot="10800000">
            <a:off x="2493360" y="5832000"/>
            <a:ext cx="597600" cy="124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pleta la información en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5" idx="3"/>
          </p:cNvCxnSpPr>
          <p:nvPr/>
        </p:nvCxnSpPr>
        <p:spPr>
          <a:xfrm>
            <a:off x="3948120" y="5832360"/>
            <a:ext cx="597600" cy="524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56 Rombo"/>
          <p:cNvSpPr/>
          <p:nvPr/>
        </p:nvSpPr>
        <p:spPr>
          <a:xfrm>
            <a:off x="3089160" y="3132000"/>
            <a:ext cx="857520" cy="5032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57 CuadroTexto"/>
          <p:cNvSpPr/>
          <p:nvPr/>
        </p:nvSpPr>
        <p:spPr>
          <a:xfrm>
            <a:off x="3068640" y="320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requiere documen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2" idx="1"/>
            <a:endCxn id="178" idx="0"/>
          </p:cNvCxnSpPr>
          <p:nvPr/>
        </p:nvCxnSpPr>
        <p:spPr>
          <a:xfrm flipV="1" rot="10800000">
            <a:off x="2275920" y="3383640"/>
            <a:ext cx="813240" cy="178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2" idx="3"/>
            <a:endCxn id="207" idx="0"/>
          </p:cNvCxnSpPr>
          <p:nvPr/>
        </p:nvCxnSpPr>
        <p:spPr>
          <a:xfrm>
            <a:off x="3946680" y="3384360"/>
            <a:ext cx="419760" cy="75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Rectangle 656"/>
          <p:cNvSpPr/>
          <p:nvPr/>
        </p:nvSpPr>
        <p:spPr>
          <a:xfrm>
            <a:off x="1628640" y="6443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munica al director  que el expediente esta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628640" y="687708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l consejero electoral presidente el expediente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de 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>
            <a:stCxn id="198" idx="2"/>
            <a:endCxn id="208" idx="0"/>
          </p:cNvCxnSpPr>
          <p:nvPr/>
        </p:nvCxnSpPr>
        <p:spPr>
          <a:xfrm flipH="1">
            <a:off x="2493360" y="62434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2491920" y="6732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56"/>
          <p:cNvSpPr/>
          <p:nvPr/>
        </p:nvSpPr>
        <p:spPr>
          <a:xfrm>
            <a:off x="1628640" y="723600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cibe el VoBo del Consejero Electoral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>
            <a:off x="3428640" y="709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32"/>
          <p:cNvCxnSpPr/>
          <p:nvPr/>
        </p:nvCxnSpPr>
        <p:spPr>
          <a:xfrm>
            <a:off x="3428640" y="745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5"/>
          <p:cNvSpPr/>
          <p:nvPr/>
        </p:nvSpPr>
        <p:spPr>
          <a:xfrm>
            <a:off x="3284640" y="7667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contestación y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1700280" y="515628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20" idx="2"/>
            <a:endCxn id="195" idx="0"/>
          </p:cNvCxnSpPr>
          <p:nvPr/>
        </p:nvCxnSpPr>
        <p:spPr>
          <a:xfrm flipH="1" rot="16200000">
            <a:off x="2793240" y="4926600"/>
            <a:ext cx="210240" cy="124344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2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 flipH="1">
            <a:off x="2491560" y="630036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Oval 75"/>
          <p:cNvSpPr/>
          <p:nvPr/>
        </p:nvSpPr>
        <p:spPr>
          <a:xfrm>
            <a:off x="3573360" y="615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56"/>
          <p:cNvSpPr/>
          <p:nvPr/>
        </p:nvSpPr>
        <p:spPr>
          <a:xfrm>
            <a:off x="3772080" y="6377040"/>
            <a:ext cx="13204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Times New Roman"/>
              </a:rPr>
              <a:t>Gira nuevo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73 CuadroTexto"/>
          <p:cNvSpPr/>
          <p:nvPr/>
        </p:nvSpPr>
        <p:spPr>
          <a:xfrm>
            <a:off x="4167360" y="3046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32"/>
          <p:cNvCxnSpPr/>
          <p:nvPr/>
        </p:nvCxnSpPr>
        <p:spPr>
          <a:xfrm>
            <a:off x="4347720" y="4573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 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o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32"/>
          <p:cNvCxnSpPr>
            <a:stCxn id="242" idx="2"/>
            <a:endCxn id="243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ctualiza el padrón de proveedores y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2"/>
          <p:cNvCxnSpPr>
            <a:stCxn id="243" idx="2"/>
            <a:endCxn id="245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xpedient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Integra el expediente al archivo de la Secretaría Técnica de Comis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5" idx="2"/>
            <a:endCxn id="250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32"/>
          <p:cNvCxnSpPr>
            <a:stCxn id="250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32"/>
          <p:cNvCxnSpPr/>
          <p:nvPr/>
        </p:nvCxnSpPr>
        <p:spPr>
          <a:xfrm>
            <a:off x="3465000" y="27000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nstituto Electoral y de Participaciòn Ciudadana </cp:lastModifiedBy>
  <cp:lastPrinted>2012-01-04T00:59:45Z</cp:lastPrinted>
  <dcterms:modified xsi:type="dcterms:W3CDTF">2012-01-06T19:58:48Z</dcterms:modified>
  <cp:revision>319</cp:revision>
  <dc:subject/>
  <dc:title>Presentación de PowerPoint</dc:title>
</cp:coreProperties>
</file>