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41B-4A5B-48BD-AA92-24AC52C80D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AC4D-A424-4BB2-8503-5204350D9B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EBA7-2ACE-440E-A948-A863C955E2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09D-C982-4AF0-9840-03A52070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5ED-0A84-41B8-AA76-250ACB2C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926-CD71-4B45-BED8-D56BC5BF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B77-0FA8-4FBE-8F2D-84F2C081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651-2752-4C4D-9894-9770D8B2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D12-BE5C-40BC-9907-124147A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E84-4B23-478C-AF04-8209345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4B-3FEB-4E40-B1C6-2CC9861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049-889D-4EC8-BE83-5EB5686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19D-F5E1-4EF5-98CB-D8CAAF4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3D9-D433-4AA5-A5C4-0FE9B04B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E33-E0CA-4CB2-BFC8-5ABE00CA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5715-E9AE-4E37-B5A5-9BC63F5E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6B32-F1A9-4D85-9054-7AE77C9F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4CDE-FF5B-463D-8134-6A30C13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E2B-B15B-4AF8-B6AC-30D45D3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67E-B2B8-44EB-A181-E4E8274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432-5496-4814-9EB1-AE22CA2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EB56-6F11-40AE-AD25-33F6CC2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1886-587E-4DA9-9177-1403F47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9876-5589-4C37-B2E2-45D183D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FD9-0E91-4EB7-B6E5-A45B696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2CC-9842-4F2E-917C-E27AA891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1FC8-CDE9-4EF0-A93A-843398F0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dición y publicaciones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15677D9-5492-4572-9109-C0B7BEB127F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63FD-2A10-4F07-814E-18C9EC2F2A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B8E-5D20-4186-9A6F-7CFEA5AFF4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 y conec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os textos a publicar en la revis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control de la edición de la revista Folios y garantiza la calidad editorial de la public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DOSSIER : Sección principal de la revista que reúne textos de determinada temá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41972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3819600" y="68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3801960" y="68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49"/>
          <p:cNvCxnSpPr>
            <a:stCxn id="163" idx="2"/>
            <a:endCxn id="165" idx="0"/>
          </p:cNvCxnSpPr>
          <p:nvPr/>
        </p:nvCxnSpPr>
        <p:spPr>
          <a:xfrm flipH="1">
            <a:off x="3455640" y="1856880"/>
            <a:ext cx="468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676520" y="2209680"/>
            <a:ext cx="35589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l Consejo Editorial recibe la propuesta de “DOSSIER” de parte de un Coordinador para su valor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5" idx="2"/>
          </p:cNvCxnSpPr>
          <p:nvPr/>
        </p:nvCxnSpPr>
        <p:spPr>
          <a:xfrm>
            <a:off x="3455640" y="25333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666"/>
          <p:cNvSpPr/>
          <p:nvPr/>
        </p:nvSpPr>
        <p:spPr>
          <a:xfrm>
            <a:off x="5373720" y="29541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2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676520" y="502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dossier aprobado por Consejo Editorial para la corrección de textos originales y diagramación del núm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34120" y="5486400"/>
            <a:ext cx="127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18 Rectángulo"/>
          <p:cNvSpPr/>
          <p:nvPr/>
        </p:nvSpPr>
        <p:spPr>
          <a:xfrm>
            <a:off x="1752480" y="541008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de primer dommy, 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vantamiento de correcciones y aplicación de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32"/>
          <p:cNvCxnSpPr/>
          <p:nvPr/>
        </p:nvCxnSpPr>
        <p:spPr>
          <a:xfrm>
            <a:off x="3323880" y="58546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404640" y="233856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nsejo Editorial/ Secretaria técnica/ Director /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9541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nsejo Editorial/ Secretaria técnica/ Director /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nsejo Editorial/ Secretaria técnica/ Director /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6 Rombo"/>
          <p:cNvSpPr/>
          <p:nvPr/>
        </p:nvSpPr>
        <p:spPr>
          <a:xfrm>
            <a:off x="3090960" y="26114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7 CuadroTexto"/>
          <p:cNvSpPr/>
          <p:nvPr/>
        </p:nvSpPr>
        <p:spPr>
          <a:xfrm>
            <a:off x="3141720" y="26812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6" idx="1"/>
            <a:endCxn id="179" idx="0"/>
          </p:cNvCxnSpPr>
          <p:nvPr/>
        </p:nvCxnSpPr>
        <p:spPr>
          <a:xfrm flipV="1" rot="10800000">
            <a:off x="2437560" y="2789640"/>
            <a:ext cx="6534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2 CuadroTexto"/>
          <p:cNvSpPr/>
          <p:nvPr/>
        </p:nvSpPr>
        <p:spPr>
          <a:xfrm>
            <a:off x="3933720" y="2556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73 CuadroTexto"/>
          <p:cNvSpPr/>
          <p:nvPr/>
        </p:nvSpPr>
        <p:spPr>
          <a:xfrm>
            <a:off x="2708280" y="2556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6"/>
          <p:cNvSpPr/>
          <p:nvPr/>
        </p:nvSpPr>
        <p:spPr>
          <a:xfrm>
            <a:off x="1600200" y="2970360"/>
            <a:ext cx="16765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resa al Coordinador para corrección, o se rechaza seg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 sea 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/>
          <p:nvPr/>
        </p:nvCxnSpPr>
        <p:spPr>
          <a:xfrm>
            <a:off x="3809520" y="2742840"/>
            <a:ext cx="461160" cy="181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Rectangle 656"/>
          <p:cNvSpPr/>
          <p:nvPr/>
        </p:nvSpPr>
        <p:spPr>
          <a:xfrm>
            <a:off x="3505320" y="297180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le comunica al Coordinador de dossier que fue aprobado para que solicite los textos a los aut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1"/>
          <p:cNvSpPr/>
          <p:nvPr/>
        </p:nvSpPr>
        <p:spPr>
          <a:xfrm>
            <a:off x="380880" y="5715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410080" y="64771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8 Rectángulo"/>
          <p:cNvSpPr/>
          <p:nvPr/>
        </p:nvSpPr>
        <p:spPr>
          <a:xfrm>
            <a:off x="1676520" y="5791320"/>
            <a:ext cx="35575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segundo dommy, 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vantamiento de correcciones y aplicación de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endCxn id="186" idx="0"/>
          </p:cNvCxnSpPr>
          <p:nvPr/>
        </p:nvCxnSpPr>
        <p:spPr>
          <a:xfrm>
            <a:off x="3455640" y="56480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32"/>
          <p:cNvCxnSpPr>
            <a:stCxn id="186" idx="2"/>
          </p:cNvCxnSpPr>
          <p:nvPr/>
        </p:nvCxnSpPr>
        <p:spPr>
          <a:xfrm>
            <a:off x="3455640" y="60325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61"/>
          <p:cNvSpPr/>
          <p:nvPr/>
        </p:nvSpPr>
        <p:spPr>
          <a:xfrm>
            <a:off x="304920" y="6095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410080" y="6705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aprob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676520" y="6153120"/>
            <a:ext cx="3557520" cy="18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Revisión tercer dommy para cotejar todos los cambios y verificar que hayan sido aplicad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91" idx="2"/>
          </p:cNvCxnSpPr>
          <p:nvPr/>
        </p:nvCxnSpPr>
        <p:spPr>
          <a:xfrm>
            <a:off x="3455640" y="63370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1"/>
          <p:cNvSpPr/>
          <p:nvPr/>
        </p:nvSpPr>
        <p:spPr>
          <a:xfrm>
            <a:off x="380880" y="6477120"/>
            <a:ext cx="12240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34120" y="7162920"/>
            <a:ext cx="127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pruebas de col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1652760" y="6489720"/>
            <a:ext cx="358128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o de de archivo final a imprent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81200" y="69469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61"/>
          <p:cNvSpPr/>
          <p:nvPr/>
        </p:nvSpPr>
        <p:spPr>
          <a:xfrm>
            <a:off x="304920" y="678168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34120" y="7391520"/>
            <a:ext cx="127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1652760" y="6794640"/>
            <a:ext cx="3557520" cy="15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pruebas de color de imprenta para su revisión y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81200" y="66420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66"/>
          <p:cNvSpPr/>
          <p:nvPr/>
        </p:nvSpPr>
        <p:spPr>
          <a:xfrm>
            <a:off x="5445000" y="3851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2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04920" y="5410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3200400" y="7772400"/>
            <a:ext cx="57636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83" idx="2"/>
          </p:cNvCxnSpPr>
          <p:nvPr/>
        </p:nvCxnSpPr>
        <p:spPr>
          <a:xfrm flipH="1">
            <a:off x="4379040" y="3352680"/>
            <a:ext cx="25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Oval 75"/>
          <p:cNvSpPr/>
          <p:nvPr/>
        </p:nvSpPr>
        <p:spPr>
          <a:xfrm>
            <a:off x="2565360" y="190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49"/>
          <p:cNvCxnSpPr/>
          <p:nvPr/>
        </p:nvCxnSpPr>
        <p:spPr>
          <a:xfrm>
            <a:off x="2781000" y="1979280"/>
            <a:ext cx="71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18 Rectángulo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los textos completos que integran el dossi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y se envían para la dictaminación del Consejo Ed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32"/>
          <p:cNvCxnSpPr>
            <a:stCxn id="208" idx="2"/>
          </p:cNvCxnSpPr>
          <p:nvPr/>
        </p:nvCxnSpPr>
        <p:spPr>
          <a:xfrm>
            <a:off x="3499920" y="3995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66"/>
          <p:cNvSpPr/>
          <p:nvPr/>
        </p:nvSpPr>
        <p:spPr>
          <a:xfrm>
            <a:off x="5410080" y="5105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80880" y="4952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57 CuadroTexto"/>
          <p:cNvSpPr/>
          <p:nvPr/>
        </p:nvSpPr>
        <p:spPr>
          <a:xfrm>
            <a:off x="3068640" y="421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/>
          <p:nvPr/>
        </p:nvCxnSpPr>
        <p:spPr>
          <a:xfrm flipV="1" rot="10800000">
            <a:off x="2491560" y="432000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2 CuadroTexto"/>
          <p:cNvSpPr/>
          <p:nvPr/>
        </p:nvSpPr>
        <p:spPr>
          <a:xfrm>
            <a:off x="3932280" y="408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73 CuadroTexto"/>
          <p:cNvSpPr/>
          <p:nvPr/>
        </p:nvSpPr>
        <p:spPr>
          <a:xfrm>
            <a:off x="2706840" y="408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700280" y="4500720"/>
            <a:ext cx="17301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n correcciones quedando sujeto a cambios para su publicación, o se rechaza según sea el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6"/>
          <p:cNvSpPr/>
          <p:nvPr/>
        </p:nvSpPr>
        <p:spPr>
          <a:xfrm>
            <a:off x="3657600" y="4419720"/>
            <a:ext cx="1728720" cy="43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emite un dictamen favorable y se envía dossier a edición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56 Rombo"/>
          <p:cNvSpPr/>
          <p:nvPr/>
        </p:nvSpPr>
        <p:spPr>
          <a:xfrm>
            <a:off x="3068640" y="414036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64 Conector angular"/>
          <p:cNvCxnSpPr/>
          <p:nvPr/>
        </p:nvCxnSpPr>
        <p:spPr>
          <a:xfrm>
            <a:off x="3809520" y="426672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Rectangle 701"/>
          <p:cNvSpPr/>
          <p:nvPr/>
        </p:nvSpPr>
        <p:spPr>
          <a:xfrm>
            <a:off x="304920" y="4495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 técnica/ Director /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8 Rectángulo"/>
          <p:cNvSpPr/>
          <p:nvPr/>
        </p:nvSpPr>
        <p:spPr>
          <a:xfrm>
            <a:off x="1805040" y="7099200"/>
            <a:ext cx="32767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Se realiza última revisión para corregir posibles erro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8 Rectángulo"/>
          <p:cNvSpPr/>
          <p:nvPr/>
        </p:nvSpPr>
        <p:spPr>
          <a:xfrm>
            <a:off x="1881360" y="7404120"/>
            <a:ext cx="32763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Se autoriza la impresión masiv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/>
          <p:nvPr/>
        </p:nvCxnSpPr>
        <p:spPr>
          <a:xfrm>
            <a:off x="3481200" y="72514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32"/>
          <p:cNvCxnSpPr>
            <a:endCxn id="204" idx="0"/>
          </p:cNvCxnSpPr>
          <p:nvPr/>
        </p:nvCxnSpPr>
        <p:spPr>
          <a:xfrm flipH="1">
            <a:off x="3489120" y="7543440"/>
            <a:ext cx="165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4571640" y="48765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32"/>
          <p:cNvCxnSpPr/>
          <p:nvPr/>
        </p:nvCxnSpPr>
        <p:spPr>
          <a:xfrm>
            <a:off x="3428640" y="5257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661"/>
          <p:cNvSpPr/>
          <p:nvPr/>
        </p:nvSpPr>
        <p:spPr>
          <a:xfrm>
            <a:off x="304920" y="70866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1"/>
          <p:cNvSpPr/>
          <p:nvPr/>
        </p:nvSpPr>
        <p:spPr>
          <a:xfrm>
            <a:off x="380880" y="7391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E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9"/>
          <p:cNvSpPr/>
          <p:nvPr/>
        </p:nvSpPr>
        <p:spPr>
          <a:xfrm>
            <a:off x="5369040" y="504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5410080" y="57913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1"/>
          <p:cNvSpPr/>
          <p:nvPr/>
        </p:nvSpPr>
        <p:spPr>
          <a:xfrm>
            <a:off x="5410080" y="609588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6"/>
          <p:cNvSpPr/>
          <p:nvPr/>
        </p:nvSpPr>
        <p:spPr>
          <a:xfrm>
            <a:off x="3878280" y="695160"/>
            <a:ext cx="107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4-16T20:42:40Z</cp:lastPrinted>
  <dcterms:modified xsi:type="dcterms:W3CDTF">2013-08-21T18:38:03Z</dcterms:modified>
  <cp:revision>358</cp:revision>
  <dc:subject/>
  <dc:title>Presentación de PowerPoint</dc:title>
</cp:coreProperties>
</file>