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80A-CEB3-45F7-B30C-6EE7D26767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5DA-A327-421A-BDF4-914888888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7534-C678-4E96-BF70-86C25A86DC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D77-B7B9-4A72-9623-7E666F48E7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63B-03D3-4FAE-98B2-7940C06E66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211-08B5-4D12-B360-5A70465815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BB70-4F79-4109-B84D-1A61CE56A1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824-63A7-4910-8504-7315C41B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B7F-B7FB-4708-9F65-889417AF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488-7658-4639-9767-6A545AF5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4E3-07F7-4AEC-98E5-D3844D91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77F-6A0D-4673-AA2B-C2561E7B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478-4187-4918-8F3F-D3ED377B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E2A-11CE-4521-B02D-7F25B82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FD0-D4F7-4E7A-8632-B80AED0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325-C1DA-4A85-B01C-50A9136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243-4ECE-4981-AE30-DAED14C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B5A-A45D-41A4-94C5-19027016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D74-66EF-4729-AA55-97F477DF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atos, convenios, consultas y mecanismos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7713225-B546-43AF-A3A9-DCA4C6F3ACD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E3EF-BF38-480D-9EFE-A357040BC05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0120" y="1692360"/>
            <a:ext cx="6340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33360" y="2398680"/>
            <a:ext cx="632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327672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la solicitud o instrucción para elaborar un contrato o conve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proyecto de contrato o convenio así como su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8680" y="4268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72920" y="369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01"/>
          <p:cNvSpPr/>
          <p:nvPr/>
        </p:nvSpPr>
        <p:spPr>
          <a:xfrm>
            <a:off x="328680" y="383544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73720" y="3811680"/>
            <a:ext cx="12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8400" y="4270320"/>
            <a:ext cx="1276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8200" y="3835440"/>
            <a:ext cx="35305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turna al área correspondiente para la aprobación de las par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7" idx="2"/>
            <a:endCxn id="133" idx="0"/>
          </p:cNvCxnSpPr>
          <p:nvPr/>
        </p:nvCxnSpPr>
        <p:spPr>
          <a:xfrm flipH="1">
            <a:off x="3472560" y="4116240"/>
            <a:ext cx="1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85"/>
          <p:cNvCxnSpPr>
            <a:stCxn id="133" idx="2"/>
            <a:endCxn id="135" idx="0"/>
          </p:cNvCxnSpPr>
          <p:nvPr/>
        </p:nvCxnSpPr>
        <p:spPr>
          <a:xfrm>
            <a:off x="3472920" y="45558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8200" y="4270320"/>
            <a:ext cx="3530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seguimiento para su oportuno y correcto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84560" y="469908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atos o Conven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0"/>
          <p:cNvSpPr/>
          <p:nvPr/>
        </p:nvSpPr>
        <p:spPr>
          <a:xfrm>
            <a:off x="333360" y="4722840"/>
            <a:ext cx="1224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6"/>
          <p:cNvSpPr/>
          <p:nvPr/>
        </p:nvSpPr>
        <p:spPr>
          <a:xfrm>
            <a:off x="5373720" y="363528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00"/>
          <p:cNvSpPr/>
          <p:nvPr/>
        </p:nvSpPr>
        <p:spPr>
          <a:xfrm>
            <a:off x="330120" y="3635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1"/>
          <p:cNvSpPr/>
          <p:nvPr/>
        </p:nvSpPr>
        <p:spPr>
          <a:xfrm>
            <a:off x="333360" y="420696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6"/>
          <p:cNvSpPr/>
          <p:nvPr/>
        </p:nvSpPr>
        <p:spPr>
          <a:xfrm>
            <a:off x="5364000" y="42069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6"/>
          <p:cNvSpPr/>
          <p:nvPr/>
        </p:nvSpPr>
        <p:spPr>
          <a:xfrm>
            <a:off x="5383080" y="4718160"/>
            <a:ext cx="127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6"/>
          <p:cNvSpPr/>
          <p:nvPr/>
        </p:nvSpPr>
        <p:spPr>
          <a:xfrm>
            <a:off x="5383080" y="3016080"/>
            <a:ext cx="1278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, Ofic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0"/>
          <p:cNvSpPr/>
          <p:nvPr/>
        </p:nvSpPr>
        <p:spPr>
          <a:xfrm>
            <a:off x="343080" y="3016080"/>
            <a:ext cx="12142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53"/>
          <p:cNvSpPr/>
          <p:nvPr/>
        </p:nvSpPr>
        <p:spPr>
          <a:xfrm>
            <a:off x="1708200" y="3016080"/>
            <a:ext cx="35305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memorándum u oficio, registrándose en el cuadrante asentando en el cuadrante la fecha y hora de recepción, posteriormente se da vista al direc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84"/>
          <p:cNvCxnSpPr>
            <a:stCxn id="158" idx="2"/>
            <a:endCxn id="160" idx="0"/>
          </p:cNvCxnSpPr>
          <p:nvPr/>
        </p:nvCxnSpPr>
        <p:spPr>
          <a:xfrm>
            <a:off x="3472920" y="34192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6"/>
          <p:cNvSpPr/>
          <p:nvPr/>
        </p:nvSpPr>
        <p:spPr>
          <a:xfrm>
            <a:off x="1712880" y="3635280"/>
            <a:ext cx="352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director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consult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85"/>
          <p:cNvCxnSpPr>
            <a:stCxn id="160" idx="2"/>
            <a:endCxn id="162" idx="0"/>
          </p:cNvCxnSpPr>
          <p:nvPr/>
        </p:nvCxnSpPr>
        <p:spPr>
          <a:xfrm>
            <a:off x="3474720" y="406728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3"/>
          <p:cNvSpPr/>
          <p:nvPr/>
        </p:nvSpPr>
        <p:spPr>
          <a:xfrm>
            <a:off x="1712880" y="4208400"/>
            <a:ext cx="3525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director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712880" y="4722840"/>
            <a:ext cx="35258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2" idx="2"/>
            <a:endCxn id="163" idx="0"/>
          </p:cNvCxnSpPr>
          <p:nvPr/>
        </p:nvCxnSpPr>
        <p:spPr>
          <a:xfrm>
            <a:off x="3474720" y="451116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AutoShape 74"/>
          <p:cNvSpPr/>
          <p:nvPr/>
        </p:nvSpPr>
        <p:spPr>
          <a:xfrm>
            <a:off x="3222720" y="528012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4"/>
          <p:cNvSpPr/>
          <p:nvPr/>
        </p:nvSpPr>
        <p:spPr>
          <a:xfrm>
            <a:off x="3211560" y="2584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/>
          <p:nvPr/>
        </p:nvCxnSpPr>
        <p:spPr>
          <a:xfrm>
            <a:off x="3472920" y="2800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>
            <a:stCxn id="163" idx="2"/>
            <a:endCxn id="165" idx="0"/>
          </p:cNvCxnSpPr>
          <p:nvPr/>
        </p:nvCxnSpPr>
        <p:spPr>
          <a:xfrm>
            <a:off x="3474720" y="50785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4" idx="2"/>
            <a:endCxn id="185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32"/>
          <p:cNvCxnSpPr>
            <a:stCxn id="185" idx="2"/>
            <a:endCxn id="188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5"/>
          <p:cNvCxnSpPr>
            <a:stCxn id="182" idx="2"/>
            <a:endCxn id="184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ebisc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ferénd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>
            <a:stCxn id="211" idx="2"/>
            <a:endCxn id="212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32"/>
          <p:cNvCxnSpPr>
            <a:stCxn id="212" idx="2"/>
            <a:endCxn id="215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85"/>
          <p:cNvCxnSpPr>
            <a:stCxn id="209" idx="2"/>
            <a:endCxn id="211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 la solicitud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32"/>
          <p:cNvCxnSpPr>
            <a:stCxn id="235" idx="2"/>
            <a:endCxn id="236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32"/>
          <p:cNvCxnSpPr>
            <a:stCxn id="236" idx="2"/>
            <a:endCxn id="239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AutoShape 685"/>
          <p:cNvCxnSpPr>
            <a:stCxn id="233" idx="2"/>
            <a:endCxn id="235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8:22:45Z</cp:lastPrinted>
  <dcterms:modified xsi:type="dcterms:W3CDTF">2011-10-27T22:04:34Z</dcterms:modified>
  <cp:revision>315</cp:revision>
  <dc:subject/>
  <dc:title>Presentación de PowerPoint</dc:title>
</cp:coreProperties>
</file>