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38E-0970-4B62-9027-F85DE22CF6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7A4C-B980-41D1-82B4-E11614914E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38E8-2BAF-44BA-9ED6-45B407BE8A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964F-38C4-4F90-A7C4-E3F90CBEED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990-DAB3-4A06-ACE2-8DD3CC7C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632-D940-4532-B2F2-8F5E6B01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82C-D2EF-488E-A5B6-F27F2F2F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6CD-A2F8-4B9B-875B-C8943669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0D4-A66C-4F86-B7BC-CC9C5AA9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17B-CB51-4145-AF1D-657B6680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A51-63D0-4815-8CA7-FDB7B124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75B-4C34-4202-A1FE-DC4ED2E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3E4-CC86-4D6D-923A-A48C84F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27D-85C2-4292-82B0-2BFD7EBC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9D0-6F13-4370-8A4A-C2AA3C0B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DD7-43C7-4561-96E9-01E6EE4B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752B-EED0-4D9A-903F-8CDB72CE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D49-3BBE-41EB-85D8-26279543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E134-FC9D-4FBD-B2B0-E81AC0E5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6912-5EAF-45AF-832E-7AFCD593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A7E2-0B39-4459-90D1-063BEC86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ECF2-33BD-4F52-8B11-8B66370F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44AC-E588-479E-BBDE-69E1B5F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BED1-C9A4-4B92-890B-609A78D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C60E-E7A9-4D75-9446-85D2638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38C6-9547-443B-8A57-45B6E4F9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E032-297C-4D5C-9D3A-123C2ABB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540F-699C-47A9-91E2-FB3BE363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F5BA8A3-CC7F-49F1-B58C-59513DA0C1B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6845-1448-438C-8CF6-2CD2FE4BFCC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4972-F5FE-4F20-A673-4A87850AE2D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comunicado con pet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gistra en 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comunic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mite documentación a directora para su revisión y notificación a consejeros electorales correspon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42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1700280" y="3490920"/>
            <a:ext cx="11523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signa al jefe de área par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32"/>
          <p:cNvCxnSpPr>
            <a:stCxn id="179" idx="2"/>
          </p:cNvCxnSpPr>
          <p:nvPr/>
        </p:nvCxnSpPr>
        <p:spPr>
          <a:xfrm>
            <a:off x="2276280" y="3852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titular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>
            <a:stCxn id="180" idx="2"/>
            <a:endCxn id="182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documento con correcciones u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2" idx="2"/>
            <a:endCxn id="184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finan detalles y se reúne con el consejero electoral presidente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4" idx="2"/>
            <a:endCxn id="190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0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municad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interno prev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  <a:endCxn id="203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ia a jefe de area para incorporar camb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0" idx="3"/>
            <a:endCxn id="207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Oval 75"/>
          <p:cNvSpPr/>
          <p:nvPr/>
        </p:nvSpPr>
        <p:spPr>
          <a:xfrm>
            <a:off x="3860640" y="70930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56 Rombo"/>
          <p:cNvSpPr/>
          <p:nvPr/>
        </p:nvSpPr>
        <p:spPr>
          <a:xfrm>
            <a:off x="3089160" y="3132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7 CuadroTexto"/>
          <p:cNvSpPr/>
          <p:nvPr/>
        </p:nvSpPr>
        <p:spPr>
          <a:xfrm>
            <a:off x="3068640" y="3201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64 Conector angular"/>
          <p:cNvCxnSpPr>
            <a:stCxn id="209" idx="1"/>
          </p:cNvCxnSpPr>
          <p:nvPr/>
        </p:nvCxnSpPr>
        <p:spPr>
          <a:xfrm flipV="1" rot="10800000">
            <a:off x="2491560" y="3311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9" idx="3"/>
          </p:cNvCxnSpPr>
          <p:nvPr/>
        </p:nvCxnSpPr>
        <p:spPr>
          <a:xfrm>
            <a:off x="3946680" y="3311640"/>
            <a:ext cx="45288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75"/>
          <p:cNvSpPr/>
          <p:nvPr/>
        </p:nvSpPr>
        <p:spPr>
          <a:xfrm>
            <a:off x="4292640" y="3564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 directora para discu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f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 los integrantes de la comision fal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/ 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6"/>
          <p:cNvSpPr/>
          <p:nvPr/>
        </p:nvSpPr>
        <p:spPr>
          <a:xfrm>
            <a:off x="1628640" y="7380360"/>
            <a:ext cx="3313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nvoca a una reunion de trabajo prev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3428640" y="701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3428640" y="7597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49"/>
          <p:cNvCxnSpPr/>
          <p:nvPr/>
        </p:nvCxnSpPr>
        <p:spPr>
          <a:xfrm flipH="1">
            <a:off x="3428280" y="723564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5"/>
          <p:cNvSpPr/>
          <p:nvPr/>
        </p:nvSpPr>
        <p:spPr>
          <a:xfrm>
            <a:off x="328464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1"/>
          <p:cNvSpPr/>
          <p:nvPr/>
        </p:nvSpPr>
        <p:spPr>
          <a:xfrm>
            <a:off x="333360" y="50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254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exo  a dictamen /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85"/>
          <p:cNvCxnSpPr/>
          <p:nvPr/>
        </p:nvCxnSpPr>
        <p:spPr>
          <a:xfrm>
            <a:off x="3499920" y="190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13000" y="7020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2482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y se incorporan en el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tegra el expediente del comunicado y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2"/>
          <p:cNvCxnSpPr>
            <a:stCxn id="247" idx="2"/>
          </p:cNvCxnSpPr>
          <p:nvPr/>
        </p:nvCxnSpPr>
        <p:spPr>
          <a:xfrm>
            <a:off x="22762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nvocatoria para sesión formal de com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8" idx="2"/>
            <a:endCxn id="250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o de oficio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32"/>
          <p:cNvCxnSpPr>
            <a:stCxn id="250" idx="2"/>
            <a:endCxn id="252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Formatos de sesion / Check list 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/ minuta de juntas / acta dictamen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ción de logística en la ses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32"/>
          <p:cNvCxnSpPr>
            <a:stCxn id="252" idx="2"/>
            <a:endCxn id="258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32"/>
          <p:cNvCxnSpPr>
            <a:stCxn id="258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5724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arpetas / Expediente de dictám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01"/>
          <p:cNvSpPr/>
          <p:nvPr/>
        </p:nvSpPr>
        <p:spPr>
          <a:xfrm>
            <a:off x="333360" y="572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área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56 Rombo"/>
          <p:cNvSpPr/>
          <p:nvPr/>
        </p:nvSpPr>
        <p:spPr>
          <a:xfrm>
            <a:off x="3090960" y="4589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57 CuadroTexto"/>
          <p:cNvSpPr/>
          <p:nvPr/>
        </p:nvSpPr>
        <p:spPr>
          <a:xfrm>
            <a:off x="3141720" y="4659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áme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64 Conector angular"/>
          <p:cNvCxnSpPr>
            <a:stCxn id="264" idx="1"/>
            <a:endCxn id="267" idx="0"/>
          </p:cNvCxnSpPr>
          <p:nvPr/>
        </p:nvCxnSpPr>
        <p:spPr>
          <a:xfrm flipV="1" rot="10800000">
            <a:off x="2493360" y="4768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68" name="72 CuadroTexto"/>
          <p:cNvSpPr/>
          <p:nvPr/>
        </p:nvSpPr>
        <p:spPr>
          <a:xfrm>
            <a:off x="2708280" y="4516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73 CuadroTexto"/>
          <p:cNvSpPr/>
          <p:nvPr/>
        </p:nvSpPr>
        <p:spPr>
          <a:xfrm>
            <a:off x="3860640" y="4500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628640" y="4948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notificacion a presidencia y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64 Conector angular"/>
          <p:cNvCxnSpPr>
            <a:stCxn id="264" idx="3"/>
            <a:endCxn id="271" idx="0"/>
          </p:cNvCxnSpPr>
          <p:nvPr/>
        </p:nvCxnSpPr>
        <p:spPr>
          <a:xfrm>
            <a:off x="3947760" y="4768920"/>
            <a:ext cx="633960" cy="16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2" name="56 Rombo"/>
          <p:cNvSpPr/>
          <p:nvPr/>
        </p:nvSpPr>
        <p:spPr>
          <a:xfrm>
            <a:off x="3089160" y="212400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2997360" y="219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Observ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</p:cNvCxnSpPr>
          <p:nvPr/>
        </p:nvCxnSpPr>
        <p:spPr>
          <a:xfrm flipV="1" rot="10800000">
            <a:off x="2491560" y="2303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70684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2303280"/>
            <a:ext cx="491040" cy="829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205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56"/>
          <p:cNvSpPr/>
          <p:nvPr/>
        </p:nvSpPr>
        <p:spPr>
          <a:xfrm>
            <a:off x="1844640" y="536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informacion a informatica y transaparencia para su public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32"/>
          <p:cNvCxnSpPr/>
          <p:nvPr/>
        </p:nvCxnSpPr>
        <p:spPr>
          <a:xfrm>
            <a:off x="2491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32"/>
          <p:cNvCxnSpPr/>
          <p:nvPr/>
        </p:nvCxnSpPr>
        <p:spPr>
          <a:xfrm>
            <a:off x="472392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Rectangle 656"/>
          <p:cNvSpPr/>
          <p:nvPr/>
        </p:nvSpPr>
        <p:spPr>
          <a:xfrm>
            <a:off x="1844640" y="5724360"/>
            <a:ext cx="331308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rchiva documentacion en su carpeta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32"/>
          <p:cNvCxnSpPr/>
          <p:nvPr/>
        </p:nvCxnSpPr>
        <p:spPr>
          <a:xfrm>
            <a:off x="3644640" y="55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32"/>
          <p:cNvCxnSpPr/>
          <p:nvPr/>
        </p:nvCxnSpPr>
        <p:spPr>
          <a:xfrm>
            <a:off x="2707920" y="594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Rectangle 656"/>
          <p:cNvSpPr/>
          <p:nvPr/>
        </p:nvSpPr>
        <p:spPr>
          <a:xfrm>
            <a:off x="1844640" y="608472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je equio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66"/>
          <p:cNvSpPr/>
          <p:nvPr/>
        </p:nvSpPr>
        <p:spPr>
          <a:xfrm>
            <a:off x="5373720" y="5364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E- mail / P-OPE-01 / P- OPE- TR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56"/>
          <p:cNvSpPr/>
          <p:nvPr/>
        </p:nvSpPr>
        <p:spPr>
          <a:xfrm>
            <a:off x="3860640" y="4932360"/>
            <a:ext cx="144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cierre de minuta y se recaban fir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649"/>
          <p:cNvCxnSpPr>
            <a:stCxn id="284" idx="2"/>
            <a:endCxn id="246" idx="0"/>
          </p:cNvCxnSpPr>
          <p:nvPr/>
        </p:nvCxnSpPr>
        <p:spPr>
          <a:xfrm>
            <a:off x="3499920" y="6373440"/>
            <a:ext cx="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8T16:55:27Z</dcterms:modified>
  <cp:revision>304</cp:revision>
  <dc:subject/>
  <dc:title>Presentación de PowerPoint</dc:title>
</cp:coreProperties>
</file>