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9A67-CBD9-49F9-AF54-E914742BF3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0FA-21F4-4C12-84E6-57BB694ED2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C30-B6E9-4438-9842-713F12C108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989-16F0-4DE5-8DF6-5DC2E86F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30B-DBE1-445D-BCD8-06A82F8E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EA4-ABEB-49E6-A285-FB8839BE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3CB-9E02-4695-8BC7-32B86005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AC5-16DA-415E-A6E0-871A32C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3A4-DD8C-4E52-88DC-55824D25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E17-CAF4-4E3E-AF60-CD863F2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24F-C6A0-4247-B6BC-09F30D6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08F-E25E-44B9-89B6-40DE836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A76-752D-4B2E-859D-DA8ECEB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AAF-EA40-4BC4-B0AA-6E7295AE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DCE-BBB4-4355-A112-2A43A93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ED3-1945-4571-A90C-A228D542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568B-7D45-4BCB-8A2F-F8047834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12C5-943B-429A-BCDC-E8D61E5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F5E7-0611-49B5-A737-2188429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9FF-A977-4163-B209-7F3F2AD5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024-090D-43D3-A5B1-DECB35F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0D95-D7E4-48DE-8DB7-CF24B1B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271-C5A5-40B2-9747-FA42F67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9AE-A584-454A-9F0F-B59C3AF2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219-566D-4B1E-975C-19C9095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501-3A9E-4590-8C79-941BD489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9EC-D03B-4D5B-94C3-F60A19C0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C0C8813-4C67-4F89-8412-8720400BD5F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0628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a Secretaria Técnica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6292-FB78-43A4-9A38-1A3E4726D4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A4AD-7928-40AB-B57C-FD660969BAE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requisición o instrucción del Consejo General, presidente o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bases en conjunción con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ormato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Base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estació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estación a solicitudes de aclaración de  empresas sobre las ba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5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5654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vanta acta de visitas de inspe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42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3925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a evaluación preliminar con ofertas técnicas económicas y apertura de ofertas técn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>
            <a:off x="3499920" y="37810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ta de visitas de insp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ta / 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00280" y="4284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dictamen técnico de acuerdo a las propuestas y 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77" idx="2"/>
            <a:endCxn id="183" idx="0"/>
          </p:cNvCxnSpPr>
          <p:nvPr/>
        </p:nvCxnSpPr>
        <p:spPr>
          <a:xfrm>
            <a:off x="3499920" y="4141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4500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as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00280" y="464508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acto de comunicac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l dictamen tecnico, apertura de ofertas economicas, fallo y adjudicaciones, y remision al 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9" idx="2"/>
            <a:endCxn id="192" idx="0"/>
          </p:cNvCxnSpPr>
          <p:nvPr/>
        </p:nvCxnSpPr>
        <p:spPr>
          <a:xfrm flipH="1">
            <a:off x="3499560" y="507672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Dictamen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4"/>
          <p:cNvCxnSpPr>
            <a:stCxn id="169" idx="2"/>
            <a:endCxn id="174" idx="0"/>
          </p:cNvCxnSpPr>
          <p:nvPr/>
        </p:nvCxnSpPr>
        <p:spPr>
          <a:xfrm>
            <a:off x="3499920" y="2916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213000" y="5508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8T15:06:11Z</dcterms:modified>
  <cp:revision>306</cp:revision>
  <dc:subject/>
  <dc:title>Presentación de PowerPoint</dc:title>
</cp:coreProperties>
</file>