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A8A2-0A79-4909-AD4D-5D58F76B75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F1FC-42AF-44BB-84F4-7B2B08FC5B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451-A0E2-40D2-BA2C-11189198C0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17D-59D2-42AC-9012-6C0BE7A4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49E-9A63-48C1-9171-109E5405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F36-BDE0-407A-B944-144DF812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39D-5F16-4DAF-91CE-6683CBEE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C98-72EF-41E0-BFAA-82095E0D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50D-F2D7-427E-BDA5-0D458B1B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666-8515-4A62-9778-544277E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FA2-3838-4754-A3D2-3CA030EF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857-3099-47C2-B2AE-5C88751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ED5-4A77-45DB-A9D3-062CDA9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348-D727-4B76-88B1-828D5099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30D-6D4E-4484-86C2-35BF505E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F99-3346-4EBA-9FE4-117D6E82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E753-BD66-45AD-B7F5-CDCE6AAE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FE11-9EA6-4BF2-8C5B-5877B8BD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B451-E390-4E90-892E-20C8568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4859-622D-48C1-B5D4-17E8A712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0C15-5C47-4C8A-8ABD-B8923BEE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C668-342A-43C7-AB2D-ED13E18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C40E-650B-4956-A4D8-97C8F4F0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AE75-B76A-4E76-B06D-45B59D2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4EE3-B170-41BC-8419-8F58331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A238-C72A-4143-8EF4-51509D6F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31EA-49EF-42DA-A063-0AF43E94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istica y anal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CA40A0AE-7F5A-4541-AEF9-2C2AEB1B08A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EE35-1CCD-41A2-B40D-9F935CD979A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5E32-3F04-44AB-A51A-90F00FFBD73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 y actualiza pagina web periódica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pacita a coordinadores distritales, subcoordinadores distritales y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rso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2556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semanal de coordinadores y sub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icia sesión de instalación y se realizan repo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685"/>
          <p:cNvCxnSpPr>
            <a:stCxn id="168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1"/>
          <p:cNvSpPr/>
          <p:nvPr/>
        </p:nvSpPr>
        <p:spPr>
          <a:xfrm>
            <a:off x="333360" y="33465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centra información en bases de d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n estadísticas, reportes y base de d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74" idx="2"/>
            <a:endCxn id="175" idx="0"/>
          </p:cNvCxnSpPr>
          <p:nvPr/>
        </p:nvCxnSpPr>
        <p:spPr>
          <a:xfrm>
            <a:off x="3499920" y="3274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>
            <a:stCxn id="175" idx="2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298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3403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08expedientes electorales / estadísticas/ bases de datos / formato de captura / Reportes f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4"/>
          <p:cNvSpPr/>
          <p:nvPr/>
        </p:nvSpPr>
        <p:spPr>
          <a:xfrm>
            <a:off x="3284640" y="3780000"/>
            <a:ext cx="57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9T04:37:09Z</dcterms:modified>
  <cp:revision>310</cp:revision>
  <dc:subject/>
  <dc:title>Presentación de PowerPoint</dc:title>
</cp:coreProperties>
</file>