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E7C-ADCF-4279-AD6A-B1A9D21C50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AD8-6ADE-4E60-A3FC-C941AF3B50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35E1-CF75-4F41-9F3C-908635A149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ADA-13DD-4624-971D-4B0AA011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6B8-88EE-480A-A393-52CE9E0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EE3-503E-46B3-803E-99AD2515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338-46B8-4A01-848E-713E24A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405-8AA4-4D35-A765-7B1925C8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E26-8F55-4F0B-A71E-F984A30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4AB-A4B5-471D-9BFD-703F953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D8E-34F6-4211-BDEB-5C2DF74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FDB-8374-4E67-9E02-FAF1681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762-6783-4787-8F7F-232EF972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C98-7F78-418E-985D-D01AC632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127-CAF6-4997-BDBE-DEF30E9B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cuerdos del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5335BF4-1F61-4EDB-9AFA-F9F714FBBC4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A6E4-831A-42FF-AE32-8545BD8F762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lasmar en documento las determinaciones tomadas por el consejo general, con la finalidad de vigilar el cumplimiento de la legislación electoral esta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3400" y="2268360"/>
            <a:ext cx="574560" cy="217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0320" y="2485800"/>
            <a:ext cx="39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698920"/>
            <a:ext cx="35308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confirma vía correo electrónico institucional la instrucción para elaborar proyecto de acuerdo o resolu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7040" y="3201840"/>
            <a:ext cx="3537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acuerdo o resolución al jefe de departamento que considere pertin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6880" y="4187880"/>
            <a:ext cx="122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467676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5219640"/>
            <a:ext cx="1282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3201840"/>
            <a:ext cx="127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nsejo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2" idx="0"/>
          </p:cNvCxnSpPr>
          <p:nvPr/>
        </p:nvCxnSpPr>
        <p:spPr>
          <a:xfrm>
            <a:off x="3463920" y="3039840"/>
            <a:ext cx="21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4"/>
          <p:cNvCxnSpPr>
            <a:stCxn id="122" idx="2"/>
            <a:endCxn id="130" idx="0"/>
          </p:cNvCxnSpPr>
          <p:nvPr/>
        </p:nvCxnSpPr>
        <p:spPr>
          <a:xfrm flipH="1">
            <a:off x="3459960" y="3527280"/>
            <a:ext cx="540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700"/>
          <p:cNvSpPr/>
          <p:nvPr/>
        </p:nvSpPr>
        <p:spPr>
          <a:xfrm>
            <a:off x="339840" y="2436840"/>
            <a:ext cx="12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3201840"/>
            <a:ext cx="1224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72280" y="5761080"/>
            <a:ext cx="127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del documento firmado Copia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l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0"/>
          <p:cNvSpPr/>
          <p:nvPr/>
        </p:nvSpPr>
        <p:spPr>
          <a:xfrm>
            <a:off x="338040" y="4675320"/>
            <a:ext cx="1224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4"/>
          <p:cNvSpPr/>
          <p:nvPr/>
        </p:nvSpPr>
        <p:spPr>
          <a:xfrm>
            <a:off x="5373720" y="418788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1"/>
          <p:cNvSpPr/>
          <p:nvPr/>
        </p:nvSpPr>
        <p:spPr>
          <a:xfrm>
            <a:off x="345960" y="5234040"/>
            <a:ext cx="1200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66"/>
          <p:cNvSpPr/>
          <p:nvPr/>
        </p:nvSpPr>
        <p:spPr>
          <a:xfrm>
            <a:off x="5369040" y="3728880"/>
            <a:ext cx="12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1697040" y="3726000"/>
            <a:ext cx="35290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proyecto de acuerdo o resolución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0" idx="2"/>
            <a:endCxn id="139" idx="0"/>
          </p:cNvCxnSpPr>
          <p:nvPr/>
        </p:nvCxnSpPr>
        <p:spPr>
          <a:xfrm>
            <a:off x="3460320" y="39956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653"/>
          <p:cNvSpPr/>
          <p:nvPr/>
        </p:nvSpPr>
        <p:spPr>
          <a:xfrm>
            <a:off x="1700280" y="466236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el proyecto de acuerdo o resolución ante el Consejo General para su aprob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685"/>
          <p:cNvCxnSpPr/>
          <p:nvPr/>
        </p:nvCxnSpPr>
        <p:spPr>
          <a:xfrm>
            <a:off x="3474720" y="446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697040" y="4189320"/>
            <a:ext cx="35290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Una vez elaborado el proyecto de acuerdo o de resolución,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Secretaria Ejecutiva para su revisión y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4"/>
          <p:cNvSpPr/>
          <p:nvPr/>
        </p:nvSpPr>
        <p:spPr>
          <a:xfrm>
            <a:off x="3187800" y="6372360"/>
            <a:ext cx="57600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18 Rectángulo"/>
          <p:cNvSpPr/>
          <p:nvPr/>
        </p:nvSpPr>
        <p:spPr>
          <a:xfrm>
            <a:off x="1704960" y="5219640"/>
            <a:ext cx="352908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ía Ejecutiva y Presidencia para firma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18 Rectángulo"/>
          <p:cNvSpPr/>
          <p:nvPr/>
        </p:nvSpPr>
        <p:spPr>
          <a:xfrm>
            <a:off x="1697040" y="576108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el acuerdo o resolución firmado a oficialía de partes para su notificación y posterior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/>
          <p:nvPr/>
        </p:nvCxnSpPr>
        <p:spPr>
          <a:xfrm>
            <a:off x="3460320" y="555120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32"/>
          <p:cNvCxnSpPr/>
          <p:nvPr/>
        </p:nvCxnSpPr>
        <p:spPr>
          <a:xfrm>
            <a:off x="3479400" y="6121080"/>
            <a:ext cx="108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685"/>
          <p:cNvCxnSpPr>
            <a:stCxn id="140" idx="2"/>
            <a:endCxn id="143" idx="0"/>
          </p:cNvCxnSpPr>
          <p:nvPr/>
        </p:nvCxnSpPr>
        <p:spPr>
          <a:xfrm>
            <a:off x="3463560" y="5022360"/>
            <a:ext cx="54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701"/>
          <p:cNvSpPr/>
          <p:nvPr/>
        </p:nvSpPr>
        <p:spPr>
          <a:xfrm>
            <a:off x="322200" y="58341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6"/>
          <p:cNvSpPr/>
          <p:nvPr/>
        </p:nvSpPr>
        <p:spPr>
          <a:xfrm>
            <a:off x="5373720" y="270180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00"/>
          <p:cNvSpPr/>
          <p:nvPr/>
        </p:nvSpPr>
        <p:spPr>
          <a:xfrm>
            <a:off x="333360" y="2698920"/>
            <a:ext cx="122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01"/>
          <p:cNvSpPr/>
          <p:nvPr/>
        </p:nvSpPr>
        <p:spPr>
          <a:xfrm>
            <a:off x="333360" y="372276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52"/>
          <p:cNvSpPr/>
          <p:nvPr/>
        </p:nvSpPr>
        <p:spPr>
          <a:xfrm>
            <a:off x="1714680" y="1763640"/>
            <a:ext cx="35305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laboración de Acuerdos y Resolucione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0-11T20:07:56Z</cp:lastPrinted>
  <dcterms:modified xsi:type="dcterms:W3CDTF">2011-12-14T03:08:17Z</dcterms:modified>
  <cp:revision>292</cp:revision>
  <dc:subject/>
  <dc:title>Presentación de PowerPoint</dc:title>
</cp:coreProperties>
</file>