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2325-E697-4388-9B92-351C5482D2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839D-D7A2-4293-ACC0-4FF5ACC869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8282-76BB-43DE-92B2-E46C485D89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63D-E4F9-44DB-B443-7809D9A8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DD5-A0BA-4E9B-BB35-D280EF53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9D4-04A2-43B9-B1F0-24FDAC6B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BE6-E4AA-4E59-A427-D210F50D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FFB-E2F3-455D-9A4F-FF2B9115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143-DD1B-49E0-B311-9BB05B9E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AA7-E720-473B-B2C3-A4C8E508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29C-F748-465E-B05C-B0CAB221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4F9-699F-45AE-8FD8-AD6D2D21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E88-4B88-4A93-AAD5-F3D040F6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6E0-B8AE-4576-B2C8-69F34EB4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4EB-9D1D-490F-B3E7-7AF8003C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2753-3678-493A-91D9-B1A2AD6C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C150-7246-4C54-B9A0-C12EB255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F25F-18EF-4ED3-81FC-4C14F406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9A6E-38DB-4A9E-8F2B-8D13A16C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D689-4EE5-4392-B2DE-622470BE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6EC4-BAE4-4BED-8D1E-D6D0B2EF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8645-63B8-4505-AF44-2CE3BEB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FAA4-9971-49D8-A933-DFA022A6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BF2A-9159-468A-947F-BB86F595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BC62-24D9-4854-8194-B8CE7744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67F3-A83E-4805-A4EE-75BE0639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C6B1-0A7D-4F4B-8F12-0F997A1B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trol y Gest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D33FDDBE-53D1-4C8D-8955-2CFED66C136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B9A4-B8CB-4812-AE8F-CA9834B3284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ACDF-FA9F-4E51-97BC-CCCC2404F48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8367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200160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124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información para análisi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484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laboración de alternativas de resolución de procesos administra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27672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 de alterna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33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2700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48616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gestión y control 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84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gestión y control 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399564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oficio /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844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evi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nvía informe sobre alternativas de 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213000" y="5292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2767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la propuesta y se revisa para su 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>
            <a:stCxn id="174" idx="2"/>
          </p:cNvCxnSpPr>
          <p:nvPr/>
        </p:nvCxnSpPr>
        <p:spPr>
          <a:xfrm>
            <a:off x="3499920" y="3492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327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20527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medios de comunica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 /notic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404640" y="2124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gestión y control 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56 Rombo"/>
          <p:cNvSpPr/>
          <p:nvPr/>
        </p:nvSpPr>
        <p:spPr>
          <a:xfrm>
            <a:off x="3090960" y="365292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57 CuadroTexto"/>
          <p:cNvSpPr/>
          <p:nvPr/>
        </p:nvSpPr>
        <p:spPr>
          <a:xfrm>
            <a:off x="3141720" y="372276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64 Conector angular"/>
          <p:cNvCxnSpPr>
            <a:stCxn id="180" idx="1"/>
            <a:endCxn id="173" idx="2"/>
          </p:cNvCxnSpPr>
          <p:nvPr/>
        </p:nvCxnSpPr>
        <p:spPr>
          <a:xfrm flipH="1" flipV="1" rot="10800000">
            <a:off x="3089520" y="3831120"/>
            <a:ext cx="122400" cy="1569240"/>
          </a:xfrm>
          <a:prstGeom prst="bentConnector3">
            <a:avLst>
              <a:gd name="adj1" fmla="val -58348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3" name="72 CuadroTexto"/>
          <p:cNvSpPr/>
          <p:nvPr/>
        </p:nvSpPr>
        <p:spPr>
          <a:xfrm>
            <a:off x="4005360" y="3564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73 CuadroTexto"/>
          <p:cNvSpPr/>
          <p:nvPr/>
        </p:nvSpPr>
        <p:spPr>
          <a:xfrm>
            <a:off x="2565360" y="3564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64 Conector angular"/>
          <p:cNvCxnSpPr>
            <a:stCxn id="180" idx="3"/>
            <a:endCxn id="186" idx="0"/>
          </p:cNvCxnSpPr>
          <p:nvPr/>
        </p:nvCxnSpPr>
        <p:spPr>
          <a:xfrm>
            <a:off x="3948120" y="3831840"/>
            <a:ext cx="489600" cy="235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6" name="Rectangle 656"/>
          <p:cNvSpPr/>
          <p:nvPr/>
        </p:nvSpPr>
        <p:spPr>
          <a:xfrm>
            <a:off x="3573360" y="406728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mte a presidencia , Secretaria Ejecutiva o consej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32"/>
          <p:cNvCxnSpPr>
            <a:stCxn id="168" idx="2"/>
          </p:cNvCxnSpPr>
          <p:nvPr/>
        </p:nvCxnSpPr>
        <p:spPr>
          <a:xfrm>
            <a:off x="3499920" y="3060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56"/>
          <p:cNvSpPr/>
          <p:nvPr/>
        </p:nvSpPr>
        <p:spPr>
          <a:xfrm>
            <a:off x="3573360" y="457200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plica cambio o propuesta y se regristra en informe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8" idx="2"/>
            <a:endCxn id="173" idx="6"/>
          </p:cNvCxnSpPr>
          <p:nvPr/>
        </p:nvCxnSpPr>
        <p:spPr>
          <a:xfrm rot="5400000">
            <a:off x="3842640" y="4806720"/>
            <a:ext cx="540360" cy="64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Rectangle 701"/>
          <p:cNvSpPr/>
          <p:nvPr/>
        </p:nvSpPr>
        <p:spPr>
          <a:xfrm>
            <a:off x="333360" y="4500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6"/>
          <p:cNvSpPr/>
          <p:nvPr/>
        </p:nvSpPr>
        <p:spPr>
          <a:xfrm>
            <a:off x="5373720" y="4572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anu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17T00:57:05Z</dcterms:modified>
  <cp:revision>302</cp:revision>
  <dc:subject/>
  <dc:title>Presentación de PowerPoint</dc:title>
</cp:coreProperties>
</file>