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3851-198C-4061-9BBC-A7A3B06D54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FA5-7E9B-43BF-A04A-3A530F9C33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912-10B2-4119-A94D-C8B1F9F0D9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16C0-2607-45E6-BFA9-4C30279445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D24-35F2-491B-8CBD-9EEDD0D9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9D8-CB99-47E6-8771-7B9044E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39D-EB99-4C06-BFEA-7B8C1A2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819-FAFC-4BBB-89FF-3404EBE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A88-1DC9-44B5-8CAF-77113A32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2F8-1C41-47E1-A1BA-5D7EE088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1EC-9FB6-4C2F-B106-E6C23BB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F40-EBBF-4305-8B58-AEB0C9C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85D-894B-4C02-9798-6937C4B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A86-B899-4EB9-B263-6E466D4A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551-9AA4-4696-8158-29B0ADFB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74A-355C-4AEE-9F21-1AB85051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8120-6DD9-41B1-B239-F7A59EC7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63A-CBF0-4104-BC83-EEB9800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9F8-B2F9-49D9-B245-6F2B480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3518-A550-4D9A-A637-6D0BAED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8D59-D2C2-4869-A256-F536598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3F1-F716-4683-8A7D-6A575BE5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174E-A825-4B57-A7BF-84E4E24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DF3-AAAE-4FA2-BCE2-5CF198C6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C84-53D9-4F1A-9EDF-D1BB819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6222-5D85-48B8-8F95-0FA3DA6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80B-8D05-4F79-89ED-E14DDAEC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6AE-817B-49C6-870A-313AE2A6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04153AF8-6847-4AA7-B974-E0D50E64B847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CO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656-1AA2-4515-A0C5-45889650867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DA6-E813-4CB0-942A-1F11EE13951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ción General para su tram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materia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581000" y="3635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63738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comp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279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276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6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6" idx="3"/>
            <a:endCxn id="181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endCxn id="184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7" name="64 Conector angular"/>
          <p:cNvCxnSpPr>
            <a:endCxn id="185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64 Conector angular"/>
          <p:cNvCxnSpPr>
            <a:stCxn id="189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9" idx="3"/>
          </p:cNvCxnSpPr>
          <p:nvPr/>
        </p:nvCxnSpPr>
        <p:spPr>
          <a:xfrm>
            <a:off x="3154320" y="6769080"/>
            <a:ext cx="56448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18 Rectángulo"/>
          <p:cNvSpPr/>
          <p:nvPr/>
        </p:nvSpPr>
        <p:spPr>
          <a:xfrm>
            <a:off x="2997360" y="6946920"/>
            <a:ext cx="7920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18 Rectángulo"/>
          <p:cNvSpPr/>
          <p:nvPr/>
        </p:nvSpPr>
        <p:spPr>
          <a:xfrm>
            <a:off x="1628640" y="6948360"/>
            <a:ext cx="8636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firma solicitud de cheque para conform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2205000" y="3922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4" name="72 CuadroTexto"/>
          <p:cNvSpPr/>
          <p:nvPr/>
        </p:nvSpPr>
        <p:spPr>
          <a:xfrm>
            <a:off x="1700280" y="3780000"/>
            <a:ext cx="50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64 Conector angular"/>
          <p:cNvCxnSpPr>
            <a:stCxn id="201" idx="3"/>
            <a:endCxn id="206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7" name="73 CuadroTexto"/>
          <p:cNvSpPr/>
          <p:nvPr/>
        </p:nvSpPr>
        <p:spPr>
          <a:xfrm>
            <a:off x="2997360" y="36259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comisión de adquisiciones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3645000" y="5148360"/>
            <a:ext cx="93636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garantía de cumplimiento y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75"/>
          <p:cNvSpPr/>
          <p:nvPr/>
        </p:nvSpPr>
        <p:spPr>
          <a:xfrm>
            <a:off x="4508640" y="3851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64 Conector angular"/>
          <p:cNvCxnSpPr>
            <a:stCxn id="208" idx="2"/>
          </p:cNvCxnSpPr>
          <p:nvPr/>
        </p:nvCxnSpPr>
        <p:spPr>
          <a:xfrm rot="5400000">
            <a:off x="3086280" y="5417280"/>
            <a:ext cx="648360" cy="14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1" name="AutoShape 685"/>
          <p:cNvCxnSpPr>
            <a:stCxn id="206" idx="2"/>
            <a:endCxn id="208" idx="0"/>
          </p:cNvCxnSpPr>
          <p:nvPr/>
        </p:nvCxnSpPr>
        <p:spPr>
          <a:xfrm>
            <a:off x="4113000" y="4787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64 Conector angular"/>
          <p:cNvCxnSpPr>
            <a:stCxn id="175" idx="2"/>
            <a:endCxn id="201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AutoShape 649"/>
          <p:cNvCxnSpPr>
            <a:endCxn id="22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 envía factura a administración y finanzas y en caso de ser necesario se anexa cotizaciones minuta de juntas de la comisión de adquisicion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53"/>
          <p:cNvSpPr/>
          <p:nvPr/>
        </p:nvSpPr>
        <p:spPr>
          <a:xfrm>
            <a:off x="1698480" y="24130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habla con direcciones involucradas con la requisición y se revisa la entrega de garant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66"/>
          <p:cNvSpPr/>
          <p:nvPr/>
        </p:nvSpPr>
        <p:spPr>
          <a:xfrm>
            <a:off x="5373720" y="23414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81"/>
          <p:cNvCxnSpPr>
            <a:endCxn id="225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comp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AutoShape 685"/>
          <p:cNvCxnSpPr/>
          <p:nvPr/>
        </p:nvCxnSpPr>
        <p:spPr>
          <a:xfrm>
            <a:off x="3499920" y="270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Oval 75"/>
          <p:cNvSpPr/>
          <p:nvPr/>
        </p:nvSpPr>
        <p:spPr>
          <a:xfrm>
            <a:off x="3357720" y="16192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53"/>
          <p:cNvSpPr/>
          <p:nvPr/>
        </p:nvSpPr>
        <p:spPr>
          <a:xfrm>
            <a:off x="1716120" y="29876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solicita liberación de garantía con 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66"/>
          <p:cNvSpPr/>
          <p:nvPr/>
        </p:nvSpPr>
        <p:spPr>
          <a:xfrm>
            <a:off x="5391000" y="2916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5"/>
          <p:cNvCxnSpPr/>
          <p:nvPr/>
        </p:nvCxnSpPr>
        <p:spPr>
          <a:xfrm>
            <a:off x="3519000" y="327636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685"/>
          <p:cNvCxnSpPr/>
          <p:nvPr/>
        </p:nvCxnSpPr>
        <p:spPr>
          <a:xfrm>
            <a:off x="4581000" y="42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660"/>
          <p:cNvSpPr/>
          <p:nvPr/>
        </p:nvSpPr>
        <p:spPr>
          <a:xfrm>
            <a:off x="333360" y="3927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4"/>
          <p:cNvSpPr/>
          <p:nvPr/>
        </p:nvSpPr>
        <p:spPr>
          <a:xfrm>
            <a:off x="5373720" y="392436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18 Rectángulo"/>
          <p:cNvSpPr/>
          <p:nvPr/>
        </p:nvSpPr>
        <p:spPr>
          <a:xfrm>
            <a:off x="1700280" y="385128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56 Rombo"/>
          <p:cNvSpPr/>
          <p:nvPr/>
        </p:nvSpPr>
        <p:spPr>
          <a:xfrm>
            <a:off x="3089160" y="349236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57 CuadroTexto"/>
          <p:cNvSpPr/>
          <p:nvPr/>
        </p:nvSpPr>
        <p:spPr>
          <a:xfrm>
            <a:off x="3068640" y="356220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Liber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64 Conector angular"/>
          <p:cNvCxnSpPr>
            <a:stCxn id="241" idx="1"/>
          </p:cNvCxnSpPr>
          <p:nvPr/>
        </p:nvCxnSpPr>
        <p:spPr>
          <a:xfrm flipV="1" rot="10800000">
            <a:off x="2491560" y="367164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4" name="72 CuadroTexto"/>
          <p:cNvSpPr/>
          <p:nvPr/>
        </p:nvSpPr>
        <p:spPr>
          <a:xfrm>
            <a:off x="270684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64 Conector angular"/>
          <p:cNvCxnSpPr>
            <a:stCxn id="241" idx="3"/>
            <a:endCxn id="246" idx="0"/>
          </p:cNvCxnSpPr>
          <p:nvPr/>
        </p:nvCxnSpPr>
        <p:spPr>
          <a:xfrm>
            <a:off x="3946320" y="367200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7" name="73 CuadroTexto"/>
          <p:cNvSpPr/>
          <p:nvPr/>
        </p:nvSpPr>
        <p:spPr>
          <a:xfrm>
            <a:off x="4005360" y="3419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3933720" y="385128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para revisión de caso y proce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64 Conector angular"/>
          <p:cNvCxnSpPr>
            <a:stCxn id="240" idx="2"/>
            <a:endCxn id="249" idx="0"/>
          </p:cNvCxnSpPr>
          <p:nvPr/>
        </p:nvCxnSpPr>
        <p:spPr>
          <a:xfrm flipH="1" rot="16200000">
            <a:off x="1951920" y="4679280"/>
            <a:ext cx="6483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9" name="Oval 34"/>
          <p:cNvSpPr/>
          <p:nvPr/>
        </p:nvSpPr>
        <p:spPr>
          <a:xfrm>
            <a:off x="1989000" y="5003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75"/>
          <p:cNvSpPr/>
          <p:nvPr/>
        </p:nvSpPr>
        <p:spPr>
          <a:xfrm>
            <a:off x="4437000" y="4500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75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AutoShape 685"/>
          <p:cNvCxnSpPr/>
          <p:nvPr/>
        </p:nvCxnSpPr>
        <p:spPr>
          <a:xfrm flipH="1">
            <a:off x="2276640" y="471600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3-08T19:23:23Z</dcterms:modified>
  <cp:revision>340</cp:revision>
  <dc:subject/>
  <dc:title>Presentación de PowerPoint</dc:title>
</cp:coreProperties>
</file>