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EC33-2A14-491F-BB9B-E89A3C0EF8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AE07-5257-4E5B-B75B-EB8CEA7DFE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4A5C-9839-4F16-8255-FEF5C17F80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BBA-ED94-4866-A556-2D902C5E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935-34C4-4502-903C-29CD124B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019-24C9-42EA-9437-B5144057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24F-2775-4982-BABB-1FDB7E04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A72-FD89-4CC8-99B9-1D7721C8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F75-1CC9-4B43-B84D-60A23F9F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D39-DB3F-4400-AAF0-C4818FD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841-7ADF-4C6F-9145-84140C24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7F5-EAD8-469E-A244-18A3A4C5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A78-3F8B-417B-B08A-B56A4899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DBD-F8C3-41DC-A5F5-619C71AE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422-95AA-41C0-A516-2317E65E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2FB0-6CC4-4904-8804-309B2BD5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753B-0FE3-4698-99B9-8DA7910A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B30F-A48C-49F9-9EAC-DD2E9035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B9EE-5347-4AFA-A198-BA9D6B9F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5318-089F-4B52-91FC-CF1A3639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F965-0882-4FEB-8553-8E40C8F5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D071-CC30-4176-9F9A-7FE52002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E34E-CBA4-4177-BCED-1C6DA15C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C149-7501-431B-87FA-A23B3372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E0AA-DF2E-4621-867D-9743ED53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8528-EDE3-4829-9ABC-37832F4C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6497-7CE1-4664-BA58-17A33165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Urna Electro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5C582024-A954-4384-AD74-7F009BCB8DC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0E2B-EF2F-48CD-820A-A7A215C4B27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13FA-77E4-4EEB-B333-A5E1F3EB5F5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xamina el calendario para revisar tiempo de el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solicitud de ejercicio de elección con urna electrón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4370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pl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querimiento de Elec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Requerimientos de eleccion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la capacidad de cumplimiento de la 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34"/>
          <p:cNvSpPr/>
          <p:nvPr/>
        </p:nvSpPr>
        <p:spPr>
          <a:xfrm>
            <a:off x="4581360" y="781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3419640"/>
            <a:ext cx="1152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la definición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18 Rectángulo"/>
          <p:cNvSpPr/>
          <p:nvPr/>
        </p:nvSpPr>
        <p:spPr>
          <a:xfrm>
            <a:off x="1700280" y="4140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el aplicativo para elección solici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32"/>
          <p:cNvCxnSpPr/>
          <p:nvPr/>
        </p:nvCxnSpPr>
        <p:spPr>
          <a:xfrm>
            <a:off x="2276280" y="370836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18 Rectángulo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rga prueba de apl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en equi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>
            <a:stCxn id="181" idx="2"/>
            <a:endCxn id="183" idx="0"/>
          </p:cNvCxnSpPr>
          <p:nvPr/>
        </p:nvCxnSpPr>
        <p:spPr>
          <a:xfrm>
            <a:off x="3499920" y="4356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 caso de ser necesario se capacitara al personal que utilizará los equi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83" idx="2"/>
            <a:endCxn id="185" idx="0"/>
          </p:cNvCxnSpPr>
          <p:nvPr/>
        </p:nvCxnSpPr>
        <p:spPr>
          <a:xfrm>
            <a:off x="3499920" y="4716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493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pl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heck list aprob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uebas y simulacros en caso de ser neces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32"/>
          <p:cNvCxnSpPr>
            <a:stCxn id="185" idx="2"/>
            <a:endCxn id="191" idx="0"/>
          </p:cNvCxnSpPr>
          <p:nvPr/>
        </p:nvCxnSpPr>
        <p:spPr>
          <a:xfrm>
            <a:off x="3499920" y="50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32"/>
          <p:cNvCxnSpPr>
            <a:stCxn id="191" idx="2"/>
          </p:cNvCxnSpPr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714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/ Reporte de Resultado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alla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201" idx="1"/>
            <a:endCxn id="204" idx="0"/>
          </p:cNvCxnSpPr>
          <p:nvPr/>
        </p:nvCxnSpPr>
        <p:spPr>
          <a:xfrm flipV="1" rot="10800000">
            <a:off x="2493360" y="57765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6"/>
          <p:cNvSpPr/>
          <p:nvPr/>
        </p:nvSpPr>
        <p:spPr>
          <a:xfrm>
            <a:off x="1628640" y="595620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visan y corrigen fall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64 Conector angular"/>
          <p:cNvCxnSpPr>
            <a:stCxn id="201" idx="3"/>
            <a:endCxn id="208" idx="3"/>
          </p:cNvCxnSpPr>
          <p:nvPr/>
        </p:nvCxnSpPr>
        <p:spPr>
          <a:xfrm>
            <a:off x="3948120" y="5776560"/>
            <a:ext cx="993960" cy="1135800"/>
          </a:xfrm>
          <a:prstGeom prst="bentConnector3">
            <a:avLst>
              <a:gd name="adj1" fmla="val 12304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9" name="Oval 75"/>
          <p:cNvSpPr/>
          <p:nvPr/>
        </p:nvSpPr>
        <p:spPr>
          <a:xfrm>
            <a:off x="3933720" y="7596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56 Rombo"/>
          <p:cNvSpPr/>
          <p:nvPr/>
        </p:nvSpPr>
        <p:spPr>
          <a:xfrm>
            <a:off x="3089160" y="3060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57 CuadroTexto"/>
          <p:cNvSpPr/>
          <p:nvPr/>
        </p:nvSpPr>
        <p:spPr>
          <a:xfrm>
            <a:off x="3068640" y="3130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umplimient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64 Conector angular"/>
          <p:cNvCxnSpPr>
            <a:stCxn id="210" idx="1"/>
          </p:cNvCxnSpPr>
          <p:nvPr/>
        </p:nvCxnSpPr>
        <p:spPr>
          <a:xfrm flipV="1" rot="10800000">
            <a:off x="2491560" y="323892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3" name="72 CuadroTexto"/>
          <p:cNvSpPr/>
          <p:nvPr/>
        </p:nvSpPr>
        <p:spPr>
          <a:xfrm>
            <a:off x="270684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64 Conector angular"/>
          <p:cNvCxnSpPr>
            <a:stCxn id="210" idx="3"/>
          </p:cNvCxnSpPr>
          <p:nvPr/>
        </p:nvCxnSpPr>
        <p:spPr>
          <a:xfrm>
            <a:off x="3946680" y="3239640"/>
            <a:ext cx="45288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73 CuadroTexto"/>
          <p:cNvSpPr/>
          <p:nvPr/>
        </p:nvSpPr>
        <p:spPr>
          <a:xfrm>
            <a:off x="400536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3645000" y="3419640"/>
            <a:ext cx="1655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a solicitantes que no se pude cumplir y su jus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450828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Oval 75"/>
          <p:cNvSpPr/>
          <p:nvPr/>
        </p:nvSpPr>
        <p:spPr>
          <a:xfrm>
            <a:off x="4437000" y="3851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56"/>
          <p:cNvSpPr/>
          <p:nvPr/>
        </p:nvSpPr>
        <p:spPr>
          <a:xfrm>
            <a:off x="1628640" y="637236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n pruebas con terminales que fallar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56"/>
          <p:cNvSpPr/>
          <p:nvPr/>
        </p:nvSpPr>
        <p:spPr>
          <a:xfrm>
            <a:off x="1628640" y="680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lleva a cabo la elec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249192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2"/>
          <p:cNvCxnSpPr/>
          <p:nvPr/>
        </p:nvCxnSpPr>
        <p:spPr>
          <a:xfrm>
            <a:off x="249192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656"/>
          <p:cNvSpPr/>
          <p:nvPr/>
        </p:nvSpPr>
        <p:spPr>
          <a:xfrm>
            <a:off x="1628640" y="7162920"/>
            <a:ext cx="33130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lmacena informacion, se realiza respaldo y se entrega reporte final con resulta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32"/>
          <p:cNvCxnSpPr/>
          <p:nvPr/>
        </p:nvCxnSpPr>
        <p:spPr>
          <a:xfrm>
            <a:off x="342864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32"/>
          <p:cNvCxnSpPr/>
          <p:nvPr/>
        </p:nvCxnSpPr>
        <p:spPr>
          <a:xfrm>
            <a:off x="2420640" y="7524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Rectangle 656"/>
          <p:cNvSpPr/>
          <p:nvPr/>
        </p:nvSpPr>
        <p:spPr>
          <a:xfrm>
            <a:off x="1628640" y="7667640"/>
            <a:ext cx="17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je equiopo y se almace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/>
          <p:nvPr/>
        </p:nvCxnSpPr>
        <p:spPr>
          <a:xfrm>
            <a:off x="4005000" y="7812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64 Conector angular"/>
          <p:cNvCxnSpPr>
            <a:stCxn id="226" idx="2"/>
            <a:endCxn id="179" idx="2"/>
          </p:cNvCxnSpPr>
          <p:nvPr/>
        </p:nvCxnSpPr>
        <p:spPr>
          <a:xfrm flipH="1" flipV="1" rot="5400000">
            <a:off x="3517200" y="6893280"/>
            <a:ext cx="37440" cy="2089800"/>
          </a:xfrm>
          <a:prstGeom prst="bentConnector4">
            <a:avLst>
              <a:gd name="adj1" fmla="val -90291"/>
              <a:gd name="adj2" fmla="val 5284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3T15:36:01Z</dcterms:modified>
  <cp:revision>293</cp:revision>
  <dc:subject/>
  <dc:title>Presentación de PowerPoint</dc:title>
</cp:coreProperties>
</file>