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892-FE97-41EA-B650-42132F8F29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82E0-5255-4907-B32C-8A8E92712E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AC6-2466-4F9F-BCE6-E1F79B0E96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AD9-935D-498E-B62C-2462431C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93A-A581-455F-812C-D69CCBC5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B69-BBCC-4A0B-92C3-7D2838E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85F-764E-4389-93D6-AEF2D90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81C-6187-4D51-A137-7FA943A9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D44-3D02-4C33-A7CB-B23C75D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C88-8917-41C1-8B97-0FA3697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468-68A3-4FE7-8721-2DD5497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697-DC0A-4C79-B32B-D9AF1DB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C70-10F8-4F61-94C1-D85A9C8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16B-CE97-4713-A7C1-F0F84F1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15-1FAE-4093-AEE8-FA484F2D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FB5A-A9C3-4661-93F2-76D7AC2A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581-3FD7-4A6D-B2B3-1EFA5C6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188-63BF-46CF-993E-F12329FC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444F-5C6B-4397-8F20-BC0F030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D34-C3B5-479A-94A3-900C4FE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DCC-3F57-423D-A3E6-37D6E8E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BE7-56E9-4CA1-977C-B11825F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814E-14C2-432A-854D-702FD92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AD31-6831-4ED6-865C-1E63765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A6C5-33FC-4992-BD20-07EDC5B9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5FFA-C802-4843-960E-4B3A4726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B31-30FA-46D2-924F-93BDC140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ción y seguimiento del Programa Anual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1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  <p:sp>
        <p:nvSpPr>
          <p:cNvPr id="22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06D57C5-6835-4401-A275-832C0C04CDB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8E2-E9C3-4A02-8AE4-F98D6617F04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533-E6C0-4BE4-B054-F4B1E0EFACE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juste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oordinar  y dar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seguimiento a la ejecución y operación de actividades, programas y proyectos que conforman el Programa Anual de Actividad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 para planear y  revisar el cumplimiento del Programa Anual de Actividades del IEPC y su contenido durante el añ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74312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52"/>
          <p:cNvSpPr/>
          <p:nvPr/>
        </p:nvSpPr>
        <p:spPr>
          <a:xfrm>
            <a:off x="1693800" y="461016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el Programa Anual  de Actividades y se solicita a las áreas cronograma detallado de actividades anual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53"/>
          <p:cNvSpPr/>
          <p:nvPr/>
        </p:nvSpPr>
        <p:spPr>
          <a:xfrm>
            <a:off x="1700280" y="5164200"/>
            <a:ext cx="360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y revisan los informes mensuales, semanales , la agenda y el cronograma detallado de actividades; se analiza  el avance realizado, cotejándolo con 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66"/>
          <p:cNvSpPr/>
          <p:nvPr/>
        </p:nvSpPr>
        <p:spPr>
          <a:xfrm>
            <a:off x="5391000" y="4659480"/>
            <a:ext cx="12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memorándum/ cronogr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00"/>
          <p:cNvSpPr/>
          <p:nvPr/>
        </p:nvSpPr>
        <p:spPr>
          <a:xfrm>
            <a:off x="361800" y="52736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91000" y="5145120"/>
            <a:ext cx="1278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mensuales y  semanales / agenda Cronogra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5745240"/>
            <a:ext cx="1278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 / cronograma de actividad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91000" y="2128680"/>
            <a:ext cx="1278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ronograma PAA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99960" y="20811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s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3360" y="58467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68280" y="6391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6"/>
          <p:cNvSpPr/>
          <p:nvPr/>
        </p:nvSpPr>
        <p:spPr>
          <a:xfrm>
            <a:off x="1700280" y="5848200"/>
            <a:ext cx="3600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identifican actividades pendientes o atrasos y se solicita acción correctiva para subsanar atraso y se monito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6"/>
          <p:cNvSpPr/>
          <p:nvPr/>
        </p:nvSpPr>
        <p:spPr>
          <a:xfrm>
            <a:off x="1709640" y="6410160"/>
            <a:ext cx="360072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les da seguimiento y verifica su cumpl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751680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82640" y="2033640"/>
            <a:ext cx="360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lanea y coordinar las actividades  de las Direcciones para la elaboración del Proyecto del Programa Anual de Actividad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2"/>
          <p:cNvSpPr/>
          <p:nvPr/>
        </p:nvSpPr>
        <p:spPr>
          <a:xfrm>
            <a:off x="1689120" y="3989520"/>
            <a:ext cx="360036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ite el Proyecto de Programa Anual de Actividades a Presidencia y Secretaría Ejecutiva para su respectiva aprobación por parte del Consejo General del IEP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6"/>
          <p:cNvSpPr/>
          <p:nvPr/>
        </p:nvSpPr>
        <p:spPr>
          <a:xfrm>
            <a:off x="1709640" y="6964200"/>
            <a:ext cx="3600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 Director General para su revisión y toma de decis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41360" y="40845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390600" y="4653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 / 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0"/>
          <p:cNvSpPr/>
          <p:nvPr/>
        </p:nvSpPr>
        <p:spPr>
          <a:xfrm>
            <a:off x="333360" y="69642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s de Departamento/ 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91000" y="4084560"/>
            <a:ext cx="1278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637704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 / cronograma de actividad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91000" y="6948360"/>
            <a:ext cx="1278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s trimestrales, anuales y extraordi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4"/>
          <p:cNvCxnSpPr>
            <a:stCxn id="174" idx="2"/>
          </p:cNvCxnSpPr>
          <p:nvPr/>
        </p:nvCxnSpPr>
        <p:spPr>
          <a:xfrm>
            <a:off x="3483000" y="2414520"/>
            <a:ext cx="180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684"/>
          <p:cNvCxnSpPr>
            <a:stCxn id="161" idx="2"/>
            <a:endCxn id="162" idx="0"/>
          </p:cNvCxnSpPr>
          <p:nvPr/>
        </p:nvCxnSpPr>
        <p:spPr>
          <a:xfrm>
            <a:off x="3493080" y="4968360"/>
            <a:ext cx="68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684"/>
          <p:cNvCxnSpPr>
            <a:stCxn id="162" idx="2"/>
            <a:endCxn id="171" idx="0"/>
          </p:cNvCxnSpPr>
          <p:nvPr/>
        </p:nvCxnSpPr>
        <p:spPr>
          <a:xfrm>
            <a:off x="3499920" y="566892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684"/>
          <p:cNvCxnSpPr>
            <a:stCxn id="171" idx="2"/>
            <a:endCxn id="172" idx="0"/>
          </p:cNvCxnSpPr>
          <p:nvPr/>
        </p:nvCxnSpPr>
        <p:spPr>
          <a:xfrm>
            <a:off x="3499920" y="6156000"/>
            <a:ext cx="10440" cy="25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684"/>
          <p:cNvCxnSpPr>
            <a:stCxn id="172" idx="2"/>
            <a:endCxn id="176" idx="0"/>
          </p:cNvCxnSpPr>
          <p:nvPr/>
        </p:nvCxnSpPr>
        <p:spPr>
          <a:xfrm>
            <a:off x="3509640" y="665964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4"/>
          <p:cNvCxnSpPr>
            <a:stCxn id="175" idx="2"/>
            <a:endCxn id="161" idx="0"/>
          </p:cNvCxnSpPr>
          <p:nvPr/>
        </p:nvCxnSpPr>
        <p:spPr>
          <a:xfrm>
            <a:off x="3488400" y="4468320"/>
            <a:ext cx="540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684"/>
          <p:cNvCxnSpPr>
            <a:stCxn id="176" idx="2"/>
            <a:endCxn id="173" idx="0"/>
          </p:cNvCxnSpPr>
          <p:nvPr/>
        </p:nvCxnSpPr>
        <p:spPr>
          <a:xfrm flipH="1">
            <a:off x="3499560" y="7211520"/>
            <a:ext cx="104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684"/>
          <p:cNvCxnSpPr/>
          <p:nvPr/>
        </p:nvCxnSpPr>
        <p:spPr>
          <a:xfrm flipH="1">
            <a:off x="3499560" y="190764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652"/>
          <p:cNvSpPr/>
          <p:nvPr/>
        </p:nvSpPr>
        <p:spPr>
          <a:xfrm>
            <a:off x="1689120" y="2727360"/>
            <a:ext cx="360036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n los proyectos del Programa Anual de Actividades  y se revisan por  parte de los integrantes de la Dirección General, se envían observaciones y correcciones a las áreas correspondient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0"/>
          <p:cNvSpPr/>
          <p:nvPr/>
        </p:nvSpPr>
        <p:spPr>
          <a:xfrm>
            <a:off x="441360" y="28224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66"/>
          <p:cNvSpPr/>
          <p:nvPr/>
        </p:nvSpPr>
        <p:spPr>
          <a:xfrm>
            <a:off x="5391000" y="2822400"/>
            <a:ext cx="12780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4"/>
          <p:cNvCxnSpPr>
            <a:stCxn id="191" idx="2"/>
          </p:cNvCxnSpPr>
          <p:nvPr/>
        </p:nvCxnSpPr>
        <p:spPr>
          <a:xfrm>
            <a:off x="3488400" y="3206880"/>
            <a:ext cx="540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2"/>
          <p:cNvSpPr/>
          <p:nvPr/>
        </p:nvSpPr>
        <p:spPr>
          <a:xfrm>
            <a:off x="1689120" y="3348000"/>
            <a:ext cx="360036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cibe los Proyectos del Programa Anual de Actividades y se les da una ultima revis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00"/>
          <p:cNvSpPr/>
          <p:nvPr/>
        </p:nvSpPr>
        <p:spPr>
          <a:xfrm>
            <a:off x="441360" y="3443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D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66"/>
          <p:cNvSpPr/>
          <p:nvPr/>
        </p:nvSpPr>
        <p:spPr>
          <a:xfrm>
            <a:off x="5391000" y="3443400"/>
            <a:ext cx="1278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PPA / e-mail / Memorá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4"/>
          <p:cNvCxnSpPr>
            <a:stCxn id="195" idx="2"/>
          </p:cNvCxnSpPr>
          <p:nvPr/>
        </p:nvCxnSpPr>
        <p:spPr>
          <a:xfrm>
            <a:off x="3488400" y="3827520"/>
            <a:ext cx="540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11T17:13:20Z</dcterms:modified>
  <cp:revision>326</cp:revision>
  <dc:subject/>
  <dc:title>Presentación de PowerPoint</dc:title>
</cp:coreProperties>
</file>