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2AC3-EA58-4723-A8BA-B60CFF21ED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4AB9-B9E4-4447-976A-B8C84E2E53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DC44-6BC8-4D71-8059-54367A122C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E74-0A70-49B4-853D-DF5774DB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67E-AEB3-4327-8657-D3DB55CC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A3A-30B6-420C-B149-03511EAE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DCD-F8E7-4204-AAA8-863BE3C1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185-5DAE-469A-9BF0-847AFDE8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DF0-ED58-44CA-8085-F67F822A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DAF-652A-4CB7-8F06-B375B756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5EA-854E-473A-A54F-BA7E680E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595-542F-4CB8-ABFF-2A85C184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808-08A0-44FB-902D-9C58FE75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59B-47D7-4472-8F7C-227780EC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D39-302B-466C-A0DC-CF0F42D6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5D25-F41D-431E-9C0C-E89C9121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DA2A-99A7-4FB5-9F76-185C2B8A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B018-B8B1-4307-BC2A-052819B5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33FA-C051-41A2-B2FD-3E8F8F22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DBB8-CF07-4DCA-9F27-B0127A4E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0942-F7C8-4018-ACBB-679ACD90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19CB-5AFA-463E-A2DF-CC48EE98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13DB-1F5C-4300-A908-5917898C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61F1-69C0-4818-9C7B-1EE8C8E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4907-2138-471D-AF44-7D6C4116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150F-03F4-4643-9618-0E34E816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CD2C-2D6C-41C1-9A92-DE226366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3E88-D907-472F-9C87-35137647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9E55-8757-4972-B35A-E01A549F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DC00-961B-44CE-919A-3BD294F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EA68-22E5-445B-8418-C0CDB3FB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6544-6C8A-4F38-884D-9FEAF1DD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624D-927D-422D-AC5A-B71DACFF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B286-E85A-4761-958C-C7189CFF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476AD-C1DA-456F-BFC7-8AAAEC6E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A811-8CB6-46D9-9268-7BAA9D2E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02F4-BE15-4237-ABA9-E9A078D9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3E0B-906C-427F-85C9-95CF2ED3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1019-315E-47FB-ADE5-81FAD52B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sitas de verificación a Órganos Desconce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1225D5F-8AF6-4FF4-83AB-9D68D0ABD30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425520" y="8245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6600" y="7951680"/>
            <a:ext cx="635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343160" y="8028000"/>
            <a:ext cx="358560" cy="144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492280" y="808344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532320" y="8059680"/>
            <a:ext cx="433080" cy="14616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57760" y="809928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9840" y="84549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9840" y="82454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795024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8400" y="8243640"/>
            <a:ext cx="309060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92440" y="8485200"/>
            <a:ext cx="30765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9840" y="8244000"/>
            <a:ext cx="3095640" cy="241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24280" y="80596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939D-7978-419C-B720-6E9B78C8053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9DEC-4A61-4DD0-92EA-6B4BB879C31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B0F1-32D7-429D-B8F6-07A3666F10F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69780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697800"/>
              <a:gd name="textAreaBottom" fmla="*/ 6662880 h 6697800"/>
            </a:gdLst>
            <a:ahLst/>
            <a:rect l="textAreaLeft" t="textAreaTop" r="textAreaRight" b="textAreaBottom"/>
            <a:pathLst>
              <a:path w="21600" h="22835">
                <a:moveTo>
                  <a:pt x="409" y="0"/>
                </a:moveTo>
                <a:arcTo wR="409" hR="409" stAng="16200000" swAng="-5400000"/>
                <a:lnTo>
                  <a:pt x="0" y="22426"/>
                </a:lnTo>
                <a:arcTo wR="409" hR="409" stAng="10800000" swAng="-5400000"/>
                <a:lnTo>
                  <a:pt x="21191" y="22835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bio de nombre del procedimiento documentad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Verificar la documentación comprobatoria y justificativa relacionada con el manejo, custodia y/o administración de los recursos públicos asignados  para el cumplimiento de sus funciones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Procedimiento que aplica para auditorías en proceso electoral en revisión de los recursos financieros, materiales y human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43080" y="2884320"/>
            <a:ext cx="63356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Órgano Desconcentrado es parte integrante del Instituto Electoral y de Participación Ciudadana y s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a). Los Consejo Distritales Electoral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b). Los Consejos Municipales Electorales;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). Las Mesas Directivas de Cas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 Narrow"/>
              </a:rPr>
              <a:t>Art. 118, párrafo 1, fracción IV, incisos a) y b), del Códig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VOD. Visitas de verificación a Órganos Desconcent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376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plan de actividades de revisión de recur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84440" y="28432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naliza y autoriza plan de actividades de V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69040" y="383220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69040" y="27795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lan de actividades de V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/>
          <p:nvPr/>
        </p:nvCxnSpPr>
        <p:spPr>
          <a:xfrm>
            <a:off x="3512880" y="266400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endCxn id="209" idx="0"/>
          </p:cNvCxnSpPr>
          <p:nvPr/>
        </p:nvCxnSpPr>
        <p:spPr>
          <a:xfrm>
            <a:off x="3498480" y="309672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8065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1920" y="324324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69040" y="33336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an de actividades de V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698480" y="3278160"/>
            <a:ext cx="360072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jecuta revisión en tiempo y forma la auditoria a 145 organismos desconcentr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/>
          <p:nvPr/>
        </p:nvCxnSpPr>
        <p:spPr>
          <a:xfrm>
            <a:off x="3498480" y="3628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665360" y="378000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esenta informe de resultados  al Contralor,  se evalúa y autoriza en caso de irregular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1"/>
          <p:cNvSpPr/>
          <p:nvPr/>
        </p:nvSpPr>
        <p:spPr>
          <a:xfrm>
            <a:off x="314280" y="37656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66"/>
          <p:cNvSpPr/>
          <p:nvPr/>
        </p:nvSpPr>
        <p:spPr>
          <a:xfrm>
            <a:off x="536904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/ proy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4"/>
          <p:cNvSpPr/>
          <p:nvPr/>
        </p:nvSpPr>
        <p:spPr>
          <a:xfrm>
            <a:off x="3174840" y="5413320"/>
            <a:ext cx="5781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5"/>
          <p:cNvSpPr/>
          <p:nvPr/>
        </p:nvSpPr>
        <p:spPr>
          <a:xfrm>
            <a:off x="5386320" y="43196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685"/>
          <p:cNvCxnSpPr/>
          <p:nvPr/>
        </p:nvCxnSpPr>
        <p:spPr>
          <a:xfrm>
            <a:off x="3463560" y="48240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18 Rectángulo"/>
          <p:cNvSpPr/>
          <p:nvPr/>
        </p:nvSpPr>
        <p:spPr>
          <a:xfrm>
            <a:off x="1722600" y="50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presenta a Consejo General informe de resul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32"/>
          <p:cNvCxnSpPr/>
          <p:nvPr/>
        </p:nvCxnSpPr>
        <p:spPr>
          <a:xfrm>
            <a:off x="3465000" y="52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Rectangle 701"/>
          <p:cNvSpPr/>
          <p:nvPr/>
        </p:nvSpPr>
        <p:spPr>
          <a:xfrm>
            <a:off x="314280" y="49672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lor /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685"/>
          <p:cNvCxnSpPr/>
          <p:nvPr/>
        </p:nvCxnSpPr>
        <p:spPr>
          <a:xfrm>
            <a:off x="3479400" y="4103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14 CuadroTexto"/>
          <p:cNvSpPr/>
          <p:nvPr/>
        </p:nvSpPr>
        <p:spPr>
          <a:xfrm>
            <a:off x="1722600" y="4254480"/>
            <a:ext cx="35067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Lo no autorizado donde se presuman irregularidades se turna al departamento de Asuntos Jurídicos para su debido análisis y procedencia del Procedimiento de Responsabilidad Administr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01"/>
          <p:cNvSpPr/>
          <p:nvPr/>
        </p:nvSpPr>
        <p:spPr>
          <a:xfrm>
            <a:off x="333360" y="43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orma.martinez</cp:lastModifiedBy>
  <cp:lastPrinted>2013-07-08T18:43:37Z</cp:lastPrinted>
  <dcterms:modified xsi:type="dcterms:W3CDTF">2013-07-10T16:30:27Z</dcterms:modified>
  <cp:revision>350</cp:revision>
  <dc:subject/>
  <dc:title>Presentación de PowerPoint</dc:title>
</cp:coreProperties>
</file>