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23EA-6792-4033-9B68-87FC5FDD289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FC64-60E3-4CBE-B894-7E4F3ED0386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9E87-9FC4-4351-9075-B29DB5561CE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6862-FCD9-4B52-AEB5-40518420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6D3D-647D-49C8-8361-DD5212F4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99F5-511B-499F-A35D-646EB4E8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2ED5-EB22-4D0C-8CCD-FF70B710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46C4-9CF8-48A6-9683-B6EEBA08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0FE7-24BA-4045-B235-75B3038A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11AC-7363-4FA2-836C-CDBA4D07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6E86-DE10-4E97-9810-B150BB28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3876-5930-4423-87CB-0322AFC3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A8E6-1277-4719-9621-B8F6601A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07E0-4DEA-4073-8C11-05B73173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79FD-38F2-4E52-B128-4AB1B4B5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F80C-C57E-42CC-8003-BC7EC7B2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C3B1-7A37-486D-8E57-65F6153F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A2C0-A026-4DCD-AA0A-DE61F943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7AD1-DD97-4A67-93B5-F43D9E0B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B0C4-D508-491F-A000-D5D7F692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DA97-08E2-49BE-90A4-426784B5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0B8D-90D4-421C-A780-5C22791E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D4A5-DB71-45CE-9F08-220FE878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727B-99A2-4CD9-8089-D449F000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C8A4-C655-4421-A957-6C5E4F8C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1CCE-C3BF-4E84-A001-7CC2FD64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1302-1CE6-426E-BCC3-2C6E65EE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335E5-4FE1-41A6-A59F-80314A5C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6D02E-20F7-4B3C-AC4B-59704BF7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36F35-1387-41D0-B09A-E6CB8384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86A50-CD07-4E4D-8490-7488936F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69AF9-BD11-4DD3-B5BF-B8A0918C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31F66-ADBE-4523-A712-FC15BD43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DAB08-C854-4EA8-971C-FE88B13A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9CAE7-89DD-411F-A9FE-5CCA027A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59FEF-07DC-4767-B482-3972DEB9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6AE4E-4538-4021-8344-C8D30A68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BA947-8886-4778-9684-C61EE53E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0829C-4F2A-42D1-AA01-FD47C434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ncur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1F6390FE-D11E-4AEC-8A19-5D85149C8364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de Capacitación Electoral y educación Cív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4DB5-6168-40BF-A5D5-61212265B60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5686-03E8-41F4-950F-ADBA99E90C1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24CC-ACF4-4907-898C-F159873D6CB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oadyuvar en la organización y desarrollo de concursos de tesis, ensayo polít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elaboración y desarrollo de concursos para la ciudadanía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IEPC: Instituto Electoral y de Participación Ciudada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3" idx="2"/>
            <a:endCxn id="204" idx="0"/>
          </p:cNvCxnSpPr>
          <p:nvPr/>
        </p:nvCxnSpPr>
        <p:spPr>
          <a:xfrm flipH="1">
            <a:off x="3498120" y="2172960"/>
            <a:ext cx="1836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Rectangle 652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elaboran los contenidos de la convocatoria para su difus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53"/>
          <p:cNvSpPr/>
          <p:nvPr/>
        </p:nvSpPr>
        <p:spPr>
          <a:xfrm>
            <a:off x="1700280" y="2700360"/>
            <a:ext cx="360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ifunde y se reciben trabajos de participantes y se genera una relación de los trabajos recibidos y se turna a Secretaria Técnica de Comisiones para su aprobación con el jurado y fall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1"/>
          <p:cNvSpPr/>
          <p:nvPr/>
        </p:nvSpPr>
        <p:spPr>
          <a:xfrm>
            <a:off x="333360" y="473400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65"/>
          <p:cNvSpPr/>
          <p:nvPr/>
        </p:nvSpPr>
        <p:spPr>
          <a:xfrm>
            <a:off x="5373720" y="356544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COM-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66"/>
          <p:cNvSpPr/>
          <p:nvPr/>
        </p:nvSpPr>
        <p:spPr>
          <a:xfrm>
            <a:off x="5373720" y="2700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ido / relación de trabajos recibi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AutoShape 681"/>
          <p:cNvCxnSpPr>
            <a:stCxn id="204" idx="2"/>
            <a:endCxn id="205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684"/>
          <p:cNvCxnSpPr>
            <a:stCxn id="205" idx="2"/>
            <a:endCxn id="211" idx="0"/>
          </p:cNvCxnSpPr>
          <p:nvPr/>
        </p:nvCxnSpPr>
        <p:spPr>
          <a:xfrm>
            <a:off x="3499920" y="3058920"/>
            <a:ext cx="1080" cy="14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Rectangle 700"/>
          <p:cNvSpPr/>
          <p:nvPr/>
        </p:nvSpPr>
        <p:spPr>
          <a:xfrm>
            <a:off x="404640" y="263052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 / secretaria 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701"/>
          <p:cNvSpPr/>
          <p:nvPr/>
        </p:nvSpPr>
        <p:spPr>
          <a:xfrm>
            <a:off x="333360" y="3205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66"/>
          <p:cNvSpPr/>
          <p:nvPr/>
        </p:nvSpPr>
        <p:spPr>
          <a:xfrm>
            <a:off x="5373720" y="31320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agina web del IEPC /convoca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56"/>
          <p:cNvSpPr/>
          <p:nvPr/>
        </p:nvSpPr>
        <p:spPr>
          <a:xfrm>
            <a:off x="1700280" y="32050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publican en la pagina web del IEPC los nombres de los ganadores, fecha y lugar de la ceremon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685"/>
          <p:cNvCxnSpPr>
            <a:stCxn id="211" idx="2"/>
          </p:cNvCxnSpPr>
          <p:nvPr/>
        </p:nvCxnSpPr>
        <p:spPr>
          <a:xfrm>
            <a:off x="3499920" y="34207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Rectangle 701"/>
          <p:cNvSpPr/>
          <p:nvPr/>
        </p:nvSpPr>
        <p:spPr>
          <a:xfrm>
            <a:off x="333360" y="3851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/ 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18 Rectángulo"/>
          <p:cNvSpPr/>
          <p:nvPr/>
        </p:nvSpPr>
        <p:spPr>
          <a:xfrm>
            <a:off x="1700280" y="3564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genera requisición para premios de los ganadores y se envía a Dirección de Administración y Finanz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18 Rectángulo"/>
          <p:cNvSpPr/>
          <p:nvPr/>
        </p:nvSpPr>
        <p:spPr>
          <a:xfrm>
            <a:off x="1700280" y="3924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logística para ceremonia de premiación y se elaboran reconocimien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AutoShape 32"/>
          <p:cNvCxnSpPr>
            <a:stCxn id="217" idx="2"/>
            <a:endCxn id="218" idx="0"/>
          </p:cNvCxnSpPr>
          <p:nvPr/>
        </p:nvCxnSpPr>
        <p:spPr>
          <a:xfrm>
            <a:off x="3499920" y="377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18 Rectángulo"/>
          <p:cNvSpPr/>
          <p:nvPr/>
        </p:nvSpPr>
        <p:spPr>
          <a:xfrm>
            <a:off x="1700280" y="42847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ifunden invitaciones para ceremonia de premiación y se entrega prem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AutoShape 32"/>
          <p:cNvCxnSpPr>
            <a:stCxn id="218" idx="2"/>
            <a:endCxn id="220" idx="0"/>
          </p:cNvCxnSpPr>
          <p:nvPr/>
        </p:nvCxnSpPr>
        <p:spPr>
          <a:xfrm>
            <a:off x="3499920" y="4140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Rectangle 701"/>
          <p:cNvSpPr/>
          <p:nvPr/>
        </p:nvSpPr>
        <p:spPr>
          <a:xfrm>
            <a:off x="333360" y="3637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701"/>
          <p:cNvSpPr/>
          <p:nvPr/>
        </p:nvSpPr>
        <p:spPr>
          <a:xfrm>
            <a:off x="333360" y="4211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66"/>
          <p:cNvSpPr/>
          <p:nvPr/>
        </p:nvSpPr>
        <p:spPr>
          <a:xfrm>
            <a:off x="5373720" y="39243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ADM-15  / reconocimientos a participant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66"/>
          <p:cNvSpPr/>
          <p:nvPr/>
        </p:nvSpPr>
        <p:spPr>
          <a:xfrm>
            <a:off x="5373720" y="4645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18 Rectángulo"/>
          <p:cNvSpPr/>
          <p:nvPr/>
        </p:nvSpPr>
        <p:spPr>
          <a:xfrm>
            <a:off x="1700280" y="47322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genera informe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AutoShape 32"/>
          <p:cNvCxnSpPr>
            <a:stCxn id="220" idx="2"/>
            <a:endCxn id="226" idx="0"/>
          </p:cNvCxnSpPr>
          <p:nvPr/>
        </p:nvCxnSpPr>
        <p:spPr>
          <a:xfrm>
            <a:off x="3499920" y="4500360"/>
            <a:ext cx="108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Rectangle 666"/>
          <p:cNvSpPr/>
          <p:nvPr/>
        </p:nvSpPr>
        <p:spPr>
          <a:xfrm>
            <a:off x="5373720" y="225252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vocato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700"/>
          <p:cNvSpPr/>
          <p:nvPr/>
        </p:nvSpPr>
        <p:spPr>
          <a:xfrm>
            <a:off x="404640" y="226836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capacitación electoral y educación cív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AutoShape 32"/>
          <p:cNvCxnSpPr>
            <a:stCxn id="226" idx="2"/>
          </p:cNvCxnSpPr>
          <p:nvPr/>
        </p:nvCxnSpPr>
        <p:spPr>
          <a:xfrm>
            <a:off x="3499920" y="49478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Rectangle 666"/>
          <p:cNvSpPr/>
          <p:nvPr/>
        </p:nvSpPr>
        <p:spPr>
          <a:xfrm>
            <a:off x="5373720" y="43401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vit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Oval 34"/>
          <p:cNvSpPr/>
          <p:nvPr/>
        </p:nvSpPr>
        <p:spPr>
          <a:xfrm>
            <a:off x="3213000" y="521964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649"/>
          <p:cNvCxnSpPr>
            <a:endCxn id="203" idx="0"/>
          </p:cNvCxnSpPr>
          <p:nvPr/>
        </p:nvCxnSpPr>
        <p:spPr>
          <a:xfrm flipH="1">
            <a:off x="3516120" y="1834920"/>
            <a:ext cx="360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716120" y="19573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elabora proyecto y se presenta a Dirección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66"/>
          <p:cNvSpPr/>
          <p:nvPr/>
        </p:nvSpPr>
        <p:spPr>
          <a:xfrm>
            <a:off x="5391000" y="18702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royecto / P-ADM-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00"/>
          <p:cNvSpPr/>
          <p:nvPr/>
        </p:nvSpPr>
        <p:spPr>
          <a:xfrm>
            <a:off x="422280" y="188604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capacitación electoral y educación cív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4-19T14:41:13Z</dcterms:modified>
  <cp:revision>334</cp:revision>
  <dc:subject/>
  <dc:title>Presentación de PowerPoint</dc:title>
</cp:coreProperties>
</file>