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A9C-9D7B-4829-80EE-424EB21127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81E0-5272-409F-BD42-966400C885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794-4B4A-4530-B7B9-471CF9656A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28C-4B1B-4D0C-A569-E3BDD866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E20-45F6-4CE4-9909-013A6A2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E8B-4284-4825-ACA4-C2E3BA95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9B6-9E0F-4BE8-94E0-B698087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D65-BB6D-4301-9FE2-04BC5B8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4F5-7FF8-44BB-A5C6-E52BC754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6C0-82B9-4946-A186-93162BF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D61-72E6-468D-B26E-1A77AA10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DC2-026A-41F8-92CE-D46BE84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AF1-4CEC-4763-A36F-77514A8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CCB-6866-4FDE-9C06-4666FBAE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379-B595-42ED-8FED-84F60980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C8C9-6738-458C-89AC-75B7F8C1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C01C-73D5-458C-9265-D7AB2B8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DA0-ECA8-499C-B0AA-39E4797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5D0-034D-46ED-80E5-9D8371D9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ACDC-F6A9-4235-9B15-B86E1BC1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B158-482B-43E8-AE93-F81108C6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5C9-78C0-40AD-9D1F-D39633F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2979-A055-4DA3-ABD4-040F615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A89D-BF4A-4616-803B-CA62E1A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C7CC-90DC-4BB7-8499-E8EB184E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6881-D60C-4D71-8671-4DE947B2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BA2E-B54C-4C3D-ABAE-B79CD9A0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AB35-F912-4E3A-BFC2-07159D56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272C-5189-475C-820D-813D47F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73BC-3807-45F9-A249-9CF84566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3DFE-5609-44B5-8F15-C62BA4C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C8E7-660B-497D-AFF4-D1C3E525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7FB9-7C4D-4583-9CE5-9A700375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9CC4-4F7B-4419-84D4-6DD726B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8DE2-2133-4E0B-9867-EF996F8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516C-5DBA-433A-92CC-2C80089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89AF-D514-4D89-9B61-8A1C5B27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A24B-B5E4-4A8B-A779-2550D280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ED44-D176-4099-BE08-106D1F75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Geografia y Diseño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F21CB62-49B3-41E7-88E2-963A8B6982D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56B6-BD8D-47D2-87DD-D1189E6A414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87CF-0E39-44D4-9E9E-1FF7A5861EF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CD7F-E55F-4216-A359-301EA53779B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ivisión de territorio de acuerdo al padr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esenta propuesta a Secretaria Ejecutiva para pleno del institut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geografía / coordinadores centrales / 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-0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 21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s material y documentación / proyección de material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laboran proyectos para material y documentación electoral y proyección de material por distrito y por municip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ra la actualización cartográfica y se presentara a Secretaria ejecutiva para la circulación entre integrantes del plen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icitación correspondiente y se envía a Secretaria ejecu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y se envía características a empresa de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tos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visión de material y documentación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enso de población y vivienda  / padrón electoral / propuesta de división de terri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Toda el la dirección de organ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ta de material electoral / 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onvoy para llevar material a bodega general y posteriormente a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stribuyen de acuerdo al numero de casill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32"/>
          <p:cNvCxnSpPr>
            <a:stCxn id="237" idx="2"/>
          </p:cNvCxnSpPr>
          <p:nvPr/>
        </p:nvCxnSpPr>
        <p:spPr>
          <a:xfrm>
            <a:off x="3499920" y="5365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5564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aterial a mesas directiva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2"/>
          <p:cNvCxnSpPr/>
          <p:nvPr/>
        </p:nvCxnSpPr>
        <p:spPr>
          <a:xfrm>
            <a:off x="3499920" y="5724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material y documen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34"/>
          <p:cNvSpPr/>
          <p:nvPr/>
        </p:nvSpPr>
        <p:spPr>
          <a:xfrm>
            <a:off x="3213000" y="58690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5:27:59Z</dcterms:modified>
  <cp:revision>311</cp:revision>
  <dc:subject/>
  <dc:title>Presentación de PowerPoint</dc:title>
</cp:coreProperties>
</file>