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1A8F-45EC-4EDD-80FC-030DA9CCDF0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C512-2B5B-4220-9808-9F4378CCAAA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AA83-F4C6-4BD8-944B-F8A290A653F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3D5D-FAF3-4206-9C48-82EEA662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DB0E-5D94-4944-880E-CD4E5FD5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1DEB-80B0-4CAB-AA8B-635770A1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A34F-7D3D-4F76-8A13-6D264326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3EDF-5149-4211-83FA-90AA5909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678F-1619-486F-B655-6E77502A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F56A-C42B-4797-9B91-049EE377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5435-5A16-4609-8B26-AF2C07DD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5FA3-2BBB-467F-9B62-7B53DCF0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5994-3814-47B3-9D3D-99E93B52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1EB5-08AE-449A-902B-5BA3DAA3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BED2-649E-4353-BFFB-98E67262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6FD6-F977-41CF-BD49-F11E06F1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138C-9432-46EA-9476-C622172C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8D70-F79C-4424-B31C-0703331F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9365-AD2D-461F-B8B8-57EC71DB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9869-2569-4B48-82EC-A98545E7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5841-9121-44B9-8E56-DC90EE27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F75B-501F-4744-A459-95687486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44DC-F800-4E67-8BF1-40309411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AE78-EB50-4371-B808-D1B2837B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3255-3792-4DEA-A6EA-5146DC06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73DF-AA63-478B-AD02-B18DBC6C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03BA-0613-4077-8AC3-26D7A965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stadística y análi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3413AF78-209A-4A7B-9A2E-2950127B9912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 Director de Organización, Geografía y Estadística Elector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2-01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B405-7C97-499C-92E9-3CC40399130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03B6-507B-4F72-823F-29615B78B0A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 agregaron referencias y se eliminaron respons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/01/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Obtener , sistematizar y publicar  estadísticamente la información que se genera durante el proceso elector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el análisis cuantitativo de la información que se genera durante el desarrollo del proceso electoral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88604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52"/>
          <p:cNvSpPr/>
          <p:nvPr/>
        </p:nvSpPr>
        <p:spPr>
          <a:xfrm>
            <a:off x="1700280" y="327672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genera información en la dirección y se concentra la información de las demás áreas del Institu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53"/>
          <p:cNvSpPr/>
          <p:nvPr/>
        </p:nvSpPr>
        <p:spPr>
          <a:xfrm>
            <a:off x="1700280" y="2554200"/>
            <a:ext cx="3600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 capacita a coordinadores distritales, subcoordinadores distritales y coordinadores cent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65"/>
          <p:cNvSpPr/>
          <p:nvPr/>
        </p:nvSpPr>
        <p:spPr>
          <a:xfrm>
            <a:off x="5373720" y="39243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ase de d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6"/>
          <p:cNvSpPr/>
          <p:nvPr/>
        </p:nvSpPr>
        <p:spPr>
          <a:xfrm>
            <a:off x="5373720" y="2195640"/>
            <a:ext cx="127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 Narrow"/>
              </a:rPr>
              <a:t>Reglamento Interior del  Instituto Electoral y de Participación Ciudadana, Manual de Organización de la Dirección de Organización, Geografía y Estadística Electoral y Manual de Procedimientos de la Dirección de Organización. Geografía y Estadística Electora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485928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porte estadíst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56"/>
          <p:cNvSpPr/>
          <p:nvPr/>
        </p:nvSpPr>
        <p:spPr>
          <a:xfrm>
            <a:off x="1700280" y="4788000"/>
            <a:ext cx="360036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 publica a través de gráfico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5"/>
          <p:cNvCxnSpPr>
            <a:stCxn id="166" idx="2"/>
          </p:cNvCxnSpPr>
          <p:nvPr/>
        </p:nvCxnSpPr>
        <p:spPr>
          <a:xfrm>
            <a:off x="3499920" y="507672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18 Rectángulo"/>
          <p:cNvSpPr/>
          <p:nvPr/>
        </p:nvSpPr>
        <p:spPr>
          <a:xfrm>
            <a:off x="1700280" y="38512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  crean y sistematizan bases de d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18 Rectángulo"/>
          <p:cNvSpPr/>
          <p:nvPr/>
        </p:nvSpPr>
        <p:spPr>
          <a:xfrm>
            <a:off x="1700280" y="4356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Los datos se estructuran estadísticame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32"/>
          <p:cNvCxnSpPr>
            <a:stCxn id="161" idx="2"/>
          </p:cNvCxnSpPr>
          <p:nvPr/>
        </p:nvCxnSpPr>
        <p:spPr>
          <a:xfrm flipH="1">
            <a:off x="3499560" y="356544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AutoShape 32"/>
          <p:cNvCxnSpPr>
            <a:stCxn id="168" idx="2"/>
          </p:cNvCxnSpPr>
          <p:nvPr/>
        </p:nvCxnSpPr>
        <p:spPr>
          <a:xfrm>
            <a:off x="3499920" y="4066920"/>
            <a:ext cx="108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Rectangle 666"/>
          <p:cNvSpPr/>
          <p:nvPr/>
        </p:nvSpPr>
        <p:spPr>
          <a:xfrm>
            <a:off x="5373720" y="327672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xpedientes electorales / estadísticas/ bases de datos / formato de capt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0"/>
          <p:cNvSpPr/>
          <p:nvPr/>
        </p:nvSpPr>
        <p:spPr>
          <a:xfrm>
            <a:off x="404640" y="2557440"/>
            <a:ext cx="115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a de Departamento de Estadístic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34"/>
          <p:cNvSpPr/>
          <p:nvPr/>
        </p:nvSpPr>
        <p:spPr>
          <a:xfrm>
            <a:off x="3213000" y="52927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700"/>
          <p:cNvSpPr/>
          <p:nvPr/>
        </p:nvSpPr>
        <p:spPr>
          <a:xfrm>
            <a:off x="404640" y="3276720"/>
            <a:ext cx="115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a de Departamento de Seguimiento y Análi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00"/>
          <p:cNvSpPr/>
          <p:nvPr/>
        </p:nvSpPr>
        <p:spPr>
          <a:xfrm>
            <a:off x="404640" y="3780000"/>
            <a:ext cx="1152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a de Departamento de Estadístic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00"/>
          <p:cNvSpPr/>
          <p:nvPr/>
        </p:nvSpPr>
        <p:spPr>
          <a:xfrm>
            <a:off x="404640" y="4286160"/>
            <a:ext cx="115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a de Departamento de Estadís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00"/>
          <p:cNvSpPr/>
          <p:nvPr/>
        </p:nvSpPr>
        <p:spPr>
          <a:xfrm>
            <a:off x="404640" y="4789440"/>
            <a:ext cx="115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a de Departamento de Estadís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685"/>
          <p:cNvCxnSpPr>
            <a:stCxn id="160" idx="2"/>
          </p:cNvCxnSpPr>
          <p:nvPr/>
        </p:nvCxnSpPr>
        <p:spPr>
          <a:xfrm flipH="1">
            <a:off x="3499560" y="2050920"/>
            <a:ext cx="25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AutoShape 685"/>
          <p:cNvCxnSpPr>
            <a:stCxn id="162" idx="2"/>
          </p:cNvCxnSpPr>
          <p:nvPr/>
        </p:nvCxnSpPr>
        <p:spPr>
          <a:xfrm>
            <a:off x="3499200" y="284328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685"/>
          <p:cNvCxnSpPr/>
          <p:nvPr/>
        </p:nvCxnSpPr>
        <p:spPr>
          <a:xfrm>
            <a:off x="3499920" y="4572000"/>
            <a:ext cx="252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Rectangle 665"/>
          <p:cNvSpPr/>
          <p:nvPr/>
        </p:nvSpPr>
        <p:spPr>
          <a:xfrm>
            <a:off x="5373720" y="435600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nálisis Cuantit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3-08-21T17:59:05Z</dcterms:modified>
  <cp:revision>339</cp:revision>
  <dc:subject/>
  <dc:title>Presentación de PowerPoint</dc:title>
</cp:coreProperties>
</file>