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2F16-9817-4505-89B6-AF008C8AD3D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11E8-BE95-4CFC-B454-35977EA60F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1058-767A-452D-8373-422C1190B8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A26-BC34-4CBE-9102-9DAEC7F7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4089-B6F8-42F8-BCF7-46CEDE42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9AB-DDF6-4D44-AA24-E7875287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98FC-50C8-4818-9217-07FEFCFC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A4C4-CA56-47D0-AA09-CCE5C1A8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067C-5C89-41CA-9AA7-7311A5ED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596-41D1-47D5-A979-0572F8CF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D727-E5D2-4251-9EDF-F81C5F86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976F-21AE-4390-BF37-9BA7F27E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72F7-154C-4440-9872-B8D9B5BA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7D6-D596-4854-8307-CBC332CF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D32-B334-4090-99AF-9EC4E3F8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2767-16F9-4EF1-AC0A-679CC6D4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767B-4296-4E81-AB51-B0A58AAF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8A6F-E68E-465D-80CC-1AD79FA5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9596-E7DB-4BD9-843D-AFE9E399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23F1-D4A4-487A-8D81-694CF7E2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A003-7E62-4A47-A1BC-CF0DE601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3474-975B-4CA9-86DA-442BBEF4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8A9F-8F46-4C13-893D-43C342A3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3632-770F-4F0F-BB85-D094A61E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B94C-E7BC-4BD3-957A-163E296D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8AD6-F5B1-404F-9EF6-8BFC450D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BE26-53F9-4B4E-B947-1F6D857F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gistro de representantes de partidos politicos ante la M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D60C175F-5629-4A3F-87D9-44BE3838EEBB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Organ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D88F-98F4-4123-8096-3F06DF54A4E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CCD1-5CA1-4157-8D9A-AC03C9335C4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visa calendario para registro de represent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listados o formatos de partidos polít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30607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istado de partidos polític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stado de partidos acredi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4"/>
          <p:cNvCxnSpPr>
            <a:stCxn id="163" idx="2"/>
            <a:endCxn id="168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19564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Todo personal de organ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25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Todo personal de organ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2755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stado de partidos polít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duplicidad en caso de haber se elimina con asignación correspon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AutoShape 685"/>
          <p:cNvCxnSpPr>
            <a:stCxn id="168" idx="2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esidente de MD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0592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lista a consejeros distritales para asignación de paquet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acreditación de personal de acuerdo a list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stCxn id="174" idx="2"/>
            <a:endCxn id="175" idx="0"/>
          </p:cNvCxnSpPr>
          <p:nvPr/>
        </p:nvCxnSpPr>
        <p:spPr>
          <a:xfrm>
            <a:off x="3499920" y="32749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32"/>
          <p:cNvCxnSpPr>
            <a:stCxn id="175" idx="2"/>
          </p:cNvCxnSpPr>
          <p:nvPr/>
        </p:nvCxnSpPr>
        <p:spPr>
          <a:xfrm>
            <a:off x="3499920" y="3635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701"/>
          <p:cNvSpPr/>
          <p:nvPr/>
        </p:nvSpPr>
        <p:spPr>
          <a:xfrm>
            <a:off x="333360" y="291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centrales / coordinadores distritales / subcoordinador distrital / C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6"/>
          <p:cNvSpPr/>
          <p:nvPr/>
        </p:nvSpPr>
        <p:spPr>
          <a:xfrm>
            <a:off x="5373720" y="3403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do de partidos políticos /P-OPE-07 / P-OPE-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grama de actividad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34"/>
          <p:cNvSpPr/>
          <p:nvPr/>
        </p:nvSpPr>
        <p:spPr>
          <a:xfrm>
            <a:off x="3284640" y="3780000"/>
            <a:ext cx="57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29T05:27:25Z</dcterms:modified>
  <cp:revision>313</cp:revision>
  <dc:subject/>
  <dc:title>Presentación de PowerPoint</dc:title>
</cp:coreProperties>
</file>