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7C13-22AD-4718-B9B7-A8211195A0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957D-6EB4-49DE-88A8-D21FD5E2EC8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BB96-F32E-4694-8F0A-FBD78C27EE3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41B2-976E-46DC-98AF-F4FD8833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8C9-7D69-4328-BD52-9ED80B51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CE86-5ADE-4277-BAD8-FA2E14AE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1169-4264-45C6-9F75-CA09EAF4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B0B-9F30-451E-B622-0F9B0794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E101-6174-4A52-9600-F530F6B9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0BC1-20E5-461C-86C7-92E59D99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880-61E4-4DE0-9B45-414A06D2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E478-AD87-4458-9C8E-C3B7CB6E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8546-04F4-45D1-ACF7-14437EC9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7A27-2CB2-4B2D-8A8A-0816CBBF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741-9C3E-412F-89E4-3851AA37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E068-CF67-4CB6-BAF0-4BCFD30F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EE0E-C25F-4A46-8457-7E1D7823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347B-604F-424E-81C3-19599640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640B-9537-4E39-A7EB-F33C413D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5DDE-D545-4138-8153-CCBF4015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53DB-95C3-489B-B6F5-BAF4E2F1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99EC-6B43-49C4-8B32-14416636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EAD0-CD5D-499E-8A53-66929405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6FB5-433B-439B-BC83-F0D3DC3D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5611-8765-46F2-804D-253DAB36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6E26-44D6-4989-AECB-98C75E4A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CD59-4D6C-449B-AEAD-B7417D60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DDD73-4788-4DFC-B175-E3206E1A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6F232-18A9-49FB-9772-2F1871F6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235AD-1425-4BE6-8121-A234372F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5B784-6D9A-4AD5-92E5-D283F4F1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35141-CA36-4389-B79B-C1FB60E5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A5FC2-3DFB-4984-B7D9-7707A4CC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FC9E0-E10A-469E-BF70-36D09D70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0FDB4-2C8A-4FE0-82EA-67EBF015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9FB8C-174B-4918-A658-13EA55B2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9BAA4-8E8D-4295-8DEA-D4770428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5BD0D-3B5B-4C3C-8293-65D269EC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F4883-8EB7-41D7-996E-19B312E8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ficialia de Par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CAD9F854-7010-4C38-A923-D9A419973D1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Secretario Ejecu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-ADM-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BC47-0F7A-445A-AA24-EC041FB65E9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86CA-A364-4FB7-8031-74CFEBA43F8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D726-DFA2-474F-8931-013A23A8E23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recepción de documentación del instituto para turnarse al area correspondiente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29032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5574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documentos externos y se folia y fir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30621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turna al área correspondiente para su debido segu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42148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Lectura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30463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Libro de registro de acuse / lectura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7734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327816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91780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rchivo / encargado de oficialía de partes / auxilia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708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763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ctura de correspondencia / E- mail / P-ADM-3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635280"/>
            <a:ext cx="3600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ctualiza lectura de correspondencia conforme a folios y se envía a Secretaria Ejecu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  <a:endCxn id="214" idx="0"/>
          </p:cNvCxnSpPr>
          <p:nvPr/>
        </p:nvCxnSpPr>
        <p:spPr>
          <a:xfrm>
            <a:off x="3499920" y="392580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8 Rectángulo"/>
          <p:cNvSpPr/>
          <p:nvPr/>
        </p:nvSpPr>
        <p:spPr>
          <a:xfrm>
            <a:off x="1700280" y="4140360"/>
            <a:ext cx="360036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con Secretaria Ejecutiva el estatus de los folios recibidos y se actualiza lectura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>
            <a:stCxn id="214" idx="2"/>
          </p:cNvCxnSpPr>
          <p:nvPr/>
        </p:nvCxnSpPr>
        <p:spPr>
          <a:xfrm>
            <a:off x="3499920" y="44287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4141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a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24703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 documento orig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0"/>
          <p:cNvSpPr/>
          <p:nvPr/>
        </p:nvSpPr>
        <p:spPr>
          <a:xfrm>
            <a:off x="404640" y="248616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al de partes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4"/>
          <p:cNvSpPr/>
          <p:nvPr/>
        </p:nvSpPr>
        <p:spPr>
          <a:xfrm>
            <a:off x="3213000" y="4572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3-07-10T18:27:52Z</dcterms:modified>
  <cp:revision>328</cp:revision>
  <dc:subject/>
  <dc:title>Presentación de PowerPoint</dc:title>
</cp:coreProperties>
</file>