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ADF4-CC3F-4CCB-9D88-7FC348CA574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C8B5-51F6-472B-9266-07B8D6A5A95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471B-B59A-45F6-ABAC-A94E2EFE3B2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CF2-C7FD-4B72-9F1E-84D8B7E3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705-447F-4821-BF9A-37EED5FA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D25D-1E26-4712-8EDC-458678A3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BA4-1067-4F91-A30B-8EC014AD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63B-E501-499D-BA1E-57567519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240-9F81-41F2-A696-C78ABFE0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3C8F-6900-499E-BCF3-EAFC8904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1DD-18DD-43E8-8A18-2BA7C7C1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31AC-C20F-43EC-A779-36D4559A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D97-8237-4F03-A23A-E572F3CE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EC34-2A40-4EFB-BD0E-497C7AD4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FF31-8430-4425-93A4-C3DBEDD6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B53D-3E03-4CE7-B9BE-64AC4648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6E5D-D8AE-4DBF-8E64-4EF940DC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53D7-122A-4216-A4C4-5BE6CB8C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77D2-9CE8-4EED-806A-CA73CA45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AE2B-2081-4732-A179-B9583851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F9E5-4731-4A19-B6D7-0FC37536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2118-E322-41CF-80FD-CB5E1BBF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5DA9-F10D-47E4-AB08-FDB7C4ED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6765-5BFE-463E-A7A1-53937EC0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F417-E2FA-47C4-BDB9-EE654724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ADA5-CC75-4666-8A9A-636CE20B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FF24-35A9-439B-BF81-75E38144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gistro de representantes de partidos politicos ante la M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5D696D70-9BAA-4FBE-B107-75B855A6CAF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 Director de Organización, Geografía y Estadística Elector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4EEF-B15C-40AE-BA4C-830B53C8DFF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984F-ACE9-45E0-B6E8-7E024859BF9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 incluyo terminologia y se agregraron regis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Otorgar el nombramiento de los representantes de los partidos políticos ante las Mesas Directivas de Casill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Identificar la asignación de los representantes de los partidos políticos ante Mesa Directiva de Casill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260280" y="266544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MDC: Mesa Directiva de Casi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3000" y="1835280"/>
            <a:ext cx="57492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</p:cNvCxnSpPr>
          <p:nvPr/>
        </p:nvCxnSpPr>
        <p:spPr>
          <a:xfrm>
            <a:off x="3499200" y="2000160"/>
            <a:ext cx="108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3"/>
          <p:cNvSpPr/>
          <p:nvPr/>
        </p:nvSpPr>
        <p:spPr>
          <a:xfrm>
            <a:off x="1698480" y="2411280"/>
            <a:ext cx="360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Publicación de las listas de ubicación de casil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AutoShape 684"/>
          <p:cNvCxnSpPr>
            <a:stCxn id="162" idx="2"/>
            <a:endCxn id="164" idx="0"/>
          </p:cNvCxnSpPr>
          <p:nvPr/>
        </p:nvCxnSpPr>
        <p:spPr>
          <a:xfrm>
            <a:off x="3498840" y="2771280"/>
            <a:ext cx="21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18 Rectángulo"/>
          <p:cNvSpPr/>
          <p:nvPr/>
        </p:nvSpPr>
        <p:spPr>
          <a:xfrm>
            <a:off x="1700280" y="4213080"/>
            <a:ext cx="3600360" cy="57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l Instituto devuelve dos ejemplares debidamente sellados a los partidos políticos, conservando para si uno de ell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00"/>
          <p:cNvSpPr/>
          <p:nvPr/>
        </p:nvSpPr>
        <p:spPr>
          <a:xfrm>
            <a:off x="404640" y="241308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34"/>
          <p:cNvSpPr/>
          <p:nvPr/>
        </p:nvSpPr>
        <p:spPr>
          <a:xfrm>
            <a:off x="3213000" y="6084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4"/>
          <p:cNvCxnSpPr/>
          <p:nvPr/>
        </p:nvCxnSpPr>
        <p:spPr>
          <a:xfrm>
            <a:off x="3500280" y="5724000"/>
            <a:ext cx="57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666"/>
          <p:cNvSpPr/>
          <p:nvPr/>
        </p:nvSpPr>
        <p:spPr>
          <a:xfrm>
            <a:off x="5373720" y="2411280"/>
            <a:ext cx="127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Ubicación de casillas electorales (Ubicasillas y reporte de publicació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260280" y="3203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53"/>
          <p:cNvSpPr/>
          <p:nvPr/>
        </p:nvSpPr>
        <p:spPr>
          <a:xfrm>
            <a:off x="1700280" y="3132000"/>
            <a:ext cx="3600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Registro de representantes de partidos políticos generales y de casilla, en su propia documentación y por triplicado ante el Instituto Elector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AutoShape 684"/>
          <p:cNvCxnSpPr>
            <a:endCxn id="165" idx="0"/>
          </p:cNvCxnSpPr>
          <p:nvPr/>
        </p:nvCxnSpPr>
        <p:spPr>
          <a:xfrm flipH="1">
            <a:off x="3499560" y="3852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Rectangle 701"/>
          <p:cNvSpPr/>
          <p:nvPr/>
        </p:nvSpPr>
        <p:spPr>
          <a:xfrm>
            <a:off x="333360" y="4140360"/>
            <a:ext cx="122400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l Departamento de Operación, Jefe del Departamento de Geografía y Diseño, Jefe del Departamento de Seguimiento y Análisis, Jefe del Departamento de Estadística, Coordinador Centra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18 Rectángulo"/>
          <p:cNvSpPr/>
          <p:nvPr/>
        </p:nvSpPr>
        <p:spPr>
          <a:xfrm>
            <a:off x="1700280" y="5148360"/>
            <a:ext cx="3600360" cy="57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Sustitución de representantes de partidos políticos mediante escrito firmado por el dirigente o representante del partido político que haga el nombramien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AutoShape 684"/>
          <p:cNvCxnSpPr/>
          <p:nvPr/>
        </p:nvCxnSpPr>
        <p:spPr>
          <a:xfrm>
            <a:off x="3500280" y="4787640"/>
            <a:ext cx="57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Rectangle 701"/>
          <p:cNvSpPr/>
          <p:nvPr/>
        </p:nvSpPr>
        <p:spPr>
          <a:xfrm>
            <a:off x="5445000" y="5219640"/>
            <a:ext cx="12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gistro de representante de partido ante mesas directivas de casil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01"/>
          <p:cNvSpPr/>
          <p:nvPr/>
        </p:nvSpPr>
        <p:spPr>
          <a:xfrm>
            <a:off x="5445000" y="428472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gistro de representante de partido ante mesas directivas de casil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01"/>
          <p:cNvSpPr/>
          <p:nvPr/>
        </p:nvSpPr>
        <p:spPr>
          <a:xfrm>
            <a:off x="5445000" y="327672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gistro de representante de partido ante mesas directivas de casil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Soledad Alatorre</cp:lastModifiedBy>
  <dcterms:modified xsi:type="dcterms:W3CDTF">2012-04-05T17:41:47Z</dcterms:modified>
  <cp:revision>333</cp:revision>
  <dc:subject/>
  <dc:title>Presentación de PowerPoint</dc:title>
</cp:coreProperties>
</file>