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A84-C6F3-4F97-A29A-A516ED2C5C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55F7-2030-401B-8585-BFB88CF9DB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452B-69BF-41F3-8B32-69FAE649D5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F64-97F0-49DC-89D2-99668A27D8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38B-E891-450C-A92A-FEBC18ED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FC7-249C-492E-BE09-719A47A5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6AB-E6E4-4E1C-8433-6A7C3F4D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E53-FDC6-457F-9379-55F7F05D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C24-5F6A-4281-8677-6C36B000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D85-FC18-473A-BF04-19B242F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DAD-13A5-40CD-A43E-FAEAAB9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548-860B-4ED3-8192-855E33C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C0D-2233-4C32-A05D-7286FA2F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DD7-4789-4046-87EE-2FA5555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447-FFB1-4558-987C-B7923DCA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86A-E3AE-4093-835E-08EEC5C7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0D12-B7C8-48EB-BB8D-ED47C924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A078-BC25-472F-A5AD-076CF6C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EF7B-A578-4237-8A0D-6244E657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9C62-A091-410E-9B5C-2F0C146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DDC0-B9F5-46E7-8D0E-08BF408C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7783-3522-4487-A076-BD1B1660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DBCC-316A-451F-AC88-748ECB3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3CE9-057D-4F6E-A0CA-1ADB09D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B038-F7D9-485C-B651-7BE881AB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3654-C54E-495E-AEBA-E666016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6098-5357-41FD-B58A-827FB04A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E044-34F0-4ECC-9F4B-F1DBCF69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9EAE-36BF-40EE-B036-6661658E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D99F-EA5F-43FF-B3A4-F315CD1B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50E6-CEB4-4DD3-9B87-2B63415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F950-88A4-40FE-B12B-C0AC8F6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97B2-6213-4FE7-BE27-AE291B14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3F15-6D67-42BC-8115-FC2C6C7E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F0BC-C79C-47CD-8E0E-FE4EF50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ECF7-2CED-4226-8FF7-675BDFC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C673-F0B3-4387-AD71-27F9870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37E4-062B-4F31-8219-5DD58263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151B-AB61-46D9-BEB4-0A40AAE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AEEE-7C07-453C-A0A9-B7426003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1B5E084-290F-4BA5-B790-B2EA25D998C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E63-2A73-47D2-AF41-9541250B25C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1D70-1A21-4EF6-842E-C1E22E4664E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3ED-AABB-4546-A388-24E7D8DCD63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Mantener enterado al personal directivo del IEPC sobre la información de actividades y funciones que desarrolla el instituto y recopilar y analizar información que sobre el instituto difundan los medios masivos de comunicación, mediante la elaboración de productos como la síntesis de prensa y la de monitoreo de medio electrón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dar el seguimiento de las notas del IEPC con todos los medio de comunic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Carpeta Informativa: Recopilación de notas de interés para el IEPC, con recortes periodísticos, notas de internet, radio en el portales de intern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Master: Recopilación de notas de video en D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ódicos y artí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, Director General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ó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6T00:53:38Z</dcterms:modified>
  <cp:revision>327</cp:revision>
  <dc:subject/>
  <dc:title>Presentación de PowerPoint</dc:title>
</cp:coreProperties>
</file>