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20D7-0C80-4958-96D3-B6CBD4E73E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62BB-1B1E-4EFA-8AC4-498B296875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04CE-9318-4C6D-BCF0-CE12AC5BCB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C08-6534-410C-A060-62FC41EF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FCD-348E-4CE3-927D-A06C6902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19C-A86E-4ACE-9481-91CDC113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A16-685E-46A5-8C33-6740A91E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AD6-3A74-40B4-828A-2CAE01C3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B0F-5C49-4232-879C-95983366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F0A-1D9B-4E16-8E97-C9F59F94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75A-B0AC-4E9D-AFCC-F7D6EA70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D19-DE9D-4DB9-A8E9-08A8B54E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7BF-76C5-4CE9-A03A-AF3843D7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A5D-E099-4969-A49A-CFA1430F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1B0-3E08-418A-BCBD-F8C76162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Elaboración de Estad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68F1184-A9E6-4429-A23F-A75F0F292C2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8639-8B07-4D64-86E3-13777849A51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laborar y actualizar constantemente las estadísticas respecto de las diversas actividades en las que participa la dirección jurídica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elaboración de estadísticas que funcionen para tener parámetros de la misma direcció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TEPJF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   Tribunal Electoral del Poder Judicial de la Fede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TRIEJAL                      Tribunal Electoral del Poder Judicial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JURISPRUDENCIA  Interpretación jurídica que realizan órganos jurisdiccionales con la finalidad de aclarar posibles laguna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    en las leyes, se crea a través de las reiteradas interpretaciones que hacen los tribunales en sus resoluci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ACUERDO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 la expresion por escrito en forma abstracta de un criterio juridico obligatorio establecido al aplicar, interpreptar o integrar una norma, conforme a los sosteas previstos legalm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6640" y="19969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3560" y="216216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3"/>
          <p:cNvSpPr/>
          <p:nvPr/>
        </p:nvSpPr>
        <p:spPr>
          <a:xfrm>
            <a:off x="1698480" y="2340000"/>
            <a:ext cx="3530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olecta información sobre medios de impugnación y procedimientos administrativos para las memori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64"/>
          <p:cNvSpPr/>
          <p:nvPr/>
        </p:nvSpPr>
        <p:spPr>
          <a:xfrm>
            <a:off x="5364000" y="5086440"/>
            <a:ext cx="1295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TEP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RIEJ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5"/>
          <p:cNvSpPr/>
          <p:nvPr/>
        </p:nvSpPr>
        <p:spPr>
          <a:xfrm>
            <a:off x="5373720" y="565956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TEP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ublicaciones del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RIEJ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6"/>
          <p:cNvSpPr/>
          <p:nvPr/>
        </p:nvSpPr>
        <p:spPr>
          <a:xfrm>
            <a:off x="5373720" y="199692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684"/>
          <p:cNvCxnSpPr>
            <a:stCxn id="121" idx="2"/>
            <a:endCxn id="126" idx="0"/>
          </p:cNvCxnSpPr>
          <p:nvPr/>
        </p:nvCxnSpPr>
        <p:spPr>
          <a:xfrm>
            <a:off x="346356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700"/>
          <p:cNvSpPr/>
          <p:nvPr/>
        </p:nvSpPr>
        <p:spPr>
          <a:xfrm>
            <a:off x="333360" y="1996920"/>
            <a:ext cx="1222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6"/>
          <p:cNvSpPr/>
          <p:nvPr/>
        </p:nvSpPr>
        <p:spPr>
          <a:xfrm>
            <a:off x="5373720" y="2843280"/>
            <a:ext cx="127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xpe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60"/>
          <p:cNvSpPr/>
          <p:nvPr/>
        </p:nvSpPr>
        <p:spPr>
          <a:xfrm>
            <a:off x="333360" y="3348000"/>
            <a:ext cx="122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66"/>
          <p:cNvSpPr/>
          <p:nvPr/>
        </p:nvSpPr>
        <p:spPr>
          <a:xfrm>
            <a:off x="5373720" y="3348000"/>
            <a:ext cx="127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stadís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56"/>
          <p:cNvSpPr/>
          <p:nvPr/>
        </p:nvSpPr>
        <p:spPr>
          <a:xfrm>
            <a:off x="1700280" y="2843280"/>
            <a:ext cx="35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n estadísticas de medios de impugnación y procedimientos administrativos para las memorias elect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685"/>
          <p:cNvCxnSpPr>
            <a:stCxn id="126" idx="2"/>
            <a:endCxn id="133" idx="0"/>
          </p:cNvCxnSpPr>
          <p:nvPr/>
        </p:nvCxnSpPr>
        <p:spPr>
          <a:xfrm>
            <a:off x="3463560" y="3132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Rectangle 653"/>
          <p:cNvSpPr/>
          <p:nvPr/>
        </p:nvSpPr>
        <p:spPr>
          <a:xfrm>
            <a:off x="1700280" y="5075280"/>
            <a:ext cx="3529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tudio de jurisprudencias y criterios de Sala Superior y Salas Regionales del Tribunal Electoral del Poder Judicial de la Federación para realización de Estadís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AutoShape 685"/>
          <p:cNvCxnSpPr>
            <a:stCxn id="133" idx="2"/>
            <a:endCxn id="134" idx="0"/>
          </p:cNvCxnSpPr>
          <p:nvPr/>
        </p:nvCxnSpPr>
        <p:spPr>
          <a:xfrm>
            <a:off x="3463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653"/>
          <p:cNvSpPr/>
          <p:nvPr/>
        </p:nvSpPr>
        <p:spPr>
          <a:xfrm>
            <a:off x="1700280" y="3348000"/>
            <a:ext cx="3529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laboración de las estadísticas relativas a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ocedimientos de quej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mandas labor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rsos de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cursos de ape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de inconform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para la protección de los derechos político-electorales del ciudad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 de revisión constituc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nuncias pen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uicios de ampa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iniestros ante asegurad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3176640" y="6227640"/>
            <a:ext cx="57780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18 Rectángulo"/>
          <p:cNvSpPr/>
          <p:nvPr/>
        </p:nvSpPr>
        <p:spPr>
          <a:xfrm>
            <a:off x="1700280" y="565164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Investigar y estudiar legislaciones en materia electoral para complementar las estadísticas y enviarlas a Director de jurídico, Director general y Secretario Ejecuti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5"/>
          <p:cNvCxnSpPr>
            <a:stCxn id="134" idx="2"/>
            <a:endCxn id="137" idx="0"/>
          </p:cNvCxnSpPr>
          <p:nvPr/>
        </p:nvCxnSpPr>
        <p:spPr>
          <a:xfrm>
            <a:off x="3465000" y="5437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32"/>
          <p:cNvCxnSpPr/>
          <p:nvPr/>
        </p:nvCxnSpPr>
        <p:spPr>
          <a:xfrm>
            <a:off x="3499920" y="6011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Rectangle 701"/>
          <p:cNvSpPr/>
          <p:nvPr/>
        </p:nvSpPr>
        <p:spPr>
          <a:xfrm>
            <a:off x="334800" y="5667480"/>
            <a:ext cx="1224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01"/>
          <p:cNvSpPr/>
          <p:nvPr/>
        </p:nvSpPr>
        <p:spPr>
          <a:xfrm>
            <a:off x="333360" y="5075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rector Juríd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00"/>
          <p:cNvSpPr/>
          <p:nvPr/>
        </p:nvSpPr>
        <p:spPr>
          <a:xfrm>
            <a:off x="334800" y="2340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6"/>
          <p:cNvSpPr/>
          <p:nvPr/>
        </p:nvSpPr>
        <p:spPr>
          <a:xfrm>
            <a:off x="5391000" y="234000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xpedi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11T18:09:06Z</cp:lastPrinted>
  <dcterms:modified xsi:type="dcterms:W3CDTF">2013-04-29T18:03:41Z</dcterms:modified>
  <cp:revision>307</cp:revision>
  <dc:subject/>
  <dc:title>Presentación de PowerPoint</dc:title>
</cp:coreProperties>
</file>