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F4E-0250-44CB-81DE-E71C6FE0C2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780-E1F5-4635-AA76-D5FD85EDCF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CC39-E649-4AED-8DCA-7945BC0E21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960-7F35-4965-B8F6-DD0916FE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CAA-DC57-4233-B4B1-1223531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3A7-F44E-4DCC-9030-5C9A252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ADD-5BC6-4520-B4A7-BBEBAF35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81F-907A-4D31-A3FD-3EB35612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C27-A0DD-4333-A7B8-E4B45543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893-E4A0-4FCA-B23D-742CDC0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44B-7624-4CBD-ABE3-51C4A26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EF3-0F59-43A6-8B15-E51AEE5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95E-289C-4984-A6CF-8B311F05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848-4095-4A16-8BFE-0ECD06BF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A27-8FBD-45B3-916F-3FFA548E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C701-5520-4320-8770-D4448F72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547F-A7A1-4E81-8AC9-53AEC5F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AF5-F526-4E20-B0C8-C046D65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C240-5572-4C0D-A675-EF3E7CE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1D4A-7A99-4FE3-8801-A4447007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E2C5-B56A-4FAE-9A51-E963475F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363A-8205-4D95-8F57-73C4100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6B0E-9A6A-4F40-95AD-D93C0A0A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EC7-CBC5-4A70-897D-563DB9F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2F6C-92BF-4CB5-9F8A-101A6EF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F78B-7EE8-4D3E-BA6C-F6C344B1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213-01A1-427B-BD70-72168073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reccio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98AEDA3-D1D9-4F1C-B82F-EA837B6A8DAD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6B3B-7612-4BAB-B155-B09C66307A8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387D-706E-464F-930B-29CA91D46D8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para apoyar y dar seguimiento a las actividades de la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 genera solicitud para dotar de servicios o VoBo para cualquier dirección que lo neces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personal indicado para desarrollar la t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Documento con modificaciones (foli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56516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ndientes de direcciones / agen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132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 de administración / jefe de departamento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3059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Ficha de Requerimiento / agenda / check list de requer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059280"/>
            <a:ext cx="11523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aliza la planeación de la 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2276280" y="3349800"/>
            <a:ext cx="108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Técnico 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4276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6084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Memorándum / 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Ficha de Requer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694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inuta de ju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5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 de administración / jefe de departamento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departamento de administración / jefe de departamento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01"/>
          <p:cNvSpPr/>
          <p:nvPr/>
        </p:nvSpPr>
        <p:spPr>
          <a:xfrm>
            <a:off x="333360" y="6588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4076640" y="3492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4005360" y="3562200"/>
            <a:ext cx="907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odifica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>
            <a:stCxn id="186" idx="1"/>
          </p:cNvCxnSpPr>
          <p:nvPr/>
        </p:nvCxnSpPr>
        <p:spPr>
          <a:xfrm flipV="1" rot="10800000">
            <a:off x="3285360" y="3671640"/>
            <a:ext cx="791280" cy="181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9" name="72 CuadroTexto"/>
          <p:cNvSpPr/>
          <p:nvPr/>
        </p:nvSpPr>
        <p:spPr>
          <a:xfrm>
            <a:off x="369396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73 CuadroTexto"/>
          <p:cNvSpPr/>
          <p:nvPr/>
        </p:nvSpPr>
        <p:spPr>
          <a:xfrm>
            <a:off x="4846680" y="3403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56"/>
          <p:cNvSpPr/>
          <p:nvPr/>
        </p:nvSpPr>
        <p:spPr>
          <a:xfrm>
            <a:off x="2421000" y="3924360"/>
            <a:ext cx="1730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propone modificaciones con el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86" idx="3"/>
            <a:endCxn id="193" idx="3"/>
          </p:cNvCxnSpPr>
          <p:nvPr/>
        </p:nvCxnSpPr>
        <p:spPr>
          <a:xfrm>
            <a:off x="4933800" y="3672000"/>
            <a:ext cx="8640" cy="2088000"/>
          </a:xfrm>
          <a:prstGeom prst="bentConnector3">
            <a:avLst>
              <a:gd name="adj1" fmla="val 311739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Oval 75"/>
          <p:cNvSpPr/>
          <p:nvPr/>
        </p:nvSpPr>
        <p:spPr>
          <a:xfrm>
            <a:off x="3213000" y="521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56 Rombo"/>
          <p:cNvSpPr/>
          <p:nvPr/>
        </p:nvSpPr>
        <p:spPr>
          <a:xfrm>
            <a:off x="3089160" y="270036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57 CuadroTexto"/>
          <p:cNvSpPr/>
          <p:nvPr/>
        </p:nvSpPr>
        <p:spPr>
          <a:xfrm>
            <a:off x="3068640" y="2770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dministrativo o Técnic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5" idx="1"/>
          </p:cNvCxnSpPr>
          <p:nvPr/>
        </p:nvCxnSpPr>
        <p:spPr>
          <a:xfrm flipV="1" rot="10800000">
            <a:off x="2491560" y="28785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72 CuadroTexto"/>
          <p:cNvSpPr/>
          <p:nvPr/>
        </p:nvSpPr>
        <p:spPr>
          <a:xfrm>
            <a:off x="1844640" y="2627280"/>
            <a:ext cx="122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5" idx="3"/>
          </p:cNvCxnSpPr>
          <p:nvPr/>
        </p:nvCxnSpPr>
        <p:spPr>
          <a:xfrm>
            <a:off x="3946680" y="2879280"/>
            <a:ext cx="45288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73 CuadroTexto"/>
          <p:cNvSpPr/>
          <p:nvPr/>
        </p:nvSpPr>
        <p:spPr>
          <a:xfrm>
            <a:off x="4005360" y="2627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TE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18 Rectángulo"/>
          <p:cNvSpPr/>
          <p:nvPr/>
        </p:nvSpPr>
        <p:spPr>
          <a:xfrm>
            <a:off x="3645000" y="3059280"/>
            <a:ext cx="1655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studia el documento y se revis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/>
          <p:nvPr/>
        </p:nvCxnSpPr>
        <p:spPr>
          <a:xfrm>
            <a:off x="4508280" y="334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6"/>
          <p:cNvSpPr/>
          <p:nvPr/>
        </p:nvSpPr>
        <p:spPr>
          <a:xfrm>
            <a:off x="2421000" y="435600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n al area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56"/>
          <p:cNvSpPr/>
          <p:nvPr/>
        </p:nvSpPr>
        <p:spPr>
          <a:xfrm>
            <a:off x="1628640" y="5651640"/>
            <a:ext cx="331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le da seguimiento al documento o a las actividades realiz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6516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AutoShape 32"/>
          <p:cNvCxnSpPr/>
          <p:nvPr/>
        </p:nvCxnSpPr>
        <p:spPr>
          <a:xfrm>
            <a:off x="3284280" y="4211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32"/>
          <p:cNvCxnSpPr/>
          <p:nvPr/>
        </p:nvCxnSpPr>
        <p:spPr>
          <a:xfrm>
            <a:off x="3284280" y="4643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Rectangle 656"/>
          <p:cNvSpPr/>
          <p:nvPr/>
        </p:nvSpPr>
        <p:spPr>
          <a:xfrm>
            <a:off x="1628640" y="6010200"/>
            <a:ext cx="33130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informe de ejecucion a Direccio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/>
          <p:nvPr/>
        </p:nvCxnSpPr>
        <p:spPr>
          <a:xfrm>
            <a:off x="3428640" y="5867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32"/>
          <p:cNvCxnSpPr/>
          <p:nvPr/>
        </p:nvCxnSpPr>
        <p:spPr>
          <a:xfrm>
            <a:off x="3428640" y="6372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656"/>
          <p:cNvSpPr/>
          <p:nvPr/>
        </p:nvSpPr>
        <p:spPr>
          <a:xfrm>
            <a:off x="1628640" y="6515280"/>
            <a:ext cx="3313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notifica al presidente y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76532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entario de equ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6948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56"/>
          <p:cNvSpPr/>
          <p:nvPr/>
        </p:nvSpPr>
        <p:spPr>
          <a:xfrm>
            <a:off x="2421000" y="478800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n modificaciones del area para Vo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2"/>
          <p:cNvCxnSpPr/>
          <p:nvPr/>
        </p:nvCxnSpPr>
        <p:spPr>
          <a:xfrm>
            <a:off x="3284280" y="5074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656"/>
          <p:cNvSpPr/>
          <p:nvPr/>
        </p:nvSpPr>
        <p:spPr>
          <a:xfrm>
            <a:off x="1628640" y="6948360"/>
            <a:ext cx="33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junta semanal donde se revisan pendientes con direc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3139920" y="7524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endCxn id="216" idx="0"/>
          </p:cNvCxnSpPr>
          <p:nvPr/>
        </p:nvCxnSpPr>
        <p:spPr>
          <a:xfrm flipH="1">
            <a:off x="3428280" y="7236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32"/>
          <p:cNvCxnSpPr/>
          <p:nvPr/>
        </p:nvCxnSpPr>
        <p:spPr>
          <a:xfrm>
            <a:off x="3428640" y="687528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26T15:59:33Z</dcterms:modified>
  <cp:revision>302</cp:revision>
  <dc:subject/>
  <dc:title>Presentación de PowerPoint</dc:title>
</cp:coreProperties>
</file>