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9605-47A7-40DA-A5B2-3B77F0631B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1922-F8C3-466A-BEF9-0E93411A24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AAA2-32F3-4DB0-87FF-F867A30F4C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10D-0AB4-411F-A513-AB763234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2B0-B57F-490C-A8DD-72AA4D1C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56D-BD30-4DEA-96F9-9848138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476-F278-4CC9-94AA-C095DAD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FDA-A5AA-400F-BE9D-0CA73683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5F0-3057-41FE-80D0-47A193B2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E90-67DB-447D-90A4-0ACA774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180-1A55-41BB-8091-FB14513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367-0BDC-4375-8CDB-4F6B00C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931-DD53-4993-91C2-76CEBD88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F64-4057-4EE7-B12D-C122C4A4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AE8-4170-43E6-8446-F3D75245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AD8D-6407-406F-BF0A-B62CEE48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B1F1-B963-4DBF-8C1B-508E186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1E3F-28F2-4F20-9B1A-8B785AAF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9C23-8D1D-40D7-8C24-1695504F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BB7-E90A-45DA-878D-0111702E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FEF4-D65F-460B-9F4F-AE042494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025-02BA-4983-B743-DEAF4E0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5C72-B32A-4334-8B15-286242A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4792-112D-4FAB-BBAF-9596D55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9B9D-784B-4AF2-8416-01E6F85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FBDA-5793-4BAB-9552-6C8369E4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3878-8CC8-43F3-AB7F-28C840C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11EA5-310B-4003-A328-55B4E5B1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8D24-0BFE-44FA-9F99-775D7326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2CF1-304F-472E-8357-A4D3B49D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5A79-9EF6-498D-98D0-B90D23F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1508-7B4E-473A-9DD2-81A07F1E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2AB1-3EEA-4986-AA27-8FE9F988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0357-89E9-481B-A347-82C9273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CA5B-7044-47AD-A8B2-7D00339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576D-1498-4308-9993-01BF71E1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F1A1-DC27-4968-AE63-FC519B06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C357-4864-4B15-8CB8-6A84CA91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C060-8E8A-4878-B70D-518FA0A7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vision 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E158AF4-54E4-43F5-88C0-12E0A21F1E4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9002-B433-452A-880A-8A1A0A6F52B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DE0F-E7DE-4542-B59A-49931985276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BB83-9083-4017-B59E-6AE822C030D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Asegurar que se cumpla con los requisitos que establece la ley de los derechos de los trabaja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visión de contratos y nombramientos de empleados con el fin de evitar problemas legales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contratos y nombramientos para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48625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urna a Secretario Ejecutivo para su firma  y se envía al área correspondiente para su entr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48466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0"/>
          <p:cNvSpPr/>
          <p:nvPr/>
        </p:nvSpPr>
        <p:spPr>
          <a:xfrm>
            <a:off x="404640" y="4718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00"/>
          <p:cNvSpPr/>
          <p:nvPr/>
        </p:nvSpPr>
        <p:spPr>
          <a:xfrm>
            <a:off x="404640" y="2197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4"/>
          <p:cNvSpPr/>
          <p:nvPr/>
        </p:nvSpPr>
        <p:spPr>
          <a:xfrm>
            <a:off x="3213000" y="5364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34592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4592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56 Rombo"/>
          <p:cNvSpPr/>
          <p:nvPr/>
        </p:nvSpPr>
        <p:spPr>
          <a:xfrm>
            <a:off x="3090960" y="3116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57 CuadroTexto"/>
          <p:cNvSpPr/>
          <p:nvPr/>
        </p:nvSpPr>
        <p:spPr>
          <a:xfrm>
            <a:off x="3141720" y="31860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Observ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72 CuadroTexto"/>
          <p:cNvSpPr/>
          <p:nvPr/>
        </p:nvSpPr>
        <p:spPr>
          <a:xfrm>
            <a:off x="4005360" y="3059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73 CuadroTexto"/>
          <p:cNvSpPr/>
          <p:nvPr/>
        </p:nvSpPr>
        <p:spPr>
          <a:xfrm>
            <a:off x="2637000" y="313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64 Conector angular"/>
          <p:cNvCxnSpPr>
            <a:stCxn id="212" idx="3"/>
            <a:endCxn id="217" idx="0"/>
          </p:cNvCxnSpPr>
          <p:nvPr/>
        </p:nvCxnSpPr>
        <p:spPr>
          <a:xfrm>
            <a:off x="3948120" y="3295440"/>
            <a:ext cx="489600" cy="268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7" name="Rectangle 656"/>
          <p:cNvSpPr/>
          <p:nvPr/>
        </p:nvSpPr>
        <p:spPr>
          <a:xfrm>
            <a:off x="3573360" y="356400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jurídico con observaciones y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49"/>
          <p:cNvCxnSpPr>
            <a:stCxn id="219" idx="2"/>
            <a:endCxn id="212" idx="0"/>
          </p:cNvCxnSpPr>
          <p:nvPr/>
        </p:nvCxnSpPr>
        <p:spPr>
          <a:xfrm>
            <a:off x="3498480" y="2843280"/>
            <a:ext cx="208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649"/>
          <p:cNvCxnSpPr>
            <a:stCxn id="203" idx="2"/>
            <a:endCxn id="219" idx="0"/>
          </p:cNvCxnSpPr>
          <p:nvPr/>
        </p:nvCxnSpPr>
        <p:spPr>
          <a:xfrm flipH="1">
            <a:off x="3498120" y="2484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652"/>
          <p:cNvSpPr/>
          <p:nvPr/>
        </p:nvSpPr>
        <p:spPr>
          <a:xfrm>
            <a:off x="1698480" y="2627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turnan al jefe de departamento para revisión y opin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2540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0"/>
          <p:cNvSpPr/>
          <p:nvPr/>
        </p:nvSpPr>
        <p:spPr>
          <a:xfrm>
            <a:off x="404640" y="2556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40356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s /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4035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6"/>
          <p:cNvSpPr/>
          <p:nvPr/>
        </p:nvSpPr>
        <p:spPr>
          <a:xfrm>
            <a:off x="3573360" y="414036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o final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649"/>
          <p:cNvCxnSpPr/>
          <p:nvPr/>
        </p:nvCxnSpPr>
        <p:spPr>
          <a:xfrm>
            <a:off x="4436640" y="450072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649"/>
          <p:cNvCxnSpPr>
            <a:stCxn id="204" idx="2"/>
            <a:endCxn id="209" idx="0"/>
          </p:cNvCxnSpPr>
          <p:nvPr/>
        </p:nvCxnSpPr>
        <p:spPr>
          <a:xfrm>
            <a:off x="3498480" y="5078160"/>
            <a:ext cx="39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64 Conector angular"/>
          <p:cNvCxnSpPr>
            <a:stCxn id="212" idx="1"/>
          </p:cNvCxnSpPr>
          <p:nvPr/>
        </p:nvCxnSpPr>
        <p:spPr>
          <a:xfrm flipV="1" rot="10800000">
            <a:off x="2348640" y="3294720"/>
            <a:ext cx="742320" cy="1564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8:32Z</dcterms:modified>
  <cp:revision>325</cp:revision>
  <dc:subject/>
  <dc:title>Presentación de PowerPoint</dc:title>
</cp:coreProperties>
</file>