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CF4-D694-4CAB-8E3C-2C0860F8C1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D28-DDAF-49F0-B54D-BDDFE3FBA8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6818-800F-4A8D-B832-915773DC4B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493-E6A7-42F3-9A4C-FEC97C74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7C5-BCAA-4E60-A89C-4B8B066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72E-9AFB-4877-809A-E0B71DE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0FB-73E8-4F13-8E4F-99EF5073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300-AF79-4145-BD7C-4872E6B7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BE7-239E-4FB8-8722-7A8B9119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70A-D63C-4DED-AD8A-1F1A54E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A71-3705-4CD3-8D6E-71D4AF9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CA-0948-47BA-977E-0475778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2A7-E6BF-48B3-A726-34E5122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AB9-53B3-4914-9671-1480F715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31C-0A4A-4592-A237-55115E17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35AE-1E81-47BF-8041-D437083D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383-2CFC-47D9-9827-4DF06FF3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0FBA-3539-420B-9BED-5B055E6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00FE-10AC-4FA3-ABBC-99E1F6EA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FC5-242E-4BCA-BC24-3B4E0ED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CA80-1665-472E-8B0F-192EE97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E997-2870-4D83-A83C-BC4B02E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3FC3-CC27-4ACC-92DD-2E8D817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D97A-9E9E-465B-B11B-8AF2205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8D56-152F-4556-90A7-FA959D76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70C0-E7F9-41E7-9AD5-E359DA9A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CA34-6CAF-4EFC-9F8C-0F5708F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E2F98F8-F4CC-4578-BCC4-E1D25D4F820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6953-B6E8-48C6-BFAA-C27925C3BBF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57DA-E55B-48EA-AB2B-C4AE295C38B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o instrucción del Consejo General, presidente, Director General o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est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solicitudes de aclaración de  empresas sobre las bases remitidas vía 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visitas y se  levanta acta de visitas de inspección,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desahogo del acto de presentación de  propuestas técnicas y  económicas y apertura de propuestas técn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940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dictamen técnico de acuerdo 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65000" y="572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/>
          <p:nvPr/>
        </p:nvCxnSpPr>
        <p:spPr>
          <a:xfrm>
            <a:off x="3490560" y="67230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22600" y="687564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acto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l dictamen técnico, apertura de ofertas económicas, fallo y adjudicación, y se levanta acta respectiva, asimismo se remite al Consejero Presidente o Secretario Ejecutivo de acuerdo a facult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499920" y="738036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Oval 34"/>
          <p:cNvSpPr/>
          <p:nvPr/>
        </p:nvSpPr>
        <p:spPr>
          <a:xfrm>
            <a:off x="3214800" y="759636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la junta de aclaraciones, donde se contestan las preguntas formuladas por los oferentes. y se levanta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22600" y="5235480"/>
            <a:ext cx="359712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el acto de presentación de propuestas técnicas y económicas y apertura de las propuestas técnicas  donde se realiza una evaluación preliminar de la documentación legal, financiera y administrativa de los oferentes y se levanta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18 Rectángulo"/>
          <p:cNvSpPr/>
          <p:nvPr/>
        </p:nvSpPr>
        <p:spPr>
          <a:xfrm flipV="1" rot="10800000">
            <a:off x="1730520" y="638964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desahogo del acto comunicación del dictamen técnico, apertura de las ofertas económicas, fallo y adju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65000" y="617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rueban bases y convocatoria y se remite convocatoria al Consejo General para su aprobación y se ordena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/ 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875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 técnicas y económicas / acta / documentación neces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 / 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propuestas / documentos presentados por los ofer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técnico / ofertas económicas / fallo / adjudic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4:45Z</dcterms:modified>
  <cp:revision>316</cp:revision>
  <dc:subject/>
  <dc:title>Presentación de PowerPoint</dc:title>
</cp:coreProperties>
</file>