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F3E-17CB-4A84-844A-39B3077A52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DF3-142F-4D64-A021-7A11675E02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32C-F554-4041-AF2B-8A62B9E6A7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457-B22E-47F6-9D4C-0B36D9258B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368-A87A-4671-92F4-F22AB5CE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AF4-724E-4EAE-B97D-9AC9523E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374-4333-4286-987A-8CE4881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A92-5A69-4653-8076-CE7B708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00D-21B7-4FA2-A56E-13BA11B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436-1840-4359-9731-5FA919BD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33F-CC22-4580-A054-7EB67E3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F83-FDCA-4D06-94C5-560A737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22F-0B55-48C3-9B58-1448637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999-874C-4168-844D-2E738CF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56F-D801-4000-AF1B-2F4BB96F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089-1C59-45E2-B437-1A3D0D6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637-684E-4C28-8A90-728A3859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CBC-B24F-4A82-B7B2-03FE5E9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DA6E-A8A4-4E95-B2A7-3EE6FE4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C95B-F121-42E5-96CF-DD03AC00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4740-59A5-4703-B266-5F020DE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6487-3F5F-4F3B-B112-9004ADAA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3F5-899A-44D6-B277-7FFA5BC4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6E65-12EF-4F44-9F48-72F15A0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4C53-90BE-4272-8740-271CC44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D482-08B6-44A1-86E5-60711F4A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446-0788-449D-9E27-72EC8A56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C26-422E-4A9A-A902-286B0866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A6CC75-6C61-4D81-8724-9C8A56D7C9E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11040" y="84117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959-E418-421B-BFB3-C2B1CDF1BA9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937-06B9-4CF2-997B-716CA4B2C1A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adecu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dictámenes y  acuerdos que en el ámbito de las atribuciones correspondan a cada           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ste procedimiento aplica para los dictámenes y acuerdos que en su caso, serán sometidos a la consideración del Consejo General para su aprobación en definitiva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el 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4800" y="54529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A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8737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4800" y="3233880"/>
            <a:ext cx="122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825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/>
          <p:nvPr/>
        </p:nvCxnSpPr>
        <p:spPr>
          <a:xfrm>
            <a:off x="347940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21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/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41320" y="3193920"/>
            <a:ext cx="115272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679400" y="3843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317320" y="3556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3800" y="424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naliza el proyecto de dictamen con el titular del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4800" y="3790800"/>
            <a:ext cx="1225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85880" y="448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6429240"/>
            <a:ext cx="127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Orden del dí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Memorandúm/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A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587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65400" y="46404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10040" y="471816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493360" y="4818600"/>
            <a:ext cx="572040" cy="616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693880" y="4976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4005360" y="4987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5452920"/>
            <a:ext cx="1730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corpora los cambios en el 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1" idx="3"/>
            <a:endCxn id="198" idx="3"/>
          </p:cNvCxnSpPr>
          <p:nvPr/>
        </p:nvCxnSpPr>
        <p:spPr>
          <a:xfrm>
            <a:off x="3922560" y="4819680"/>
            <a:ext cx="984960" cy="1162440"/>
          </a:xfrm>
          <a:prstGeom prst="bentConnector3">
            <a:avLst>
              <a:gd name="adj1" fmla="val 1232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56 Rombo"/>
          <p:cNvSpPr/>
          <p:nvPr/>
        </p:nvSpPr>
        <p:spPr>
          <a:xfrm>
            <a:off x="3068640" y="2782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7 CuadroTexto"/>
          <p:cNvSpPr/>
          <p:nvPr/>
        </p:nvSpPr>
        <p:spPr>
          <a:xfrm>
            <a:off x="3062160" y="285264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9" idx="1"/>
          </p:cNvCxnSpPr>
          <p:nvPr/>
        </p:nvCxnSpPr>
        <p:spPr>
          <a:xfrm flipV="1" rot="10800000">
            <a:off x="2471040" y="29620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199" idx="3"/>
          </p:cNvCxnSpPr>
          <p:nvPr/>
        </p:nvCxnSpPr>
        <p:spPr>
          <a:xfrm>
            <a:off x="3925440" y="296244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4289400" y="3193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592280" y="5873760"/>
            <a:ext cx="3314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503080" y="5740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456240"/>
            <a:ext cx="331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abora propuesta de orden del día, en conjunción con el Consejero Electoral Presidente de la Comisión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79400" y="60955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3344760" y="7653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65000" y="4059360"/>
            <a:ext cx="1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932280" y="61675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 flipH="1">
            <a:off x="3479400" y="627516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18 Rectángulo"/>
          <p:cNvSpPr/>
          <p:nvPr/>
        </p:nvSpPr>
        <p:spPr>
          <a:xfrm>
            <a:off x="1560600" y="70437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aliza convocatoria para sesión de la Comisión respectiva y verifica que se cuenta con los elementos necesarios para el desahogo de la se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1920" y="704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52400" y="673272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6"/>
          <p:cNvSpPr/>
          <p:nvPr/>
        </p:nvSpPr>
        <p:spPr>
          <a:xfrm>
            <a:off x="5378400" y="704232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Convocatorias y 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52400" y="733104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8400" y="203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1"/>
          <p:cNvSpPr/>
          <p:nvPr/>
        </p:nvSpPr>
        <p:spPr>
          <a:xfrm>
            <a:off x="333360" y="20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0"/>
          <p:cNvSpPr/>
          <p:nvPr/>
        </p:nvSpPr>
        <p:spPr>
          <a:xfrm>
            <a:off x="333360" y="25606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/Coordinador Técnico A/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3208320" y="39006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01720" y="206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solicitud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538080" y="1908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3360" y="29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18 Rectángulo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stCxn id="235" idx="2"/>
          </p:cNvCxnSpPr>
          <p:nvPr/>
        </p:nvCxnSpPr>
        <p:spPr>
          <a:xfrm>
            <a:off x="3501720" y="22845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2"/>
          <p:cNvCxnSpPr>
            <a:stCxn id="239" idx="2"/>
          </p:cNvCxnSpPr>
          <p:nvPr/>
        </p:nvCxnSpPr>
        <p:spPr>
          <a:xfrm>
            <a:off x="3499920" y="277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32"/>
          <p:cNvCxnSpPr/>
          <p:nvPr/>
        </p:nvCxnSpPr>
        <p:spPr>
          <a:xfrm>
            <a:off x="3501720" y="3195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3340080"/>
            <a:ext cx="36003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ía Ejecutiva el dictamen aprobado, en su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32"/>
          <p:cNvCxnSpPr/>
          <p:nvPr/>
        </p:nvCxnSpPr>
        <p:spPr>
          <a:xfrm>
            <a:off x="3498480" y="363492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66"/>
          <p:cNvSpPr/>
          <p:nvPr/>
        </p:nvSpPr>
        <p:spPr>
          <a:xfrm>
            <a:off x="5383080" y="2514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12880" y="2914560"/>
            <a:ext cx="360036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caba firmas de la minuta de la sesión  respectiva, o bien, del dictamen aprobado, en su cas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6"/>
          <p:cNvSpPr/>
          <p:nvPr/>
        </p:nvSpPr>
        <p:spPr>
          <a:xfrm>
            <a:off x="5376960" y="2914560"/>
            <a:ext cx="12762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1T15:21:18Z</cp:lastPrinted>
  <dcterms:modified xsi:type="dcterms:W3CDTF">2013-04-29T15:05:50Z</dcterms:modified>
  <cp:revision>326</cp:revision>
  <dc:subject/>
  <dc:title>Presentación de PowerPoint</dc:title>
</cp:coreProperties>
</file>