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D513-BC1F-435C-80DA-3BBE8E8787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E7B2-7BC7-41AE-B98B-73C7CCDF61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493-36A9-4247-B69D-223DBA17F7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B2A-8AA1-4BBB-97BB-C8E417A5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121-5A8A-431B-8AE4-90EC234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6F7-1974-4E10-A613-91E2F21F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E30-D0F5-4FEF-9569-92E49C30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7CE-4074-403E-8EDA-D46A73F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B10-EA79-41D4-A04E-EC789D2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97E-296F-460A-87FB-A5C8EB0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DAC-7152-4A1A-B580-82A5F5B8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7CF-938C-4F82-88A2-ACE988B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CA5-2C46-4384-ABAE-BA8116B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387-C340-4239-9D9C-960F8948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46F-3743-4445-84BC-E371F27F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FB45-A6E0-421D-ABEB-9FE9DFE1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8A5-8BEC-490A-A4E6-8859C48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16F-AEB1-48F6-906E-91D0524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FB1A-5FA4-4468-BD44-AA4B0F18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B3E-F922-4E5F-89C5-29F9C3B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116-0BA6-45E7-8E13-A3E21D98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F6E-FA94-47C9-9A66-A705347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6024-B199-4D0D-A14B-A0076D0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F050-EE3B-4917-83C2-6BF4B18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BA2-0DE8-4D20-9686-9A50189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EDCD-286A-42C6-985A-AFC7D27A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D30F-044F-442E-B51A-39875853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D0ED424-C790-4FD9-86C4-8C8F2830C2E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875-9F94-4F62-B7F7-6B5993287CC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BA39-CA3C-40D8-A378-D5FD582226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pajo y conocer requerimientos específic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AutoShape 684"/>
          <p:cNvCxnSpPr>
            <a:stCxn id="163" idx="2"/>
            <a:endCxn id="171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noce en reunión la problem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tica y se plantean solu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>
            <a:stCxn id="171" idx="2"/>
            <a:endCxn id="180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>
            <a:stCxn id="180" idx="2"/>
            <a:endCxn id="181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3213000" y="68756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  <a:endCxn id="186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18 Rectángulo"/>
          <p:cNvSpPr/>
          <p:nvPr/>
        </p:nvSpPr>
        <p:spPr>
          <a:xfrm>
            <a:off x="1700280" y="471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6" idx="2"/>
            <a:endCxn id="188" idx="0"/>
          </p:cNvCxnSpPr>
          <p:nvPr/>
        </p:nvCxnSpPr>
        <p:spPr>
          <a:xfrm>
            <a:off x="3499920" y="442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5"/>
          <p:cNvCxnSpPr>
            <a:stCxn id="181" idx="2"/>
            <a:endCxn id="185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32"/>
          <p:cNvCxnSpPr>
            <a:stCxn id="188" idx="2"/>
          </p:cNvCxnSpPr>
          <p:nvPr/>
        </p:nvCxnSpPr>
        <p:spPr>
          <a:xfrm>
            <a:off x="3499920" y="493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32"/>
          <p:cNvCxnSpPr>
            <a:stCxn id="193" idx="2"/>
            <a:endCxn id="194" idx="0"/>
          </p:cNvCxnSpPr>
          <p:nvPr/>
        </p:nvCxnSpPr>
        <p:spPr>
          <a:xfrm>
            <a:off x="4400280" y="588312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r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55227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5954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01"/>
          <p:cNvSpPr/>
          <p:nvPr/>
        </p:nvSpPr>
        <p:spPr>
          <a:xfrm>
            <a:off x="333360" y="55227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01"/>
          <p:cNvSpPr/>
          <p:nvPr/>
        </p:nvSpPr>
        <p:spPr>
          <a:xfrm>
            <a:off x="333360" y="601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56 Rombo"/>
          <p:cNvSpPr/>
          <p:nvPr/>
        </p:nvSpPr>
        <p:spPr>
          <a:xfrm>
            <a:off x="3090960" y="5092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57 CuadroTexto"/>
          <p:cNvSpPr/>
          <p:nvPr/>
        </p:nvSpPr>
        <p:spPr>
          <a:xfrm>
            <a:off x="3141720" y="5127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64 Conector angular"/>
          <p:cNvCxnSpPr>
            <a:stCxn id="204" idx="1"/>
            <a:endCxn id="207" idx="0"/>
          </p:cNvCxnSpPr>
          <p:nvPr/>
        </p:nvCxnSpPr>
        <p:spPr>
          <a:xfrm flipV="1" rot="10800000">
            <a:off x="2528280" y="5271120"/>
            <a:ext cx="56268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2 CuadroTexto"/>
          <p:cNvSpPr/>
          <p:nvPr/>
        </p:nvSpPr>
        <p:spPr>
          <a:xfrm>
            <a:off x="2708280" y="50198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73 CuadroTexto"/>
          <p:cNvSpPr/>
          <p:nvPr/>
        </p:nvSpPr>
        <p:spPr>
          <a:xfrm>
            <a:off x="3860640" y="5003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3643200" y="559584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4" idx="3"/>
            <a:endCxn id="193" idx="0"/>
          </p:cNvCxnSpPr>
          <p:nvPr/>
        </p:nvCxnSpPr>
        <p:spPr>
          <a:xfrm>
            <a:off x="3947760" y="527184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1" name="Oval 75"/>
          <p:cNvSpPr/>
          <p:nvPr/>
        </p:nvSpPr>
        <p:spPr>
          <a:xfrm>
            <a:off x="2492280" y="44989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49"/>
          <p:cNvCxnSpPr/>
          <p:nvPr/>
        </p:nvCxnSpPr>
        <p:spPr>
          <a:xfrm>
            <a:off x="2708280" y="4571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773360" y="559584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64 Conector angular"/>
          <p:cNvCxnSpPr>
            <a:endCxn id="184" idx="2"/>
          </p:cNvCxnSpPr>
          <p:nvPr/>
        </p:nvCxnSpPr>
        <p:spPr>
          <a:xfrm flipH="1" rot="16200000">
            <a:off x="2313000" y="6119640"/>
            <a:ext cx="100872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Rectangle 656"/>
          <p:cNvSpPr/>
          <p:nvPr/>
        </p:nvSpPr>
        <p:spPr>
          <a:xfrm>
            <a:off x="1773360" y="6012000"/>
            <a:ext cx="1512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4221000" y="6084720"/>
            <a:ext cx="36036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6:28Z</dcterms:modified>
  <cp:revision>291</cp:revision>
  <dc:subject/>
  <dc:title>Presentación de PowerPoint</dc:title>
</cp:coreProperties>
</file>