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6CB4-FA7E-4C66-A33D-9EBE105805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A3D-5693-4C4D-AE11-CB98E06023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2223-FD88-420A-A1AC-FC42F8C1A7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426-6193-45C9-A248-F6390A0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5D8-45C9-4E99-8362-58E7CE97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527-1327-403D-B008-A919F74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38B-8653-4424-94A6-4DA34DF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F8E-1A2F-43C8-AB3E-D609949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A3E-3D0A-426B-9DC7-E8DCBF8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E10-3795-4F69-B366-B08F702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93F-E1A0-4ADC-BC0A-77AAB4D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064-7E93-4691-AE16-A61D2C9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8B9-F65C-4058-AAE3-E0AC493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B78-F5EF-4AA4-87EA-4FF8E7A8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4A1-A866-431C-8FBA-EC6E1307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5C2-F624-4C4E-BCF2-2A0341A9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CC2-A2F7-4944-B60C-6D4C484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8B0D-C761-47B3-898E-39CB345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7448-E573-46C3-8E90-3EBA35A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DFB-889B-4F12-8E30-A3397D9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55BC-9378-4B04-834D-838095D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CDD-7D2F-4B32-8006-922EDD1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690A-11A4-4EA7-9737-04E500D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57F2-EA01-4C4D-BECD-4B64919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374E-6168-4018-B6B3-471EF1D8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619-FF44-45A3-9CE5-A9744408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AE89-C30C-4265-A46F-3113BB05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8F90-EEFD-42BA-A523-196E1F48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D3F2-EB7A-4157-802E-63020314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143A-BC47-4F40-87C9-9447D61F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D897-D208-4CFB-81BF-801CEB7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F385-D7BE-49B0-ADDC-4EB8ACAE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7524-4484-4A34-BB33-08A24D8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BFE9-5603-42EC-B92C-2D2C1AC9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D4A9-C9A2-4832-8282-8EFAB0A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EEAD-6A3E-4AD8-812E-797C656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C46D-6334-479E-875F-358963D3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F672-F8C2-494D-88AC-E6BA1103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5CBB-4122-4D36-96E3-1022F2C7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stadísiticas de Imagen del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D08D9B6-C854-4FBA-90EA-02DCC52F5CE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D10-9DA5-46A8-8D09-62409ED2866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F39-19CF-4E62-B352-2DC440E056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0C4-D047-4CB3-BF5F-E52585D4484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97920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2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nocer el trato periodístico hacia el IEPC de los reporteros de la fuente, editorialistas y columnistas de los diversos diarios locales, presentando un informe final a la presidencia para su análisis y toma de decisiones respecto de los propios medio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aplica para la elaboración de estadísticas y revisar la imagen que los principales periódicos locales tienen del 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OCUMENTO CONFINENCIAL: Expediente donde solo el director del area y personal de presidencia tienen acceso a su lectu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 y por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35:09Z</dcterms:modified>
  <cp:revision>328</cp:revision>
  <dc:subject/>
  <dc:title>Presentación de PowerPoint</dc:title>
</cp:coreProperties>
</file>