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A16-49DC-4A60-9A7F-C7A3015D07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116-5AFC-4E26-AD32-3265E60B85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DFE-B38D-4BFD-9C23-B42E3D1758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658-5EF0-4497-82BA-EC407B6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420-C4CD-46EE-AD90-CD10235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2F7-999C-4782-9D44-1FF27B9B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DC3-BD89-47B6-811B-642B9993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C0E-3CE0-481C-BD21-901A753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020-397A-4E1E-AC69-83E465DC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41F-0BC8-497A-9B01-3E6EC5B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E04-1D3B-4D26-B07A-7C59F2A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38F-F0AB-4994-B0A9-C4B1729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C2B-2E41-4F43-8E37-2D157318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83D-8688-4108-B4E9-98A0BAE9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109-8615-44E7-9E7D-FFCCD55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443-FEEA-4CAB-9F51-40AFA818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2E0A-D2F1-4187-9CB9-6C8AC5C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1AE6-1FBC-4F15-9E36-995B70C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F587-C518-47F3-B6B7-E602DA3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B458-466A-435D-A357-9470612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4E5B-D944-4FA0-AB5C-7BAA9E7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8C46-2B4F-4FE5-9334-56C729F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BF13-ED5E-4090-8282-9E989AF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33A-C1E7-49E9-9CA8-4AAAECF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DF08-2817-45B3-8DA5-BA09F56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4FA-34D1-41D4-AE4E-FE21AB05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D96-7D82-45A1-81EA-A2B7AA63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2D6B-E5A6-4658-B4BA-27454DE5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26BB-9CDC-43AB-A212-6FB34EB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1E1F-4EBD-4A8B-B567-3F74429B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A019-3189-47A2-9F72-169224F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99F9-E450-4FF0-9388-B4697A2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6B54-929B-4E16-8E6A-548A193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8891-27C2-4148-9BBF-2ECA736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3EED-61AC-4500-88B7-912DC46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23E7-D9C6-4CCD-B103-4D89C92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CD40-FD89-48A7-BF2B-A12F208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031C-4EEF-4EF5-931A-411A5ECF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A785-759C-4312-9745-485DF00E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4F94-8D58-4A45-A2FB-15CF17FD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152D-DE6D-4374-939E-5B59427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5357-E9B9-4C11-8D21-CBB341C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3895-9041-4884-8C3D-F0D4443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30FD-AEC0-42EE-B980-B6BEEE4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983C-7C26-44BC-B99E-2F769058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63F9-20AE-4A95-8927-5358337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FB71-A981-46D0-94FD-A304AD9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3427-5F98-4CA9-B2CF-BFA555E8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4EA8-FE5F-47E8-866E-E9A575B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55DA-86B3-4E69-8D8B-0268CCBD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5519-3BA2-4B7C-BE6F-1D5BD3B1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e Parcial y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36D2E06-A7B9-4ACF-BB87-3905D77E393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534A-D617-4F3A-9AF3-984853C0A6C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1179-DC60-46F5-B552-F88648E1856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5FE0-E5EF-4A51-A7EA-ABDAD9B22E3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330E-2A5F-4968-BC6D-0944C7C1D71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en tiempo y forma con la presentación de los avances parciales y anuales, teniendo como base el cumplimiento del Programa Anual de Trabajo aprobado por el Consejo General del Instituto Electoral y de Participación Ciudadana d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e procedimiento aplica a todos los departamentos que integran la Contraloría General, con base al cumplimiento del Programa Anual de Trabajo, establecido en el Art. 495, párrafo 1, fracción XIX del Código Electoral y de Participación Ciudadana del Estado de Jalis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268360"/>
            <a:ext cx="3600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aba información de resultados  de las actividades de las Jefaturas de Departamento de Fiscalización, Asuntos Jurídicos y Gestión y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2700360"/>
            <a:ext cx="36007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naliza y procesa la información mensual y elabora el 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>
            <a:stCxn id="244" idx="2"/>
            <a:endCxn id="245" idx="0"/>
          </p:cNvCxnSpPr>
          <p:nvPr/>
        </p:nvCxnSpPr>
        <p:spPr>
          <a:xfrm>
            <a:off x="3498480" y="2555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4"/>
          <p:cNvCxnSpPr>
            <a:stCxn id="245" idx="2"/>
            <a:endCxn id="250" idx="0"/>
          </p:cNvCxnSpPr>
          <p:nvPr/>
        </p:nvCxnSpPr>
        <p:spPr>
          <a:xfrm>
            <a:off x="3498840" y="2986200"/>
            <a:ext cx="21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yectos de infor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nvía al Contralor General el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>
            <a:stCxn id="250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valúa y autoriza el Informe Parcial o Anual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Informes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3214800" y="421164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65"/>
          <p:cNvSpPr/>
          <p:nvPr/>
        </p:nvSpPr>
        <p:spPr>
          <a:xfrm>
            <a:off x="5373720" y="38527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Parcial o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AutoShape 685"/>
          <p:cNvCxnSpPr/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18 Rectángulo"/>
          <p:cNvSpPr/>
          <p:nvPr/>
        </p:nvSpPr>
        <p:spPr>
          <a:xfrm>
            <a:off x="1700280" y="3851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Consejo General para su conocimiento y efec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AutoShape 32"/>
          <p:cNvCxnSpPr>
            <a:stCxn id="262" idx="2"/>
          </p:cNvCxnSpPr>
          <p:nvPr/>
        </p:nvCxnSpPr>
        <p:spPr>
          <a:xfrm>
            <a:off x="3499920" y="40669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4-20T16:56:06Z</cp:lastPrinted>
  <dcterms:modified xsi:type="dcterms:W3CDTF">2012-06-20T16:04:45Z</dcterms:modified>
  <cp:revision>342</cp:revision>
  <dc:subject/>
  <dc:title>Presentación de PowerPoint</dc:title>
</cp:coreProperties>
</file>