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4A84-4780-4E56-85F4-49F50FD783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27A-CCC2-4B58-9D82-1A741BD5B1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496-8B52-4849-AA38-D0ECFC8006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9B9-5E62-47B5-91CE-16B20522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5F7-6E1A-4056-AD25-ADB1A2C5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4F2-0D2C-4127-AEB0-A7FFDEC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0CB-DCB4-4A85-8574-9C04DFD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90B-4EC1-4E4A-AC1F-D3800A25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C69-A5D3-486A-9485-1235EEE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D8F-1B40-4E49-8459-1691FDD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E01-8F25-4357-BC85-FD16CD87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898-174C-4E02-ACFB-F803F0AD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4F0-173D-418C-9F27-78B2284F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209-E4D5-4380-866C-C5940EF3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F0A-EC9A-487C-ABE1-80C4998B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FAD7-26EE-4E9A-A228-0712E873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CB1E-1C83-4BB4-8FF7-E5B70383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BCB1-B87C-4DE4-AD19-5CEF437B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D7CA-C877-4B01-AF53-5329E7AC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5F32-AC33-457F-84B7-BE1E0D85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4E6E-AABB-4E7F-866B-3D99968A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9E4-08F5-4E7B-9F75-0821260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44D8-5A60-46BE-A97E-7D62EA43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3DF5-1FE0-4A35-B60D-D2CD6D8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0634-E814-4053-945C-8B0517C6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E6F1-58C7-44F2-BABF-C9946360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CE9D-247F-4195-B214-B24C0552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Solicitudes a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04A84A0-82BB-4233-B358-A622E83C7CC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F95-0363-42BF-9EB2-CF168B92AF9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DBAA-9BA1-4CD3-BEED-F520AFF10B5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respuesta a las solicitudes ingresadas de la ciudadanía y de las diferentes área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registro y aprobación de solicitudes a presidencia por el personal que integra esta ár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para conocimiento o aprobación de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2036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erimiento de bienes materiales / acuerdos del pleno / of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33360" y="2266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56 Rombo"/>
          <p:cNvSpPr/>
          <p:nvPr/>
        </p:nvSpPr>
        <p:spPr>
          <a:xfrm>
            <a:off x="2997360" y="340056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7 CuadroTexto"/>
          <p:cNvSpPr/>
          <p:nvPr/>
        </p:nvSpPr>
        <p:spPr>
          <a:xfrm>
            <a:off x="2997360" y="34196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 y agend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64 Conector angular"/>
          <p:cNvCxnSpPr>
            <a:stCxn id="165" idx="1"/>
            <a:endCxn id="168" idx="0"/>
          </p:cNvCxnSpPr>
          <p:nvPr/>
        </p:nvCxnSpPr>
        <p:spPr>
          <a:xfrm flipV="1" rot="10800000">
            <a:off x="2564640" y="3590640"/>
            <a:ext cx="43272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9" name="72 CuadroTexto"/>
          <p:cNvSpPr/>
          <p:nvPr/>
        </p:nvSpPr>
        <p:spPr>
          <a:xfrm>
            <a:off x="263700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73 CuadroTexto"/>
          <p:cNvSpPr/>
          <p:nvPr/>
        </p:nvSpPr>
        <p:spPr>
          <a:xfrm>
            <a:off x="4005360" y="33433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64 Conector angular"/>
          <p:cNvCxnSpPr>
            <a:stCxn id="165" idx="3"/>
            <a:endCxn id="172" idx="0"/>
          </p:cNvCxnSpPr>
          <p:nvPr/>
        </p:nvCxnSpPr>
        <p:spPr>
          <a:xfrm>
            <a:off x="3947760" y="3591000"/>
            <a:ext cx="491400" cy="334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Rectangle 656"/>
          <p:cNvSpPr/>
          <p:nvPr/>
        </p:nvSpPr>
        <p:spPr>
          <a:xfrm>
            <a:off x="357336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notifica al área correspondiente de decisión de presidencia con correcciones o rechazo de la pet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308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documentación y se regis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9100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140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documento u oficio num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49"/>
          <p:cNvCxnSpPr>
            <a:stCxn id="162" idx="2"/>
            <a:endCxn id="174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2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presidente y/o a Secretario Particular para aprobación o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91000" y="3044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enda / Documento u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333360" y="3059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Presidente / 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49"/>
          <p:cNvCxnSpPr>
            <a:endCxn id="180" idx="0"/>
          </p:cNvCxnSpPr>
          <p:nvPr/>
        </p:nvCxnSpPr>
        <p:spPr>
          <a:xfrm>
            <a:off x="3498840" y="2842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49"/>
          <p:cNvCxnSpPr>
            <a:stCxn id="180" idx="2"/>
          </p:cNvCxnSpPr>
          <p:nvPr/>
        </p:nvCxnSpPr>
        <p:spPr>
          <a:xfrm>
            <a:off x="3499920" y="3203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656"/>
          <p:cNvSpPr/>
          <p:nvPr/>
        </p:nvSpPr>
        <p:spPr>
          <a:xfrm>
            <a:off x="1700280" y="392436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área correspondiente para su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91000" y="53690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acuerdos o re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51000" y="53690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4078440" y="4881600"/>
            <a:ext cx="950760" cy="379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4078440" y="494820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7" idx="1"/>
            <a:endCxn id="190" idx="0"/>
          </p:cNvCxnSpPr>
          <p:nvPr/>
        </p:nvCxnSpPr>
        <p:spPr>
          <a:xfrm flipV="1" rot="10800000">
            <a:off x="4031640" y="5070240"/>
            <a:ext cx="46800" cy="335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384336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73 CuadroTexto"/>
          <p:cNvSpPr/>
          <p:nvPr/>
        </p:nvSpPr>
        <p:spPr>
          <a:xfrm>
            <a:off x="4924440" y="4788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7" idx="3"/>
            <a:endCxn id="194" idx="0"/>
          </p:cNvCxnSpPr>
          <p:nvPr/>
        </p:nvCxnSpPr>
        <p:spPr>
          <a:xfrm>
            <a:off x="5028840" y="5070600"/>
            <a:ext cx="111960" cy="367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656"/>
          <p:cNvSpPr/>
          <p:nvPr/>
        </p:nvSpPr>
        <p:spPr>
          <a:xfrm>
            <a:off x="3357720" y="5405400"/>
            <a:ext cx="1350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correcciones u observaciones d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995720" y="543708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49"/>
          <p:cNvCxnSpPr/>
          <p:nvPr/>
        </p:nvCxnSpPr>
        <p:spPr>
          <a:xfrm>
            <a:off x="4581000" y="4500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4076280" y="579384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Oval 75"/>
          <p:cNvSpPr/>
          <p:nvPr/>
        </p:nvSpPr>
        <p:spPr>
          <a:xfrm>
            <a:off x="3933720" y="60134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2"/>
          <p:cNvSpPr/>
          <p:nvPr/>
        </p:nvSpPr>
        <p:spPr>
          <a:xfrm>
            <a:off x="1700280" y="6370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reportes semanales y se reenvía al Secretario partic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91000" y="6299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33360" y="6442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>
            <a:stCxn id="168" idx="2"/>
          </p:cNvCxnSpPr>
          <p:nvPr/>
        </p:nvCxnSpPr>
        <p:spPr>
          <a:xfrm>
            <a:off x="2565000" y="4500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652"/>
          <p:cNvSpPr/>
          <p:nvPr/>
        </p:nvSpPr>
        <p:spPr>
          <a:xfrm>
            <a:off x="1700280" y="6732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reportes semanales de las diferentes áreas para conoc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6"/>
          <p:cNvSpPr/>
          <p:nvPr/>
        </p:nvSpPr>
        <p:spPr>
          <a:xfrm>
            <a:off x="5391000" y="6732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s sema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00"/>
          <p:cNvSpPr/>
          <p:nvPr/>
        </p:nvSpPr>
        <p:spPr>
          <a:xfrm>
            <a:off x="333360" y="680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partic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49"/>
          <p:cNvCxnSpPr>
            <a:endCxn id="202" idx="0"/>
          </p:cNvCxnSpPr>
          <p:nvPr/>
        </p:nvCxnSpPr>
        <p:spPr>
          <a:xfrm>
            <a:off x="3498840" y="658800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49"/>
          <p:cNvCxnSpPr>
            <a:endCxn id="173" idx="0"/>
          </p:cNvCxnSpPr>
          <p:nvPr/>
        </p:nvCxnSpPr>
        <p:spPr>
          <a:xfrm>
            <a:off x="3499920" y="7020000"/>
            <a:ext cx="25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24T14:34:36Z</dcterms:modified>
  <cp:revision>348</cp:revision>
  <dc:subject/>
  <dc:title>Presentación de PowerPoint</dc:title>
</cp:coreProperties>
</file>