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191-553C-4B15-A8B5-40E89C81A3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AD64-9889-4696-B4B8-78EF3E5B14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1826-F1C7-48EC-91C1-240F9DEFB1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9DE-AA1B-44E9-8794-FCB6A45D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F62-0A40-4C72-B23C-BEE10827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202-B11E-479D-9787-21CBABA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AD7-8C66-4C40-8BB5-23F5719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B0D-B864-4256-8A3A-E6914CD7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7AD-5A19-4B42-A21B-79E38B9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3F4-B4D5-4C56-AB87-7D75DB7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571-C3D1-4AB5-ADF6-7CD88C2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4B7-87ED-4759-BAF5-09FBD09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7BD-2E13-4F8E-8E2D-992225A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A44-8459-4710-8BB3-535E8D3A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057-FD8A-4B3E-9B29-2DE5BF85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490-A830-4A04-B7AB-A5011487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D30A-F266-432F-A54E-2793EA01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73A1-D8EC-4BDA-AB51-A759B64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712-66FC-4B32-A82B-5D0D286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C528-7838-4E3E-9879-069B98A5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6778-0B19-4FEF-B4EE-311CC98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380D-6DCA-42B8-8B03-8E9F8030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A36B-885B-45EB-ACF9-5378B49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A6E-744B-4015-B84B-D33D6C7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69D8-A07D-4A99-A5A2-51040D5D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0F11-CEEC-49B2-82F5-A9B8A98A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96F-0068-4D24-9D9D-AB61B30A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87CD-C100-4BF7-96E8-C3192D73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ABE7-ACF4-4226-8246-51CF6312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5CCD-40AF-4D54-9B0A-93427202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A0A9-5580-46F0-9548-F035A6F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699B-5704-44F9-B470-FEAB587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6D0D-2C20-4EAE-B326-D07F08D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B59B-856B-45D7-ACBA-D9CD431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4B57-9B51-4818-A9BA-B9A5BFA4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03BC-1603-44D2-A0B6-5DBB0D2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F39D-72A5-4C56-A6B5-D1B1B2D3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4BC2-BA22-4CDA-BA99-4A00E944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BE66-1E8C-4C2B-89FB-4BBE7E5C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on a medios de comun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1D92D417-9A8A-4335-8CC2-9F252140399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-OPE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79E-7CDF-4E2D-8293-6E63C2D8AF9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2CF-EE0B-41B8-82C3-8A350B94980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63BD-734F-42BC-B6DF-898BC6E4871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98108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14596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268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solicitud y se registra en 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7734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para evaluación de información solici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49416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757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48400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298908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62908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2989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1878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133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utoriza la entrega de información y se ordena la recolección de la mis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3494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8 Rectángulo"/>
          <p:cNvSpPr/>
          <p:nvPr/>
        </p:nvSpPr>
        <p:spPr>
          <a:xfrm>
            <a:off x="1700280" y="3492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información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>
            <a:stCxn id="214" idx="2"/>
          </p:cNvCxnSpPr>
          <p:nvPr/>
        </p:nvCxnSpPr>
        <p:spPr>
          <a:xfrm>
            <a:off x="3499920" y="3708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42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66"/>
          <p:cNvSpPr/>
          <p:nvPr/>
        </p:nvSpPr>
        <p:spPr>
          <a:xfrm>
            <a:off x="5373720" y="2181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centrado de información / P-OPE-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00"/>
          <p:cNvSpPr/>
          <p:nvPr/>
        </p:nvSpPr>
        <p:spPr>
          <a:xfrm>
            <a:off x="404640" y="2197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ersonal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3213000" y="385128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01T05:51:01Z</dcterms:modified>
  <cp:revision>318</cp:revision>
  <dc:subject/>
  <dc:title>Presentación de PowerPoint</dc:title>
</cp:coreProperties>
</file>