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A150-028F-43D9-8E8B-7A579698EF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A569-4229-420F-8429-6CCBACA27D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87CC-19A3-485C-B36C-379E3BDF0E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C86-C696-4BFC-B3FA-4D036A70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EB0-C87C-47C4-AD5C-36D0F76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E4C-7D35-4796-9494-6CB459FA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3E1-D638-4BFC-A390-646FDAAB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11E-B14A-43DD-AC4E-050DC292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EF1-E061-4571-8F18-316BA351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3F3-877A-415D-B097-94CE8AD6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FC3-3766-4B86-B3A0-0361A59A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4E3-2138-4111-B210-1DE94883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F23-857A-4CEB-9872-804D90B9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23C-DF29-4AE1-9422-6E448481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518-2DAE-4AC4-9C54-F5542E80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2611-5F73-4390-AA7E-203FE781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61A0-240D-46DF-9FA2-C0B20C25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E397-732B-4341-BED6-27D42EAA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7953-CAA4-4ED0-AF43-FE7D4075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77B8-EE27-4ADB-A4D5-B6DF91BC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1DB8-F917-4D59-B6AE-C2C3F094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698B-4824-4B14-BAFB-093414B2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CC07-8909-4C89-A571-BAAB45B8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BA83-D6A4-4BA7-97EE-89492317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E358-62E3-4A43-9D0F-DB70C043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5117-2FE2-41AE-ABAB-74E3C727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5C0C-F8B6-4758-ACE1-2009B2B3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mité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52A1ECD3-A3A4-4A81-B279-0202DF1E3CD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9242-6EEF-43C8-8465-D61EB6D8467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2F50-613F-4627-9CD3-5F302AB995C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aron nuevas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Formular propuestas y opiniones a la comisión de investigación y estudios electorales en materia de publicaciones y edicione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ropuestas y productos editoriales y se analiz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851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64404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resolu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18 Rectángulo"/>
          <p:cNvSpPr/>
          <p:nvPr/>
        </p:nvSpPr>
        <p:spPr>
          <a:xfrm>
            <a:off x="1700280" y="64389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resoluciones a comisión editorial para su valoración y decisión final una vez validado  y se notifica a involuc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tegrantes del comité ed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6 Rombo"/>
          <p:cNvSpPr/>
          <p:nvPr/>
        </p:nvSpPr>
        <p:spPr>
          <a:xfrm>
            <a:off x="2874960" y="2971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57 CuadroTexto"/>
          <p:cNvSpPr/>
          <p:nvPr/>
        </p:nvSpPr>
        <p:spPr>
          <a:xfrm>
            <a:off x="2925720" y="304164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Viable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64 Conector angular"/>
          <p:cNvCxnSpPr>
            <a:stCxn id="169" idx="1"/>
            <a:endCxn id="172" idx="1"/>
          </p:cNvCxnSpPr>
          <p:nvPr/>
        </p:nvCxnSpPr>
        <p:spPr>
          <a:xfrm flipH="1" flipV="1" rot="10800000">
            <a:off x="2873880" y="3150000"/>
            <a:ext cx="483480" cy="880200"/>
          </a:xfrm>
          <a:prstGeom prst="bentConnector3">
            <a:avLst>
              <a:gd name="adj1" fmla="val -4731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3" name="72 CuadroTexto"/>
          <p:cNvSpPr/>
          <p:nvPr/>
        </p:nvSpPr>
        <p:spPr>
          <a:xfrm>
            <a:off x="242100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73 CuadroTexto"/>
          <p:cNvSpPr/>
          <p:nvPr/>
        </p:nvSpPr>
        <p:spPr>
          <a:xfrm>
            <a:off x="3860640" y="2916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>
            <a:stCxn id="169" idx="3"/>
            <a:endCxn id="172" idx="0"/>
          </p:cNvCxnSpPr>
          <p:nvPr/>
        </p:nvCxnSpPr>
        <p:spPr>
          <a:xfrm>
            <a:off x="3731760" y="3151080"/>
            <a:ext cx="57960" cy="556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Rectangle 656"/>
          <p:cNvSpPr/>
          <p:nvPr/>
        </p:nvSpPr>
        <p:spPr>
          <a:xfrm>
            <a:off x="3357720" y="3706920"/>
            <a:ext cx="8632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revisión externa para su dictamin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5508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333360" y="55054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tegrantes del comité ed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64404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tegrantes del comité ed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75"/>
          <p:cNvSpPr/>
          <p:nvPr/>
        </p:nvSpPr>
        <p:spPr>
          <a:xfrm>
            <a:off x="4005360" y="673272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2" idx="2"/>
            <a:endCxn id="181" idx="0"/>
          </p:cNvCxnSpPr>
          <p:nvPr/>
        </p:nvCxnSpPr>
        <p:spPr>
          <a:xfrm rot="5400000">
            <a:off x="3409920" y="4248720"/>
            <a:ext cx="272160" cy="486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2" name="Oval 34"/>
          <p:cNvSpPr/>
          <p:nvPr/>
        </p:nvSpPr>
        <p:spPr>
          <a:xfrm>
            <a:off x="3213000" y="7020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6"/>
          <p:cNvSpPr/>
          <p:nvPr/>
        </p:nvSpPr>
        <p:spPr>
          <a:xfrm>
            <a:off x="4292640" y="3708360"/>
            <a:ext cx="936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haza y se dictamina no viable y se dictamina no pub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64 Conector angular"/>
          <p:cNvCxnSpPr>
            <a:stCxn id="169" idx="3"/>
            <a:endCxn id="183" idx="0"/>
          </p:cNvCxnSpPr>
          <p:nvPr/>
        </p:nvCxnSpPr>
        <p:spPr>
          <a:xfrm>
            <a:off x="3732120" y="3151080"/>
            <a:ext cx="1029600" cy="55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1" name="56 Rombo"/>
          <p:cNvSpPr/>
          <p:nvPr/>
        </p:nvSpPr>
        <p:spPr>
          <a:xfrm>
            <a:off x="2874960" y="46274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57 CuadroTexto"/>
          <p:cNvSpPr/>
          <p:nvPr/>
        </p:nvSpPr>
        <p:spPr>
          <a:xfrm>
            <a:off x="2925720" y="46972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Viable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stCxn id="181" idx="1"/>
          </p:cNvCxnSpPr>
          <p:nvPr/>
        </p:nvCxnSpPr>
        <p:spPr>
          <a:xfrm flipV="1" rot="10800000">
            <a:off x="2276640" y="4806720"/>
            <a:ext cx="598680" cy="1637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72 CuadroTexto"/>
          <p:cNvSpPr/>
          <p:nvPr/>
        </p:nvSpPr>
        <p:spPr>
          <a:xfrm>
            <a:off x="3860640" y="457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73 CuadroTexto"/>
          <p:cNvSpPr/>
          <p:nvPr/>
        </p:nvSpPr>
        <p:spPr>
          <a:xfrm>
            <a:off x="2492280" y="457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1" idx="3"/>
          </p:cNvCxnSpPr>
          <p:nvPr/>
        </p:nvCxnSpPr>
        <p:spPr>
          <a:xfrm>
            <a:off x="3731760" y="4807080"/>
            <a:ext cx="777240" cy="1637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0" name="AutoShape 649"/>
          <p:cNvCxnSpPr/>
          <p:nvPr/>
        </p:nvCxnSpPr>
        <p:spPr>
          <a:xfrm>
            <a:off x="4797000" y="450036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Oval 75"/>
          <p:cNvSpPr/>
          <p:nvPr/>
        </p:nvSpPr>
        <p:spPr>
          <a:xfrm>
            <a:off x="4724280" y="4643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32"/>
          <p:cNvCxnSpPr/>
          <p:nvPr/>
        </p:nvCxnSpPr>
        <p:spPr>
          <a:xfrm>
            <a:off x="1773000" y="2484000"/>
            <a:ext cx="1080" cy="396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32"/>
          <p:cNvCxnSpPr/>
          <p:nvPr/>
        </p:nvCxnSpPr>
        <p:spPr>
          <a:xfrm>
            <a:off x="3499920" y="6659280"/>
            <a:ext cx="10440" cy="36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64 Conector angular"/>
          <p:cNvCxnSpPr>
            <a:stCxn id="162" idx="2"/>
            <a:endCxn id="169" idx="0"/>
          </p:cNvCxnSpPr>
          <p:nvPr/>
        </p:nvCxnSpPr>
        <p:spPr>
          <a:xfrm rot="5400000">
            <a:off x="3156120" y="2629800"/>
            <a:ext cx="489600" cy="19584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5" name="AutoShape 32"/>
          <p:cNvCxnSpPr/>
          <p:nvPr/>
        </p:nvCxnSpPr>
        <p:spPr>
          <a:xfrm>
            <a:off x="3499920" y="6803640"/>
            <a:ext cx="50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8-21T19:51:23Z</dcterms:modified>
  <cp:revision>340</cp:revision>
  <dc:subject/>
  <dc:title>Presentación de PowerPoint</dc:title>
</cp:coreProperties>
</file>