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A03A-80D0-4EB0-86F9-A636E7FF07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14C5-EA66-4AB1-B18C-105084CDC6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704E-2BE9-4D97-A529-B9A59FD888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E49-2174-4540-AB43-BB877A27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6CB-E575-4E90-95BE-44F7DB42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D62-C14B-4B0E-B702-DEB4AD53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B1B-F742-4927-96DC-959299CB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C6E-B628-4757-8C07-462F9323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657-E0D7-4F45-B559-D9E02505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E19-7529-49FB-9A18-5F113BD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24B-9CCB-4846-87F1-AEAE7DF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94E-D7D1-445A-B4EC-B8B5BD16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23D-92D3-4287-84BF-EAFDFFBB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DE5-9739-41A5-B8AB-8B911329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03E-AA0A-4647-80FE-3D39C72C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B2EC-4C36-4B74-A1E9-A40B4F61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7D8A-415F-4EE7-BA51-F800C9AF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16F2-442C-4E2D-BFC5-55A75796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3627-0338-4F2A-ABAF-46B4DA7C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857A-9EF8-4815-A883-3B7B3F08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A114-2CC6-41CA-90C7-92E2429B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B73D-0EC4-4B91-96CE-0721A245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ABEC-A6B6-463C-8754-867E2786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77CB-D3E7-4411-8DAB-DF6AD3F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E583-379B-4A48-851D-D65BDA04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FC32-BA89-40CF-9937-817B1CAD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CEA8-CAC4-4243-94E7-DDC4EC83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cursos Financi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</a:t>
            </a:r>
            <a:fld id="{264E9B06-EF0D-46F9-B699-6FB48729C35E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굴림"/>
              </a:rPr>
              <a:t>   de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P-ADM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8DB5-7E39-4096-8DE2-662B66F90DF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C2F4-80D9-4FAC-8424-8814DA6FE96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-09-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con el presidente y el Secretario Ejecutivo en la organización administrativa de los recursos financieros del institu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Este procedimiento aplica para todos los recursos financieros en el proceso de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icios de Fiscalización, Proceso Administrativo Sancionador; y Reclutamiento y Selección de Capacitadores Asistentes Electorales (CAEs)  del IEPCJ como apoyo en la Organización de las elecciones constitucionales y mecanismos de participación ciudadana en el Estado de Jal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  <a:endCxn id="162" idx="0"/>
          </p:cNvCxnSpPr>
          <p:nvPr/>
        </p:nvCxnSpPr>
        <p:spPr>
          <a:xfrm flipH="1">
            <a:off x="3498120" y="1857240"/>
            <a:ext cx="3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98480" y="1979640"/>
            <a:ext cx="360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memorándum para comprobar gastos y se turna al director para asignació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98480" y="2340000"/>
            <a:ext cx="36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signa al área correspondiente para su seguimiento y se turna al respons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29272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43578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Oficio para póliza de cheque /  póliza de chequ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26836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 de recibo para áreas externas/ comprobación de gas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2" idx="2"/>
            <a:endCxn id="163" idx="0"/>
          </p:cNvCxnSpPr>
          <p:nvPr/>
        </p:nvCxnSpPr>
        <p:spPr>
          <a:xfrm>
            <a:off x="3498480" y="219528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>
            <a:stCxn id="163" idx="2"/>
            <a:endCxn id="169" idx="0"/>
          </p:cNvCxnSpPr>
          <p:nvPr/>
        </p:nvCxnSpPr>
        <p:spPr>
          <a:xfrm>
            <a:off x="3498840" y="262728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700"/>
          <p:cNvSpPr/>
          <p:nvPr/>
        </p:nvSpPr>
        <p:spPr>
          <a:xfrm>
            <a:off x="404640" y="2341440"/>
            <a:ext cx="115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01"/>
          <p:cNvSpPr/>
          <p:nvPr/>
        </p:nvSpPr>
        <p:spPr>
          <a:xfrm>
            <a:off x="333360" y="27734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6"/>
          <p:cNvSpPr/>
          <p:nvPr/>
        </p:nvSpPr>
        <p:spPr>
          <a:xfrm>
            <a:off x="5373720" y="277344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0" lang="es-ES_tradnl" sz="900" spc="-1" strike="noStrike">
                <a:solidFill>
                  <a:srgbClr val="ff0000"/>
                </a:solidFill>
                <a:latin typeface="Arial Narrow"/>
              </a:rPr>
              <a:t>heck list comprobante de gastos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/ comprobación de gastos / clasificador por objeto de gas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60"/>
          <p:cNvSpPr/>
          <p:nvPr/>
        </p:nvSpPr>
        <p:spPr>
          <a:xfrm>
            <a:off x="333360" y="3639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64"/>
          <p:cNvSpPr/>
          <p:nvPr/>
        </p:nvSpPr>
        <p:spPr>
          <a:xfrm>
            <a:off x="5373720" y="36370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greso póliza /comprobante de gas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56"/>
          <p:cNvSpPr/>
          <p:nvPr/>
        </p:nvSpPr>
        <p:spPr>
          <a:xfrm>
            <a:off x="1700280" y="277344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la revisión y se clasifica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AutoShape 685"/>
          <p:cNvCxnSpPr>
            <a:stCxn id="169" idx="2"/>
          </p:cNvCxnSpPr>
          <p:nvPr/>
        </p:nvCxnSpPr>
        <p:spPr>
          <a:xfrm>
            <a:off x="3499920" y="298908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Rectangle 701"/>
          <p:cNvSpPr/>
          <p:nvPr/>
        </p:nvSpPr>
        <p:spPr>
          <a:xfrm>
            <a:off x="333360" y="4284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1700280" y="3564000"/>
            <a:ext cx="11523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Reenvía a la secretaria para elaborar cheque y se llena póliza de che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18 Rectángulo"/>
          <p:cNvSpPr/>
          <p:nvPr/>
        </p:nvSpPr>
        <p:spPr>
          <a:xfrm>
            <a:off x="1700280" y="4213080"/>
            <a:ext cx="115236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gira oficio a Secretaria de administ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32"/>
          <p:cNvCxnSpPr>
            <a:stCxn id="177" idx="2"/>
          </p:cNvCxnSpPr>
          <p:nvPr/>
        </p:nvCxnSpPr>
        <p:spPr>
          <a:xfrm>
            <a:off x="2276280" y="406836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32"/>
          <p:cNvCxnSpPr/>
          <p:nvPr/>
        </p:nvCxnSpPr>
        <p:spPr>
          <a:xfrm>
            <a:off x="2276280" y="4644720"/>
            <a:ext cx="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701"/>
          <p:cNvSpPr/>
          <p:nvPr/>
        </p:nvSpPr>
        <p:spPr>
          <a:xfrm>
            <a:off x="333360" y="48610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66"/>
          <p:cNvSpPr/>
          <p:nvPr/>
        </p:nvSpPr>
        <p:spPr>
          <a:xfrm>
            <a:off x="5373720" y="486108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2"/>
          <p:cNvCxnSpPr/>
          <p:nvPr/>
        </p:nvCxnSpPr>
        <p:spPr>
          <a:xfrm>
            <a:off x="3499920" y="5076720"/>
            <a:ext cx="10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Rectangle 666"/>
          <p:cNvSpPr/>
          <p:nvPr/>
        </p:nvSpPr>
        <p:spPr>
          <a:xfrm>
            <a:off x="5373720" y="572436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6"/>
          <p:cNvSpPr/>
          <p:nvPr/>
        </p:nvSpPr>
        <p:spPr>
          <a:xfrm>
            <a:off x="5373720" y="190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Memorándum / comprobación de gas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66"/>
          <p:cNvSpPr/>
          <p:nvPr/>
        </p:nvSpPr>
        <p:spPr>
          <a:xfrm>
            <a:off x="5373720" y="658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00"/>
          <p:cNvSpPr/>
          <p:nvPr/>
        </p:nvSpPr>
        <p:spPr>
          <a:xfrm>
            <a:off x="404640" y="1979640"/>
            <a:ext cx="115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 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01"/>
          <p:cNvSpPr/>
          <p:nvPr/>
        </p:nvSpPr>
        <p:spPr>
          <a:xfrm>
            <a:off x="333360" y="572436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5"/>
          <p:cNvSpPr/>
          <p:nvPr/>
        </p:nvSpPr>
        <p:spPr>
          <a:xfrm>
            <a:off x="4437000" y="428472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56 Rombo"/>
          <p:cNvSpPr/>
          <p:nvPr/>
        </p:nvSpPr>
        <p:spPr>
          <a:xfrm>
            <a:off x="3089160" y="320508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57 CuadroTexto"/>
          <p:cNvSpPr/>
          <p:nvPr/>
        </p:nvSpPr>
        <p:spPr>
          <a:xfrm>
            <a:off x="3068640" y="327492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64 Conector angular"/>
          <p:cNvCxnSpPr>
            <a:stCxn id="190" idx="1"/>
          </p:cNvCxnSpPr>
          <p:nvPr/>
        </p:nvCxnSpPr>
        <p:spPr>
          <a:xfrm flipV="1" rot="10800000">
            <a:off x="2491560" y="3384360"/>
            <a:ext cx="59760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3" name="72 CuadroTexto"/>
          <p:cNvSpPr/>
          <p:nvPr/>
        </p:nvSpPr>
        <p:spPr>
          <a:xfrm>
            <a:off x="2706840" y="313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64 Conector angular"/>
          <p:cNvCxnSpPr>
            <a:stCxn id="190" idx="3"/>
            <a:endCxn id="195" idx="0"/>
          </p:cNvCxnSpPr>
          <p:nvPr/>
        </p:nvCxnSpPr>
        <p:spPr>
          <a:xfrm>
            <a:off x="3946320" y="3384720"/>
            <a:ext cx="564120" cy="180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6" name="73 CuadroTexto"/>
          <p:cNvSpPr/>
          <p:nvPr/>
        </p:nvSpPr>
        <p:spPr>
          <a:xfrm>
            <a:off x="4005360" y="313200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56"/>
          <p:cNvSpPr/>
          <p:nvPr/>
        </p:nvSpPr>
        <p:spPr>
          <a:xfrm>
            <a:off x="1700280" y="572292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o firmado y se entrega el cheque recabando la ultima fir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56"/>
          <p:cNvSpPr/>
          <p:nvPr/>
        </p:nvSpPr>
        <p:spPr>
          <a:xfrm>
            <a:off x="1700280" y="615636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ia documento a jefe de departamento para su archivo y registro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66"/>
          <p:cNvSpPr/>
          <p:nvPr/>
        </p:nvSpPr>
        <p:spPr>
          <a:xfrm>
            <a:off x="5373720" y="608472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Contpaq / 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32"/>
          <p:cNvCxnSpPr>
            <a:stCxn id="198" idx="2"/>
          </p:cNvCxnSpPr>
          <p:nvPr/>
        </p:nvCxnSpPr>
        <p:spPr>
          <a:xfrm>
            <a:off x="3499920" y="6443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Rectangle 656"/>
          <p:cNvSpPr/>
          <p:nvPr/>
        </p:nvSpPr>
        <p:spPr>
          <a:xfrm>
            <a:off x="1700280" y="665964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mite estados financieros y conciliacion bancaria para ser publicados al dia 20 de cada 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stCxn id="197" idx="2"/>
            <a:endCxn id="198" idx="0"/>
          </p:cNvCxnSpPr>
          <p:nvPr/>
        </p:nvCxnSpPr>
        <p:spPr>
          <a:xfrm flipH="1">
            <a:off x="3499560" y="5940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32"/>
          <p:cNvCxnSpPr>
            <a:stCxn id="201" idx="2"/>
          </p:cNvCxnSpPr>
          <p:nvPr/>
        </p:nvCxnSpPr>
        <p:spPr>
          <a:xfrm>
            <a:off x="3499920" y="6876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649"/>
          <p:cNvCxnSpPr>
            <a:stCxn id="195" idx="2"/>
          </p:cNvCxnSpPr>
          <p:nvPr/>
        </p:nvCxnSpPr>
        <p:spPr>
          <a:xfrm flipH="1">
            <a:off x="4508280" y="399528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Rectangle 701"/>
          <p:cNvSpPr/>
          <p:nvPr/>
        </p:nvSpPr>
        <p:spPr>
          <a:xfrm>
            <a:off x="333360" y="6156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01"/>
          <p:cNvSpPr/>
          <p:nvPr/>
        </p:nvSpPr>
        <p:spPr>
          <a:xfrm>
            <a:off x="333360" y="6588000"/>
            <a:ext cx="122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18 Rectángulo"/>
          <p:cNvSpPr/>
          <p:nvPr/>
        </p:nvSpPr>
        <p:spPr>
          <a:xfrm>
            <a:off x="3933720" y="3564000"/>
            <a:ext cx="11527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gresa al director con justif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1700280" y="478944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l director para la aprobación, revisión y fir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18 Rectángulo"/>
          <p:cNvSpPr/>
          <p:nvPr/>
        </p:nvSpPr>
        <p:spPr>
          <a:xfrm>
            <a:off x="1700280" y="522144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a director general o secretario ejecutivo según sea el caso para firma de póliza y se entrega a secretari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66"/>
          <p:cNvSpPr/>
          <p:nvPr/>
        </p:nvSpPr>
        <p:spPr>
          <a:xfrm>
            <a:off x="5373720" y="5292720"/>
            <a:ext cx="1278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32"/>
          <p:cNvCxnSpPr>
            <a:stCxn id="208" idx="2"/>
            <a:endCxn id="197" idx="0"/>
          </p:cNvCxnSpPr>
          <p:nvPr/>
        </p:nvCxnSpPr>
        <p:spPr>
          <a:xfrm>
            <a:off x="3499920" y="5508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Rectangle 656"/>
          <p:cNvSpPr/>
          <p:nvPr/>
        </p:nvSpPr>
        <p:spPr>
          <a:xfrm>
            <a:off x="1700280" y="709308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e envía la información de estados financieros junto con un memorándum a Presidente, 6 Consejeros, Contralor , Secretario Ejecutivo, Auditoría Superior del estado y Secretaria de Finanzas del est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os financieros / memorándum de estad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34"/>
          <p:cNvSpPr/>
          <p:nvPr/>
        </p:nvSpPr>
        <p:spPr>
          <a:xfrm>
            <a:off x="3213000" y="7740720"/>
            <a:ext cx="57636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32"/>
          <p:cNvCxnSpPr/>
          <p:nvPr/>
        </p:nvCxnSpPr>
        <p:spPr>
          <a:xfrm>
            <a:off x="3499920" y="75261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Oval 75"/>
          <p:cNvSpPr/>
          <p:nvPr/>
        </p:nvSpPr>
        <p:spPr>
          <a:xfrm>
            <a:off x="2492280" y="7596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649"/>
          <p:cNvCxnSpPr/>
          <p:nvPr/>
        </p:nvCxnSpPr>
        <p:spPr>
          <a:xfrm>
            <a:off x="2708280" y="7596000"/>
            <a:ext cx="791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 Pèrez Pèrez</cp:lastModifiedBy>
  <dcterms:modified xsi:type="dcterms:W3CDTF">2012-02-14T17:24:14Z</dcterms:modified>
  <cp:revision>322</cp:revision>
  <dc:subject/>
  <dc:title>Presentación de PowerPoint</dc:title>
</cp:coreProperties>
</file>