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44B3-EB54-4DE7-B9EF-95E5434EA32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453C-9492-41E1-A632-FF7E98B55C0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C231-7D8F-4092-A13D-9E5340E4CC7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85FD-4D69-4305-A59E-7A58D1A6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51AA-BE26-4607-8E70-30721AAB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3EDB-3B61-4948-AC24-8D2843C3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0A62-449A-4412-8F6F-4896843C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EE59-90B7-41A2-8521-8516EDC4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934D-2EF3-49FD-B258-D159311B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E2AF-848B-4376-BCE2-A8DED93E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C57B-0D38-4686-B8DC-C1908C30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E840-29B9-49C0-95D5-2A8435F7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0780-E690-4B7C-8DE5-203E22DE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1118-FA17-4D83-8622-2CE971A5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B900-394E-47E8-99E9-B730000B0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1C95-318D-40E8-871F-EA73D68D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6486-86FA-4AB2-B50D-921068D4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7839-B442-44A0-AB2E-81B01970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4E82-8829-402C-87EA-B922A571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E6BF-4B30-47D4-B6ED-0C54E9F9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5011-8DB9-4767-AF73-C5792D69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E0FF-6B34-49F2-AFD0-505F16A7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0431-95F7-4C97-AACB-4BC6B0A2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6484-7561-4C3C-B592-48F6ECBB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C5BA-E51A-47E8-A8B0-F100E9A4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7846-0D2D-4DD0-89DC-0453077D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EC05-64AA-46D1-82AE-E4642070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cit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767A0C84-CCAE-49AB-A939-34D8E5ED5FCA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382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Secretario Técnico de Com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OPE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30-04-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942F-6B69-40E0-9BB7-9733A6ABA342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856E-6DBD-4A38-A27C-AC54EF914D4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mbio de actividades, registros y personal respons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Personal respons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30-04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Dotar de los bienes y servicio que requiera el instituto sujetos a procedimientos de licit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s licitaciones que el IEPC realiza para solicitar productos o servicios mayores a un monto determinado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ecibe requisición o instrucción del 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labora bases, convocatoria  y especificaciones técnicas en conjunción con área solicitante para aprob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3360" y="428472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5"/>
          <p:cNvSpPr/>
          <p:nvPr/>
        </p:nvSpPr>
        <p:spPr>
          <a:xfrm>
            <a:off x="5373720" y="30607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ases y especificaciones técnic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AutoShape 684"/>
          <p:cNvCxnSpPr>
            <a:endCxn id="169" idx="0"/>
          </p:cNvCxnSpPr>
          <p:nvPr/>
        </p:nvCxnSpPr>
        <p:spPr>
          <a:xfrm>
            <a:off x="3517920" y="284292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emorá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56"/>
          <p:cNvSpPr/>
          <p:nvPr/>
        </p:nvSpPr>
        <p:spPr>
          <a:xfrm>
            <a:off x="1719360" y="2987640"/>
            <a:ext cx="3600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Recibe solicitudes de aclaración de empresas sobre las bases de la Lici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01"/>
          <p:cNvSpPr/>
          <p:nvPr/>
        </p:nvSpPr>
        <p:spPr>
          <a:xfrm>
            <a:off x="333360" y="34671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18 Rectángulo"/>
          <p:cNvSpPr/>
          <p:nvPr/>
        </p:nvSpPr>
        <p:spPr>
          <a:xfrm>
            <a:off x="1728720" y="34671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Determina la logística de la junta de aclara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18 Rectángulo"/>
          <p:cNvSpPr/>
          <p:nvPr/>
        </p:nvSpPr>
        <p:spPr>
          <a:xfrm>
            <a:off x="1717560" y="4264200"/>
            <a:ext cx="360072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visitas de inspección y levanta acta respectiv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32"/>
          <p:cNvCxnSpPr>
            <a:endCxn id="175" idx="0"/>
          </p:cNvCxnSpPr>
          <p:nvPr/>
        </p:nvCxnSpPr>
        <p:spPr>
          <a:xfrm>
            <a:off x="3517560" y="4073400"/>
            <a:ext cx="1080" cy="19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18 Rectángulo"/>
          <p:cNvSpPr/>
          <p:nvPr/>
        </p:nvSpPr>
        <p:spPr>
          <a:xfrm flipV="1" rot="10800000">
            <a:off x="1722600" y="4698000"/>
            <a:ext cx="3597120" cy="32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logística de desahogo del acto de presentación de  propuestas técnicas y  económicas y apertura de propuestas técnicas y elabora el acta respectiv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AutoShape 32"/>
          <p:cNvCxnSpPr>
            <a:endCxn id="177" idx="1"/>
          </p:cNvCxnSpPr>
          <p:nvPr/>
        </p:nvCxnSpPr>
        <p:spPr>
          <a:xfrm>
            <a:off x="3517560" y="4483080"/>
            <a:ext cx="39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Rectangle 701"/>
          <p:cNvSpPr/>
          <p:nvPr/>
        </p:nvSpPr>
        <p:spPr>
          <a:xfrm>
            <a:off x="351000" y="3024360"/>
            <a:ext cx="1225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701"/>
          <p:cNvSpPr/>
          <p:nvPr/>
        </p:nvSpPr>
        <p:spPr>
          <a:xfrm>
            <a:off x="333360" y="3852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6"/>
          <p:cNvSpPr/>
          <p:nvPr/>
        </p:nvSpPr>
        <p:spPr>
          <a:xfrm>
            <a:off x="5373720" y="35654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heck li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66"/>
          <p:cNvSpPr/>
          <p:nvPr/>
        </p:nvSpPr>
        <p:spPr>
          <a:xfrm>
            <a:off x="5373720" y="39798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18 Rectángulo"/>
          <p:cNvSpPr/>
          <p:nvPr/>
        </p:nvSpPr>
        <p:spPr>
          <a:xfrm>
            <a:off x="1717560" y="5219640"/>
            <a:ext cx="36007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el dictamen técnico donde se evalúa las propuestas y documentos presentados por los oferen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AutoShape 32"/>
          <p:cNvCxnSpPr/>
          <p:nvPr/>
        </p:nvCxnSpPr>
        <p:spPr>
          <a:xfrm>
            <a:off x="3490560" y="600228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sistente 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01"/>
          <p:cNvSpPr/>
          <p:nvPr/>
        </p:nvSpPr>
        <p:spPr>
          <a:xfrm>
            <a:off x="333360" y="47386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56"/>
          <p:cNvSpPr/>
          <p:nvPr/>
        </p:nvSpPr>
        <p:spPr>
          <a:xfrm>
            <a:off x="1722600" y="6154560"/>
            <a:ext cx="360036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Remite expediente al 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Consejero Presid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66"/>
          <p:cNvSpPr/>
          <p:nvPr/>
        </p:nvSpPr>
        <p:spPr>
          <a:xfrm>
            <a:off x="5373720" y="4716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 / Minuta de jun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AutoShape 32"/>
          <p:cNvCxnSpPr/>
          <p:nvPr/>
        </p:nvCxnSpPr>
        <p:spPr>
          <a:xfrm>
            <a:off x="3499920" y="6659640"/>
            <a:ext cx="39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Rectangle 666"/>
          <p:cNvSpPr/>
          <p:nvPr/>
        </p:nvSpPr>
        <p:spPr>
          <a:xfrm>
            <a:off x="5373720" y="43401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 / Minuta de jun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AutoShape 684"/>
          <p:cNvCxnSpPr>
            <a:stCxn id="169" idx="2"/>
            <a:endCxn id="174" idx="0"/>
          </p:cNvCxnSpPr>
          <p:nvPr/>
        </p:nvCxnSpPr>
        <p:spPr>
          <a:xfrm>
            <a:off x="3519000" y="3276360"/>
            <a:ext cx="1044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Oval 34"/>
          <p:cNvSpPr/>
          <p:nvPr/>
        </p:nvSpPr>
        <p:spPr>
          <a:xfrm>
            <a:off x="3214800" y="6875640"/>
            <a:ext cx="57600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18 Rectángulo"/>
          <p:cNvSpPr/>
          <p:nvPr/>
        </p:nvSpPr>
        <p:spPr>
          <a:xfrm>
            <a:off x="1728720" y="385776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Levanta el acta de la junta de aclaraciones donde constan las respuestas a  las preguntas formulad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AutoShape 32"/>
          <p:cNvCxnSpPr/>
          <p:nvPr/>
        </p:nvCxnSpPr>
        <p:spPr>
          <a:xfrm>
            <a:off x="3503160" y="3661920"/>
            <a:ext cx="10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32"/>
          <p:cNvCxnSpPr/>
          <p:nvPr/>
        </p:nvCxnSpPr>
        <p:spPr>
          <a:xfrm>
            <a:off x="3487320" y="5019480"/>
            <a:ext cx="39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18 Rectángulo"/>
          <p:cNvSpPr/>
          <p:nvPr/>
        </p:nvSpPr>
        <p:spPr>
          <a:xfrm flipV="1" rot="10800000">
            <a:off x="1730520" y="5668920"/>
            <a:ext cx="359856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logística de desahogo del acto comunicación del dictamen técnico, apertura de las ofertas económicas, fallo y adjudicación y elabora el acta respectiv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AutoShape 32"/>
          <p:cNvCxnSpPr/>
          <p:nvPr/>
        </p:nvCxnSpPr>
        <p:spPr>
          <a:xfrm>
            <a:off x="3465000" y="545292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Rectangle 653"/>
          <p:cNvSpPr/>
          <p:nvPr/>
        </p:nvSpPr>
        <p:spPr>
          <a:xfrm>
            <a:off x="1687680" y="2671920"/>
            <a:ext cx="3600360" cy="23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Remite convocatoria al Consejo General para su aprobación y publicación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AutoShape 681"/>
          <p:cNvCxnSpPr/>
          <p:nvPr/>
        </p:nvCxnSpPr>
        <p:spPr>
          <a:xfrm>
            <a:off x="3517560" y="252720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Rectangle 701"/>
          <p:cNvSpPr/>
          <p:nvPr/>
        </p:nvSpPr>
        <p:spPr>
          <a:xfrm>
            <a:off x="333360" y="57229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l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701"/>
          <p:cNvSpPr/>
          <p:nvPr/>
        </p:nvSpPr>
        <p:spPr>
          <a:xfrm>
            <a:off x="333360" y="5219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a / J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fe de áre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701"/>
          <p:cNvSpPr/>
          <p:nvPr/>
        </p:nvSpPr>
        <p:spPr>
          <a:xfrm>
            <a:off x="333360" y="6154560"/>
            <a:ext cx="122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l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66"/>
          <p:cNvSpPr/>
          <p:nvPr/>
        </p:nvSpPr>
        <p:spPr>
          <a:xfrm>
            <a:off x="5373720" y="570852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inu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6"/>
          <p:cNvSpPr/>
          <p:nvPr/>
        </p:nvSpPr>
        <p:spPr>
          <a:xfrm>
            <a:off x="5373720" y="5219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ctame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6"/>
          <p:cNvSpPr/>
          <p:nvPr/>
        </p:nvSpPr>
        <p:spPr>
          <a:xfrm>
            <a:off x="5373720" y="62276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emorandum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cp:lastPrinted>2012-05-01T00:17:16Z</cp:lastPrinted>
  <dcterms:modified xsi:type="dcterms:W3CDTF">2014-07-14T19:34:56Z</dcterms:modified>
  <cp:revision>332</cp:revision>
  <dc:subject/>
  <dc:title>Presentación de PowerPoint</dc:title>
</cp:coreProperties>
</file>