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FE2-949B-4433-A9AE-A8D86C411C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F38-AC86-425C-A54D-26E847B44C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903C-2072-4D64-8A60-4137287E93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599A-4A57-4C8B-8A5A-A7C3DD3305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43B-E2B1-4F06-BF39-54B64FFE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556-9A90-496F-95BC-8FD17CF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7BB-81D9-4092-9DB7-50C67DE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4E4-ECF5-4A15-8DC0-2A7A586A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BEB-1E00-4B33-BAEC-80C72C99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BF8-E249-4061-A6B3-183752C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BAA-7E34-43A2-8EF1-8F9CA21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D54-EA41-4376-A434-E8FF96E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C36-9F9C-450F-BE67-8B49D88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594-21CF-4F53-B88F-414F407C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848-6297-49CC-9063-C2C1238D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9F6-4103-4640-A7F1-851DEE79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BB4B-3757-4558-BA61-785BAD68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1D9B-2B4A-4524-84DD-9148A83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5B9C-22DA-4B6D-929A-907F9B61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25F-6802-4661-A27F-82FAF44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9906-B828-43E0-91DF-A078C146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C78-5ADF-4297-A99E-9C1A630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759-D12D-4BD2-B577-7558587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8291-E903-418D-9D6F-872A3F5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7ED-F7C7-4155-9804-4015A23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4DF4-8760-47AF-8FE3-0CEB0E6B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5E9-E3D8-417D-80E1-3A29339A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361-4BDD-4073-8F51-BDD908C0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C9E27A6-4854-4399-A696-5E2C98036B1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AB34-F0E5-4063-9B9C-73399377EF3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A8AF-0B4D-4960-882B-F1049C8C420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acuerdos que en el ámbito de las atribuciones correspondan a cada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n este espacio se pondrá en que se certificara la empresa aun no esta definido los procesos  a certificar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</a:t>
            </a:r>
            <a:r>
              <a:rPr b="0" lang="es-ES" sz="900" spc="-1" strike="noStrike">
                <a:solidFill>
                  <a:srgbClr val="ff0000"/>
                </a:solidFill>
                <a:latin typeface="Times New Roman"/>
              </a:rPr>
              <a:t> y se integra expe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documentación a directora para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proyecto a titular del área para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Formula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úne con el presidente de la Comisión para revisión del proyec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502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directora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1840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royecta orden del día y convoca a reunió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24000" y="535788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a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Establece logística de la ses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478944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Recaba firmas de dictamen aprobado y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30240" y="5846760"/>
            <a:ext cx="3313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información a informática y transparencia para su publ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3200" y="6205680"/>
            <a:ext cx="331452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rchiva documentació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60624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6480" y="643428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57684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lmacena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ADM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caba firmas de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endCxn id="246" idx="0"/>
          </p:cNvCxnSpPr>
          <p:nvPr/>
        </p:nvCxnSpPr>
        <p:spPr>
          <a:xfrm>
            <a:off x="3499920" y="687528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Rectangle 656"/>
          <p:cNvSpPr/>
          <p:nvPr/>
        </p:nvSpPr>
        <p:spPr>
          <a:xfrm>
            <a:off x="180828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io Ejecu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32"/>
          <p:cNvCxnSpPr/>
          <p:nvPr/>
        </p:nvCxnSpPr>
        <p:spPr>
          <a:xfrm>
            <a:off x="3573000" y="558180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nstituto Electoral y de Participaciòn Ciudadana </cp:lastModifiedBy>
  <dcterms:modified xsi:type="dcterms:W3CDTF">2011-12-15T20:42:35Z</dcterms:modified>
  <cp:revision>316</cp:revision>
  <dc:subject/>
  <dc:title>Presentación de PowerPoint</dc:title>
</cp:coreProperties>
</file>