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38C9-638D-4892-9CC0-5893E49233B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1A90-A13A-4B1D-AE18-D24ABCCBF68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FA8F-A408-4444-A2DF-070580257CE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02B8-9CC8-48EF-80DC-5BFE9E06A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95E7-85C4-4FB7-81F5-ECD78D77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4CCB-27C6-4681-9DA4-5DEED89F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3092-083F-42C7-84AF-90ED6CA1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1482-2E78-4E58-B856-2A085A0B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DDE3-0A51-4E05-8684-70F5CBD6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34FE-BA41-4892-8ED1-CD521BD0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3080-0317-4BC0-A24C-8F28E782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A0EF-9EBD-494C-8C25-D3E0942A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9F08-F8B1-4688-A1F3-441C2B2E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26C1-B855-47A9-80DB-5814D0812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137D-D532-4078-A6C7-29FFD3753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5524-FAF7-4FEC-9BE1-F46486D2A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C142-2D0C-42EB-B326-F6A1D82F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21F0-69C9-4ADB-8CE5-FF0FC1F1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D049F-C7F9-4B5F-AD7B-8AFF985F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A762-2017-4985-9D58-23CC3DA8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4EE7-99E9-4234-9980-16FA9CD7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E7DA-FB82-4E8B-9677-8AC60506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45741-5496-4B72-9BD1-92EB2F44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FFB8-6AA3-4027-914A-544C878A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8B53-AF5C-4922-8B6A-0E210C1B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B7E9-5FAF-49B6-B786-4A6F5AC66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109B7-968D-4AB8-A00D-73FBF63E3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Transpar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45A91147-0FEA-422B-BBF8-C9840C9D1626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06280"/>
            <a:ext cx="3166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a Secretaria Técnica de Com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ADM-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E2A2-A9BA-411F-91E9-4C01186E2D6C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97A4-9BE7-47AA-BF39-CF7367AE5EA6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Recibir, dar tramite y coadyuvar con UTI en entregar la información respecto delas solicitudes presentadas en términos de la ley de Transparencia e Información Pública del Estado de Jalisco y del Código Electoral y de Participación Ciudadana del Estado de Jalis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se deberá poner un glosario para que los auditores puedan entender de que se habla, en caso de no tener palabras ajenas al vocabulario común se pondrá N/A (no aplica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63"/>
          <p:cNvSpPr/>
          <p:nvPr/>
        </p:nvSpPr>
        <p:spPr>
          <a:xfrm>
            <a:off x="5373720" y="2700360"/>
            <a:ext cx="12970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665"/>
          <p:cNvSpPr/>
          <p:nvPr/>
        </p:nvSpPr>
        <p:spPr>
          <a:xfrm>
            <a:off x="5373720" y="3059280"/>
            <a:ext cx="128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olicitud de inform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666"/>
          <p:cNvSpPr/>
          <p:nvPr/>
        </p:nvSpPr>
        <p:spPr>
          <a:xfrm>
            <a:off x="5373720" y="19796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olicitudes por transparencia / acuse de recibo INFOMEX/ carpeta de recibido de INFOME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60"/>
          <p:cNvSpPr/>
          <p:nvPr/>
        </p:nvSpPr>
        <p:spPr>
          <a:xfrm>
            <a:off x="333360" y="23400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4"/>
          <p:cNvSpPr/>
          <p:nvPr/>
        </p:nvSpPr>
        <p:spPr>
          <a:xfrm>
            <a:off x="5373720" y="270036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 mai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01"/>
          <p:cNvSpPr/>
          <p:nvPr/>
        </p:nvSpPr>
        <p:spPr>
          <a:xfrm>
            <a:off x="333360" y="3060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34"/>
          <p:cNvSpPr/>
          <p:nvPr/>
        </p:nvSpPr>
        <p:spPr>
          <a:xfrm>
            <a:off x="3213000" y="385128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18 Rectángulo"/>
          <p:cNvSpPr/>
          <p:nvPr/>
        </p:nvSpPr>
        <p:spPr>
          <a:xfrm>
            <a:off x="1700280" y="23400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visión de programa INFOMEX diariam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18 Rectángulo"/>
          <p:cNvSpPr/>
          <p:nvPr/>
        </p:nvSpPr>
        <p:spPr>
          <a:xfrm>
            <a:off x="1700280" y="2700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notifica a la directora para elaborar respues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AutoShape 32"/>
          <p:cNvCxnSpPr>
            <a:stCxn id="167" idx="2"/>
            <a:endCxn id="168" idx="0"/>
          </p:cNvCxnSpPr>
          <p:nvPr/>
        </p:nvCxnSpPr>
        <p:spPr>
          <a:xfrm>
            <a:off x="3499920" y="2555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18 Rectángulo"/>
          <p:cNvSpPr/>
          <p:nvPr/>
        </p:nvSpPr>
        <p:spPr>
          <a:xfrm>
            <a:off x="1700280" y="30607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valúa la información para determinar su respues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AutoShape 32"/>
          <p:cNvCxnSpPr>
            <a:stCxn id="168" idx="2"/>
            <a:endCxn id="170" idx="0"/>
          </p:cNvCxnSpPr>
          <p:nvPr/>
        </p:nvCxnSpPr>
        <p:spPr>
          <a:xfrm>
            <a:off x="3499920" y="2916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2" name="Rectangle 701"/>
          <p:cNvSpPr/>
          <p:nvPr/>
        </p:nvSpPr>
        <p:spPr>
          <a:xfrm>
            <a:off x="333360" y="270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01"/>
          <p:cNvSpPr/>
          <p:nvPr/>
        </p:nvSpPr>
        <p:spPr>
          <a:xfrm>
            <a:off x="333360" y="3419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66"/>
          <p:cNvSpPr/>
          <p:nvPr/>
        </p:nvSpPr>
        <p:spPr>
          <a:xfrm>
            <a:off x="5373720" y="34750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use de recibo INFOMEX / P-ADM-3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18 Rectángulo"/>
          <p:cNvSpPr/>
          <p:nvPr/>
        </p:nvSpPr>
        <p:spPr>
          <a:xfrm>
            <a:off x="1700280" y="341964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 a UTI respuesta con información neces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AutoShape 32"/>
          <p:cNvCxnSpPr>
            <a:stCxn id="170" idx="2"/>
            <a:endCxn id="175" idx="0"/>
          </p:cNvCxnSpPr>
          <p:nvPr/>
        </p:nvCxnSpPr>
        <p:spPr>
          <a:xfrm>
            <a:off x="3499920" y="32763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AutoShape 32"/>
          <p:cNvCxnSpPr>
            <a:stCxn id="175" idx="2"/>
          </p:cNvCxnSpPr>
          <p:nvPr/>
        </p:nvCxnSpPr>
        <p:spPr>
          <a:xfrm>
            <a:off x="3499920" y="363528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AutoShape 32"/>
          <p:cNvCxnSpPr>
            <a:stCxn id="179" idx="2"/>
            <a:endCxn id="167" idx="0"/>
          </p:cNvCxnSpPr>
          <p:nvPr/>
        </p:nvCxnSpPr>
        <p:spPr>
          <a:xfrm flipH="1">
            <a:off x="3499560" y="1856880"/>
            <a:ext cx="2520" cy="48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1-12-13T19:12:45Z</dcterms:modified>
  <cp:revision>315</cp:revision>
  <dc:subject/>
  <dc:title>Presentación de PowerPoint</dc:title>
</cp:coreProperties>
</file>