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784D-6037-4BCE-8303-2B10AC2E98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19D5-7BF7-475A-9C91-605E646CA9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838-C4CC-4724-AC8F-04859F3C31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365-7A3B-4FEB-B54E-3C5AC8A9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EDA-632D-4046-95A0-8E82F030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F3D-EB17-4D32-8A80-935B43CF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EA0-F9E0-4380-BC47-B0E739AA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374-DF48-49D8-8909-C40F5998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848-A77A-4AD9-AE24-B71F50B0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6B8-5765-4B12-8CAD-66FFDB3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E1C-13AF-46E6-85DD-C6C4E3D0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4B9-4E8D-42B2-9B2F-DEDCADF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A29-4980-414D-8FEA-B0575567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61C-BB86-4F4E-ABA3-6D4BB8B3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680-BA53-41A8-866C-AFFD19BF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D3FC-E445-46D7-A0EC-19603A42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06BD-FAA8-4185-AF80-99D907BE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D8C9-764D-4F02-89E2-4BC790F5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5D75-7FE0-45ED-92BD-26231026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4AA3-DF94-464C-850C-518EBFCB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0EAC-C733-49D8-96FC-C1C25E06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68FE-760C-4E2E-B37F-372CC298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A56E-874D-4D42-82E0-6310A0AE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FC7D-65DC-4370-BBC2-6210244B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22DD-8296-46A2-9ECE-396E5DDC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1FCD-B4EB-47FB-94D0-BFC4DBDD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402B-75D8-456E-912B-68BEF68F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jecución de Activ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7A98458-819A-4443-90E2-8A6743F95AF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13B8-6E0D-4EF7-A3C0-1567638CE32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2B37-D308-42DB-92B2-FB6F8F9DCD1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s en referencias, actividades y nombre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icientar la ejecución y operación de las actividades de las Direccione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poyar y dar seguimiento a las actividades de la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o genera solicitud para dotar de servicios o Vo.Bo. para cualquier dirección que lo neces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signa al personal indicado para desarrollar la t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788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9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Ficha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5580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secretaria / coordin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73720" y="3059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Ficha de Requer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aliza la planeación de la solicit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4" idx="2"/>
          </p:cNvCxnSpPr>
          <p:nvPr/>
        </p:nvCxnSpPr>
        <p:spPr>
          <a:xfrm>
            <a:off x="2276280" y="3349800"/>
            <a:ext cx="1080" cy="23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3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4276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6012000"/>
            <a:ext cx="1278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Informe de Actividades Semanal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Ficha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0"/>
          <p:cNvSpPr/>
          <p:nvPr/>
        </p:nvSpPr>
        <p:spPr>
          <a:xfrm>
            <a:off x="404640" y="18352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Secretaria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33360" y="55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6 Rombo"/>
          <p:cNvSpPr/>
          <p:nvPr/>
        </p:nvSpPr>
        <p:spPr>
          <a:xfrm>
            <a:off x="4076640" y="3492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57 CuadroTexto"/>
          <p:cNvSpPr/>
          <p:nvPr/>
        </p:nvSpPr>
        <p:spPr>
          <a:xfrm>
            <a:off x="4005360" y="3562200"/>
            <a:ext cx="907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odific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4" idx="1"/>
          </p:cNvCxnSpPr>
          <p:nvPr/>
        </p:nvCxnSpPr>
        <p:spPr>
          <a:xfrm flipV="1" rot="10800000">
            <a:off x="3285360" y="3671640"/>
            <a:ext cx="791280" cy="181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72 CuadroTexto"/>
          <p:cNvSpPr/>
          <p:nvPr/>
        </p:nvSpPr>
        <p:spPr>
          <a:xfrm>
            <a:off x="3693960" y="34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73 CuadroTexto"/>
          <p:cNvSpPr/>
          <p:nvPr/>
        </p:nvSpPr>
        <p:spPr>
          <a:xfrm>
            <a:off x="4846680" y="34034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2421000" y="3924360"/>
            <a:ext cx="1730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propone modificaciones con el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64 Conector angular"/>
          <p:cNvCxnSpPr>
            <a:stCxn id="184" idx="3"/>
            <a:endCxn id="191" idx="3"/>
          </p:cNvCxnSpPr>
          <p:nvPr/>
        </p:nvCxnSpPr>
        <p:spPr>
          <a:xfrm>
            <a:off x="4933800" y="3672000"/>
            <a:ext cx="8640" cy="2088000"/>
          </a:xfrm>
          <a:prstGeom prst="bentConnector3">
            <a:avLst>
              <a:gd name="adj1" fmla="val 311739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Oval 75"/>
          <p:cNvSpPr/>
          <p:nvPr/>
        </p:nvSpPr>
        <p:spPr>
          <a:xfrm>
            <a:off x="3213000" y="521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89160" y="270036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068640" y="2770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dministrativo o Técnic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</p:cNvCxnSpPr>
          <p:nvPr/>
        </p:nvCxnSpPr>
        <p:spPr>
          <a:xfrm flipV="1" rot="10800000">
            <a:off x="2491560" y="28785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6" name="72 CuadroTexto"/>
          <p:cNvSpPr/>
          <p:nvPr/>
        </p:nvSpPr>
        <p:spPr>
          <a:xfrm>
            <a:off x="1844640" y="2627280"/>
            <a:ext cx="122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3" idx="3"/>
          </p:cNvCxnSpPr>
          <p:nvPr/>
        </p:nvCxnSpPr>
        <p:spPr>
          <a:xfrm>
            <a:off x="3946680" y="287928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73 CuadroTexto"/>
          <p:cNvSpPr/>
          <p:nvPr/>
        </p:nvSpPr>
        <p:spPr>
          <a:xfrm>
            <a:off x="4005360" y="2627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8 Rectángulo"/>
          <p:cNvSpPr/>
          <p:nvPr/>
        </p:nvSpPr>
        <p:spPr>
          <a:xfrm>
            <a:off x="3645000" y="305928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studia el documento y se revis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/>
          <p:nvPr/>
        </p:nvCxnSpPr>
        <p:spPr>
          <a:xfrm>
            <a:off x="450828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6"/>
          <p:cNvSpPr/>
          <p:nvPr/>
        </p:nvSpPr>
        <p:spPr>
          <a:xfrm>
            <a:off x="2421000" y="435600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n al área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56"/>
          <p:cNvSpPr/>
          <p:nvPr/>
        </p:nvSpPr>
        <p:spPr>
          <a:xfrm>
            <a:off x="1628640" y="5651640"/>
            <a:ext cx="331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e da seguimiento al documento o a las actividades realiz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/>
          <p:nvPr/>
        </p:nvCxnSpPr>
        <p:spPr>
          <a:xfrm>
            <a:off x="3284280" y="4211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/>
          <p:nvPr/>
        </p:nvCxnSpPr>
        <p:spPr>
          <a:xfrm>
            <a:off x="3284280" y="4643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656"/>
          <p:cNvSpPr/>
          <p:nvPr/>
        </p:nvSpPr>
        <p:spPr>
          <a:xfrm>
            <a:off x="1628640" y="6010200"/>
            <a:ext cx="33130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informe de ejecución 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/>
          <p:nvPr/>
        </p:nvCxnSpPr>
        <p:spPr>
          <a:xfrm>
            <a:off x="3428640" y="5867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32"/>
          <p:cNvCxnSpPr/>
          <p:nvPr/>
        </p:nvCxnSpPr>
        <p:spPr>
          <a:xfrm>
            <a:off x="342864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701"/>
          <p:cNvSpPr/>
          <p:nvPr/>
        </p:nvSpPr>
        <p:spPr>
          <a:xfrm>
            <a:off x="333360" y="6588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/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2421000" y="478800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n modificaciones del área para Vo.B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32"/>
          <p:cNvCxnSpPr/>
          <p:nvPr/>
        </p:nvCxnSpPr>
        <p:spPr>
          <a:xfrm>
            <a:off x="3284280" y="5074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656"/>
          <p:cNvSpPr/>
          <p:nvPr/>
        </p:nvSpPr>
        <p:spPr>
          <a:xfrm>
            <a:off x="1628640" y="658800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juntas periódicas donde se revisan pendientes con di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4"/>
          <p:cNvSpPr/>
          <p:nvPr/>
        </p:nvSpPr>
        <p:spPr>
          <a:xfrm>
            <a:off x="3139920" y="716436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>
            <a:endCxn id="211" idx="0"/>
          </p:cNvCxnSpPr>
          <p:nvPr/>
        </p:nvCxnSpPr>
        <p:spPr>
          <a:xfrm flipH="1">
            <a:off x="3428280" y="687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Rectangle 666"/>
          <p:cNvSpPr/>
          <p:nvPr/>
        </p:nvSpPr>
        <p:spPr>
          <a:xfrm>
            <a:off x="5373720" y="6588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17:33:32Z</dcterms:modified>
  <cp:revision>308</cp:revision>
  <dc:subject/>
  <dc:title>Presentación de PowerPoint</dc:title>
</cp:coreProperties>
</file>