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FA36-BF40-41F4-9198-59AFEF5EFBE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C9E2-9AD3-4160-A4D7-20029751F43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5977-0C6D-4F64-AC9E-2C7358A7924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FFB2-D4A0-423B-A171-EED5614D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6AC5-11EC-493C-8321-439267C1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3EDB-1124-4D92-893C-F9F6CD6B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DF6E-B646-4EFA-B1FF-918604EC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9716-A8BB-4877-92DD-62A588C2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DB71-71F4-4CF9-9E7F-751C0AEF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D741-4841-416D-A344-27894E03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39DB-1F06-4E0F-8A15-667F32D4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8FA5-C9EE-4A78-92ED-B3108011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8A54-D227-4A4F-BAAA-383CB57E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68CC-DE68-4E9F-985E-AE5F4553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1A0F-84A6-4D53-93EC-DF5162B3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D8B3-4D00-48BA-AB99-373B7E9C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31FC-94D9-4F6E-974C-9474D81E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1C55-6F7B-4969-9EA6-01659F87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2BE8-86B7-4473-8445-2B24219E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4F63-2E61-45C0-A0B7-8F5D7337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F332-F1F1-40E1-A459-77FD7F33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CC5B-499A-4F96-A076-6A6B5070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A2F6-314C-4C67-BAE5-12DE3CD6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80E1-028E-4DCD-BA43-FEF8D143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4B68-37C8-4FC3-9BF9-5D5E6A3D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F804-7048-42DC-946E-86CC7B9D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429D-EF0A-4A7D-AFA9-F0965A05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7A587-9D35-4DAB-A85D-491D7454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13656-8401-4C2C-935C-7DAECBC9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94EF9-AF1C-4919-992F-A4D9EA20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74500-AB51-471C-8C3F-19BA3285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5A51A-DBD5-464B-BE30-8138A58D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444DD-E041-4B1A-8C8F-029A4044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E8F90-7583-4769-B88E-B2B1D820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FAA50-18FD-4C14-B20F-DAD1DDCB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91BCA-6582-4CDD-AA44-4275C7F0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7A333-C647-444E-8EF3-55BF0776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5F852-0FDB-4D30-A755-2996294AA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BEFB8-AAFF-496E-8E24-E642028A3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oncur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76C5CEE5-D902-41F0-B477-90029DCCD0DA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de Capacitación Electoral y educación Cív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2DD9-EF8A-4779-BDA3-FE21BFD80DC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7FF3-D1D8-49B5-A7F6-47383375FDC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3F07-4FC2-46FF-AE47-34DFF37EAC9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oadyuvar en la organización y desarrollo de concursos de tesis, ensayo polít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elaboración y desarrollo de concursos para la ciudadanía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IEPC: Instituto Electoral y de Participación Ciudada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3" idx="2"/>
            <a:endCxn id="204" idx="0"/>
          </p:cNvCxnSpPr>
          <p:nvPr/>
        </p:nvCxnSpPr>
        <p:spPr>
          <a:xfrm flipH="1">
            <a:off x="3498120" y="2172960"/>
            <a:ext cx="1836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Rectangle 652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elaboran los contenidos de la convocatoria para su difusió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53"/>
          <p:cNvSpPr/>
          <p:nvPr/>
        </p:nvSpPr>
        <p:spPr>
          <a:xfrm>
            <a:off x="1700280" y="2700360"/>
            <a:ext cx="3600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ifunde y se reciben trabajos de participantes y se genera una relación de los trabajos recibidos y se turna a Secretaria Técnica de Comisiones para su aprobación con el jurado y fall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1"/>
          <p:cNvSpPr/>
          <p:nvPr/>
        </p:nvSpPr>
        <p:spPr>
          <a:xfrm>
            <a:off x="333360" y="47340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65"/>
          <p:cNvSpPr/>
          <p:nvPr/>
        </p:nvSpPr>
        <p:spPr>
          <a:xfrm>
            <a:off x="5373720" y="356544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-COM-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66"/>
          <p:cNvSpPr/>
          <p:nvPr/>
        </p:nvSpPr>
        <p:spPr>
          <a:xfrm>
            <a:off x="5373720" y="2700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se de recibido / relación de trabajos recibi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AutoShape 681"/>
          <p:cNvCxnSpPr>
            <a:stCxn id="204" idx="2"/>
            <a:endCxn id="205" idx="0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684"/>
          <p:cNvCxnSpPr>
            <a:stCxn id="205" idx="2"/>
            <a:endCxn id="211" idx="0"/>
          </p:cNvCxnSpPr>
          <p:nvPr/>
        </p:nvCxnSpPr>
        <p:spPr>
          <a:xfrm>
            <a:off x="3499920" y="305892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Rectangle 700"/>
          <p:cNvSpPr/>
          <p:nvPr/>
        </p:nvSpPr>
        <p:spPr>
          <a:xfrm>
            <a:off x="404640" y="263052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 / secretaria (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701"/>
          <p:cNvSpPr/>
          <p:nvPr/>
        </p:nvSpPr>
        <p:spPr>
          <a:xfrm>
            <a:off x="333360" y="3205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66"/>
          <p:cNvSpPr/>
          <p:nvPr/>
        </p:nvSpPr>
        <p:spPr>
          <a:xfrm>
            <a:off x="5373720" y="31320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agina web del IEPC /convocato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56"/>
          <p:cNvSpPr/>
          <p:nvPr/>
        </p:nvSpPr>
        <p:spPr>
          <a:xfrm>
            <a:off x="1700280" y="32050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publican en la pagina web del IEPC los nombres de los ganadores, fecha y lugar de la ceremon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AutoShape 685"/>
          <p:cNvCxnSpPr>
            <a:stCxn id="211" idx="2"/>
          </p:cNvCxnSpPr>
          <p:nvPr/>
        </p:nvCxnSpPr>
        <p:spPr>
          <a:xfrm>
            <a:off x="3499920" y="34207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Rectangle 701"/>
          <p:cNvSpPr/>
          <p:nvPr/>
        </p:nvSpPr>
        <p:spPr>
          <a:xfrm>
            <a:off x="333360" y="3851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/ 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18 Rectángulo"/>
          <p:cNvSpPr/>
          <p:nvPr/>
        </p:nvSpPr>
        <p:spPr>
          <a:xfrm>
            <a:off x="1700280" y="3564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genera requisición para premios de los ganadores y se envía a Dirección de Administración y Finanz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18 Rectángulo"/>
          <p:cNvSpPr/>
          <p:nvPr/>
        </p:nvSpPr>
        <p:spPr>
          <a:xfrm>
            <a:off x="1700280" y="3924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logística para ceremonia de premiación y se elaboran reconocimien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AutoShape 32"/>
          <p:cNvCxnSpPr>
            <a:stCxn id="217" idx="2"/>
            <a:endCxn id="218" idx="0"/>
          </p:cNvCxnSpPr>
          <p:nvPr/>
        </p:nvCxnSpPr>
        <p:spPr>
          <a:xfrm>
            <a:off x="3499920" y="377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18 Rectángulo"/>
          <p:cNvSpPr/>
          <p:nvPr/>
        </p:nvSpPr>
        <p:spPr>
          <a:xfrm>
            <a:off x="1700280" y="42847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ifunden invitaciones para ceremonia de premiación y se entrega prem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AutoShape 32"/>
          <p:cNvCxnSpPr>
            <a:stCxn id="218" idx="2"/>
            <a:endCxn id="220" idx="0"/>
          </p:cNvCxnSpPr>
          <p:nvPr/>
        </p:nvCxnSpPr>
        <p:spPr>
          <a:xfrm>
            <a:off x="3499920" y="4140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2" name="Rectangle 701"/>
          <p:cNvSpPr/>
          <p:nvPr/>
        </p:nvSpPr>
        <p:spPr>
          <a:xfrm>
            <a:off x="333360" y="3637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701"/>
          <p:cNvSpPr/>
          <p:nvPr/>
        </p:nvSpPr>
        <p:spPr>
          <a:xfrm>
            <a:off x="333360" y="4211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66"/>
          <p:cNvSpPr/>
          <p:nvPr/>
        </p:nvSpPr>
        <p:spPr>
          <a:xfrm>
            <a:off x="5373720" y="3924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ADM-15  / reconocimientos a participant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666"/>
          <p:cNvSpPr/>
          <p:nvPr/>
        </p:nvSpPr>
        <p:spPr>
          <a:xfrm>
            <a:off x="5373720" y="46450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fi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18 Rectángulo"/>
          <p:cNvSpPr/>
          <p:nvPr/>
        </p:nvSpPr>
        <p:spPr>
          <a:xfrm>
            <a:off x="1700280" y="47322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genera informe f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AutoShape 32"/>
          <p:cNvCxnSpPr>
            <a:stCxn id="220" idx="2"/>
            <a:endCxn id="226" idx="0"/>
          </p:cNvCxnSpPr>
          <p:nvPr/>
        </p:nvCxnSpPr>
        <p:spPr>
          <a:xfrm>
            <a:off x="3499920" y="4500360"/>
            <a:ext cx="108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Rectangle 666"/>
          <p:cNvSpPr/>
          <p:nvPr/>
        </p:nvSpPr>
        <p:spPr>
          <a:xfrm>
            <a:off x="5373720" y="225252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vocato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700"/>
          <p:cNvSpPr/>
          <p:nvPr/>
        </p:nvSpPr>
        <p:spPr>
          <a:xfrm>
            <a:off x="404640" y="226836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capacitación electoral y educación cív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AutoShape 32"/>
          <p:cNvCxnSpPr>
            <a:stCxn id="226" idx="2"/>
          </p:cNvCxnSpPr>
          <p:nvPr/>
        </p:nvCxnSpPr>
        <p:spPr>
          <a:xfrm>
            <a:off x="3499920" y="494784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" name="Rectangle 666"/>
          <p:cNvSpPr/>
          <p:nvPr/>
        </p:nvSpPr>
        <p:spPr>
          <a:xfrm>
            <a:off x="5373720" y="43401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vit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Oval 34"/>
          <p:cNvSpPr/>
          <p:nvPr/>
        </p:nvSpPr>
        <p:spPr>
          <a:xfrm>
            <a:off x="3213000" y="521964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649"/>
          <p:cNvCxnSpPr>
            <a:endCxn id="203" idx="0"/>
          </p:cNvCxnSpPr>
          <p:nvPr/>
        </p:nvCxnSpPr>
        <p:spPr>
          <a:xfrm flipH="1">
            <a:off x="3516120" y="1834920"/>
            <a:ext cx="360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716120" y="195732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elabora proyecto y se presenta a Dirección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66"/>
          <p:cNvSpPr/>
          <p:nvPr/>
        </p:nvSpPr>
        <p:spPr>
          <a:xfrm>
            <a:off x="5391000" y="18702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to / P-ADM-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700"/>
          <p:cNvSpPr/>
          <p:nvPr/>
        </p:nvSpPr>
        <p:spPr>
          <a:xfrm>
            <a:off x="422280" y="188604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capacitación electoral y educación cív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4-19T14:41:13Z</dcterms:modified>
  <cp:revision>334</cp:revision>
  <dc:subject/>
  <dc:title>Presentación de PowerPoint</dc:title>
</cp:coreProperties>
</file>