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7EC2-1742-414F-AFAB-820D609A5D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84E3-7D26-47FC-8F9C-08E1D71100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1C94-8A54-4126-8F04-92298A802D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5F1-5790-4911-8999-D16332FF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5CA-BA1C-46B5-A940-893A96A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D18-C4ED-417E-B343-DF2B6D9D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D44-B945-4D1F-8593-09B97D02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96B-6B1F-4749-B50F-1181FE40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0C6-29FC-459D-AC3F-5B05A38A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4D2-122A-4677-AA38-81962951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434-BFAB-4CC0-A2F5-C6FC3AFF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449-E746-4BDC-93CD-D15C7A98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8B1-BAB8-4497-844D-CC4E37AA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B59-AB9E-4DB1-9252-DBF033DF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BE2-D571-470C-AAB5-AEB427CE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2BA1-18DB-41D5-A355-23E47E5B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783F-B567-432F-92E0-C4F8D739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C94A-855D-4694-87B0-2AC4E673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0186-BB81-47CC-B110-D0CE978A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CFCF-5D7A-44E6-B67C-A9B954AA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8CFC-7C96-4FD9-848B-3C297E4D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806-6EF8-44D0-9D85-585ADBB1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312C-DDAF-4CB0-BFA6-9BB01388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85CD-C6BA-486E-B2D6-A5966D0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169E-4B12-4EF7-A658-90B69EE9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0F92-5815-4AEC-A902-607EF2F8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CA17-02F0-455A-911E-F4E52332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8CED4F96-E1E8-4E80-AA3A-0D0FD07DD4C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5A51-779F-4D5A-9153-014F1C2A700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EA05-7F84-4558-83C1-3F4AD53A2CB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requisición o instrucción del Consejo General, presidente o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laboran bases en conjunción con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ormato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Base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ontestación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ntestación a solicitudes de aclaración de  empresas sobre las ba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205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logística de la junta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5654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evanta acta de visitas de inspe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4" idx="2"/>
            <a:endCxn id="175" idx="0"/>
          </p:cNvCxnSpPr>
          <p:nvPr/>
        </p:nvCxnSpPr>
        <p:spPr>
          <a:xfrm>
            <a:off x="3499920" y="342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>
            <a:off x="1700280" y="3925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na evaluación preliminar con ofertas técnicas económicas y apertura de ofertas técn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5" idx="2"/>
            <a:endCxn id="177" idx="0"/>
          </p:cNvCxnSpPr>
          <p:nvPr/>
        </p:nvCxnSpPr>
        <p:spPr>
          <a:xfrm>
            <a:off x="3499920" y="37810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565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ta de visitas de insp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ta / 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700280" y="4284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n dictamen técnico de acuerdo a las propuestas y docum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77" idx="2"/>
            <a:endCxn id="183" idx="0"/>
          </p:cNvCxnSpPr>
          <p:nvPr/>
        </p:nvCxnSpPr>
        <p:spPr>
          <a:xfrm>
            <a:off x="3499920" y="4141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32"/>
          <p:cNvCxnSpPr>
            <a:stCxn id="183" idx="2"/>
          </p:cNvCxnSpPr>
          <p:nvPr/>
        </p:nvCxnSpPr>
        <p:spPr>
          <a:xfrm>
            <a:off x="3499920" y="45003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86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700280" y="464508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acto de comunicaci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l dictamen tecnico, apertura de ofertas economicas, fallo y adjudicaciones, y remision al 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716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9" idx="2"/>
            <a:endCxn id="192" idx="0"/>
          </p:cNvCxnSpPr>
          <p:nvPr/>
        </p:nvCxnSpPr>
        <p:spPr>
          <a:xfrm flipH="1">
            <a:off x="3499560" y="507672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 Narrow"/>
              </a:rPr>
              <a:t>Dictamen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4"/>
          <p:cNvCxnSpPr>
            <a:stCxn id="169" idx="2"/>
            <a:endCxn id="174" idx="0"/>
          </p:cNvCxnSpPr>
          <p:nvPr/>
        </p:nvCxnSpPr>
        <p:spPr>
          <a:xfrm>
            <a:off x="3499920" y="29163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Oval 34"/>
          <p:cNvSpPr/>
          <p:nvPr/>
        </p:nvSpPr>
        <p:spPr>
          <a:xfrm>
            <a:off x="3213000" y="5508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8T15:06:11Z</dcterms:modified>
  <cp:revision>306</cp:revision>
  <dc:subject/>
  <dc:title>Presentación de PowerPoint</dc:title>
</cp:coreProperties>
</file>