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286-9533-457A-AAEB-2BAF58E0A4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34E0-B4B8-4CB3-BD83-4A33685ECA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06B-5BA4-4D3E-BFCF-1842F88AF4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A94-E7DF-4953-ABFC-4C6CF773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ED7-2959-4188-8D35-B35DFCD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025-AB68-4631-98AF-FFD5245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ADC-A6B1-47E9-8C26-CE1CDC3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CEF-393D-41CC-9788-FB62EA6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58C-7F5C-48FF-8841-5E0FDD9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761-1315-4882-B98C-143B0DA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943-F755-45A8-85EC-726CB0F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865-4D52-4A94-9BD7-6BE7986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C30-D9C5-4127-A884-FF43C60D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2F5-5F89-4C66-9842-40A6F145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EE5-7D43-4E18-BF8A-1333D162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C4E3-01F2-4101-BF4E-880AC107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7228-BA4A-4346-B8D3-C6FEE39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CDCD-B0CF-4C95-B69D-A1A4F09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3E06-2D2B-4184-8F94-496175D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EB6D-C9A1-459D-951A-A418C23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D6E-97A2-4BA2-90F1-CB4874B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A50-91EE-43F9-BC59-2059FB6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D814-C680-4A4B-9DB1-5596A12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446-57F9-4DDE-ABD9-24BAF1A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9A5A-1E4A-49F8-8E1E-F31C53BF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8AD8-9397-42E3-BD9E-B562B47D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A20B-BD69-40D2-BE2F-9E2F4679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9FAC66D-860A-4633-8AAA-5C0E87B3748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1312-BE16-4243-9D4F-15120A46812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05F-BB81-4346-82C9-3DF204D7398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materi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isición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58100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428292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umpl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3924360"/>
            <a:ext cx="85752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3994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41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205000" y="385128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410364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3851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ontra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428292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vía a administración y finanzas una vez completado 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2277720" y="629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Oval 34"/>
          <p:cNvSpPr/>
          <p:nvPr/>
        </p:nvSpPr>
        <p:spPr>
          <a:xfrm>
            <a:off x="4221000" y="6732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3"/>
          <p:cNvSpPr/>
          <p:nvPr/>
        </p:nvSpPr>
        <p:spPr>
          <a:xfrm>
            <a:off x="1698480" y="3421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 jefe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34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P-COM-01 / 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04640" y="3422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685"/>
          <p:cNvCxnSpPr/>
          <p:nvPr/>
        </p:nvCxnSpPr>
        <p:spPr>
          <a:xfrm>
            <a:off x="3499920" y="370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5"/>
          <p:cNvCxnSpPr>
            <a:stCxn id="189" idx="2"/>
            <a:endCxn id="182" idx="0"/>
          </p:cNvCxnSpPr>
          <p:nvPr/>
        </p:nvCxnSpPr>
        <p:spPr>
          <a:xfrm flipH="1">
            <a:off x="4508280" y="6227280"/>
            <a:ext cx="216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0"/>
          <p:cNvSpPr/>
          <p:nvPr/>
        </p:nvSpPr>
        <p:spPr>
          <a:xfrm>
            <a:off x="333360" y="58690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18 Rectángulo"/>
          <p:cNvSpPr/>
          <p:nvPr/>
        </p:nvSpPr>
        <p:spPr>
          <a:xfrm>
            <a:off x="1700280" y="579600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89160" y="5437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550692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</p:cNvCxnSpPr>
          <p:nvPr/>
        </p:nvCxnSpPr>
        <p:spPr>
          <a:xfrm flipV="1" rot="10800000">
            <a:off x="2491560" y="56163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2205000" y="536400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  <a:endCxn id="189" idx="0"/>
          </p:cNvCxnSpPr>
          <p:nvPr/>
        </p:nvCxnSpPr>
        <p:spPr>
          <a:xfrm>
            <a:off x="3946320" y="561672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3 CuadroTexto"/>
          <p:cNvSpPr/>
          <p:nvPr/>
        </p:nvSpPr>
        <p:spPr>
          <a:xfrm>
            <a:off x="4005360" y="53640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3933720" y="579600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ella la factura y se envía a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5"/>
          <p:cNvSpPr/>
          <p:nvPr/>
        </p:nvSpPr>
        <p:spPr>
          <a:xfrm>
            <a:off x="4508640" y="5003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2133720" y="6516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1844640" y="3995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205" idx="0"/>
          </p:cNvCxnSpPr>
          <p:nvPr/>
        </p:nvCxnSpPr>
        <p:spPr>
          <a:xfrm flipV="1" rot="10800000">
            <a:off x="2241000" y="3004920"/>
            <a:ext cx="848160" cy="12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2" idx="3"/>
          </p:cNvCxnSpPr>
          <p:nvPr/>
        </p:nvCxnSpPr>
        <p:spPr>
          <a:xfrm>
            <a:off x="3946320" y="3004920"/>
            <a:ext cx="635400" cy="415080"/>
          </a:xfrm>
          <a:prstGeom prst="bentConnector3">
            <a:avLst>
              <a:gd name="adj1" fmla="val 101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133720" y="3132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2060280" y="414000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64 Conector angular"/>
          <p:cNvCxnSpPr>
            <a:stCxn id="173" idx="2"/>
            <a:endCxn id="193" idx="0"/>
          </p:cNvCxnSpPr>
          <p:nvPr/>
        </p:nvCxnSpPr>
        <p:spPr>
          <a:xfrm flipH="1" rot="16200000">
            <a:off x="2572560" y="4491360"/>
            <a:ext cx="649800" cy="124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Oval 75"/>
          <p:cNvSpPr/>
          <p:nvPr/>
        </p:nvSpPr>
        <p:spPr>
          <a:xfrm>
            <a:off x="4005360" y="637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4220640" y="651636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Oval 75"/>
          <p:cNvSpPr/>
          <p:nvPr/>
        </p:nvSpPr>
        <p:spPr>
          <a:xfrm>
            <a:off x="4941720" y="30592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5"/>
          <p:cNvCxnSpPr/>
          <p:nvPr/>
        </p:nvCxnSpPr>
        <p:spPr>
          <a:xfrm flipH="1" flipV="1">
            <a:off x="4580640" y="320292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8T19:55:04Z</dcterms:modified>
  <cp:revision>345</cp:revision>
  <dc:subject/>
  <dc:title>Presentación de PowerPoint</dc:title>
</cp:coreProperties>
</file>