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1040-61B8-4EE2-BC5C-4DE5D6A317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277D-8AC1-454A-BCF2-3638615F0C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A8E2-E087-4D46-8F22-DB7ABF6BDB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D98-7B10-4BFD-B688-E9172672DB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2D3-3F74-45CE-940C-5BBE1A85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442-5054-4F3C-BA1B-C8168A4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ECC-A30B-4F2B-BE98-E6DE63BE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894-EE1B-47D8-BA2C-8F0709AC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D39-B2AA-47BE-9AD7-2B1CFAC4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EE7-9804-41B2-B2B2-2BD4AB42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3A8-1200-4A62-80ED-70579AD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02F-641F-4018-85B5-C3ED691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9D1-C6B9-4DBE-990A-020638A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27E-8502-44CD-A157-2322D05C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979-2845-4A25-A9FE-15F7D991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970-C635-4560-8FF5-29A28882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AE0A-6BA9-46B3-A4BA-9FD44712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5E5-8B40-4D5C-AE60-7BF33D2A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BB94-7C61-4362-B671-BF927721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9F53-C57D-4399-B8A8-240F76EB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2965-F9B2-4CE4-B5F7-E6805FD7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C742-B807-4D0F-BD1D-9291320D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C3FE-9025-4B4F-A0DD-860BE2EF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749-7565-45A4-85C2-A6FFBC27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285-F7E6-44E9-A938-A2DBFF4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6C28-2F47-44FF-B032-1A4582CC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91DF-AA74-4CE6-80B9-2B304EAB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E71E-6320-4BE3-9AE9-BC5F92CD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1173-3804-43E0-9D51-612DEA55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6EE1-7679-4473-8A1F-C74ED0D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FB23-6058-4A99-922F-6669D1B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F256-E590-46ED-9322-C5858B2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58CC-C529-41D5-9503-8541B7C1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BD21-9E83-44EA-B129-FA9589F3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ABF7-EEF9-42CF-AEF2-D94AAF9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5D74-5B58-481D-8584-B42BF6F3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1B4D1-2BC4-40B5-8DDB-369BAAA1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57A7-B841-4FE9-AD72-B40184C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123B-0408-423E-962E-428F1A94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C7A4-4CBB-43A7-B4DD-1C761EAA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eo de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BA54497-4833-468A-BFF0-12F71C3F4FF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FC46-EE8B-4703-9649-D382B8140D4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E42A-3068-44FE-9506-F2894C21B2C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1D13-698B-4EDA-BE92-4325C1566B6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o al personal directivo del IEPC sobre la información de actividades y funciones que desarrolla el instituto y recopilar y analizar información que sobre el instituto difundan los medios masivos de comunicación, mediante la elaboración de productos como la síntesis de prensa y la de monitoreo de medio electrón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dar el seguimiento de las notas del IEPC con todos los medio de comunic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arpeta Informativa: Recopilación de notas de interés para el IEPC, con recortes periodísticos, notas de internet, radio en el portales de intern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Master: Recopilación de notas de video en D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5 diarios locales para recabar notas acerca del instituto y notas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síntesis y se recopilan notas en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aca copia y se escanea para clasificación de notas y se sube a la red en la categoría determi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para VoBo de final de información  se analizan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eriódicos y artículos de 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n grabaciones de noticieros locales de un día a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bitácora de notas trascendentales o del IEPC y se graba en un master (DV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ta convert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 de medios / ma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1"/>
          <p:cNvCxnSpPr>
            <a:stCxn id="229" idx="2"/>
            <a:endCxn id="230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684"/>
          <p:cNvCxnSpPr>
            <a:stCxn id="230" idx="2"/>
            <a:endCxn id="235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aster / 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la información a auxiliar y la convierte a un CD extra en formato accesible para t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685"/>
          <p:cNvCxnSpPr>
            <a:stCxn id="235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información a presidente, consejero, Secretario ejecutivo, Director General y se verific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32"/>
          <p:cNvCxnSpPr>
            <a:stCxn id="240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rab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Televisión y rad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0:53:38Z</dcterms:modified>
  <cp:revision>327</cp:revision>
  <dc:subject/>
  <dc:title>Presentación de PowerPoint</dc:title>
</cp:coreProperties>
</file>