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A80C-1F59-4129-8BBE-EFD0674983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B240-00F5-46B2-B4B7-9F0E73723D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2C28-3D7F-405D-8EE4-624A82BADE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B06-87F0-46A7-A821-D37550D0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431-5ADB-448A-93A9-0CAD488D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35B-562C-46DD-AF2A-5D0F1512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279-8CB0-4D00-B84E-31F37B1C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B84-8FE8-49DC-BC1D-729B652E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40C-7E3D-457E-8E4D-BE601A17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C45-E4F5-42C8-AB18-A9CF2EA9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D4F-578D-405C-B9EB-18D48CF4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ACB-C762-4DBE-A1FE-C7B5DDA1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2EF-1797-4399-924A-FA976E1F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525E-DE13-44B7-815E-71A9E346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F78-A78A-4753-9706-5375C3DB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975D-593E-4C73-BA86-48D9C712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C75A-B59D-44DE-BA44-4ED58C51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3C28-A545-49CF-9BC1-99CCC0F2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FA30-0A6F-46E3-8C78-BA08363D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CF2C-2BBB-40CB-8019-89C582B6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9068-25AD-4AF3-9A38-69FEC060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262C-CF8F-4495-8E23-1D75A7D7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ECE3-6C65-423D-91CD-F3F8EB58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FF4F-9CFD-4564-B25B-DA7990E9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A301-CE75-4E5B-8BE1-FD422B17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89FC-5DF4-4136-AFA4-5E9BB72C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3442-EC6D-449F-927A-760E5445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CBE5-FA8A-4159-A368-A8F8FF14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D65F-4D9F-4627-B25C-5F46B735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A7CC-794B-44F1-B086-7497D568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D291F-A5DF-4E32-9ABA-ADF26A0A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1D72-B3A7-43AB-B5CC-63875DA7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06679-C484-4B31-88C7-370E498E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E0BEB-B01D-4798-B3C5-D840D67C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8C465-D05F-4604-99BF-060D41B7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3AF6B-8B42-4025-83F7-484E13B3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CCF10-918E-4846-8705-157748F3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B68A-1BF7-4DD7-B732-F7C7DF62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6F840-D180-4EF6-9465-03316C16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stadísiticas de Imagen del IE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1A904C12-4C91-46C5-A6DA-8DEE4962F01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-OPE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07D2-AC82-406C-A866-FEAE3C44748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6976-96D4-4489-A7D2-F09EBAEFDCA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AA5E-F906-464F-9E23-E11C9BA43B4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97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2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nocer el trato periodístico hacia el IEPC de los reporteros de la fuente, editorialistas y columnistas de los diversos diarios locales, presentando un informe final a la presidencia para su análisis y toma de decisiones respecto de los propios medio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procedimiento aplica para la elaboración de estadísticas y revisar la imagen que los principales periódicos locales tienen del 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OCUMENTO CONFINENCIAL: Expediente donde solo el director del area y personal de presidencia tienen acceso a su lectur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información de carpeta informativa cada 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epara información de medios y se acomodan en orden cronológico y por medio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naliza si la nota para revisar es positiva, negativa o neutra y registro con síntesis de la nota y au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utiliza información para grafica información de acuerdo a su clas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9974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senta informe a presidente graficas con análisis de estadística de ima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>
            <a:stCxn id="215" idx="2"/>
            <a:endCxn id="216" idx="0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66"/>
          <p:cNvSpPr/>
          <p:nvPr/>
        </p:nvSpPr>
        <p:spPr>
          <a:xfrm>
            <a:off x="5373720" y="40528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34"/>
          <p:cNvSpPr/>
          <p:nvPr/>
        </p:nvSpPr>
        <p:spPr>
          <a:xfrm>
            <a:off x="3213000" y="4500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AutoShape 32"/>
          <p:cNvCxnSpPr>
            <a:endCxn id="222" idx="0"/>
          </p:cNvCxnSpPr>
          <p:nvPr/>
        </p:nvCxnSpPr>
        <p:spPr>
          <a:xfrm>
            <a:off x="3499920" y="421272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17T14:35:09Z</dcterms:modified>
  <cp:revision>328</cp:revision>
  <dc:subject/>
  <dc:title>Presentación de PowerPoint</dc:title>
</cp:coreProperties>
</file>