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7AA-252E-48AF-B042-775593FE05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A74-C719-49B0-842F-7310685E95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5EE0-D667-45F0-B727-1A7F52B6A5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9D7-CB53-4D31-9C8B-7C888D9C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E10-F35F-42B0-9411-15360D9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E06-A483-4901-8E1C-FB4CB469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BDB-1CA9-4645-8433-EBE85BDF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995-8FEE-44CE-B57B-2B1B235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6D4-DECA-4D56-935D-C58D05B5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B49-8D57-4340-B3A1-2E51AC4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687-8797-4B64-86E1-326C0791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2F7-2D3F-4E68-832C-7680D2A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863-B1DF-4E1C-8167-3A17414D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B7F-9DC1-4962-8658-C636EE01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567-D8F6-4F91-B743-BA8A806A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7979-9F43-4FE8-83C9-2F6B479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0488-CBBF-4E32-B672-C273F08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4257-C9FE-4269-A746-1DF3F6B3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D51B-299D-4693-9404-0FB1372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44A-B2D7-46A2-9459-9011B77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5A8-E34F-489F-A5E3-4D4B1F2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825F-E2FC-45DC-81FA-91AD6BF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66B-4F94-4F4F-A09E-A8636A9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6DDA-12BB-47BF-A23C-1601029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6955-748B-4C5A-82C3-CC365BEA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FE66-6CAF-44A1-8B89-8B6C87DA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2EA0-D03A-46CA-8AA2-7A615F50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en Ventan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B545519-3B80-4836-A4B7-6A34BBF0AA8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D1B-B86F-451C-91B7-6FD97E2F48D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B9A-C0EC-48FC-908A-DEF0EDE35AA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bastecer del material solicitado por las diferentes áreas oportunamente para el correcto funcionamiento de las labores del 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ntrega de material en stock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tock: Material en reserva del almacén para el cual no es necesario contar con requisición previamente autorizada para su comp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autorizaciones y se verifica existencia en el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86320" y="3205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67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recursos materiales / Admin paq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 flipH="1">
            <a:off x="4509360" y="3646440"/>
            <a:ext cx="108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62560" y="1990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276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80200" y="3736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recursos materiales / 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48948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ercancía y se da de baja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istenci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encargado de compras la falta de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64 Conector angular"/>
          <p:cNvCxnSpPr>
            <a:stCxn id="173" idx="2"/>
            <a:endCxn id="183" idx="2"/>
          </p:cNvCxnSpPr>
          <p:nvPr/>
        </p:nvCxnSpPr>
        <p:spPr>
          <a:xfrm flipH="1" rot="16200000">
            <a:off x="2977560" y="3292920"/>
            <a:ext cx="614880" cy="20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Oval 34"/>
          <p:cNvSpPr/>
          <p:nvPr/>
        </p:nvSpPr>
        <p:spPr>
          <a:xfrm>
            <a:off x="429264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12840" y="3681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2-04-26T17:07:10Z</cp:lastPrinted>
  <dcterms:modified xsi:type="dcterms:W3CDTF">2012-05-31T18:36:29Z</dcterms:modified>
  <cp:revision>350</cp:revision>
  <dc:subject/>
  <dc:title>Presentación de PowerPoint</dc:title>
</cp:coreProperties>
</file>