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D836-3F6C-4EBD-98F1-25CBB0CEC1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3E57-0040-4A88-92AC-C4F70DFE04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5655-03BC-4EC7-9ECF-FB5EB4CECC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362-582E-49B4-A1F4-ED985DA7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5CFC-DFD0-427C-9933-9B9442EA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4E3-7FC3-4623-BCC6-D0053582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E22-ED4A-49D7-9D6A-ED318A39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24B-0E18-44B7-B271-8E090BF3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B2B-9CA2-48DC-A635-7A971447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29C-01EC-4B79-B799-92839E6F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FB0-9DA0-4FEC-8712-6135E4E8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9CE-0A7A-4A25-B274-EB864D14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417A-C096-4F0B-951C-68654E36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128-9BB5-4174-BA2B-E95FC3F7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F92-CB45-4FAD-AA29-06E0A4F7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E906-4762-4622-9E4F-2FAACF77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1D40-4EB4-4A1E-B25C-3FFA217F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A6A9-AF0D-44C7-814E-1D6953D2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995F-F5F0-4A76-BF3E-FA099E80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595D-C762-4752-8BB4-794BA0EC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5427-D3A0-4080-8124-3B1F8081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5BF3-2EE9-468D-917B-2E45D7A0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A461-4CE0-4571-BD23-14BC3D9C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28A7-99B9-459F-9308-2317F621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FF6C-5760-406E-842A-CB73E2CF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FAA9-A1E0-4670-BFF6-DC248C54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FA3D-F1BB-43FB-9052-1E4FE37A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guimiento In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168C7200-CB8C-4290-9535-B1EF64185C7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8697-444E-44F1-A456-A45C65ED071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04A8-6E8D-475C-BD70-D611A67B499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icientar la ejecución y operación de actividades del personal de la Dirección Gene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apoyar y facilitar las labores del personal de la Dirección Gene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 realiza el Informe de Actividades Semanal  de la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turna el seguimiento de actividades de acuerdo a informes y perfil de perso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AutoShape 684"/>
          <p:cNvCxnSpPr>
            <a:stCxn id="163" idx="2"/>
            <a:endCxn id="166" idx="0"/>
          </p:cNvCxnSpPr>
          <p:nvPr/>
        </p:nvCxnSpPr>
        <p:spPr>
          <a:xfrm>
            <a:off x="3498840" y="2626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1959120"/>
            <a:ext cx="1278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e de Actividades semanal de la Dirección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0"/>
          <p:cNvSpPr/>
          <p:nvPr/>
        </p:nvSpPr>
        <p:spPr>
          <a:xfrm>
            <a:off x="404640" y="183528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fe de departamento / coordinado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320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/ coordinadores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56"/>
          <p:cNvSpPr/>
          <p:nvPr/>
        </p:nvSpPr>
        <p:spPr>
          <a:xfrm>
            <a:off x="1700280" y="2771640"/>
            <a:ext cx="36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 le da seguimiento a las actividades programadas  y no programadas por las direccion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56"/>
          <p:cNvSpPr/>
          <p:nvPr/>
        </p:nvSpPr>
        <p:spPr>
          <a:xfrm>
            <a:off x="1701720" y="3319560"/>
            <a:ext cx="360036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 actualiza el Informe de Actividades Semanal de la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32"/>
          <p:cNvCxnSpPr>
            <a:stCxn id="166" idx="2"/>
            <a:endCxn id="172" idx="0"/>
          </p:cNvCxnSpPr>
          <p:nvPr/>
        </p:nvCxnSpPr>
        <p:spPr>
          <a:xfrm>
            <a:off x="3499920" y="3131640"/>
            <a:ext cx="2520" cy="18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AutoShape 32"/>
          <p:cNvCxnSpPr>
            <a:stCxn id="172" idx="2"/>
            <a:endCxn id="175" idx="0"/>
          </p:cNvCxnSpPr>
          <p:nvPr/>
        </p:nvCxnSpPr>
        <p:spPr>
          <a:xfrm>
            <a:off x="3501720" y="3681000"/>
            <a:ext cx="10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370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56"/>
          <p:cNvSpPr/>
          <p:nvPr/>
        </p:nvSpPr>
        <p:spPr>
          <a:xfrm>
            <a:off x="1701720" y="3846600"/>
            <a:ext cx="360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ía al Director General para su revisión y toma de decisione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34"/>
          <p:cNvSpPr/>
          <p:nvPr/>
        </p:nvSpPr>
        <p:spPr>
          <a:xfrm>
            <a:off x="3214800" y="4284720"/>
            <a:ext cx="57600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stCxn id="175" idx="2"/>
          </p:cNvCxnSpPr>
          <p:nvPr/>
        </p:nvCxnSpPr>
        <p:spPr>
          <a:xfrm flipH="1">
            <a:off x="3499560" y="4134960"/>
            <a:ext cx="252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666"/>
          <p:cNvSpPr/>
          <p:nvPr/>
        </p:nvSpPr>
        <p:spPr>
          <a:xfrm>
            <a:off x="5373720" y="2328840"/>
            <a:ext cx="127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e de Actividades semanal de la Dirección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83080" y="2711520"/>
            <a:ext cx="12765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e de Actividades semanal de la Dirección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3173400"/>
            <a:ext cx="127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e de Actividades semanal de la Dirección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83080" y="3713040"/>
            <a:ext cx="127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e de Actividades semanal de la Dirección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17:54:09Z</dcterms:modified>
  <cp:revision>312</cp:revision>
  <dc:subject/>
  <dc:title>Presentación de PowerPoint</dc:title>
</cp:coreProperties>
</file>