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C7C4-C0D6-4DBE-9EBC-751CFB4214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038-B97E-4E1C-B9C3-A750F0BA4B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538-4882-45D6-85A3-F12B538AC4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60F-8D8C-427D-9570-ECDD7F96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E6B-2AE2-463D-8484-BD7101B3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B31-FD11-498C-BB46-73B0FFD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5EE-3335-4C02-8C49-AC15C51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333-C80F-427D-87B1-0D15ECF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174-81B2-45D9-9192-884C5BF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575-911D-4001-A07F-55B80CE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5F7-9646-4E7E-A996-C7A760A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87F-AAA4-4EA0-9137-630F07E5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D0C-532E-477B-8F1F-DE01453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652-E940-4D50-A05B-9CD0D5A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6D3-3D5D-4BF8-9AB3-605263AA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020-2738-4785-9DEE-65410124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8F2-32ED-41DA-9DE3-01010C1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B547-2968-4438-B915-9D46AF3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121C-2A8F-4E31-A64A-B8D7204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B3D1-BE89-491D-A268-B076CE9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C425-9025-4B67-9B80-05B083B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175-D638-42B6-B4F9-C2CBAF0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E54-293F-4A23-8D81-C1A7328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B57C-9F23-4FAD-93AE-3066AD8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0FE-53C7-4461-9931-080C9B2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4856-5F9A-4F77-A460-7C68850A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E45-75E8-4A3F-95CB-9E32CD95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dición y Publicación de lib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C4AFE91-92D1-4BED-84E2-1A21867DB1E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0AEB-F879-4F84-A05E-8A5A3C537E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665-9637-4167-ABFA-C82EE9DBED5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pertinencia y calidad de las publicaciones del IEPC de acuerdo al programa de actividades anuales y apegados a un 95% de su cumpl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 de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148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quisición de bienes y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4857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empresa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envía archivo dig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32"/>
          <p:cNvCxnSpPr>
            <a:stCxn id="164" idx="2"/>
            <a:endCxn id="166" idx="0"/>
          </p:cNvCxnSpPr>
          <p:nvPr/>
        </p:nvCxnSpPr>
        <p:spPr>
          <a:xfrm>
            <a:off x="3499920" y="47145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recepción de propuestas de publicacion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314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56 Rombo"/>
          <p:cNvSpPr/>
          <p:nvPr/>
        </p:nvSpPr>
        <p:spPr>
          <a:xfrm>
            <a:off x="3090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7 CuadroTexto"/>
          <p:cNvSpPr/>
          <p:nvPr/>
        </p:nvSpPr>
        <p:spPr>
          <a:xfrm>
            <a:off x="3141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71" idx="1"/>
          </p:cNvCxnSpPr>
          <p:nvPr/>
        </p:nvCxnSpPr>
        <p:spPr>
          <a:xfrm flipV="1" rot="10800000">
            <a:off x="2493360" y="315000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72 CuadroTexto"/>
          <p:cNvSpPr/>
          <p:nvPr/>
        </p:nvSpPr>
        <p:spPr>
          <a:xfrm>
            <a:off x="393372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73 CuadroTexto"/>
          <p:cNvSpPr/>
          <p:nvPr/>
        </p:nvSpPr>
        <p:spPr>
          <a:xfrm>
            <a:off x="270828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1" idx="3"/>
            <a:endCxn id="177" idx="0"/>
          </p:cNvCxnSpPr>
          <p:nvPr/>
        </p:nvCxnSpPr>
        <p:spPr>
          <a:xfrm>
            <a:off x="3948120" y="315072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Rectangle 656"/>
          <p:cNvSpPr/>
          <p:nvPr/>
        </p:nvSpPr>
        <p:spPr>
          <a:xfrm>
            <a:off x="3573360" y="3348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 contacta a los involucrados y se solicita texto para su 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4989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48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5"/>
          <p:cNvSpPr/>
          <p:nvPr/>
        </p:nvSpPr>
        <p:spPr>
          <a:xfrm>
            <a:off x="242100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mite al comité editorial para conocimiento y análisis y se envía a la comisión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91000" y="2627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rden del día / P-OPE-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9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opuesta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3360" y="39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6"/>
          <p:cNvSpPr/>
          <p:nvPr/>
        </p:nvSpPr>
        <p:spPr>
          <a:xfrm>
            <a:off x="1700280" y="3992400"/>
            <a:ext cx="360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edición y diseño al texto para solicitar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6" idx="2"/>
            <a:endCxn id="189" idx="0"/>
          </p:cNvCxnSpPr>
          <p:nvPr/>
        </p:nvCxnSpPr>
        <p:spPr>
          <a:xfrm>
            <a:off x="3499920" y="50734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7" idx="2"/>
            <a:endCxn id="164" idx="0"/>
          </p:cNvCxnSpPr>
          <p:nvPr/>
        </p:nvCxnSpPr>
        <p:spPr>
          <a:xfrm flipH="1">
            <a:off x="3499560" y="4352760"/>
            <a:ext cx="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649"/>
          <p:cNvCxnSpPr>
            <a:stCxn id="162" idx="2"/>
            <a:endCxn id="182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2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64 Conector angular"/>
          <p:cNvCxnSpPr>
            <a:stCxn id="177" idx="2"/>
            <a:endCxn id="187" idx="0"/>
          </p:cNvCxnSpPr>
          <p:nvPr/>
        </p:nvCxnSpPr>
        <p:spPr>
          <a:xfrm rot="5400000">
            <a:off x="3827880" y="3381480"/>
            <a:ext cx="284400" cy="937440"/>
          </a:xfrm>
          <a:prstGeom prst="bentConnector3">
            <a:avLst>
              <a:gd name="adj1" fmla="val 4993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Rectangle 666"/>
          <p:cNvSpPr/>
          <p:nvPr/>
        </p:nvSpPr>
        <p:spPr>
          <a:xfrm>
            <a:off x="539100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1700280" y="5506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pruebas de impresión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51000" y="5508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89" idx="2"/>
          </p:cNvCxnSpPr>
          <p:nvPr/>
        </p:nvCxnSpPr>
        <p:spPr>
          <a:xfrm>
            <a:off x="3499920" y="572256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34"/>
          <p:cNvSpPr/>
          <p:nvPr/>
        </p:nvSpPr>
        <p:spPr>
          <a:xfrm>
            <a:off x="4149720" y="70182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63374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37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99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60642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6172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400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256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635328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197" idx="0"/>
          </p:cNvCxnSpPr>
          <p:nvPr/>
        </p:nvCxnSpPr>
        <p:spPr>
          <a:xfrm>
            <a:off x="3948120" y="6173640"/>
            <a:ext cx="489600" cy="845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7" name="AutoShape 32"/>
          <p:cNvCxnSpPr>
            <a:stCxn id="203" idx="2"/>
          </p:cNvCxnSpPr>
          <p:nvPr/>
        </p:nvCxnSpPr>
        <p:spPr>
          <a:xfrm flipH="1">
            <a:off x="2493360" y="6730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2421000" y="702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234936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>
            <a:off x="2565000" y="5292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Oval 75"/>
          <p:cNvSpPr/>
          <p:nvPr/>
        </p:nvSpPr>
        <p:spPr>
          <a:xfrm>
            <a:off x="5013360" y="637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 flipH="1">
            <a:off x="4436640" y="644328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9:18Z</dcterms:modified>
  <cp:revision>336</cp:revision>
  <dc:subject/>
  <dc:title>Presentación de PowerPoint</dc:title>
</cp:coreProperties>
</file>