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4E97-BEAE-4E05-A3CE-A18501532E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C0F-5FDB-4B6F-9AEA-94EB7F109A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30A2-9245-4792-B32B-A41EAEEBF4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821-1420-497D-B78A-0D534DC5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782-2C2A-4F95-B9B8-8D2E7322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8DF-F077-4299-A32F-2B8F03E9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A5-E174-4548-BAD2-5E38B8E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348-830F-4A8C-84CA-B62A3DFC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3DA-DB26-44F5-96D6-E1494A8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93E-DAEC-4E7C-A2E4-2C7CE69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8A1-B774-4FB0-AAD5-E42F3D6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0DB-8BA5-4542-B097-A97C7B1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9E8-3660-4568-AAD9-31C88EE4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3CD-D709-4A8C-9051-3DDBE232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2CB-9D36-407E-B613-6F5889D5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3E61-457C-4832-839B-C07E792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91C-9B8F-41FD-BB75-31539B6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4907-C5D2-44E2-8B5D-49DE7C82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C4A7-9975-4C04-835E-92CF8C39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3C36-F543-4B36-8A7A-5C87F9AC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9B2-8A3A-4BB9-B280-24C9257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3C7-019F-4663-B314-EB7DF444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928-6573-4F4D-AB54-90D5E5C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F348-3427-483E-8900-F7E1F7D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EB71-A544-4C13-96F6-B4F43E1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F04C-9580-4B30-A1A3-B30497F4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28CF-22E9-4CF3-A3BB-1F648FCF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AD9D2A1-F9FE-4B6F-BAFC-F12891F2BA5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D72B-0098-4FBB-A9D0-6DD0ABEDF3D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FD7E-DD08-4E94-A492-847249F9C99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o instrucción del Consejo General, presidente, Director General o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laboran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est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solicitudes de aclaración de  empresas sobre las bases remitidas vía 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visitas y se  levanta acta de visitas de inspección,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de desahogo del acto de presentación de  propuestas técnicas y  económicas y apertura de propuestas técn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visitas de insp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940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dictamen técnico de acuerdo 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65000" y="572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32"/>
          <p:cNvCxnSpPr/>
          <p:nvPr/>
        </p:nvCxnSpPr>
        <p:spPr>
          <a:xfrm>
            <a:off x="3490560" y="67230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86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22600" y="687564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acto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l dictamen técnico, apertura de ofertas económicas, fallo y adjudicación, y se levanta acta respectiva, asimismo se remite al Consejero Presidente o Secretario Ejecutivo de acuerdo a facult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499920" y="738036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Oval 34"/>
          <p:cNvSpPr/>
          <p:nvPr/>
        </p:nvSpPr>
        <p:spPr>
          <a:xfrm>
            <a:off x="3214800" y="759636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la junta de aclaraciones, donde se contestan las preguntas formuladas por los oferentes. y se levanta ac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22600" y="5235480"/>
            <a:ext cx="359712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el acto de presentación de propuestas técnicas y económicas y apertura de las propuestas técnicas  donde se realiza una evaluación preliminar de la documentación legal, financiera y administrativa de los oferentes y se levanta ac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18 Rectángulo"/>
          <p:cNvSpPr/>
          <p:nvPr/>
        </p:nvSpPr>
        <p:spPr>
          <a:xfrm flipV="1" rot="10800000">
            <a:off x="1730520" y="638964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de desahogo del acto comunicación del dictamen técnico, apertura de las ofertas económicas, fallo y adju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65000" y="617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prueban bases y convocatoria y se remite convocatoria al Consejo General para su aprobación y se ordena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/ 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1"/>
          <p:cNvSpPr/>
          <p:nvPr/>
        </p:nvSpPr>
        <p:spPr>
          <a:xfrm>
            <a:off x="333360" y="6875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5364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 técnicas y económicas / acta / documentación neces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 / 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594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propuestas / documentos presentados por los ofer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técnico / ofertas económicas / fallo / adjudic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04:45Z</dcterms:modified>
  <cp:revision>316</cp:revision>
  <dc:subject/>
  <dc:title>Presentación de PowerPoint</dc:title>
</cp:coreProperties>
</file>