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FC1E-0360-43CD-B3A8-47A04F036C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9DA0-3E84-49D1-B7C5-5E575D543A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B0D-E4B7-4D0C-9E23-66C993F78B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l solici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5D4EA29-B65E-4E66-B252-8805F485D2B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ción de Administración y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2640" y="874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4-04-13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form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en el almacén del IEPC y verificar la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revisión de material solicitado por las diferente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No apl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5240" y="1856880"/>
            <a:ext cx="72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592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el aviso de llegada de material solicitado, y si es necesario s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5240" y="2500200"/>
            <a:ext cx="54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707724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almacén recibe el producto para su alta en Control de Almacén, aplica solo para stock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19800" y="7077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43544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78680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714760"/>
            <a:ext cx="1224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31920" y="6002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42552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6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247840" y="4248720"/>
            <a:ext cx="1218240" cy="1143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849920" y="3884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089240" y="5057640"/>
            <a:ext cx="1214640" cy="882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vía e-mail al proveedor para negociar sobre la reposición del producto no conforme en caso de ser neces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73720" y="510840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091040" y="6127920"/>
            <a:ext cx="121428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54360" y="679284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50096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/>
          <p:nvPr/>
        </p:nvCxnSpPr>
        <p:spPr>
          <a:xfrm>
            <a:off x="2928600" y="7597440"/>
            <a:ext cx="50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/>
          <p:nvPr/>
        </p:nvCxnSpPr>
        <p:spPr>
          <a:xfrm>
            <a:off x="4696920" y="5890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26880" y="521496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08640" y="600228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n especificaciones y cantidad del material solicitado. Se llena formato de recepción de mercancí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0364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recepción de mercanc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203640"/>
            <a:ext cx="122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695480" y="48146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>
            <a:off x="4696920" y="656748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47760" y="704052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3716280" y="4430880"/>
            <a:ext cx="157500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/>
          <p:nvPr/>
        </p:nvCxnSpPr>
        <p:spPr>
          <a:xfrm flipH="1">
            <a:off x="4668480" y="42098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19 CuadroTexto"/>
          <p:cNvSpPr/>
          <p:nvPr/>
        </p:nvSpPr>
        <p:spPr>
          <a:xfrm>
            <a:off x="3789360" y="443880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las causas que originaron el desperf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0 CuadroTexto"/>
          <p:cNvSpPr/>
          <p:nvPr/>
        </p:nvSpPr>
        <p:spPr>
          <a:xfrm>
            <a:off x="5516640" y="4430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1 CuadroTexto"/>
          <p:cNvSpPr/>
          <p:nvPr/>
        </p:nvSpPr>
        <p:spPr>
          <a:xfrm>
            <a:off x="404640" y="443880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4-25T17:19:21Z</cp:lastPrinted>
  <dcterms:modified xsi:type="dcterms:W3CDTF">2013-04-25T20:08:11Z</dcterms:modified>
  <cp:revision>312</cp:revision>
  <dc:subject/>
  <dc:title>Presentación de PowerPoint</dc:title>
</cp:coreProperties>
</file>