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18C-98CB-4E2D-924F-2BD25A9CDE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E75-7785-4180-A77A-BFB391815E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E3B-FB02-4C33-9B34-3086FE8C87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091-204C-41BD-B082-F7451FC3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B35-1F25-4B9F-BC8B-FEBFE7C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43C-F25A-4C7B-8AF1-DC0490A3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20D-FEF2-43F8-9FB7-71BCBB9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F0E-BB05-4ED8-89D4-B889DFF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35A-CA06-46DD-8945-723308A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4B9-5265-4CC8-AB4D-9CEEA7C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6DD-DDB2-43E6-B935-7701E7B7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87C-60A6-4CE6-83CE-122A36E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33D-1E93-4A8E-919E-B01C05D4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001-49C3-4B03-898A-3EE5B973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AA4-B84D-4742-961D-7431C458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6FC-5E74-4E9F-AAE4-6B3974A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2B7-FC2A-43FB-9435-1489488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F096-17F1-4BE7-8D29-2018959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E7A-8EFB-4A15-BB33-89CAC5E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0F9-CE6C-4F94-853D-3F5FA13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14CD-2DA8-4CE1-9621-1D1A6B0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25C-6639-4CFF-BB8A-4231C54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4439-BFE4-4ECF-93F6-1CE522E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8FB-D3D1-4BDE-A62C-12B379D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7875-977B-4EF6-98F6-856AA61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4CF4-8355-49EA-8B83-28D81C58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6F9-9C0A-4C86-84EE-3C4BB77A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38AB-DA05-4C56-9E5E-BEF0D325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492A-0BE4-4D31-972C-C3817CB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B76C-686F-42E3-B7BA-CEBA0A3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45F7-961E-4E9E-8613-1E19939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C3B7-B5B9-4A04-8501-5237CC9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A3F4-E619-418E-837C-156798EA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C0F6-2F8D-409D-B704-8A656A9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A7E4-DA6E-4447-90ED-EE0E0F2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3095-94F7-4F5B-98A0-CCD9319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CA52-9DD0-4146-9446-A9030ADF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7C65-1481-4179-A08A-48294F80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A0CF-7AC1-49FA-994C-3DA2737A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5B74-33FD-46C2-BED9-4FE6FAFB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BE35-DA79-4859-91BD-2744AF2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2543-026E-4FAD-9E07-A53FC17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E0CB-A2C5-4055-90A2-3A09DCF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35FD-3D96-44BA-B38A-491AD2E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FDB4-2B29-4267-85E4-8C0F694D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B915-54E2-484F-A377-1B4E194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926F-39D0-47C7-B6D4-690CFC9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E9F3-A921-4403-8480-69DE325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F7FE-23A1-4783-B368-B3B25639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EB59-6AE5-4775-B4F1-B2CA607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7037-838D-4CF8-8C9B-EBD786F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a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C97933E-AE5A-4C0F-BAC2-4E3E6A9902B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93A-68A7-4CD9-A8BC-08DBA839219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392-C2CB-430E-8F6D-FAC5673BDB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4C7-7C96-4671-A288-CF951460519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7F6-0B5C-4E95-998A-F0BBE72DC81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Buscar la aprobación del Pleno del Consejo General para el cumplimiento de las metas y objetivos de trabajo propuestos por la Contraloría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 todos los departamentos en donde se plantean las metas y objetivos a realizar en el periodo, conforme a lo establecido en el Art. 495 párrafo 1 fracción XVIII del Código Electoral y de Participación Ciudadana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PAT. Programa Anual 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9480" y="18162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480" y="1981080"/>
            <a:ext cx="864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181240"/>
            <a:ext cx="360072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metas y objetivos de trabajo de la Contralorí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2700360"/>
            <a:ext cx="360072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l Contralor General para aprobación y se le da seguimiento al programa anual de trabajo de acuerdo a los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69040" y="6975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83080" y="270684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mail / proyección de metas 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>
            <a:endCxn id="245" idx="0"/>
          </p:cNvCxnSpPr>
          <p:nvPr/>
        </p:nvCxnSpPr>
        <p:spPr>
          <a:xfrm flipH="1">
            <a:off x="349848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Rectangle 700"/>
          <p:cNvSpPr/>
          <p:nvPr/>
        </p:nvSpPr>
        <p:spPr>
          <a:xfrm>
            <a:off x="406440" y="27162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01"/>
          <p:cNvSpPr/>
          <p:nvPr/>
        </p:nvSpPr>
        <p:spPr>
          <a:xfrm>
            <a:off x="325440" y="3860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6"/>
          <p:cNvSpPr/>
          <p:nvPr/>
        </p:nvSpPr>
        <p:spPr>
          <a:xfrm>
            <a:off x="5445000" y="32907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6"/>
          <p:cNvSpPr/>
          <p:nvPr/>
        </p:nvSpPr>
        <p:spPr>
          <a:xfrm>
            <a:off x="1698480" y="6562800"/>
            <a:ext cx="350064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Contralor General de resultados para realizar plan para corregir fallas o incumpl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685"/>
          <p:cNvCxnSpPr/>
          <p:nvPr/>
        </p:nvCxnSpPr>
        <p:spPr>
          <a:xfrm>
            <a:off x="3457080" y="7259400"/>
            <a:ext cx="396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18 Rectángulo"/>
          <p:cNvSpPr/>
          <p:nvPr/>
        </p:nvSpPr>
        <p:spPr>
          <a:xfrm>
            <a:off x="1719360" y="6972480"/>
            <a:ext cx="35416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aplican acciones y se les da seguimiento y de acuerdo a los resultados obtenidos se realiza un informe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43080" y="5789520"/>
            <a:ext cx="1223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royección de metas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00"/>
          <p:cNvSpPr/>
          <p:nvPr/>
        </p:nvSpPr>
        <p:spPr>
          <a:xfrm>
            <a:off x="406440" y="219852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4"/>
          <p:cNvSpPr/>
          <p:nvPr/>
        </p:nvSpPr>
        <p:spPr>
          <a:xfrm>
            <a:off x="3176640" y="7812000"/>
            <a:ext cx="5778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5"/>
          <p:cNvSpPr/>
          <p:nvPr/>
        </p:nvSpPr>
        <p:spPr>
          <a:xfrm>
            <a:off x="5376960" y="66009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685"/>
          <p:cNvCxnSpPr/>
          <p:nvPr/>
        </p:nvCxnSpPr>
        <p:spPr>
          <a:xfrm>
            <a:off x="3447720" y="682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18 Rectángulo"/>
          <p:cNvSpPr/>
          <p:nvPr/>
        </p:nvSpPr>
        <p:spPr>
          <a:xfrm>
            <a:off x="1698480" y="5748480"/>
            <a:ext cx="3578400" cy="25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, para su aprobación el PA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32"/>
          <p:cNvCxnSpPr>
            <a:endCxn id="258" idx="0"/>
          </p:cNvCxnSpPr>
          <p:nvPr/>
        </p:nvCxnSpPr>
        <p:spPr>
          <a:xfrm>
            <a:off x="3457440" y="765936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Rectangle 701"/>
          <p:cNvSpPr/>
          <p:nvPr/>
        </p:nvSpPr>
        <p:spPr>
          <a:xfrm>
            <a:off x="325440" y="613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/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684"/>
          <p:cNvCxnSpPr/>
          <p:nvPr/>
        </p:nvCxnSpPr>
        <p:spPr>
          <a:xfrm flipH="1">
            <a:off x="3510720" y="302220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26 Conector recto"/>
          <p:cNvSpPr/>
          <p:nvPr/>
        </p:nvSpPr>
        <p:spPr>
          <a:xfrm>
            <a:off x="2924280" y="3200400"/>
            <a:ext cx="1368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33 Conector recto de flecha"/>
          <p:cNvCxnSpPr/>
          <p:nvPr/>
        </p:nvCxnSpPr>
        <p:spPr>
          <a:xfrm>
            <a:off x="3414600" y="6013440"/>
            <a:ext cx="720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66 Conector recto de flecha"/>
          <p:cNvCxnSpPr/>
          <p:nvPr/>
        </p:nvCxnSpPr>
        <p:spPr>
          <a:xfrm>
            <a:off x="3219120" y="3671640"/>
            <a:ext cx="284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" name="17 CuadroTexto"/>
          <p:cNvSpPr/>
          <p:nvPr/>
        </p:nvSpPr>
        <p:spPr>
          <a:xfrm>
            <a:off x="2640600" y="3789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53 CuadroTexto"/>
          <p:cNvSpPr/>
          <p:nvPr/>
        </p:nvSpPr>
        <p:spPr>
          <a:xfrm>
            <a:off x="4165200" y="37926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6 Conector recto de flecha"/>
          <p:cNvCxnSpPr/>
          <p:nvPr/>
        </p:nvCxnSpPr>
        <p:spPr>
          <a:xfrm>
            <a:off x="3498840" y="3506400"/>
            <a:ext cx="86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66 Conector recto de flecha"/>
          <p:cNvCxnSpPr>
            <a:stCxn id="272" idx="2"/>
          </p:cNvCxnSpPr>
          <p:nvPr/>
        </p:nvCxnSpPr>
        <p:spPr>
          <a:xfrm>
            <a:off x="4532040" y="4576320"/>
            <a:ext cx="3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2" name="58 CuadroTexto"/>
          <p:cNvSpPr/>
          <p:nvPr/>
        </p:nvSpPr>
        <p:spPr>
          <a:xfrm>
            <a:off x="3765600" y="4206960"/>
            <a:ext cx="1533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modifica el proyecto y se turna al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53"/>
          <p:cNvSpPr/>
          <p:nvPr/>
        </p:nvSpPr>
        <p:spPr>
          <a:xfrm>
            <a:off x="1814400" y="3205080"/>
            <a:ext cx="348480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l Contralor General para su evaluación y en su caso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00"/>
          <p:cNvSpPr/>
          <p:nvPr/>
        </p:nvSpPr>
        <p:spPr>
          <a:xfrm>
            <a:off x="387360" y="31748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7 Conector"/>
          <p:cNvSpPr/>
          <p:nvPr/>
        </p:nvSpPr>
        <p:spPr>
          <a:xfrm>
            <a:off x="2989440" y="3551400"/>
            <a:ext cx="210960" cy="241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1 CuadroTexto"/>
          <p:cNvSpPr/>
          <p:nvPr/>
        </p:nvSpPr>
        <p:spPr>
          <a:xfrm>
            <a:off x="2933640" y="35672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12 Decisión"/>
          <p:cNvSpPr/>
          <p:nvPr/>
        </p:nvSpPr>
        <p:spPr>
          <a:xfrm>
            <a:off x="3119400" y="3821040"/>
            <a:ext cx="738360" cy="52092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13 CuadroTexto"/>
          <p:cNvSpPr/>
          <p:nvPr/>
        </p:nvSpPr>
        <p:spPr>
          <a:xfrm>
            <a:off x="3123000" y="393048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¿ aprobad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25 Conector angular"/>
          <p:cNvCxnSpPr/>
          <p:nvPr/>
        </p:nvCxnSpPr>
        <p:spPr>
          <a:xfrm rot="5400000">
            <a:off x="2176200" y="4474080"/>
            <a:ext cx="1340640" cy="554760"/>
          </a:xfrm>
          <a:prstGeom prst="bentConnector3">
            <a:avLst>
              <a:gd name="adj1" fmla="val -24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0" name="6201 Conector angular"/>
          <p:cNvCxnSpPr>
            <a:endCxn id="272" idx="0"/>
          </p:cNvCxnSpPr>
          <p:nvPr/>
        </p:nvCxnSpPr>
        <p:spPr>
          <a:xfrm>
            <a:off x="3857760" y="4078080"/>
            <a:ext cx="675360" cy="129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1" name="6210 CuadroTexto"/>
          <p:cNvSpPr/>
          <p:nvPr/>
        </p:nvSpPr>
        <p:spPr>
          <a:xfrm>
            <a:off x="3871800" y="4743360"/>
            <a:ext cx="13287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pone nuevas metas y objetivos, o en su caso, modifica las propuest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6212 Conector angular"/>
          <p:cNvCxnSpPr/>
          <p:nvPr/>
        </p:nvCxnSpPr>
        <p:spPr>
          <a:xfrm rot="5400000">
            <a:off x="4338000" y="5235120"/>
            <a:ext cx="253080" cy="2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3" name="134 CuadroTexto"/>
          <p:cNvSpPr/>
          <p:nvPr/>
        </p:nvSpPr>
        <p:spPr>
          <a:xfrm>
            <a:off x="4195440" y="5483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136 Conector"/>
          <p:cNvSpPr/>
          <p:nvPr/>
        </p:nvSpPr>
        <p:spPr>
          <a:xfrm>
            <a:off x="4237200" y="5478480"/>
            <a:ext cx="210960" cy="241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18 Rectángulo"/>
          <p:cNvSpPr/>
          <p:nvPr/>
        </p:nvSpPr>
        <p:spPr>
          <a:xfrm>
            <a:off x="1719360" y="7405560"/>
            <a:ext cx="35431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 informe fi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18 Rectángulo"/>
          <p:cNvSpPr/>
          <p:nvPr/>
        </p:nvSpPr>
        <p:spPr>
          <a:xfrm>
            <a:off x="1701720" y="6138720"/>
            <a:ext cx="360036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la información aprobada y se turna al Subcontralor para su seguimiento y cumpl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32"/>
          <p:cNvCxnSpPr/>
          <p:nvPr/>
        </p:nvCxnSpPr>
        <p:spPr>
          <a:xfrm>
            <a:off x="3421080" y="6411960"/>
            <a:ext cx="864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Rectangle 701"/>
          <p:cNvSpPr/>
          <p:nvPr/>
        </p:nvSpPr>
        <p:spPr>
          <a:xfrm>
            <a:off x="351000" y="4516560"/>
            <a:ext cx="113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01"/>
          <p:cNvSpPr/>
          <p:nvPr/>
        </p:nvSpPr>
        <p:spPr>
          <a:xfrm>
            <a:off x="333360" y="6562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01"/>
          <p:cNvSpPr/>
          <p:nvPr/>
        </p:nvSpPr>
        <p:spPr>
          <a:xfrm>
            <a:off x="358920" y="69674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01"/>
          <p:cNvSpPr/>
          <p:nvPr/>
        </p:nvSpPr>
        <p:spPr>
          <a:xfrm>
            <a:off x="318960" y="74055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/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66"/>
          <p:cNvSpPr/>
          <p:nvPr/>
        </p:nvSpPr>
        <p:spPr>
          <a:xfrm>
            <a:off x="5397480" y="4173480"/>
            <a:ext cx="12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mail / oficio/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5"/>
          <p:cNvSpPr/>
          <p:nvPr/>
        </p:nvSpPr>
        <p:spPr>
          <a:xfrm>
            <a:off x="5440320" y="4781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65"/>
          <p:cNvSpPr/>
          <p:nvPr/>
        </p:nvSpPr>
        <p:spPr>
          <a:xfrm>
            <a:off x="5376960" y="61959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65"/>
          <p:cNvSpPr/>
          <p:nvPr/>
        </p:nvSpPr>
        <p:spPr>
          <a:xfrm>
            <a:off x="5386320" y="7405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65"/>
          <p:cNvSpPr/>
          <p:nvPr/>
        </p:nvSpPr>
        <p:spPr>
          <a:xfrm>
            <a:off x="5397480" y="577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24T16:45:54Z</cp:lastPrinted>
  <dcterms:modified xsi:type="dcterms:W3CDTF">2012-04-24T17:29:33Z</dcterms:modified>
  <cp:revision>355</cp:revision>
  <dc:subject/>
  <dc:title>Presentación de PowerPoint</dc:title>
</cp:coreProperties>
</file>