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6DB-1993-46F9-8E5C-41B1582197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F925-597B-4E99-8214-4FD6CD6E70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D8C-4EA0-414D-9DF8-D94C19CF08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FD18-C954-4F56-804B-6ADCAD0340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ACB-A428-4856-92B4-4CD9B0D3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652-8E00-46EC-9639-03A0AD1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FE2-62CB-4B72-AF1F-E074BAE8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26B-3EB1-425A-A18D-CE965D45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3B3-5049-4C81-8D14-22274C3B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167-C6F6-40CE-B3C8-352C751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87D-C0FC-4D9B-806E-F2CDE3F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069-AA36-413B-B0BE-C202F03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21E-0D86-43A9-AA43-029A1A6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B3D-CB70-4C77-AE78-98AC8AC5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F64-C6FA-43D6-9DC3-566C10F2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906-C56F-45F8-A186-91E7CB66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912-54D8-44D7-AF44-AB800C92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236-F884-46D7-A865-062EEA2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DB1A-B12F-402F-B397-D9DF6F7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59F8-DB3C-454C-858A-B61F9B6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5A06-40B1-43EC-8F92-F0DC905B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3B4E-8FFD-422C-8262-B185022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BF78-F466-41E2-B3FE-1FE78C6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5EC8-28EA-4DAD-9931-406C2DFB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E87E-12E9-401C-9E15-18C2B7D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38B0-4B7B-4D14-8197-8582805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642-0394-42A6-82EF-FC5CDB1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20D-8C73-41F3-87D1-CB76E839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BCE5-417B-4762-853B-A7AF8016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397C-DA4C-47FB-865C-73E67F9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B508-1A16-4890-8A3F-C40AACCA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7BA5-438F-45B6-B87C-C1E9541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3979-76F6-4E3B-A095-A6322D4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D6AF-AA10-4740-A1F4-AB4822D5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4618-7F0D-4831-83EE-CCC5A03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9CE7-709B-4293-9FAF-9B279C9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9A25-9112-4B2A-A2D1-29EE7D5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6BB8-DBB6-408B-9669-27ABB36F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D392-2F6B-4B4A-8E00-E8597937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CD93-79C3-4580-A696-9E0D7B62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9122C1B-9049-4D58-A6E5-EC4126313C9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13C-D366-4D01-B94C-0151267E4B8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35A-3393-4730-838B-68249C8700D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B5A-6D6B-402E-BC99-75E0CBDBD40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o al personal directivo del IEPC sobre la información de actividades y funciones que desarrolla el instituto y recopilar y analizar información que sobre el instituto difundan los medios masivos de comunicación, mediante la elaboración de productos como la síntesis de prensa y la de monitoreo de medio electrón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rpeta Informativa: Recopilación de notas de interés para el IEPC, con recortes periodísticos, notas de internet, radio en el portales de intern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Master: Recopilación de notas de video en D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ódicos y artí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, Director General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ó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4T03:15:08Z</dcterms:modified>
  <cp:revision>324</cp:revision>
  <dc:subject/>
  <dc:title>Presentación de PowerPoint</dc:title>
</cp:coreProperties>
</file>