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E716-49AF-4C71-AE37-047F4BFEA4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8824-6AD7-4F79-BFCC-DD4BD4410F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A58-A1FA-4F87-ACA1-83A6149B73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CA3-AE99-426D-9270-18F1E11C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60B-8DEB-4F8D-83E4-54EE9819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D62-4480-4EF1-B89D-5DE8C933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CFD-AD82-48D7-8DCB-B77FB56E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305-EBA7-4077-B0A2-935739B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AB4-6218-4913-A351-48248FAB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16D-8280-4BD7-B5A8-A11B576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A3E-3CF2-451D-8E1B-AC9E958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914-EEF4-480A-A3BE-C317E1DB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3C9-CA8F-42DF-9BFA-E5321A0C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8C3-B93E-4FFE-BBB4-17F5A148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4FF-2DC9-49CF-88B9-A8A6D70E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4D98-F6F0-432B-ABE9-5B72B443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DEDA-92F7-4221-A2A5-11C5410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F615-BE53-4EC3-A00D-FDE1BE5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DE4D-4E94-4D76-BC0B-1954C2AE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387A-FC31-4456-8C2C-1F7FA29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5B88-4450-47B3-A742-02A10AB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DB8-D92A-4002-8C2C-A8CD054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826-965D-4466-9B98-51C16432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CAC1-103D-4129-9FA8-8B5B6B2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C677-2600-432C-A9C5-CCFED562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B06F-80A8-4DD1-A25B-02ED9D90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E8B-56AC-435A-8AAC-033B9D85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trega de Combus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22CA75B-314D-4CC9-884A-47658113CF9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 P-OPE-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B05B-AF38-4E4B-9CA5-07CB229F69D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3EDE-C543-48BB-8EF1-0A36BBFD5D3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bastecer de combustible a las diferentes áreas del IEPC para desarrollar labores necesarias de cada dir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Uso exclusivo del personal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N/A (No aplic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5"/>
          <p:cNvSpPr/>
          <p:nvPr/>
        </p:nvSpPr>
        <p:spPr>
          <a:xfrm>
            <a:off x="5392800" y="25020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00"/>
          <p:cNvSpPr/>
          <p:nvPr/>
        </p:nvSpPr>
        <p:spPr>
          <a:xfrm>
            <a:off x="385920" y="248616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85"/>
          <p:cNvCxnSpPr/>
          <p:nvPr/>
        </p:nvCxnSpPr>
        <p:spPr>
          <a:xfrm>
            <a:off x="4509720" y="3646440"/>
            <a:ext cx="108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660"/>
          <p:cNvSpPr/>
          <p:nvPr/>
        </p:nvSpPr>
        <p:spPr>
          <a:xfrm>
            <a:off x="333360" y="31399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4"/>
          <p:cNvSpPr/>
          <p:nvPr/>
        </p:nvSpPr>
        <p:spPr>
          <a:xfrm>
            <a:off x="5380200" y="37036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stema en lín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3652920"/>
            <a:ext cx="1314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carga a la tarjeta electrónica correspondiente, mediante sistema en lín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6 Rombo"/>
          <p:cNvSpPr/>
          <p:nvPr/>
        </p:nvSpPr>
        <p:spPr>
          <a:xfrm>
            <a:off x="3063960" y="2087640"/>
            <a:ext cx="857160" cy="4316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57 CuadroTexto"/>
          <p:cNvSpPr/>
          <p:nvPr/>
        </p:nvSpPr>
        <p:spPr>
          <a:xfrm>
            <a:off x="305604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Forma de entre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72 CuadroTexto"/>
          <p:cNvSpPr/>
          <p:nvPr/>
        </p:nvSpPr>
        <p:spPr>
          <a:xfrm>
            <a:off x="2146320" y="192240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arga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73 CuadroTexto"/>
          <p:cNvSpPr/>
          <p:nvPr/>
        </p:nvSpPr>
        <p:spPr>
          <a:xfrm>
            <a:off x="4052880" y="191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18 Rectángulo"/>
          <p:cNvSpPr/>
          <p:nvPr/>
        </p:nvSpPr>
        <p:spPr>
          <a:xfrm>
            <a:off x="3921120" y="3132000"/>
            <a:ext cx="1152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formato solicitud de vales de gasolina, por personal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685"/>
          <p:cNvCxnSpPr/>
          <p:nvPr/>
        </p:nvCxnSpPr>
        <p:spPr>
          <a:xfrm>
            <a:off x="3501720" y="187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Oval 34"/>
          <p:cNvSpPr/>
          <p:nvPr/>
        </p:nvSpPr>
        <p:spPr>
          <a:xfrm>
            <a:off x="2205000" y="54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25440" y="36529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662120" y="2502000"/>
            <a:ext cx="1352520" cy="63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correo de petición de gasolina, con los datos requeridos por parte d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/>
          <p:nvPr/>
        </p:nvCxnSpPr>
        <p:spPr>
          <a:xfrm flipV="1" rot="10800000">
            <a:off x="2458440" y="230544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64 Conector angular"/>
          <p:cNvCxnSpPr>
            <a:endCxn id="170" idx="0"/>
          </p:cNvCxnSpPr>
          <p:nvPr/>
        </p:nvCxnSpPr>
        <p:spPr>
          <a:xfrm flipH="1" rot="16200000">
            <a:off x="3795480" y="2430720"/>
            <a:ext cx="826200" cy="5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7" name="AutoShape 685"/>
          <p:cNvCxnSpPr/>
          <p:nvPr/>
        </p:nvCxnSpPr>
        <p:spPr>
          <a:xfrm>
            <a:off x="2458800" y="3139920"/>
            <a:ext cx="1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18 Rectángulo"/>
          <p:cNvSpPr/>
          <p:nvPr/>
        </p:nvSpPr>
        <p:spPr>
          <a:xfrm>
            <a:off x="3943440" y="5219640"/>
            <a:ext cx="1152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ntregan Vales de Gasolina al personal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43440" y="4248000"/>
            <a:ext cx="1152360" cy="6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na información correspondiente en concentrado de Consumos de Vales de 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685"/>
          <p:cNvCxnSpPr/>
          <p:nvPr/>
        </p:nvCxnSpPr>
        <p:spPr>
          <a:xfrm>
            <a:off x="4509720" y="4848120"/>
            <a:ext cx="10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/>
          <p:nvPr/>
        </p:nvCxnSpPr>
        <p:spPr>
          <a:xfrm flipH="1">
            <a:off x="2901240" y="5579640"/>
            <a:ext cx="1019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/>
          <p:nvPr/>
        </p:nvCxnSpPr>
        <p:spPr>
          <a:xfrm>
            <a:off x="2458800" y="4157640"/>
            <a:ext cx="108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5"/>
          <p:cNvSpPr/>
          <p:nvPr/>
        </p:nvSpPr>
        <p:spPr>
          <a:xfrm>
            <a:off x="5392800" y="309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49200" y="4251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4"/>
          <p:cNvSpPr/>
          <p:nvPr/>
        </p:nvSpPr>
        <p:spPr>
          <a:xfrm>
            <a:off x="5373720" y="4248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centrado de Consumos de Vales de Gasolin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0"/>
          <p:cNvSpPr/>
          <p:nvPr/>
        </p:nvSpPr>
        <p:spPr>
          <a:xfrm>
            <a:off x="349200" y="5214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5"/>
          <p:cNvSpPr/>
          <p:nvPr/>
        </p:nvSpPr>
        <p:spPr>
          <a:xfrm>
            <a:off x="5386320" y="524844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4-19T00:40:42Z</cp:lastPrinted>
  <dcterms:modified xsi:type="dcterms:W3CDTF">2012-06-13T16:12:15Z</dcterms:modified>
  <cp:revision>362</cp:revision>
  <dc:subject/>
  <dc:title>Presentación de PowerPoint</dc:title>
</cp:coreProperties>
</file>