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9304-BBB7-4590-A2FC-768C601C37D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6980-57BF-47ED-B0FA-21325B4FAC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6814-9E36-447F-BD00-CD48A91C9B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FC8-B57C-4A70-BFEA-50042EFE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846-C9EE-4114-970E-D61AF6DB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B0D-90ED-496E-B658-BD599261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DF1-67EA-4CDD-BC03-AD52081B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659-8689-4D88-B330-14DC586A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DDC-57B3-46B2-8AEB-F2AC5095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FE5-13EB-4CA4-AE9D-6C2A061B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BC7-AB99-4876-A5ED-DAA7770C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D6B-F433-4465-B964-5FFFD80B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DFD-3673-4F5F-BFA9-1BAFC8AF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128E-9A11-44A7-9FD1-5D21DF7C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B19-2AF0-4FE8-83B4-DA2A7208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4AFF-2A21-4BF5-B1E0-8D7F4E0A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C3E4-170B-403E-A558-FE8AC37B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BD24-5A1F-4826-8A57-7E555B63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7AB6-93F2-407C-9AD4-E4D09245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56CB-B045-4DD7-B3AA-21251F19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40F8-9022-4A0A-B735-7645FA76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FEE1-308B-4124-B232-AEB8FE40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2383-6DC3-430E-A9DF-78D3C39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8CA8-B99E-44C0-96F1-4A5965E3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4BE8-9F6B-4CBE-A229-4303E151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42D2-B10F-4D8C-B47D-7F172DFC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A822-70FC-4F91-BD22-758CFB2F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rdinación y seguimiento del Programa Anual de Activ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  <p:sp>
        <p:nvSpPr>
          <p:cNvPr id="22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B15304C-C44F-4FAB-B67E-410AD494A14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F880-3C9C-4EF2-AB56-1024A359B16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9A1F-1076-4C3B-91A6-ED261D78898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oordinar  y dar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seguimiento a la ejecución y operación de actividades, programas y proyectos que conforman el Programa Anual de Actividade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 para revisar el cumplimiento del Programa Anual de Actividade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74312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52"/>
          <p:cNvSpPr/>
          <p:nvPr/>
        </p:nvSpPr>
        <p:spPr>
          <a:xfrm>
            <a:off x="1693800" y="3225960"/>
            <a:ext cx="360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el Programa Anual  de Actividades y se solicita a las áreas cronograma detallado de actividades anual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53"/>
          <p:cNvSpPr/>
          <p:nvPr/>
        </p:nvSpPr>
        <p:spPr>
          <a:xfrm>
            <a:off x="1700280" y="3780000"/>
            <a:ext cx="3600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y revisan los informes mensuales, semanales , la agenda y el cronograma detallado de actividades; se analiza  el avance realizado, cotejándolo con el Programa Anual de Actividad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91000" y="3274920"/>
            <a:ext cx="1278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memorándum/ cron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00"/>
          <p:cNvSpPr/>
          <p:nvPr/>
        </p:nvSpPr>
        <p:spPr>
          <a:xfrm>
            <a:off x="361800" y="388944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/ 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91000" y="3760920"/>
            <a:ext cx="1278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s mensuales y  semanales / agenda Cronogram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4361040"/>
            <a:ext cx="12780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s trimestrales, anuales y extraordinarios / Acción correctiva y preven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91000" y="2128680"/>
            <a:ext cx="12780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00"/>
          <p:cNvSpPr/>
          <p:nvPr/>
        </p:nvSpPr>
        <p:spPr>
          <a:xfrm>
            <a:off x="399960" y="20811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 /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1"/>
          <p:cNvSpPr/>
          <p:nvPr/>
        </p:nvSpPr>
        <p:spPr>
          <a:xfrm>
            <a:off x="333360" y="44625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/ 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68280" y="48798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/ 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56"/>
          <p:cNvSpPr/>
          <p:nvPr/>
        </p:nvSpPr>
        <p:spPr>
          <a:xfrm>
            <a:off x="1700280" y="44640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identifican actividades pendientes o atrasos y se solicita acción correctiva para subsanar atraso y se monito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56"/>
          <p:cNvSpPr/>
          <p:nvPr/>
        </p:nvSpPr>
        <p:spPr>
          <a:xfrm>
            <a:off x="1709640" y="4898880"/>
            <a:ext cx="3600720" cy="24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les da seguimiento y verifica su cumpl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34"/>
          <p:cNvSpPr/>
          <p:nvPr/>
        </p:nvSpPr>
        <p:spPr>
          <a:xfrm>
            <a:off x="3213000" y="585324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2"/>
          <p:cNvSpPr/>
          <p:nvPr/>
        </p:nvSpPr>
        <p:spPr>
          <a:xfrm>
            <a:off x="1682640" y="2033640"/>
            <a:ext cx="360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oordinar las actividades  de las Direcciones para la elaboración del Proyecto del Programa Anual de Actividad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52"/>
          <p:cNvSpPr/>
          <p:nvPr/>
        </p:nvSpPr>
        <p:spPr>
          <a:xfrm>
            <a:off x="1689120" y="2604960"/>
            <a:ext cx="360036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mite el Proyecto de Programa Anual de Actividades a Presidencia y Secretaría Ejecutiva para su respectiva aprobación por parte del Consejo General del IEP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56"/>
          <p:cNvSpPr/>
          <p:nvPr/>
        </p:nvSpPr>
        <p:spPr>
          <a:xfrm>
            <a:off x="1709640" y="5300640"/>
            <a:ext cx="360072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envía a Director General para su revisión y toma de decision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0"/>
          <p:cNvSpPr/>
          <p:nvPr/>
        </p:nvSpPr>
        <p:spPr>
          <a:xfrm>
            <a:off x="441360" y="27003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0"/>
          <p:cNvSpPr/>
          <p:nvPr/>
        </p:nvSpPr>
        <p:spPr>
          <a:xfrm>
            <a:off x="390600" y="32688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/ 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0"/>
          <p:cNvSpPr/>
          <p:nvPr/>
        </p:nvSpPr>
        <p:spPr>
          <a:xfrm>
            <a:off x="333360" y="53006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/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91000" y="2700360"/>
            <a:ext cx="1278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4865760"/>
            <a:ext cx="1278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s trimestrales, anuales y extraordinar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91000" y="5284800"/>
            <a:ext cx="1278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s trimestrales, anuales y extraordinar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84"/>
          <p:cNvCxnSpPr>
            <a:stCxn id="174" idx="2"/>
            <a:endCxn id="175" idx="0"/>
          </p:cNvCxnSpPr>
          <p:nvPr/>
        </p:nvCxnSpPr>
        <p:spPr>
          <a:xfrm>
            <a:off x="3483000" y="2414160"/>
            <a:ext cx="720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684"/>
          <p:cNvCxnSpPr>
            <a:stCxn id="161" idx="2"/>
            <a:endCxn id="162" idx="0"/>
          </p:cNvCxnSpPr>
          <p:nvPr/>
        </p:nvCxnSpPr>
        <p:spPr>
          <a:xfrm>
            <a:off x="3493080" y="3584160"/>
            <a:ext cx="684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684"/>
          <p:cNvCxnSpPr>
            <a:stCxn id="162" idx="2"/>
            <a:endCxn id="171" idx="0"/>
          </p:cNvCxnSpPr>
          <p:nvPr/>
        </p:nvCxnSpPr>
        <p:spPr>
          <a:xfrm flipH="1">
            <a:off x="3499560" y="4284720"/>
            <a:ext cx="252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684"/>
          <p:cNvCxnSpPr>
            <a:stCxn id="171" idx="2"/>
            <a:endCxn id="172" idx="0"/>
          </p:cNvCxnSpPr>
          <p:nvPr/>
        </p:nvCxnSpPr>
        <p:spPr>
          <a:xfrm>
            <a:off x="3499200" y="4680000"/>
            <a:ext cx="1044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684"/>
          <p:cNvCxnSpPr>
            <a:stCxn id="172" idx="2"/>
            <a:endCxn id="176" idx="0"/>
          </p:cNvCxnSpPr>
          <p:nvPr/>
        </p:nvCxnSpPr>
        <p:spPr>
          <a:xfrm flipH="1">
            <a:off x="3509640" y="5149440"/>
            <a:ext cx="21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684"/>
          <p:cNvCxnSpPr>
            <a:stCxn id="175" idx="2"/>
            <a:endCxn id="161" idx="0"/>
          </p:cNvCxnSpPr>
          <p:nvPr/>
        </p:nvCxnSpPr>
        <p:spPr>
          <a:xfrm>
            <a:off x="3488400" y="3084120"/>
            <a:ext cx="5400" cy="14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684"/>
          <p:cNvCxnSpPr>
            <a:stCxn id="176" idx="2"/>
            <a:endCxn id="173" idx="0"/>
          </p:cNvCxnSpPr>
          <p:nvPr/>
        </p:nvCxnSpPr>
        <p:spPr>
          <a:xfrm flipH="1">
            <a:off x="3499560" y="5547960"/>
            <a:ext cx="104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684"/>
          <p:cNvCxnSpPr/>
          <p:nvPr/>
        </p:nvCxnSpPr>
        <p:spPr>
          <a:xfrm flipH="1">
            <a:off x="3499560" y="1907640"/>
            <a:ext cx="25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19T19:29:17Z</dcterms:modified>
  <cp:revision>323</cp:revision>
  <dc:subject/>
  <dc:title>Presentación de PowerPoint</dc:title>
</cp:coreProperties>
</file>