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726E-A0FD-4102-BED5-390E55B038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1446-F519-481F-8406-0D6D8FEB4F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4920" y="836640"/>
            <a:ext cx="1728720" cy="1800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pelarí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léfon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34920" y="2852640"/>
            <a:ext cx="1728720" cy="2160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ódigo Electoral y de Participación Ciudad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anual de Operación del programa de vinculación OS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ibro de registro de solicitu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rchivo de solicitudes con sus anex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236000" y="765000"/>
            <a:ext cx="1873080" cy="129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fes de depart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do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7164360" y="2637000"/>
            <a:ext cx="1943280" cy="20872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formes semana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forme mensu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gistro de solicitudes ingresadas por oficialí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gistro de solicitudes recibidas por memorándum de Dirección gener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gistro y archivo de solicitudes recibidas directamente en la direcció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7165800" y="5372280"/>
            <a:ext cx="1943280" cy="1009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umplimiento de los planes de acción del programa anual en un 8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4920" y="5589720"/>
            <a:ext cx="1727280" cy="10112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-OPE-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-OPE-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-OPE1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>
            <a:off x="1835280" y="4003560"/>
            <a:ext cx="215640" cy="2890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 rot="19365000">
            <a:off x="1843200" y="6024240"/>
            <a:ext cx="201600" cy="3301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 rot="13003200">
            <a:off x="6940080" y="5694120"/>
            <a:ext cx="21924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5 Rectángulo"/>
          <p:cNvSpPr/>
          <p:nvPr/>
        </p:nvSpPr>
        <p:spPr>
          <a:xfrm>
            <a:off x="3497400" y="1197000"/>
            <a:ext cx="230508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cibe solicitud de apoyo por parte de alguna Organización de la Sociedad Civi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8 Rectángulo"/>
          <p:cNvSpPr/>
          <p:nvPr/>
        </p:nvSpPr>
        <p:spPr>
          <a:xfrm>
            <a:off x="4716360" y="2565360"/>
            <a:ext cx="1086120" cy="7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devuelve al ciudadano la solicitud para que corrija o replantee su solicitud y reinicie el trami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3"/>
          <p:cNvSpPr/>
          <p:nvPr/>
        </p:nvSpPr>
        <p:spPr>
          <a:xfrm>
            <a:off x="4000680" y="836640"/>
            <a:ext cx="129528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8 CuadroTexto"/>
          <p:cNvSpPr/>
          <p:nvPr/>
        </p:nvSpPr>
        <p:spPr>
          <a:xfrm>
            <a:off x="5508720" y="2349360"/>
            <a:ext cx="506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8 CuadroTexto"/>
          <p:cNvSpPr/>
          <p:nvPr/>
        </p:nvSpPr>
        <p:spPr>
          <a:xfrm>
            <a:off x="3497400" y="23558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34 Decisión"/>
          <p:cNvSpPr/>
          <p:nvPr/>
        </p:nvSpPr>
        <p:spPr>
          <a:xfrm>
            <a:off x="3857760" y="4363920"/>
            <a:ext cx="1584360" cy="50508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Aprobada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7 Rectángulo"/>
          <p:cNvSpPr/>
          <p:nvPr/>
        </p:nvSpPr>
        <p:spPr>
          <a:xfrm>
            <a:off x="3497400" y="1700280"/>
            <a:ext cx="2305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visa si esta dentro del campo de acción de la di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60"/>
          <p:cNvCxnSpPr/>
          <p:nvPr/>
        </p:nvCxnSpPr>
        <p:spPr>
          <a:xfrm>
            <a:off x="5430960" y="2347920"/>
            <a:ext cx="360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Oval 34"/>
          <p:cNvSpPr/>
          <p:nvPr/>
        </p:nvSpPr>
        <p:spPr>
          <a:xfrm>
            <a:off x="4865760" y="63086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32"/>
          <p:cNvCxnSpPr/>
          <p:nvPr/>
        </p:nvCxnSpPr>
        <p:spPr>
          <a:xfrm>
            <a:off x="4660560" y="2060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34 Decisión"/>
          <p:cNvSpPr/>
          <p:nvPr/>
        </p:nvSpPr>
        <p:spPr>
          <a:xfrm>
            <a:off x="3930480" y="2205000"/>
            <a:ext cx="1511640" cy="279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se justifica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8 Rectángulo"/>
          <p:cNvSpPr/>
          <p:nvPr/>
        </p:nvSpPr>
        <p:spPr>
          <a:xfrm>
            <a:off x="3497400" y="2567160"/>
            <a:ext cx="107460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envía al Director de  Participación Ciudadana para visto bue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8 Rectángulo"/>
          <p:cNvSpPr/>
          <p:nvPr/>
        </p:nvSpPr>
        <p:spPr>
          <a:xfrm>
            <a:off x="3311640" y="4938840"/>
            <a:ext cx="15112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elabora plan de a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8 Rectángulo"/>
          <p:cNvSpPr/>
          <p:nvPr/>
        </p:nvSpPr>
        <p:spPr>
          <a:xfrm>
            <a:off x="3311640" y="5437080"/>
            <a:ext cx="151128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implementa plan de acción hasta térm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55"/>
          <p:cNvCxnSpPr>
            <a:stCxn id="66" idx="3"/>
            <a:endCxn id="69" idx="0"/>
          </p:cNvCxnSpPr>
          <p:nvPr/>
        </p:nvCxnSpPr>
        <p:spPr>
          <a:xfrm flipH="1">
            <a:off x="5154120" y="4616640"/>
            <a:ext cx="288360" cy="1692360"/>
          </a:xfrm>
          <a:prstGeom prst="bentConnector4">
            <a:avLst>
              <a:gd name="adj1" fmla="val -80625"/>
              <a:gd name="adj2" fmla="val 573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48 CuadroTexto"/>
          <p:cNvSpPr/>
          <p:nvPr/>
        </p:nvSpPr>
        <p:spPr>
          <a:xfrm>
            <a:off x="3497400" y="443700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8 CuadroTexto"/>
          <p:cNvSpPr/>
          <p:nvPr/>
        </p:nvSpPr>
        <p:spPr>
          <a:xfrm>
            <a:off x="5657760" y="443700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32"/>
          <p:cNvCxnSpPr>
            <a:stCxn id="73" idx="2"/>
            <a:endCxn id="74" idx="0"/>
          </p:cNvCxnSpPr>
          <p:nvPr/>
        </p:nvCxnSpPr>
        <p:spPr>
          <a:xfrm>
            <a:off x="4067280" y="5229360"/>
            <a:ext cx="360" cy="20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55"/>
          <p:cNvCxnSpPr>
            <a:stCxn id="66" idx="1"/>
          </p:cNvCxnSpPr>
          <p:nvPr/>
        </p:nvCxnSpPr>
        <p:spPr>
          <a:xfrm flipV="1" rot="10800000">
            <a:off x="3642480" y="4616640"/>
            <a:ext cx="215280" cy="324360"/>
          </a:xfrm>
          <a:prstGeom prst="bentConnector3">
            <a:avLst>
              <a:gd name="adj1" fmla="val 1082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60"/>
          <p:cNvCxnSpPr>
            <a:stCxn id="61" idx="2"/>
            <a:endCxn id="67" idx="0"/>
          </p:cNvCxnSpPr>
          <p:nvPr/>
        </p:nvCxnSpPr>
        <p:spPr>
          <a:xfrm>
            <a:off x="4649760" y="155592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18 Rectángulo"/>
          <p:cNvSpPr/>
          <p:nvPr/>
        </p:nvSpPr>
        <p:spPr>
          <a:xfrm>
            <a:off x="3311640" y="5950080"/>
            <a:ext cx="151128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porta acciones realizad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32"/>
          <p:cNvCxnSpPr>
            <a:stCxn id="74" idx="2"/>
            <a:endCxn id="81" idx="0"/>
          </p:cNvCxnSpPr>
          <p:nvPr/>
        </p:nvCxnSpPr>
        <p:spPr>
          <a:xfrm>
            <a:off x="4067280" y="5799240"/>
            <a:ext cx="360" cy="15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32"/>
          <p:cNvCxnSpPr>
            <a:stCxn id="84" idx="2"/>
            <a:endCxn id="66" idx="0"/>
          </p:cNvCxnSpPr>
          <p:nvPr/>
        </p:nvCxnSpPr>
        <p:spPr>
          <a:xfrm>
            <a:off x="4649760" y="3956040"/>
            <a:ext cx="720" cy="40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83 Forma"/>
          <p:cNvCxnSpPr>
            <a:stCxn id="72" idx="2"/>
            <a:endCxn id="84" idx="0"/>
          </p:cNvCxnSpPr>
          <p:nvPr/>
        </p:nvCxnSpPr>
        <p:spPr>
          <a:xfrm flipH="1" rot="16200000">
            <a:off x="4108680" y="3211560"/>
            <a:ext cx="467280" cy="61560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55"/>
          <p:cNvCxnSpPr>
            <a:stCxn id="81" idx="2"/>
            <a:endCxn id="69" idx="2"/>
          </p:cNvCxnSpPr>
          <p:nvPr/>
        </p:nvCxnSpPr>
        <p:spPr>
          <a:xfrm flipH="1" rot="16200000">
            <a:off x="4359240" y="5945400"/>
            <a:ext cx="215280" cy="798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17 Rectángulo"/>
          <p:cNvSpPr/>
          <p:nvPr/>
        </p:nvSpPr>
        <p:spPr>
          <a:xfrm>
            <a:off x="3497400" y="3753000"/>
            <a:ext cx="2305080" cy="20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analiza procede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61 Conector recto de flecha"/>
          <p:cNvCxnSpPr>
            <a:stCxn id="71" idx="1"/>
          </p:cNvCxnSpPr>
          <p:nvPr/>
        </p:nvCxnSpPr>
        <p:spPr>
          <a:xfrm>
            <a:off x="3930480" y="2344680"/>
            <a:ext cx="720" cy="22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62 Conector recto de flecha"/>
          <p:cNvCxnSpPr>
            <a:stCxn id="63" idx="4"/>
            <a:endCxn id="61" idx="0"/>
          </p:cNvCxnSpPr>
          <p:nvPr/>
        </p:nvCxnSpPr>
        <p:spPr>
          <a:xfrm>
            <a:off x="4648320" y="1052640"/>
            <a:ext cx="18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Text Box 11"/>
          <p:cNvSpPr/>
          <p:nvPr/>
        </p:nvSpPr>
        <p:spPr>
          <a:xfrm>
            <a:off x="4641840" y="6192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cp:lastPrinted>2012-01-20T18:45:14Z</cp:lastPrinted>
  <dcterms:modified xsi:type="dcterms:W3CDTF">2012-05-08T17:26:53Z</dcterms:modified>
  <cp:revision>153</cp:revision>
  <dc:subject/>
  <dc:title>Diapositiva 1</dc:title>
</cp:coreProperties>
</file>