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C488-51DB-479F-B18B-7F73906B2E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6114-517E-4255-A6CA-58F49FA64C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FC19-1393-42DA-B09A-FCBE2D191C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016-C9C9-4D7F-A24F-57555FF7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F16-FBFE-4370-9C20-ABC7D0B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644-DED0-4CEA-B2E9-6060DE2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B6C-F9D3-43C4-A5A4-6F9B0482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BBE-B069-4D2E-9A1E-5B4113D7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A50-80FA-479A-B614-5458F7EC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C56-FB9E-4B16-B2EB-FE913FC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492-37D9-43C7-98E5-ECA12BCB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162-EC70-4B06-9FDE-21F8B983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E00-00D0-4521-89C1-6AB0594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903-3252-4EC3-83D6-A8A02F8B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29D-CF93-40AF-9473-226CFCB6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1224-71C7-4211-8481-0FFDCFF2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D5F-F22E-4D29-ADDE-40D939E4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0136-F6A4-47FE-83B8-810684AE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F8FF-56E7-44E2-8878-AE5E7A1F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087-D985-4F3A-B6BA-F6C32A35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4ACF-53AA-4362-B888-233E3F45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4712-6D91-4A95-8EFB-B718154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4035-2424-4472-B2FB-2D97117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81BE-2029-4409-854F-338147D4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FA13-0AE5-4630-8923-259188FE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9395-A0B0-4824-8F41-ADB74A55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9B6E-9066-4BC3-A978-5AE3F331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ervicio de edición y producción grá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40A7777-F609-49EC-B5F5-1EBFC5026B1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1-05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FBE3-2C4A-4EA7-B673-652EBB2BB5D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A3A-8694-4A7E-862B-DF0E54B3030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o una Referencia a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-05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l contenido y diseño de los servicios solicitados por parte de las direccion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control y seguimiento de los servicios de diseño y edición que la Unidad Editorial provee hacia el interior del IEPC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260280" y="297180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MMY : Prueba de impresi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 previa a la producción del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41720" y="16588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2"/>
          <p:cNvSpPr/>
          <p:nvPr/>
        </p:nvSpPr>
        <p:spPr>
          <a:xfrm>
            <a:off x="1752480" y="2116080"/>
            <a:ext cx="36007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solicitud de servicio de edición y/o producción gráfica.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34120" y="4572000"/>
            <a:ext cx="127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ommy al área involucrada para VoBo final y solicite 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6081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se de recibo/ dommy pruebas de col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6084720"/>
            <a:ext cx="3600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imprenta el documento para recibir pruebas de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con el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32"/>
          <p:cNvCxnSpPr>
            <a:stCxn id="163" idx="2"/>
            <a:endCxn id="165" idx="0"/>
          </p:cNvCxnSpPr>
          <p:nvPr/>
        </p:nvCxnSpPr>
        <p:spPr>
          <a:xfrm>
            <a:off x="3499920" y="5721120"/>
            <a:ext cx="108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web (google docs) / IT-ADM-0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0"/>
          <p:cNvSpPr/>
          <p:nvPr/>
        </p:nvSpPr>
        <p:spPr>
          <a:xfrm>
            <a:off x="304920" y="20574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0492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56 Rombo"/>
          <p:cNvSpPr/>
          <p:nvPr/>
        </p:nvSpPr>
        <p:spPr>
          <a:xfrm>
            <a:off x="3000240" y="421308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70" idx="1"/>
            <a:endCxn id="172" idx="0"/>
          </p:cNvCxnSpPr>
          <p:nvPr/>
        </p:nvCxnSpPr>
        <p:spPr>
          <a:xfrm flipV="1" rot="10800000">
            <a:off x="2563200" y="4392360"/>
            <a:ext cx="437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3" name="72 CuadroTexto"/>
          <p:cNvSpPr/>
          <p:nvPr/>
        </p:nvSpPr>
        <p:spPr>
          <a:xfrm>
            <a:off x="2590920" y="4114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73 CuadroTexto"/>
          <p:cNvSpPr/>
          <p:nvPr/>
        </p:nvSpPr>
        <p:spPr>
          <a:xfrm>
            <a:off x="4038480" y="4114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698480" y="457200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observaciones y se realizan cor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70" idx="3"/>
          </p:cNvCxnSpPr>
          <p:nvPr/>
        </p:nvCxnSpPr>
        <p:spPr>
          <a:xfrm>
            <a:off x="3857400" y="4392720"/>
            <a:ext cx="1065960" cy="1208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AutoShape 32"/>
          <p:cNvCxnSpPr/>
          <p:nvPr/>
        </p:nvCxnSpPr>
        <p:spPr>
          <a:xfrm flipH="1">
            <a:off x="2514240" y="495288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gundo 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6081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editorial / director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4"/>
          <p:cNvSpPr/>
          <p:nvPr/>
        </p:nvSpPr>
        <p:spPr>
          <a:xfrm>
            <a:off x="4149720" y="7667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52"/>
          <p:cNvSpPr/>
          <p:nvPr/>
        </p:nvSpPr>
        <p:spPr>
          <a:xfrm>
            <a:off x="1600200" y="2590920"/>
            <a:ext cx="373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documento con los contenidos definitivos y validados por parte de la Dirección solicitante considerando los lineamientos editoriales establecidos por la Unidad Editorial para su edición.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410080" y="2590920"/>
            <a:ext cx="109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a editar / P-ADM-15/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04920" y="26668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/ Área involucrada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65" idx="2"/>
          </p:cNvCxnSpPr>
          <p:nvPr/>
        </p:nvCxnSpPr>
        <p:spPr>
          <a:xfrm>
            <a:off x="3499920" y="637200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1"/>
          <p:cNvCxnSpPr/>
          <p:nvPr/>
        </p:nvCxnSpPr>
        <p:spPr>
          <a:xfrm>
            <a:off x="3429000" y="4114800"/>
            <a:ext cx="21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52"/>
          <p:cNvSpPr/>
          <p:nvPr/>
        </p:nvSpPr>
        <p:spPr>
          <a:xfrm>
            <a:off x="1628640" y="38862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el servicio de edición y diseño y se entrega primera versión al área involucrada para V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34120" y="3886200"/>
            <a:ext cx="1277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imer dommy / acuse recibi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304920" y="38098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/ Áre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681"/>
          <p:cNvCxnSpPr/>
          <p:nvPr/>
        </p:nvCxnSpPr>
        <p:spPr>
          <a:xfrm>
            <a:off x="2997000" y="36572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Oval 75"/>
          <p:cNvSpPr/>
          <p:nvPr/>
        </p:nvSpPr>
        <p:spPr>
          <a:xfrm>
            <a:off x="2819520" y="35812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73720" y="69865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6986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90960" y="6643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141720" y="6713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96" idx="0"/>
          </p:cNvCxnSpPr>
          <p:nvPr/>
        </p:nvCxnSpPr>
        <p:spPr>
          <a:xfrm flipV="1" rot="10800000">
            <a:off x="2493360" y="6822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400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73 CuadroTexto"/>
          <p:cNvSpPr/>
          <p:nvPr/>
        </p:nvSpPr>
        <p:spPr>
          <a:xfrm>
            <a:off x="256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700236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3" idx="3"/>
            <a:endCxn id="200" idx="0"/>
          </p:cNvCxnSpPr>
          <p:nvPr/>
        </p:nvCxnSpPr>
        <p:spPr>
          <a:xfrm>
            <a:off x="3947760" y="6822720"/>
            <a:ext cx="4914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1" name="AutoShape 32"/>
          <p:cNvCxnSpPr>
            <a:stCxn id="196" idx="2"/>
          </p:cNvCxnSpPr>
          <p:nvPr/>
        </p:nvCxnSpPr>
        <p:spPr>
          <a:xfrm flipH="1">
            <a:off x="249336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Oval 75"/>
          <p:cNvSpPr/>
          <p:nvPr/>
        </p:nvSpPr>
        <p:spPr>
          <a:xfrm>
            <a:off x="2421000" y="7669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75"/>
          <p:cNvSpPr/>
          <p:nvPr/>
        </p:nvSpPr>
        <p:spPr>
          <a:xfrm>
            <a:off x="2637000" y="5796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32"/>
          <p:cNvCxnSpPr/>
          <p:nvPr/>
        </p:nvCxnSpPr>
        <p:spPr>
          <a:xfrm>
            <a:off x="2852280" y="5866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2438280" y="51814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56"/>
          <p:cNvSpPr/>
          <p:nvPr/>
        </p:nvSpPr>
        <p:spPr>
          <a:xfrm>
            <a:off x="3573360" y="702000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imprenta para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 flipH="1">
            <a:off x="443628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1"/>
          <p:cNvCxnSpPr/>
          <p:nvPr/>
        </p:nvCxnSpPr>
        <p:spPr>
          <a:xfrm>
            <a:off x="3428640" y="18108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1"/>
          <p:cNvCxnSpPr/>
          <p:nvPr/>
        </p:nvCxnSpPr>
        <p:spPr>
          <a:xfrm>
            <a:off x="3428640" y="228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1"/>
          <p:cNvCxnSpPr/>
          <p:nvPr/>
        </p:nvCxnSpPr>
        <p:spPr>
          <a:xfrm>
            <a:off x="3428640" y="2971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7"/>
          <p:cNvSpPr/>
          <p:nvPr/>
        </p:nvSpPr>
        <p:spPr>
          <a:xfrm>
            <a:off x="1752480" y="3276720"/>
            <a:ext cx="350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notifica a la Dirección General para su conocimiento y VoBo.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1752480" y="3200400"/>
            <a:ext cx="3353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5716080" y="32004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3"/>
          <p:cNvSpPr/>
          <p:nvPr/>
        </p:nvSpPr>
        <p:spPr>
          <a:xfrm>
            <a:off x="380520" y="3276720"/>
            <a:ext cx="101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1"/>
          <p:cNvCxnSpPr/>
          <p:nvPr/>
        </p:nvCxnSpPr>
        <p:spPr>
          <a:xfrm>
            <a:off x="3428640" y="3580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5"/>
          <p:cNvSpPr/>
          <p:nvPr/>
        </p:nvSpPr>
        <p:spPr>
          <a:xfrm>
            <a:off x="3033000" y="42670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¿correccione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7T19:33:46Z</cp:lastPrinted>
  <dcterms:modified xsi:type="dcterms:W3CDTF">2012-05-10T15:50:25Z</dcterms:modified>
  <cp:revision>368</cp:revision>
  <dc:subject/>
  <dc:title>Presentación de PowerPoint</dc:title>
</cp:coreProperties>
</file>