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D86B-493F-4C2D-853C-41A445573A4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Marcador de número de diapositiva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A439-5E4A-43ED-9E2C-CE83B4BF526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784920"/>
            <a:ext cx="9144000" cy="73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8b3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457200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395280" y="549360"/>
            <a:ext cx="8424720" cy="144360"/>
          </a:xfrm>
          <a:prstGeom prst="rect">
            <a:avLst/>
          </a:prstGeom>
          <a:gradFill rotWithShape="0">
            <a:gsLst>
              <a:gs pos="0">
                <a:srgbClr val="f8b34e">
                  <a:alpha val="30196"/>
                </a:srgbClr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Imagen 1" descr=""/>
          <p:cNvPicPr/>
          <p:nvPr/>
        </p:nvPicPr>
        <p:blipFill>
          <a:blip r:embed="rId2"/>
          <a:stretch/>
        </p:blipFill>
        <p:spPr>
          <a:xfrm>
            <a:off x="250920" y="71280"/>
            <a:ext cx="1800000" cy="4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1"/>
          <p:cNvSpPr/>
          <p:nvPr/>
        </p:nvSpPr>
        <p:spPr>
          <a:xfrm>
            <a:off x="4643280" y="136440"/>
            <a:ext cx="45007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Proceso:Dirección General Ejectuti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3"/>
          <p:cNvSpPr/>
          <p:nvPr/>
        </p:nvSpPr>
        <p:spPr>
          <a:xfrm>
            <a:off x="2771640" y="1162080"/>
            <a:ext cx="3600720" cy="4392720"/>
          </a:xfrm>
          <a:prstGeom prst="rect">
            <a:avLst/>
          </a:prstGeom>
          <a:noFill/>
          <a:ln w="38160">
            <a:solidFill>
              <a:srgbClr val="7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5 Rectángulo"/>
          <p:cNvSpPr/>
          <p:nvPr/>
        </p:nvSpPr>
        <p:spPr>
          <a:xfrm>
            <a:off x="3778200" y="2906640"/>
            <a:ext cx="1584360" cy="104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evisión, seguimiento y verificación  de la ejecución y cumplimiento de programas y actividades  de las direc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4920" y="836640"/>
            <a:ext cx="1728720" cy="10796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omputado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pele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eléfo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27000" y="2709720"/>
            <a:ext cx="1728720" cy="143856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grama Anual de Actividad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formes mensuales y semanal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gendas semanal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Legislació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7236000" y="836640"/>
            <a:ext cx="1873080" cy="8636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odos los Directores Administrativos y de Á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2"/>
          <p:cNvSpPr/>
          <p:nvPr/>
        </p:nvSpPr>
        <p:spPr>
          <a:xfrm>
            <a:off x="7164360" y="2816280"/>
            <a:ext cx="1943280" cy="136836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yecto del Programa Anual de Actividad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nformes trimestrales, anuales y extraordinari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forme de actividades semanal de la D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7164360" y="4545000"/>
            <a:ext cx="1943280" cy="2124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visión y reporte de actividades programadas del P.A.A. al 9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onclusión de las actividades denominadas como urgentes e importantes en un 95% en la fecha establecid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umplimiento del Programa de Capacitación del personal al 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34920" y="4941720"/>
            <a:ext cx="1727280" cy="15116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-COM-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-ADM-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-ADM-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-ADM-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-OPE-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5"/>
          <p:cNvSpPr/>
          <p:nvPr/>
        </p:nvSpPr>
        <p:spPr>
          <a:xfrm>
            <a:off x="6300720" y="3284640"/>
            <a:ext cx="647640" cy="431640"/>
          </a:xfrm>
          <a:prstGeom prst="rightArrow">
            <a:avLst>
              <a:gd name="adj1" fmla="val 50000"/>
              <a:gd name="adj2" fmla="val 31189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8 Rectángulo"/>
          <p:cNvSpPr/>
          <p:nvPr/>
        </p:nvSpPr>
        <p:spPr>
          <a:xfrm>
            <a:off x="3778200" y="4292640"/>
            <a:ext cx="15843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laboración de Informes trimestrales, anuales y extraordinario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5"/>
          <p:cNvSpPr/>
          <p:nvPr/>
        </p:nvSpPr>
        <p:spPr>
          <a:xfrm>
            <a:off x="1835280" y="3141720"/>
            <a:ext cx="504720" cy="431640"/>
          </a:xfrm>
          <a:prstGeom prst="rightArrow">
            <a:avLst>
              <a:gd name="adj1" fmla="val 50000"/>
              <a:gd name="adj2" fmla="val 31252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5"/>
          <p:cNvSpPr/>
          <p:nvPr/>
        </p:nvSpPr>
        <p:spPr>
          <a:xfrm rot="1986600">
            <a:off x="1814040" y="1420920"/>
            <a:ext cx="684360" cy="414360"/>
          </a:xfrm>
          <a:prstGeom prst="rightArrow">
            <a:avLst>
              <a:gd name="adj1" fmla="val 50000"/>
              <a:gd name="adj2" fmla="val 31189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34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5"/>
          <p:cNvSpPr/>
          <p:nvPr/>
        </p:nvSpPr>
        <p:spPr>
          <a:xfrm rot="19365000">
            <a:off x="1851120" y="5205240"/>
            <a:ext cx="550800" cy="457200"/>
          </a:xfrm>
          <a:prstGeom prst="rightArrow">
            <a:avLst>
              <a:gd name="adj1" fmla="val 50000"/>
              <a:gd name="adj2" fmla="val 31317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763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5"/>
          <p:cNvSpPr/>
          <p:nvPr/>
        </p:nvSpPr>
        <p:spPr>
          <a:xfrm rot="13003200">
            <a:off x="6540120" y="5182560"/>
            <a:ext cx="490680" cy="485640"/>
          </a:xfrm>
          <a:prstGeom prst="rightArrow">
            <a:avLst>
              <a:gd name="adj1" fmla="val 50000"/>
              <a:gd name="adj2" fmla="val 31167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39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5"/>
          <p:cNvSpPr/>
          <p:nvPr/>
        </p:nvSpPr>
        <p:spPr>
          <a:xfrm rot="8611200">
            <a:off x="6443640" y="1357200"/>
            <a:ext cx="696960" cy="470160"/>
          </a:xfrm>
          <a:prstGeom prst="rightArrow">
            <a:avLst>
              <a:gd name="adj1" fmla="val 50000"/>
              <a:gd name="adj2" fmla="val 31240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83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3"/>
          <p:cNvSpPr/>
          <p:nvPr/>
        </p:nvSpPr>
        <p:spPr>
          <a:xfrm>
            <a:off x="3924360" y="1454040"/>
            <a:ext cx="1224000" cy="246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4"/>
          <p:cNvSpPr/>
          <p:nvPr/>
        </p:nvSpPr>
        <p:spPr>
          <a:xfrm>
            <a:off x="4284720" y="5072040"/>
            <a:ext cx="574560" cy="28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4"/>
          <p:cNvSpPr/>
          <p:nvPr/>
        </p:nvSpPr>
        <p:spPr>
          <a:xfrm>
            <a:off x="2413080" y="136440"/>
            <a:ext cx="215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AP-ADM-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5 Rectángulo"/>
          <p:cNvSpPr/>
          <p:nvPr/>
        </p:nvSpPr>
        <p:spPr>
          <a:xfrm>
            <a:off x="3778200" y="1922400"/>
            <a:ext cx="158436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oordinación en la elaboración del Programa Anual de Actividad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14 Conector recto de flecha"/>
          <p:cNvCxnSpPr/>
          <p:nvPr/>
        </p:nvCxnSpPr>
        <p:spPr>
          <a:xfrm>
            <a:off x="4538160" y="3317760"/>
            <a:ext cx="32760" cy="2232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69" name="AutoShape 681"/>
          <p:cNvCxnSpPr>
            <a:endCxn id="50" idx="0"/>
          </p:cNvCxnSpPr>
          <p:nvPr/>
        </p:nvCxnSpPr>
        <p:spPr>
          <a:xfrm flipH="1">
            <a:off x="4570200" y="2636640"/>
            <a:ext cx="2160" cy="27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AutoShape 681"/>
          <p:cNvCxnSpPr>
            <a:stCxn id="50" idx="2"/>
            <a:endCxn id="58" idx="0"/>
          </p:cNvCxnSpPr>
          <p:nvPr/>
        </p:nvCxnSpPr>
        <p:spPr>
          <a:xfrm>
            <a:off x="4570200" y="3951360"/>
            <a:ext cx="360" cy="34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681"/>
          <p:cNvCxnSpPr>
            <a:stCxn id="58" idx="2"/>
            <a:endCxn id="65" idx="0"/>
          </p:cNvCxnSpPr>
          <p:nvPr/>
        </p:nvCxnSpPr>
        <p:spPr>
          <a:xfrm>
            <a:off x="4570200" y="4797360"/>
            <a:ext cx="2160" cy="27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681"/>
          <p:cNvCxnSpPr/>
          <p:nvPr/>
        </p:nvCxnSpPr>
        <p:spPr>
          <a:xfrm flipH="1">
            <a:off x="4571640" y="170028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1:13:50Z</dcterms:created>
  <dc:creator>dos</dc:creator>
  <dc:description/>
  <dc:language>en-US</dc:language>
  <cp:lastModifiedBy>israel.perez</cp:lastModifiedBy>
  <cp:lastPrinted>2012-04-03T16:21:27Z</cp:lastPrinted>
  <dcterms:modified xsi:type="dcterms:W3CDTF">2012-04-19T19:24:03Z</dcterms:modified>
  <cp:revision>165</cp:revision>
  <dc:subject/>
  <dc:title>Diapositiva 1</dc:title>
</cp:coreProperties>
</file>