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42C-19F6-4BB8-A200-5E9D4A3F60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076-8BD1-417E-97C0-DC7EC3211B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58EA-44A1-4A35-A2DB-E480D51676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966-157C-4ECF-BB2B-0DC45BBD6C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1A4-6D07-4024-AE6A-7D42CF84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F41-CA2E-4B2B-AC11-F5822D1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9FC-BF72-4023-8F11-9085B74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1E4-3BBE-478C-8915-6605905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080-A751-42F4-8AE4-70FF013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190-BF21-4235-AA6E-83C68D91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DCB-EFF2-4EE8-B802-C7BDEB6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E44-1F16-49B2-8008-14F924E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2C6-3D2E-484C-A162-FEDC0C5E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01C-41E4-4A05-B1C3-06A912F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368-73F2-4936-8597-58AC10D1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B1C-B9E5-4607-96AA-0225D452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31F1-2543-4168-A9C3-031DDC6E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45C3-4354-4B79-967F-A063D29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8C3E-4DD0-4955-B0A7-1DA30B72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1DE3-ACFC-49E4-8AD1-137CA2F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F4F3-1BB7-4ADC-A0C7-1ABE27B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D45-0037-42F6-B394-EEE9C62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3546-92C2-4D9C-94DE-741A977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295A-BF15-4B60-B938-2126916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175A-B68E-4E72-B325-BF4981E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CE7-19FF-480B-8D4E-1106DFE5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289F-AEBD-4798-AA03-0CF689F8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2AA2-CE0A-4EA3-A502-82075DB9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D298F57-2975-4B60-A546-572D3B89E9A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69A-3442-4B4B-95F9-16A258100B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D5B-BC46-481E-B36C-A0236D3AEA0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tegra expediente y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18 Rectángulo"/>
          <p:cNvSpPr/>
          <p:nvPr/>
        </p:nvSpPr>
        <p:spPr>
          <a:xfrm>
            <a:off x="1700280" y="356220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Envía requerimiento firmado por el Consejero Presidente de la Comisión de Adquisi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698480" y="414036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32"/>
          <p:cNvCxnSpPr/>
          <p:nvPr/>
        </p:nvCxnSpPr>
        <p:spPr>
          <a:xfrm>
            <a:off x="227628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32"/>
          <p:cNvCxnSpPr>
            <a:stCxn id="187" idx="2"/>
          </p:cNvCxnSpPr>
          <p:nvPr/>
        </p:nvCxnSpPr>
        <p:spPr>
          <a:xfrm flipH="1">
            <a:off x="2275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832000"/>
            <a:ext cx="597600" cy="124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pleta la informació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178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2" idx="3"/>
            <a:endCxn id="207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munica al director 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stCxn id="198" idx="2"/>
            <a:endCxn id="208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cibe el VoBo del Consejero Electoral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contestación y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1700280" y="515628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20" idx="2"/>
            <a:endCxn id="195" idx="0"/>
          </p:cNvCxnSpPr>
          <p:nvPr/>
        </p:nvCxnSpPr>
        <p:spPr>
          <a:xfrm flipH="1" rot="16200000">
            <a:off x="2793240" y="4926600"/>
            <a:ext cx="210240" cy="124344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2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32"/>
          <p:cNvCxnSpPr/>
          <p:nvPr/>
        </p:nvCxnSpPr>
        <p:spPr>
          <a:xfrm>
            <a:off x="4347720" y="457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32"/>
          <p:cNvCxnSpPr>
            <a:stCxn id="242" idx="2"/>
            <a:endCxn id="243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ctualiza el padrón de proveedores y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3" idx="2"/>
            <a:endCxn id="245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Integra el expediente al archivo de la Secretaría Técnica de Comis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5" idx="2"/>
            <a:endCxn id="250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32"/>
          <p:cNvCxnSpPr>
            <a:stCxn id="250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32"/>
          <p:cNvCxnSpPr/>
          <p:nvPr/>
        </p:nvCxnSpPr>
        <p:spPr>
          <a:xfrm>
            <a:off x="3465000" y="27000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nstituto Electoral y de Participaciòn Ciudadana </cp:lastModifiedBy>
  <cp:lastPrinted>2012-01-04T00:59:45Z</cp:lastPrinted>
  <dcterms:modified xsi:type="dcterms:W3CDTF">2012-01-06T19:58:48Z</dcterms:modified>
  <cp:revision>319</cp:revision>
  <dc:subject/>
  <dc:title>Presentación de PowerPoint</dc:title>
</cp:coreProperties>
</file>