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F165-AD06-4ABD-84A5-E3E34C1FC9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975D-3F60-414A-8D0A-E6E68F6F38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6834-5884-4651-9D49-A45D54F271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82E-DA1D-45F2-89EE-4BFCADD0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2E1-AF81-463A-8F84-971F3AED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85B-7627-450E-B9CE-6DFD0373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931-5DE8-40CF-9822-B30BC2DD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35A-C36E-4B46-A4E6-96F3EBD5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96F-91E8-4BC8-B45C-D71C0579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B29-DA43-4521-9279-442B361D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FD4-4D40-43DF-BF36-D7D63353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DD8-9575-44FF-B76C-822ACA52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E23-9AE5-4BF1-B019-F7CD38B9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713-A021-462A-B0B3-06EE2DBA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F45-C62C-4FB0-82EC-C5F9CA34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4878-D488-4DDE-A166-49858439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09D7-0BD5-433B-8DA5-C543B660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B8AA-22D9-4AAE-B13E-9BF70B3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246B-6435-4AC8-817D-DDF8261A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72C1-6F3E-48EF-B08A-648C221B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B690-1845-4ABF-ADD0-AB22D147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AE56-BAEE-458C-8715-0BB46D76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8949-1F71-40D8-8E72-84A3A6F8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C3C5-CEF1-4626-8F0F-E0FD6BA6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92F4-B6BA-4BDC-818C-48EAFD0E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BF99-6DE1-4DD6-91A8-5F91C928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AC48-4C8D-4BC1-8B0B-941633CB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0D6A-D038-496F-A70A-43EDB49B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FDBC-5FD2-49FD-88EA-F26F0484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D0CE-0C97-4D07-A2AA-0329DCC1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77A6-06AE-4473-9A9B-C0689261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5FA45-6F46-4123-84B8-3A900FE0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2A54-FA75-425E-9D4B-D69A99E9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91970-384E-404C-ACF8-CCD6759D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26D9-845C-434E-A25A-9F19FD93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9B762-0B7F-40D5-BB83-E572EF7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0587-D1E0-4F98-8273-3BA203F6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4C127-94B2-4326-B00D-8ADB4ED1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ED33-0B31-4C3C-868A-65B976EF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ograma Anual de Traba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446AF9E5-742A-44B6-96DD-7CBDADA2D0B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ADM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88CD-1184-490A-9BFA-97FD2E31364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C8CA-5489-4803-B5F9-3EBA354A6F3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5CC3-D8DE-4089-A9C9-8A7633EFE80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Buscar la aprobación del Pleno del Consejo General para el cumplimiento de las metas y objetivos de trabajo propuestos por la contraloría gener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1459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268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aliza la proyección de metas y objetivos  de trabajo de la Contraloría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700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envía a Contralor para su aprobación  y se le da seguimiento al programa anual de trabajo de acuerdo a los indicadores de desemp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5724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mail / proyección de metas  y obje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48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291636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00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187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ultados de indic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133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contralor general para su evaluación y en su caso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/>
          <p:nvPr/>
        </p:nvCxnSpPr>
        <p:spPr>
          <a:xfrm>
            <a:off x="3499920" y="3347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5722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 verifica información y presenta al consejo General para su aprobación el P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1"/>
          <p:cNvSpPr/>
          <p:nvPr/>
        </p:nvSpPr>
        <p:spPr>
          <a:xfrm>
            <a:off x="333360" y="565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ción de metas y obje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0"/>
          <p:cNvSpPr/>
          <p:nvPr/>
        </p:nvSpPr>
        <p:spPr>
          <a:xfrm>
            <a:off x="404640" y="22683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65"/>
          <p:cNvSpPr/>
          <p:nvPr/>
        </p:nvSpPr>
        <p:spPr>
          <a:xfrm>
            <a:off x="5373720" y="6083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685"/>
          <p:cNvCxnSpPr/>
          <p:nvPr/>
        </p:nvCxnSpPr>
        <p:spPr>
          <a:xfrm>
            <a:off x="3499920" y="5938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18 Rectángulo"/>
          <p:cNvSpPr/>
          <p:nvPr/>
        </p:nvSpPr>
        <p:spPr>
          <a:xfrm>
            <a:off x="1700280" y="60818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la información aprobada y se turna al subcontralor para su seguimiento y cumpli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>
            <a:stCxn id="220" idx="2"/>
          </p:cNvCxnSpPr>
          <p:nvPr/>
        </p:nvCxnSpPr>
        <p:spPr>
          <a:xfrm>
            <a:off x="3499920" y="62974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Rectangle 701"/>
          <p:cNvSpPr/>
          <p:nvPr/>
        </p:nvSpPr>
        <p:spPr>
          <a:xfrm>
            <a:off x="333360" y="60102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ralor /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91000" y="403236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oficio /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1"/>
          <p:cNvSpPr/>
          <p:nvPr/>
        </p:nvSpPr>
        <p:spPr>
          <a:xfrm>
            <a:off x="351000" y="396072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56 Rombo"/>
          <p:cNvSpPr/>
          <p:nvPr/>
        </p:nvSpPr>
        <p:spPr>
          <a:xfrm>
            <a:off x="3108240" y="36669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57 CuadroTexto"/>
          <p:cNvSpPr/>
          <p:nvPr/>
        </p:nvSpPr>
        <p:spPr>
          <a:xfrm>
            <a:off x="3159000" y="375912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64 Conector angular"/>
          <p:cNvCxnSpPr/>
          <p:nvPr/>
        </p:nvCxnSpPr>
        <p:spPr>
          <a:xfrm rot="5400000">
            <a:off x="1836000" y="4452480"/>
            <a:ext cx="1856520" cy="687960"/>
          </a:xfrm>
          <a:prstGeom prst="bentConnector3">
            <a:avLst>
              <a:gd name="adj1" fmla="val -1086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8" name="72 CuadroTexto"/>
          <p:cNvSpPr/>
          <p:nvPr/>
        </p:nvSpPr>
        <p:spPr>
          <a:xfrm>
            <a:off x="2637000" y="36147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73 CuadroTexto"/>
          <p:cNvSpPr/>
          <p:nvPr/>
        </p:nvSpPr>
        <p:spPr>
          <a:xfrm>
            <a:off x="4005360" y="36147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64 Conector angular"/>
          <p:cNvCxnSpPr>
            <a:endCxn id="231" idx="0"/>
          </p:cNvCxnSpPr>
          <p:nvPr/>
        </p:nvCxnSpPr>
        <p:spPr>
          <a:xfrm>
            <a:off x="3965040" y="3868200"/>
            <a:ext cx="489600" cy="235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1" name="Rectangle 656"/>
          <p:cNvSpPr/>
          <p:nvPr/>
        </p:nvSpPr>
        <p:spPr>
          <a:xfrm>
            <a:off x="3591000" y="410364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modifica el proyecto y se envia al 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56"/>
          <p:cNvSpPr/>
          <p:nvPr/>
        </p:nvSpPr>
        <p:spPr>
          <a:xfrm>
            <a:off x="3591000" y="4608360"/>
            <a:ext cx="172872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Propone nuevas metas y objetivos, o en su caso modifica las 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64 Conector angular"/>
          <p:cNvCxnSpPr>
            <a:stCxn id="232" idx="2"/>
            <a:endCxn id="234" idx="0"/>
          </p:cNvCxnSpPr>
          <p:nvPr/>
        </p:nvCxnSpPr>
        <p:spPr>
          <a:xfrm rot="5400000">
            <a:off x="4230000" y="5138280"/>
            <a:ext cx="21636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5" name="Rectangle 701"/>
          <p:cNvSpPr/>
          <p:nvPr/>
        </p:nvSpPr>
        <p:spPr>
          <a:xfrm>
            <a:off x="351000" y="453708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91000" y="4608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anu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75"/>
          <p:cNvSpPr/>
          <p:nvPr/>
        </p:nvSpPr>
        <p:spPr>
          <a:xfrm>
            <a:off x="4076640" y="536400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75"/>
          <p:cNvSpPr/>
          <p:nvPr/>
        </p:nvSpPr>
        <p:spPr>
          <a:xfrm>
            <a:off x="2924280" y="3419640"/>
            <a:ext cx="217440" cy="19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685"/>
          <p:cNvCxnSpPr/>
          <p:nvPr/>
        </p:nvCxnSpPr>
        <p:spPr>
          <a:xfrm>
            <a:off x="3141720" y="3492000"/>
            <a:ext cx="358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Rectangle 665"/>
          <p:cNvSpPr/>
          <p:nvPr/>
        </p:nvSpPr>
        <p:spPr>
          <a:xfrm>
            <a:off x="5373720" y="68054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1"/>
          <p:cNvSpPr/>
          <p:nvPr/>
        </p:nvSpPr>
        <p:spPr>
          <a:xfrm>
            <a:off x="333360" y="644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6"/>
          <p:cNvSpPr/>
          <p:nvPr/>
        </p:nvSpPr>
        <p:spPr>
          <a:xfrm>
            <a:off x="5373720" y="6499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ultados de indic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56"/>
          <p:cNvSpPr/>
          <p:nvPr/>
        </p:nvSpPr>
        <p:spPr>
          <a:xfrm>
            <a:off x="1700280" y="6445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 contralor general resultados para realizar plan para corregir fallas o incumpl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685"/>
          <p:cNvCxnSpPr>
            <a:stCxn id="242" idx="2"/>
          </p:cNvCxnSpPr>
          <p:nvPr/>
        </p:nvCxnSpPr>
        <p:spPr>
          <a:xfrm>
            <a:off x="3499920" y="6660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18 Rectángulo"/>
          <p:cNvSpPr/>
          <p:nvPr/>
        </p:nvSpPr>
        <p:spPr>
          <a:xfrm>
            <a:off x="1700280" y="680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aplican acciones y se les da seguimiento y de acuerdo a los resultados obtenidos se realiza un informe fin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01"/>
          <p:cNvSpPr/>
          <p:nvPr/>
        </p:nvSpPr>
        <p:spPr>
          <a:xfrm>
            <a:off x="333360" y="673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34"/>
          <p:cNvSpPr/>
          <p:nvPr/>
        </p:nvSpPr>
        <p:spPr>
          <a:xfrm>
            <a:off x="3213000" y="7524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5"/>
          <p:cNvSpPr/>
          <p:nvPr/>
        </p:nvSpPr>
        <p:spPr>
          <a:xfrm>
            <a:off x="5373720" y="7164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685"/>
          <p:cNvCxnSpPr/>
          <p:nvPr/>
        </p:nvCxnSpPr>
        <p:spPr>
          <a:xfrm>
            <a:off x="349992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18 Rectángulo"/>
          <p:cNvSpPr/>
          <p:nvPr/>
        </p:nvSpPr>
        <p:spPr>
          <a:xfrm>
            <a:off x="1700280" y="71629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 verifica información y presenta a Consejo General informe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32"/>
          <p:cNvCxnSpPr>
            <a:stCxn id="249" idx="2"/>
          </p:cNvCxnSpPr>
          <p:nvPr/>
        </p:nvCxnSpPr>
        <p:spPr>
          <a:xfrm>
            <a:off x="3499920" y="73785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Rectangle 701"/>
          <p:cNvSpPr/>
          <p:nvPr/>
        </p:nvSpPr>
        <p:spPr>
          <a:xfrm>
            <a:off x="333360" y="709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ralor /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6T05:53:02Z</dcterms:modified>
  <cp:revision>331</cp:revision>
  <dc:subject/>
  <dc:title>Presentación de PowerPoint</dc:title>
</cp:coreProperties>
</file>