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6375-3CD5-4FB2-A665-A904A4D2B81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C700-C94B-472F-BC26-C833E054F6A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C2C7-467E-4C3F-BC68-AD713F4090B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399960"/>
            <a:ext cx="331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Información a CNBV y SHC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9393B987-8766-43A4-ABF7-05FAAB122FC1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la Unidad deFis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72200" y="1147680"/>
            <a:ext cx="137952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335480" y="1146240"/>
            <a:ext cx="936720" cy="217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49920" y="11160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693800" y="1147680"/>
            <a:ext cx="134460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3038400" y="1147680"/>
            <a:ext cx="1297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43080" y="579600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479600"/>
            <a:ext cx="6335640" cy="654840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548400"/>
              <a:gd name="textAreaBottom" fmla="*/ 6513480 h 6548400"/>
            </a:gdLst>
            <a:ahLst/>
            <a:rect l="textAreaLeft" t="textAreaTop" r="textAreaRight" b="textAreaBottom"/>
            <a:pathLst>
              <a:path w="21600" h="22325">
                <a:moveTo>
                  <a:pt x="409" y="0"/>
                </a:moveTo>
                <a:arcTo wR="409" hR="409" stAng="16200000" swAng="-5400000"/>
                <a:lnTo>
                  <a:pt x="0" y="21916"/>
                </a:lnTo>
                <a:arcTo wR="409" hR="409" stAng="10800000" swAng="-5400000"/>
                <a:lnTo>
                  <a:pt x="21191" y="22325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6084720"/>
          <a:ext cx="6048360" cy="8892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28680" y="971640"/>
            <a:ext cx="634032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Proporcionar información a la CNBV y SHCP, de aportantes de financiamiento privado de los partidos políticos y agrupaciones políticas, de candidatos a puestos de elección popular, de dirigentes y encargados de finanzas de los partidos políticos y del personal de la UFRPP que encuadran en la definición de Personas Políticamente Expue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414520"/>
            <a:ext cx="633564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CNBV: Comisión Nacional Bancaria y de Va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SHCP: Secretaría de Hacienda y Crédito Publ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Personas Políticamente expue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62040" y="16923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88120" y="16923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973160"/>
            <a:ext cx="3816360" cy="605484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54840"/>
              <a:gd name="textAreaBottom" fmla="*/ 6029280 h 6054840"/>
            </a:gdLst>
            <a:ahLst/>
            <a:rect l="textAreaLeft" t="textAreaTop" r="textAreaRight" b="textAreaBottom"/>
            <a:pathLst>
              <a:path w="21600" h="34268">
                <a:moveTo>
                  <a:pt x="495" y="0"/>
                </a:moveTo>
                <a:arcTo wR="495" hR="495" stAng="16200000" swAng="-5400000"/>
                <a:lnTo>
                  <a:pt x="0" y="33773"/>
                </a:lnTo>
                <a:arcTo wR="495" hR="495" stAng="10800000" swAng="-5400000"/>
                <a:lnTo>
                  <a:pt x="21105" y="34268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6858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05080" y="223344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 flipH="1">
            <a:off x="3491640" y="239868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2360" y="2592360"/>
            <a:ext cx="360036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 los informes de ingresos de los partidos y agrupaciones políticas se extraen datos de todos los aportantes de financiamiento priva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3"/>
          <p:cNvSpPr/>
          <p:nvPr/>
        </p:nvSpPr>
        <p:spPr>
          <a:xfrm>
            <a:off x="1692360" y="298944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caban datos de candidatos a puestos de elección popul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5"/>
          <p:cNvSpPr/>
          <p:nvPr/>
        </p:nvSpPr>
        <p:spPr>
          <a:xfrm>
            <a:off x="1692360" y="3924360"/>
            <a:ext cx="3600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 recaban datos por parte del personal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57"/>
          <p:cNvSpPr/>
          <p:nvPr/>
        </p:nvSpPr>
        <p:spPr>
          <a:xfrm>
            <a:off x="396720" y="26020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0"/>
          <p:cNvSpPr/>
          <p:nvPr/>
        </p:nvSpPr>
        <p:spPr>
          <a:xfrm>
            <a:off x="331920" y="40734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2"/>
          <p:cNvSpPr/>
          <p:nvPr/>
        </p:nvSpPr>
        <p:spPr>
          <a:xfrm>
            <a:off x="5380200" y="261792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lación de aporta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64"/>
          <p:cNvSpPr/>
          <p:nvPr/>
        </p:nvSpPr>
        <p:spPr>
          <a:xfrm>
            <a:off x="5367240" y="4481640"/>
            <a:ext cx="12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ación a CNBV Y SHCP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65"/>
          <p:cNvSpPr/>
          <p:nvPr/>
        </p:nvSpPr>
        <p:spPr>
          <a:xfrm>
            <a:off x="5380200" y="48592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s de información CVBV y SHC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AutoShape 681"/>
          <p:cNvCxnSpPr>
            <a:stCxn id="80" idx="2"/>
            <a:endCxn id="81" idx="0"/>
          </p:cNvCxnSpPr>
          <p:nvPr/>
        </p:nvCxnSpPr>
        <p:spPr>
          <a:xfrm>
            <a:off x="3492000" y="288936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Rectangle 700"/>
          <p:cNvSpPr/>
          <p:nvPr/>
        </p:nvSpPr>
        <p:spPr>
          <a:xfrm>
            <a:off x="368280" y="30052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01"/>
          <p:cNvSpPr/>
          <p:nvPr/>
        </p:nvSpPr>
        <p:spPr>
          <a:xfrm>
            <a:off x="333360" y="3549600"/>
            <a:ext cx="1224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s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66"/>
          <p:cNvSpPr/>
          <p:nvPr/>
        </p:nvSpPr>
        <p:spPr>
          <a:xfrm>
            <a:off x="5373720" y="3484440"/>
            <a:ext cx="1278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lación de dirigentes y titulares de finanz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55"/>
          <p:cNvSpPr/>
          <p:nvPr/>
        </p:nvSpPr>
        <p:spPr>
          <a:xfrm>
            <a:off x="1692360" y="350352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caban datos de los dirigentes y de los titulares de los órganos de finanzas de los partidos y agrupaciones polític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61"/>
          <p:cNvSpPr/>
          <p:nvPr/>
        </p:nvSpPr>
        <p:spPr>
          <a:xfrm>
            <a:off x="333360" y="45100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AutoShape 681"/>
          <p:cNvCxnSpPr>
            <a:stCxn id="81" idx="2"/>
            <a:endCxn id="93" idx="0"/>
          </p:cNvCxnSpPr>
          <p:nvPr/>
        </p:nvCxnSpPr>
        <p:spPr>
          <a:xfrm>
            <a:off x="3492000" y="3276720"/>
            <a:ext cx="1080" cy="22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Rectangle 655"/>
          <p:cNvSpPr/>
          <p:nvPr/>
        </p:nvSpPr>
        <p:spPr>
          <a:xfrm>
            <a:off x="1703520" y="4427640"/>
            <a:ext cx="360036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elaboran las relaciones de aportantes y de personas políticamente expuestas, por escrito y en medios magnét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55"/>
          <p:cNvSpPr/>
          <p:nvPr/>
        </p:nvSpPr>
        <p:spPr>
          <a:xfrm>
            <a:off x="1698480" y="5003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elaboran oficios de envío de información a la CNBV Y SHC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55"/>
          <p:cNvSpPr/>
          <p:nvPr/>
        </p:nvSpPr>
        <p:spPr>
          <a:xfrm>
            <a:off x="1703520" y="536400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notifican los oficios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AutoShape 681"/>
          <p:cNvCxnSpPr>
            <a:stCxn id="93" idx="2"/>
            <a:endCxn id="82" idx="0"/>
          </p:cNvCxnSpPr>
          <p:nvPr/>
        </p:nvCxnSpPr>
        <p:spPr>
          <a:xfrm>
            <a:off x="3492000" y="3790440"/>
            <a:ext cx="1080" cy="13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AutoShape 681"/>
          <p:cNvCxnSpPr>
            <a:stCxn id="82" idx="2"/>
            <a:endCxn id="96" idx="0"/>
          </p:cNvCxnSpPr>
          <p:nvPr/>
        </p:nvCxnSpPr>
        <p:spPr>
          <a:xfrm>
            <a:off x="3492000" y="4228920"/>
            <a:ext cx="1188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AutoShape 681"/>
          <p:cNvCxnSpPr>
            <a:stCxn id="96" idx="2"/>
            <a:endCxn id="97" idx="0"/>
          </p:cNvCxnSpPr>
          <p:nvPr/>
        </p:nvCxnSpPr>
        <p:spPr>
          <a:xfrm flipH="1">
            <a:off x="3498120" y="4750920"/>
            <a:ext cx="540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681"/>
          <p:cNvCxnSpPr>
            <a:endCxn id="98" idx="0"/>
          </p:cNvCxnSpPr>
          <p:nvPr/>
        </p:nvCxnSpPr>
        <p:spPr>
          <a:xfrm flipH="1">
            <a:off x="3502800" y="521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Rectangle 701"/>
          <p:cNvSpPr/>
          <p:nvPr/>
        </p:nvSpPr>
        <p:spPr>
          <a:xfrm>
            <a:off x="328680" y="487512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48"/>
          <p:cNvSpPr/>
          <p:nvPr/>
        </p:nvSpPr>
        <p:spPr>
          <a:xfrm>
            <a:off x="3216240" y="579600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AutoShape 681"/>
          <p:cNvCxnSpPr>
            <a:endCxn id="104" idx="0"/>
          </p:cNvCxnSpPr>
          <p:nvPr/>
        </p:nvCxnSpPr>
        <p:spPr>
          <a:xfrm>
            <a:off x="3503160" y="5580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Rectangle 701"/>
          <p:cNvSpPr/>
          <p:nvPr/>
        </p:nvSpPr>
        <p:spPr>
          <a:xfrm>
            <a:off x="334800" y="53640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62"/>
          <p:cNvSpPr/>
          <p:nvPr/>
        </p:nvSpPr>
        <p:spPr>
          <a:xfrm>
            <a:off x="5388120" y="300528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lación de Candid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62"/>
          <p:cNvSpPr/>
          <p:nvPr/>
        </p:nvSpPr>
        <p:spPr>
          <a:xfrm>
            <a:off x="5367240" y="3932280"/>
            <a:ext cx="1295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lación Personal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62"/>
          <p:cNvSpPr/>
          <p:nvPr/>
        </p:nvSpPr>
        <p:spPr>
          <a:xfrm>
            <a:off x="5367240" y="5327640"/>
            <a:ext cx="1295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ción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cp:lastPrinted>2011-09-26T18:31:54Z</cp:lastPrinted>
  <dcterms:modified xsi:type="dcterms:W3CDTF">2011-12-13T18:55:12Z</dcterms:modified>
  <cp:revision>312</cp:revision>
  <dc:subject/>
  <dc:title>Presentación de PowerPoint</dc:title>
</cp:coreProperties>
</file>