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0D5A-1753-42A8-9379-55E6CB6E60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143-5768-4A04-A3CB-AF406E8852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AB4-0B41-43B9-B7C4-71A212929C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DD6-4EC9-44F1-9FD2-A6CDA177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3AD-0717-4B2B-885E-51D2259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3E1-332A-456D-A744-D1D8E40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CBE-F087-46F0-A2F2-F46569E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A32-ECBB-4EAF-9202-F6645CA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624-E0F4-4ED4-98ED-DF2DB71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30F-A462-451F-8126-FB39A3FB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223-46B9-47CD-9E65-15CAC73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15E-3212-44F1-BD00-56DA9D7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FCB-C70D-4B80-8937-AFF314CE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0A8-0880-4A6A-B8AF-FF757EB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348-25B0-48BB-8D72-6970FEB1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6B7E-5DCA-4D5A-94A3-1CBD87B6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621-2949-40A4-832F-CC852B0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DE0B-209C-4D68-81E3-EE921B0C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64E-CB25-4E50-A4DE-1F98175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057-6E24-4D99-9DFA-9113E5C9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E875-F5AF-4393-AA85-9F7D17A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149-DB89-43F8-B965-24F6C75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3A6A-2D7F-425E-902D-9AD50C9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814-C9E8-402B-83E5-03EAB68D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A14-46C0-4D06-9B57-4237108E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1481-2803-4CA4-A7B1-302B4AE2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37EF-24EE-4DD6-B8D1-3370CF08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EAF0-F726-4D89-A7DB-119296A4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C2BF-E69F-47C3-AA43-E80CD09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9675-D55C-4687-8E86-298AB263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6F01-6D01-4441-A611-FB7DC0EC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B039-FCC4-4F4C-A786-0A5AC02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929F-5F04-4EEF-B63E-1EF86DB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8DB2-0629-42CF-B291-CEC254F6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A617-19B6-4EA1-BE72-3CAF13F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A494-2D55-4D04-AADE-00A3D2B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034D-83F8-49A4-A4F3-97FEAED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A4E7-E10B-4621-B4CF-7A9D7A45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4776-3569-4739-9894-185FA291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rpeta inf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9DFCA54-9490-40C8-82EC-275AF5369F4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200-BA10-40A6-B2F2-68A10A887C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ECA6-251A-4A06-96AA-EE58ED7242F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203-1321-4919-8D30-44ECC59495E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de los últimos de 2 me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5:43:09Z</dcterms:modified>
  <cp:revision>319</cp:revision>
  <dc:subject/>
  <dc:title>Presentación de PowerPoint</dc:title>
</cp:coreProperties>
</file>