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96720" y="696960"/>
            <a:ext cx="26161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857F-C96C-4D8C-9406-412F498CE6B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F84B-53DF-4224-99C3-DD40EA4C82F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340000" y="484200"/>
            <a:ext cx="33130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cepción y revisión de los informes financieros que presenten las organizaciones de observadores elector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5362D5F3-F551-4671-8996-C218BB2F76BF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Fisc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51320" y="1116000"/>
            <a:ext cx="137808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314960" y="1116000"/>
            <a:ext cx="936360" cy="217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689440" y="108576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666800" y="1130400"/>
            <a:ext cx="1344600" cy="215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3011400" y="1127160"/>
            <a:ext cx="129708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1-03-20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43080" y="579600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619280"/>
            <a:ext cx="6335640" cy="640872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408720"/>
              <a:gd name="textAreaBottom" fmla="*/ 6373800 h 6408720"/>
            </a:gdLst>
            <a:ahLst/>
            <a:rect l="textAreaLeft" t="textAreaTop" r="textAreaRight" b="textAreaBottom"/>
            <a:pathLst>
              <a:path w="21600" h="21849">
                <a:moveTo>
                  <a:pt x="409" y="0"/>
                </a:moveTo>
                <a:arcTo wR="409" hR="409" stAng="16200000" swAng="-5400000"/>
                <a:lnTo>
                  <a:pt x="0" y="21440"/>
                </a:lnTo>
                <a:arcTo wR="409" hR="409" stAng="10800000" swAng="-5400000"/>
                <a:lnTo>
                  <a:pt x="21191" y="21849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6084720"/>
          <a:ext cx="6048360" cy="105588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60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diseño de actividades y referen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-02-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signación de responsabil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-03-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1920" y="1708200"/>
            <a:ext cx="634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-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Herramienta para determinar la certeza del gasto o aplicación de los recursos de las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organizaciones de observadores electorales,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consistente en una auditoria sobre la administración de los recursos y su aplicación a los fines constitucionales y legales permitidos y autorizados y que es obligación de éstos someterse a esa auditoria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16080" y="2300400"/>
            <a:ext cx="6325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-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Recepción y revisión de los informes sobre el origen y destino de los recursos que presenten las organizaciones de observadores electorales, así como de la práctica de auditorías sobre el manejo de los recursos y situación contable y financiera de las organizacione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28680" y="2843280"/>
            <a:ext cx="6335640" cy="24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Dictamen Consolidado.-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Documento público que contiene el resultado y las conclusiones de la revisión de los informes que hayan presentado las organizaciones de observadores electorales; en su caso, la mención de los errores o irregularidades encontrados en los mismos; y el señalamiento de las aclaraciones o rectificaciones que presentaron estos, después de haberles notificado con ese fi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CEPCEJ.-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El Código Electoral y de Participación Ciudadana del Estado de Jalisc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RGF.-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El Reglamento General de Fiscalización en Materia Electoral del Estado de Jalis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534"/>
          <p:cNvSpPr/>
          <p:nvPr/>
        </p:nvSpPr>
        <p:spPr>
          <a:xfrm>
            <a:off x="333360" y="168588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8"/>
          <p:cNvSpPr/>
          <p:nvPr/>
        </p:nvSpPr>
        <p:spPr>
          <a:xfrm>
            <a:off x="1562040" y="169236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39"/>
          <p:cNvSpPr/>
          <p:nvPr/>
        </p:nvSpPr>
        <p:spPr>
          <a:xfrm>
            <a:off x="5388120" y="169236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2"/>
          <p:cNvSpPr/>
          <p:nvPr/>
        </p:nvSpPr>
        <p:spPr>
          <a:xfrm>
            <a:off x="333360" y="1979640"/>
            <a:ext cx="1224000" cy="604836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48360"/>
              <a:gd name="textAreaBottom" fmla="*/ 6022440 h 6048360"/>
            </a:gdLst>
            <a:ahLst/>
            <a:rect l="textAreaLeft" t="textAreaTop" r="textAreaRight" b="textAreaBottom"/>
            <a:pathLst>
              <a:path w="21600" h="106711">
                <a:moveTo>
                  <a:pt x="1564" y="0"/>
                </a:moveTo>
                <a:arcTo wR="1564" hR="1564" stAng="16200000" swAng="-5400000"/>
                <a:lnTo>
                  <a:pt x="0" y="105147"/>
                </a:lnTo>
                <a:arcTo wR="1564" hR="1564" stAng="10800000" swAng="-5400000"/>
                <a:lnTo>
                  <a:pt x="20036" y="106711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0"/>
          <p:cNvSpPr/>
          <p:nvPr/>
        </p:nvSpPr>
        <p:spPr>
          <a:xfrm>
            <a:off x="5373720" y="1979640"/>
            <a:ext cx="1295280" cy="604836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48360"/>
              <a:gd name="textAreaBottom" fmla="*/ 6021000 h 6048360"/>
            </a:gdLst>
            <a:ahLst/>
            <a:rect l="textAreaLeft" t="textAreaTop" r="textAreaRight" b="textAreaBottom"/>
            <a:pathLst>
              <a:path w="21600" h="100840">
                <a:moveTo>
                  <a:pt x="1564" y="0"/>
                </a:moveTo>
                <a:arcTo wR="1564" hR="1564" stAng="16200000" swAng="-5400000"/>
                <a:lnTo>
                  <a:pt x="0" y="99276"/>
                </a:lnTo>
                <a:arcTo wR="1564" hR="1564" stAng="10800000" swAng="-5400000"/>
                <a:lnTo>
                  <a:pt x="20036" y="100840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241"/>
          <p:cNvSpPr/>
          <p:nvPr/>
        </p:nvSpPr>
        <p:spPr>
          <a:xfrm>
            <a:off x="1557360" y="1973160"/>
            <a:ext cx="3816360" cy="605484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54840"/>
              <a:gd name="textAreaBottom" fmla="*/ 6029280 h 6054840"/>
            </a:gdLst>
            <a:ahLst/>
            <a:rect l="textAreaLeft" t="textAreaTop" r="textAreaRight" b="textAreaBottom"/>
            <a:pathLst>
              <a:path w="21600" h="34268">
                <a:moveTo>
                  <a:pt x="495" y="0"/>
                </a:moveTo>
                <a:arcTo wR="495" hR="495" stAng="16200000" swAng="-5400000"/>
                <a:lnTo>
                  <a:pt x="0" y="33773"/>
                </a:lnTo>
                <a:arcTo wR="495" hR="495" stAng="10800000" swAng="-5400000"/>
                <a:lnTo>
                  <a:pt x="21105" y="34268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255840" y="2395440"/>
            <a:ext cx="57492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52"/>
          <p:cNvSpPr/>
          <p:nvPr/>
        </p:nvSpPr>
        <p:spPr>
          <a:xfrm>
            <a:off x="1695600" y="2755800"/>
            <a:ext cx="360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 Narrow"/>
              </a:rPr>
              <a:t>Notificación del </a:t>
            </a:r>
            <a:r>
              <a:rPr b="1" lang="es-MX" sz="700" spc="-1" strike="noStrike">
                <a:solidFill>
                  <a:srgbClr val="000000"/>
                </a:solidFill>
                <a:latin typeface="Arial Narrow"/>
              </a:rPr>
              <a:t>plazo</a:t>
            </a:r>
            <a:r>
              <a:rPr b="0" lang="es-MX" sz="700" spc="-1" strike="noStrike">
                <a:solidFill>
                  <a:srgbClr val="000000"/>
                </a:solidFill>
                <a:latin typeface="Arial Narrow"/>
              </a:rPr>
              <a:t> para presentar los informes financieros, y Requerimiento de la información y documentación comprobatoria a efecto de verificar la veracidad de lo reportado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655"/>
          <p:cNvSpPr/>
          <p:nvPr/>
        </p:nvSpPr>
        <p:spPr>
          <a:xfrm>
            <a:off x="1700280" y="3419640"/>
            <a:ext cx="3600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Entrega-Recepción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de los informes financieros, así como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a información y documentación comprobatoria correspondiente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5"/>
          <p:cNvSpPr/>
          <p:nvPr/>
        </p:nvSpPr>
        <p:spPr>
          <a:xfrm>
            <a:off x="1704960" y="39956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de los informes financiero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19 Elipse"/>
          <p:cNvSpPr/>
          <p:nvPr/>
        </p:nvSpPr>
        <p:spPr>
          <a:xfrm>
            <a:off x="3446640" y="7765920"/>
            <a:ext cx="260280" cy="247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AutoShape 649"/>
          <p:cNvCxnSpPr/>
          <p:nvPr/>
        </p:nvCxnSpPr>
        <p:spPr>
          <a:xfrm>
            <a:off x="3557520" y="2560680"/>
            <a:ext cx="720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Text Box 226"/>
          <p:cNvSpPr/>
          <p:nvPr/>
        </p:nvSpPr>
        <p:spPr>
          <a:xfrm>
            <a:off x="1515960" y="1685880"/>
            <a:ext cx="39290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Arial Narrow"/>
              </a:rPr>
              <a:t>ORGANIZACIÓN DE OBSERVADORES ELECTORALE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62"/>
          <p:cNvSpPr/>
          <p:nvPr/>
        </p:nvSpPr>
        <p:spPr>
          <a:xfrm>
            <a:off x="5373720" y="393372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formación / Documentación comprobatoria / Metodología de revisión / Papeles de trabaj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62"/>
          <p:cNvSpPr/>
          <p:nvPr/>
        </p:nvSpPr>
        <p:spPr>
          <a:xfrm>
            <a:off x="5373720" y="455940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laración de d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62"/>
          <p:cNvSpPr/>
          <p:nvPr/>
        </p:nvSpPr>
        <p:spPr>
          <a:xfrm>
            <a:off x="5369040" y="513864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ificación de aclaración de d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62"/>
          <p:cNvSpPr/>
          <p:nvPr/>
        </p:nvSpPr>
        <p:spPr>
          <a:xfrm>
            <a:off x="5369040" y="572436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misión por parte del partido de aclaraciones o rect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62"/>
          <p:cNvSpPr/>
          <p:nvPr/>
        </p:nvSpPr>
        <p:spPr>
          <a:xfrm>
            <a:off x="5369040" y="644508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uerdo administrativo / Notificación de aclaraciones recibid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62"/>
          <p:cNvSpPr/>
          <p:nvPr/>
        </p:nvSpPr>
        <p:spPr>
          <a:xfrm>
            <a:off x="5369040" y="340200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misión por parte del partido de los informes financi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62"/>
          <p:cNvSpPr/>
          <p:nvPr/>
        </p:nvSpPr>
        <p:spPr>
          <a:xfrm>
            <a:off x="5380200" y="275436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alendario de actividades / notificación del plazo /Cur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57"/>
          <p:cNvSpPr/>
          <p:nvPr/>
        </p:nvSpPr>
        <p:spPr>
          <a:xfrm>
            <a:off x="365040" y="2771640"/>
            <a:ext cx="1150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y Jefe del Departamento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57"/>
          <p:cNvSpPr/>
          <p:nvPr/>
        </p:nvSpPr>
        <p:spPr>
          <a:xfrm>
            <a:off x="384120" y="343692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 Departamento de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57"/>
          <p:cNvSpPr/>
          <p:nvPr/>
        </p:nvSpPr>
        <p:spPr>
          <a:xfrm>
            <a:off x="378000" y="392436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 Departamento de Fiscalización y Auditor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57"/>
          <p:cNvSpPr/>
          <p:nvPr/>
        </p:nvSpPr>
        <p:spPr>
          <a:xfrm>
            <a:off x="393840" y="51958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y Jefe del Departamento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57"/>
          <p:cNvSpPr/>
          <p:nvPr/>
        </p:nvSpPr>
        <p:spPr>
          <a:xfrm>
            <a:off x="380880" y="5792760"/>
            <a:ext cx="1150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l Departamento de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57"/>
          <p:cNvSpPr/>
          <p:nvPr/>
        </p:nvSpPr>
        <p:spPr>
          <a:xfrm>
            <a:off x="361800" y="6583320"/>
            <a:ext cx="11509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, Jefe del Departmaento Jurídico y Abog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57"/>
          <p:cNvSpPr/>
          <p:nvPr/>
        </p:nvSpPr>
        <p:spPr>
          <a:xfrm>
            <a:off x="379440" y="718812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l Departamento de Fiscalización y Audit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57"/>
          <p:cNvSpPr/>
          <p:nvPr/>
        </p:nvSpPr>
        <p:spPr>
          <a:xfrm>
            <a:off x="361800" y="457200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 Departamento de fiscalización y Audit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55"/>
          <p:cNvSpPr/>
          <p:nvPr/>
        </p:nvSpPr>
        <p:spPr>
          <a:xfrm>
            <a:off x="1703520" y="4572000"/>
            <a:ext cx="359712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n su caso,  determinación de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aclaración de datos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tectados durante la revisión.</a:t>
            </a:r>
            <a:r>
              <a:rPr b="0" lang="es-MX" sz="7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55"/>
          <p:cNvSpPr/>
          <p:nvPr/>
        </p:nvSpPr>
        <p:spPr>
          <a:xfrm>
            <a:off x="1704960" y="514836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Notificación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de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aclaración de datos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ara que dentro de diez días presente las aclaraciones o rectificaciones correspondiente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655"/>
          <p:cNvSpPr/>
          <p:nvPr/>
        </p:nvSpPr>
        <p:spPr>
          <a:xfrm>
            <a:off x="1689120" y="5813280"/>
            <a:ext cx="35989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n su caso, recepción de las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aclaraciones o rectificaciones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hechas respecto de la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aclaración de datos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tectados.</a:t>
            </a:r>
            <a:r>
              <a:rPr b="0" lang="es-MX" sz="7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67"/>
          <p:cNvSpPr/>
          <p:nvPr/>
        </p:nvSpPr>
        <p:spPr>
          <a:xfrm>
            <a:off x="1689120" y="7224840"/>
            <a:ext cx="359892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Estudio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de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as aclaraciones o rectificaciones hechas respecto de la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aclaración de datos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tectado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AutoShape 649"/>
          <p:cNvCxnSpPr/>
          <p:nvPr/>
        </p:nvCxnSpPr>
        <p:spPr>
          <a:xfrm>
            <a:off x="3561840" y="5483160"/>
            <a:ext cx="108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Text Box 226"/>
          <p:cNvSpPr/>
          <p:nvPr/>
        </p:nvSpPr>
        <p:spPr>
          <a:xfrm>
            <a:off x="1916280" y="2181240"/>
            <a:ext cx="31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0000"/>
                </a:solidFill>
                <a:latin typeface="Arial Narrow"/>
              </a:rPr>
              <a:t>Aplicable exclusivamente a las organizaciones de observadores elector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AutoShape 649"/>
          <p:cNvCxnSpPr/>
          <p:nvPr/>
        </p:nvCxnSpPr>
        <p:spPr>
          <a:xfrm>
            <a:off x="3552480" y="6136920"/>
            <a:ext cx="1080" cy="26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AutoShape 649"/>
          <p:cNvCxnSpPr/>
          <p:nvPr/>
        </p:nvCxnSpPr>
        <p:spPr>
          <a:xfrm flipH="1">
            <a:off x="3560400" y="4862160"/>
            <a:ext cx="2160" cy="27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Rectangle 667"/>
          <p:cNvSpPr/>
          <p:nvPr/>
        </p:nvSpPr>
        <p:spPr>
          <a:xfrm>
            <a:off x="1695600" y="6473880"/>
            <a:ext cx="359244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Acuerdo administrativo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por el que se tienen por recibidas las aclaraciones o rectificaciones hechas respecto de la </a:t>
            </a: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aclaración de datos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 detectados,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y su respectiva notificación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al partido. </a:t>
            </a:r>
            <a:r>
              <a:rPr b="0" lang="es-MX" sz="600" spc="-1" strike="noStrike">
                <a:solidFill>
                  <a:srgbClr val="00b0f0"/>
                </a:solidFill>
                <a:latin typeface="Arial Narrow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AutoShape 649"/>
          <p:cNvCxnSpPr/>
          <p:nvPr/>
        </p:nvCxnSpPr>
        <p:spPr>
          <a:xfrm>
            <a:off x="3543120" y="6915240"/>
            <a:ext cx="1080" cy="31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649"/>
          <p:cNvCxnSpPr/>
          <p:nvPr/>
        </p:nvCxnSpPr>
        <p:spPr>
          <a:xfrm>
            <a:off x="3543120" y="7583040"/>
            <a:ext cx="1080" cy="1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649"/>
          <p:cNvCxnSpPr/>
          <p:nvPr/>
        </p:nvCxnSpPr>
        <p:spPr>
          <a:xfrm flipH="1">
            <a:off x="3552120" y="3723840"/>
            <a:ext cx="540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AutoShape 649"/>
          <p:cNvCxnSpPr/>
          <p:nvPr/>
        </p:nvCxnSpPr>
        <p:spPr>
          <a:xfrm>
            <a:off x="3543120" y="3131640"/>
            <a:ext cx="108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AutoShape 649"/>
          <p:cNvCxnSpPr/>
          <p:nvPr/>
        </p:nvCxnSpPr>
        <p:spPr>
          <a:xfrm>
            <a:off x="3547800" y="4239720"/>
            <a:ext cx="1080" cy="2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Rectangle 662"/>
          <p:cNvSpPr/>
          <p:nvPr/>
        </p:nvSpPr>
        <p:spPr>
          <a:xfrm>
            <a:off x="5369040" y="718668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ación y documentación  comprobatoria / Metodología / Papeles de trabaj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42"/>
          <p:cNvSpPr/>
          <p:nvPr/>
        </p:nvSpPr>
        <p:spPr>
          <a:xfrm>
            <a:off x="333360" y="1979640"/>
            <a:ext cx="1224000" cy="604836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48360"/>
              <a:gd name="textAreaBottom" fmla="*/ 6022440 h 6048360"/>
            </a:gdLst>
            <a:ahLst/>
            <a:rect l="textAreaLeft" t="textAreaTop" r="textAreaRight" b="textAreaBottom"/>
            <a:pathLst>
              <a:path w="21600" h="106711">
                <a:moveTo>
                  <a:pt x="1564" y="0"/>
                </a:moveTo>
                <a:arcTo wR="1564" hR="1564" stAng="16200000" swAng="-5400000"/>
                <a:lnTo>
                  <a:pt x="0" y="105147"/>
                </a:lnTo>
                <a:arcTo wR="1564" hR="1564" stAng="10800000" swAng="-5400000"/>
                <a:lnTo>
                  <a:pt x="20036" y="106711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241"/>
          <p:cNvSpPr/>
          <p:nvPr/>
        </p:nvSpPr>
        <p:spPr>
          <a:xfrm>
            <a:off x="1557360" y="1973160"/>
            <a:ext cx="3816360" cy="605484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54840"/>
              <a:gd name="textAreaBottom" fmla="*/ 6029280 h 6054840"/>
            </a:gdLst>
            <a:ahLst/>
            <a:rect l="textAreaLeft" t="textAreaTop" r="textAreaRight" b="textAreaBottom"/>
            <a:pathLst>
              <a:path w="21600" h="34268">
                <a:moveTo>
                  <a:pt x="495" y="0"/>
                </a:moveTo>
                <a:arcTo wR="495" hR="495" stAng="16200000" swAng="-5400000"/>
                <a:lnTo>
                  <a:pt x="0" y="33773"/>
                </a:lnTo>
                <a:arcTo wR="495" hR="495" stAng="10800000" swAng="-5400000"/>
                <a:lnTo>
                  <a:pt x="21105" y="34268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240"/>
          <p:cNvSpPr/>
          <p:nvPr/>
        </p:nvSpPr>
        <p:spPr>
          <a:xfrm>
            <a:off x="5373720" y="1979640"/>
            <a:ext cx="1295280" cy="604836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48360"/>
              <a:gd name="textAreaBottom" fmla="*/ 6021000 h 6048360"/>
            </a:gdLst>
            <a:ahLst/>
            <a:rect l="textAreaLeft" t="textAreaTop" r="textAreaRight" b="textAreaBottom"/>
            <a:pathLst>
              <a:path w="21600" h="100840">
                <a:moveTo>
                  <a:pt x="1564" y="0"/>
                </a:moveTo>
                <a:arcTo wR="1564" hR="1564" stAng="16200000" swAng="-5400000"/>
                <a:lnTo>
                  <a:pt x="0" y="99276"/>
                </a:lnTo>
                <a:arcTo wR="1564" hR="1564" stAng="10800000" swAng="-5400000"/>
                <a:lnTo>
                  <a:pt x="20036" y="100840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5 Elipse"/>
          <p:cNvSpPr/>
          <p:nvPr/>
        </p:nvSpPr>
        <p:spPr>
          <a:xfrm>
            <a:off x="3311640" y="212400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56 Rombo"/>
          <p:cNvSpPr/>
          <p:nvPr/>
        </p:nvSpPr>
        <p:spPr>
          <a:xfrm>
            <a:off x="2662200" y="3203640"/>
            <a:ext cx="1584360" cy="102564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on mención de </a:t>
            </a: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errores o irregulari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7 Rectángulo"/>
          <p:cNvSpPr/>
          <p:nvPr/>
        </p:nvSpPr>
        <p:spPr>
          <a:xfrm>
            <a:off x="1698480" y="4716360"/>
            <a:ext cx="1225800" cy="432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  <a:ea typeface="Arial"/>
              </a:rPr>
              <a:t>Formular </a:t>
            </a:r>
            <a:r>
              <a:rPr b="1" lang="es-MX" sz="800" spc="-1" strike="noStrike">
                <a:solidFill>
                  <a:srgbClr val="000000"/>
                </a:solidFill>
                <a:latin typeface="Arial Narrow"/>
                <a:ea typeface="Arial"/>
              </a:rPr>
              <a:t>proyecto de resolución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  <a:ea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56"/>
          <p:cNvSpPr/>
          <p:nvPr/>
        </p:nvSpPr>
        <p:spPr>
          <a:xfrm>
            <a:off x="2708280" y="5273640"/>
            <a:ext cx="17305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Presentación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el dictamen y proyecto de resolución al 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56"/>
          <p:cNvSpPr/>
          <p:nvPr/>
        </p:nvSpPr>
        <p:spPr>
          <a:xfrm>
            <a:off x="2720880" y="6330960"/>
            <a:ext cx="17305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Publicidad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 la información financiera de Organizaciones de Observadores Elector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650"/>
          <p:cNvSpPr/>
          <p:nvPr/>
        </p:nvSpPr>
        <p:spPr>
          <a:xfrm>
            <a:off x="3255840" y="7077240"/>
            <a:ext cx="720720" cy="1443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AutoShape 649"/>
          <p:cNvCxnSpPr>
            <a:stCxn id="118" idx="4"/>
          </p:cNvCxnSpPr>
          <p:nvPr/>
        </p:nvCxnSpPr>
        <p:spPr>
          <a:xfrm>
            <a:off x="3456000" y="2411280"/>
            <a:ext cx="720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AutoShape 649"/>
          <p:cNvCxnSpPr>
            <a:stCxn id="121" idx="2"/>
            <a:endCxn id="122" idx="0"/>
          </p:cNvCxnSpPr>
          <p:nvPr/>
        </p:nvCxnSpPr>
        <p:spPr>
          <a:xfrm>
            <a:off x="3573360" y="5778000"/>
            <a:ext cx="136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AutoShape 649"/>
          <p:cNvCxnSpPr>
            <a:endCxn id="123" idx="0"/>
          </p:cNvCxnSpPr>
          <p:nvPr/>
        </p:nvCxnSpPr>
        <p:spPr>
          <a:xfrm>
            <a:off x="3613320" y="6840360"/>
            <a:ext cx="3600" cy="23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22 Conector angular"/>
          <p:cNvCxnSpPr>
            <a:stCxn id="119" idx="3"/>
            <a:endCxn id="121" idx="3"/>
          </p:cNvCxnSpPr>
          <p:nvPr/>
        </p:nvCxnSpPr>
        <p:spPr>
          <a:xfrm>
            <a:off x="4246560" y="3715920"/>
            <a:ext cx="192960" cy="1810440"/>
          </a:xfrm>
          <a:prstGeom prst="bentConnector3">
            <a:avLst>
              <a:gd name="adj1" fmla="val 218878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8" name="24 Conector angular"/>
          <p:cNvCxnSpPr>
            <a:stCxn id="119" idx="1"/>
            <a:endCxn id="120" idx="0"/>
          </p:cNvCxnSpPr>
          <p:nvPr/>
        </p:nvCxnSpPr>
        <p:spPr>
          <a:xfrm flipV="1" rot="10800000">
            <a:off x="2310840" y="3715920"/>
            <a:ext cx="351360" cy="10008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9" name="27 Conector angular"/>
          <p:cNvCxnSpPr>
            <a:stCxn id="120" idx="2"/>
            <a:endCxn id="121" idx="1"/>
          </p:cNvCxnSpPr>
          <p:nvPr/>
        </p:nvCxnSpPr>
        <p:spPr>
          <a:xfrm flipH="1" rot="16200000">
            <a:off x="2320920" y="5138280"/>
            <a:ext cx="378360" cy="397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30" name="Text Box 226"/>
          <p:cNvSpPr/>
          <p:nvPr/>
        </p:nvSpPr>
        <p:spPr>
          <a:xfrm>
            <a:off x="2313000" y="2976480"/>
            <a:ext cx="36036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26"/>
          <p:cNvSpPr/>
          <p:nvPr/>
        </p:nvSpPr>
        <p:spPr>
          <a:xfrm>
            <a:off x="4390920" y="2951280"/>
            <a:ext cx="36216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62"/>
          <p:cNvSpPr/>
          <p:nvPr/>
        </p:nvSpPr>
        <p:spPr>
          <a:xfrm>
            <a:off x="5373720" y="471492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yecto de re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62"/>
          <p:cNvSpPr/>
          <p:nvPr/>
        </p:nvSpPr>
        <p:spPr>
          <a:xfrm>
            <a:off x="5373720" y="536256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Memorandum para presentar al 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62"/>
          <p:cNvSpPr/>
          <p:nvPr/>
        </p:nvSpPr>
        <p:spPr>
          <a:xfrm>
            <a:off x="5373720" y="633096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ublicación del dictamen consolidado y resolución en el portal de internet del IEPC Jalis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57"/>
          <p:cNvSpPr/>
          <p:nvPr/>
        </p:nvSpPr>
        <p:spPr>
          <a:xfrm>
            <a:off x="365040" y="47530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57"/>
          <p:cNvSpPr/>
          <p:nvPr/>
        </p:nvSpPr>
        <p:spPr>
          <a:xfrm>
            <a:off x="379440" y="5383080"/>
            <a:ext cx="1150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57"/>
          <p:cNvSpPr/>
          <p:nvPr/>
        </p:nvSpPr>
        <p:spPr>
          <a:xfrm>
            <a:off x="365040" y="643896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72"/>
          <p:cNvSpPr/>
          <p:nvPr/>
        </p:nvSpPr>
        <p:spPr>
          <a:xfrm>
            <a:off x="1658880" y="2625840"/>
            <a:ext cx="361332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misión del </a:t>
            </a: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dictamen consolidado</a:t>
            </a:r>
            <a:r>
              <a:rPr b="0" lang="es-ES" sz="7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1" lang="es-ES" sz="7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AutoShape 649"/>
          <p:cNvCxnSpPr>
            <a:stCxn id="138" idx="2"/>
            <a:endCxn id="119" idx="0"/>
          </p:cNvCxnSpPr>
          <p:nvPr/>
        </p:nvCxnSpPr>
        <p:spPr>
          <a:xfrm flipH="1">
            <a:off x="3454200" y="2932200"/>
            <a:ext cx="1152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Rectangle 657"/>
          <p:cNvSpPr/>
          <p:nvPr/>
        </p:nvSpPr>
        <p:spPr>
          <a:xfrm>
            <a:off x="369720" y="264636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, Jefe del Departamento Jurídico y Abog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62"/>
          <p:cNvSpPr/>
          <p:nvPr/>
        </p:nvSpPr>
        <p:spPr>
          <a:xfrm>
            <a:off x="5373720" y="268776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ctamen consolid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57"/>
          <p:cNvSpPr/>
          <p:nvPr/>
        </p:nvSpPr>
        <p:spPr>
          <a:xfrm>
            <a:off x="363600" y="4718160"/>
            <a:ext cx="1150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, Jefe del Departamento Jurídico y Abog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62"/>
          <p:cNvSpPr/>
          <p:nvPr/>
        </p:nvSpPr>
        <p:spPr>
          <a:xfrm>
            <a:off x="2781360" y="442764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uerdo administrativo / notificación de aclaraciones recibid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Luis Venzor</cp:lastModifiedBy>
  <cp:lastPrinted>2012-04-10T00:19:52Z</cp:lastPrinted>
  <dcterms:modified xsi:type="dcterms:W3CDTF">2012-05-03T16:49:41Z</dcterms:modified>
  <cp:revision>396</cp:revision>
  <dc:subject/>
  <dc:title>Presentación de PowerPoint</dc:title>
</cp:coreProperties>
</file>