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BF27-B28E-45CE-8EEA-C543339FF83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F0CA-4B52-4006-86A4-829058030E5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EFF8-B20D-4730-B99E-5C750B62909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CA22-A5FB-4328-804B-BBB71C9A0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0273-314F-48B2-80F1-9D505EB3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42A0-40E7-47BD-ABA0-E70E9C74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0807-E286-42C1-A5A4-17ABD283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65F9-7D97-40E3-9D1E-3078F2AB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4375-AC4F-4DAE-94B6-B2D3BD36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DD32-EE81-4971-934C-41460557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1582-5AE9-4F41-BE40-BFFC63CF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F558-EDB0-4BEA-A1ED-1D00645F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84BE-F85A-45D1-8C28-A4675B31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1605-C372-4CC9-8DC7-72B7D17CF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3590-FB86-4030-B439-EEB9C7074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8B1B-E37E-40B6-9924-B35882C1A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D794-5ABA-42B5-B1EC-AAC4C3DE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F563-9FA2-473E-A88F-55357921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5939-4B7E-4419-A9B2-CFBD5E4F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758A-8E86-4B8D-82F5-4CF69E10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2D0C-2112-4738-A282-B3564837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2F8CD-F76D-45C9-97C3-A6BCD9DB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6711-B76C-4597-B3BF-3764BE68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EAC3-044B-41CC-8776-8DE5058B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F9EA-8777-489B-8266-778AE815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1B0F-968E-409D-8EE2-EDFC69E01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05E3-FBB6-4DF9-97A0-77A792923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91DB4-CB02-46DB-B0F4-DC2774FC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0466F-1FF5-4FA1-BD81-04E95C66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7223B-4FD1-49C9-AC79-3AB62148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D324E-AA53-4D02-B03C-E9F3C0EC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D93B7-3B82-4196-BEA5-DAA27F44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82EB2-2C78-4091-83D4-F06BCE67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467CF-F701-4B5D-A954-AE11EA6E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7C7BC-16FA-4966-929C-618DA0A7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8B60D-869C-4BF3-B32B-979D9C80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D3503-25DC-411D-992A-2E73C220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642A8-6BD2-4CCD-95CD-C99164979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F7622-DF46-4E11-AD8D-AE7811699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Atencion a medios de comun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5487E5C5-E76F-44DF-A86A-227FDB770F58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Comunicación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P-OPE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F364-8389-46F8-838E-CADEC254737C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0EA9-C2E8-4E62-B59D-E9E12DBC692D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990C-95BD-4E5B-BB14-DB0114EEE63D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Proporcionar la información a los representantes de los medios de comunicación y ciudadanos interesado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214800" y="198108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1" idx="2"/>
            <a:endCxn id="203" idx="0"/>
          </p:cNvCxnSpPr>
          <p:nvPr/>
        </p:nvCxnSpPr>
        <p:spPr>
          <a:xfrm flipH="1">
            <a:off x="3498120" y="2145960"/>
            <a:ext cx="3960" cy="12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2"/>
          <p:cNvSpPr/>
          <p:nvPr/>
        </p:nvSpPr>
        <p:spPr>
          <a:xfrm>
            <a:off x="1698480" y="226836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 recibe solicitud de información y se registra en concentrado de inform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3"/>
          <p:cNvSpPr/>
          <p:nvPr/>
        </p:nvSpPr>
        <p:spPr>
          <a:xfrm>
            <a:off x="1698480" y="270036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informa al director para evaluación de información solicit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5"/>
          <p:cNvSpPr/>
          <p:nvPr/>
        </p:nvSpPr>
        <p:spPr>
          <a:xfrm>
            <a:off x="5373720" y="349416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centrado de inform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6"/>
          <p:cNvSpPr/>
          <p:nvPr/>
        </p:nvSpPr>
        <p:spPr>
          <a:xfrm>
            <a:off x="5373720" y="27003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centrado de información /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AutoShape 681"/>
          <p:cNvCxnSpPr>
            <a:stCxn id="203" idx="2"/>
            <a:endCxn id="204" idx="0"/>
          </p:cNvCxnSpPr>
          <p:nvPr/>
        </p:nvCxnSpPr>
        <p:spPr>
          <a:xfrm>
            <a:off x="3498480" y="24843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684"/>
          <p:cNvCxnSpPr>
            <a:stCxn id="204" idx="2"/>
            <a:endCxn id="209" idx="0"/>
          </p:cNvCxnSpPr>
          <p:nvPr/>
        </p:nvCxnSpPr>
        <p:spPr>
          <a:xfrm>
            <a:off x="3498840" y="2916360"/>
            <a:ext cx="216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700"/>
          <p:cNvSpPr/>
          <p:nvPr/>
        </p:nvSpPr>
        <p:spPr>
          <a:xfrm>
            <a:off x="404640" y="270036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ersonal de comun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01"/>
          <p:cNvSpPr/>
          <p:nvPr/>
        </p:nvSpPr>
        <p:spPr>
          <a:xfrm>
            <a:off x="333360" y="31320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66"/>
          <p:cNvSpPr/>
          <p:nvPr/>
        </p:nvSpPr>
        <p:spPr>
          <a:xfrm>
            <a:off x="5373720" y="31878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centrado de inform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56"/>
          <p:cNvSpPr/>
          <p:nvPr/>
        </p:nvSpPr>
        <p:spPr>
          <a:xfrm>
            <a:off x="1700280" y="313380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autoriza la entrega de información y se ordena la recolección de la mis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685"/>
          <p:cNvCxnSpPr>
            <a:stCxn id="209" idx="2"/>
          </p:cNvCxnSpPr>
          <p:nvPr/>
        </p:nvCxnSpPr>
        <p:spPr>
          <a:xfrm>
            <a:off x="3499920" y="33494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18 Rectángulo"/>
          <p:cNvSpPr/>
          <p:nvPr/>
        </p:nvSpPr>
        <p:spPr>
          <a:xfrm>
            <a:off x="1700280" y="3492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trega información al solicit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AutoShape 32"/>
          <p:cNvCxnSpPr>
            <a:stCxn id="214" idx="2"/>
          </p:cNvCxnSpPr>
          <p:nvPr/>
        </p:nvCxnSpPr>
        <p:spPr>
          <a:xfrm>
            <a:off x="3499920" y="3708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Rectangle 701"/>
          <p:cNvSpPr/>
          <p:nvPr/>
        </p:nvSpPr>
        <p:spPr>
          <a:xfrm>
            <a:off x="333360" y="3421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ersonal de comun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66"/>
          <p:cNvSpPr/>
          <p:nvPr/>
        </p:nvSpPr>
        <p:spPr>
          <a:xfrm>
            <a:off x="5373720" y="21812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centrado de información / P-OPE-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700"/>
          <p:cNvSpPr/>
          <p:nvPr/>
        </p:nvSpPr>
        <p:spPr>
          <a:xfrm>
            <a:off x="404640" y="226836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ersonal de comun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34"/>
          <p:cNvSpPr/>
          <p:nvPr/>
        </p:nvSpPr>
        <p:spPr>
          <a:xfrm>
            <a:off x="3213000" y="385128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2-13T19:15:11Z</dcterms:modified>
  <cp:revision>325</cp:revision>
  <dc:subject/>
  <dc:title>Presentación de PowerPoint</dc:title>
</cp:coreProperties>
</file>