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2615-FBC3-41A1-A48D-06C9992B62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BD4C-0458-4FBC-81D9-0B68FF9C72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B697-26D3-4D48-88F8-C8A314B7AF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A2A-5E71-4B0B-84B3-EBF87245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459-565A-4F3C-A969-B29705E6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C23-994A-42F7-BD70-9A966EDB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005-9114-439E-9E53-B8BE44C3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944-5192-4224-963C-B1EFC169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A2D-E868-403E-98CE-ECC1BBA6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AE5-7E58-4A4E-AAE6-A6F87865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A59-42C6-432C-BE31-33BB8CBE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42F-2FCC-42DD-968A-1D350264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57A-81B5-453B-864B-A6B4EF03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C41-2C29-4907-BDEE-E7C92977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277-3236-44B0-9AD8-E327E8B9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667E-0422-4B61-AD85-1A539FBF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5F19-D2F6-4766-A1CC-EB60D67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EF69-8BB2-44B0-9906-AFE3A080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2500-7534-4348-9808-1A99EB27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9795-9027-429C-9415-ACC3B65E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6395-A462-4D94-905D-304990A5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D646-C81B-4C46-9059-D715DB3C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57E2-F48E-4774-AE6C-9E9D8E5E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6654-85A7-4B10-B119-E4B83F2F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FFA0-FB80-422A-BD09-38AC97C1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715B-1080-4F2C-917E-CA4B281A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A606-0BA1-4073-B855-8FBEBC43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31D9D-EA31-445B-A29A-4DF22CC5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16BF-C3E8-4528-A4D1-95C8409C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6E83-5EA0-467F-A37C-BACD5F39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3E02-FCD7-48CB-83F4-32DA64D2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3F98-06DD-40BF-B1A9-BCCC6C4A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ED29-EBAB-4DC5-A37C-4C24D392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36A1-FEAD-487B-B6C5-669E0573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14A5-3A49-4387-A10D-ABB62F4C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7C89-6C7E-485F-BA8A-5BF5FE0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2318-F6A1-4E8A-A21E-11C642ED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4130-BD3F-4E97-8B83-E03048CB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DC12-487A-493C-9431-89D381C0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stadísiticas de Imagen del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F35FF271-6844-4C81-9B0B-4904F486883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-OPE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0A5-8898-4448-BFC0-AD20A3051E4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957-DC21-42DF-BFFF-7A4DA53616F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5EF3-3BC4-4F9A-A520-BF2D788100B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nocer el trato periodístico hacia el IEPC de los reporteros de la fuente, editorialistas y columnistas de los diversos diarios locales, presentando un informe final a la presidencia para su análisis y toma de decisiones respecto de los propios medio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procedimiento aplica para la elaboración de estadísticas y revisar la imagen que los principales periódicos locales tienen del 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CUMENTO CONFINENCIAL: Expediente donde solo el director del area y personal de presidencia tienen acceso a su lectur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información de carpeta informativa cada 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epara información de medios y se acomodan en orden cronológico y por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naliza si la nota para revisar es positiva, negativa o neutra y registro con síntesis de la nota y au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utiliza información para grafica información de acuerdo a su clas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9974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informe a presidente graficas con análisis de estadística de ima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>
            <a:stCxn id="215" idx="2"/>
            <a:endCxn id="216" idx="0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6"/>
          <p:cNvSpPr/>
          <p:nvPr/>
        </p:nvSpPr>
        <p:spPr>
          <a:xfrm>
            <a:off x="5373720" y="40528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4"/>
          <p:cNvSpPr/>
          <p:nvPr/>
        </p:nvSpPr>
        <p:spPr>
          <a:xfrm>
            <a:off x="321300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32"/>
          <p:cNvCxnSpPr>
            <a:endCxn id="222" idx="0"/>
          </p:cNvCxnSpPr>
          <p:nvPr/>
        </p:nvCxnSpPr>
        <p:spPr>
          <a:xfrm>
            <a:off x="3499920" y="421272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6T00:32:29Z</dcterms:modified>
  <cp:revision>325</cp:revision>
  <dc:subject/>
  <dc:title>Presentación de PowerPoint</dc:title>
</cp:coreProperties>
</file>