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CDC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Revisió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79280" y="779400"/>
            <a:ext cx="230508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y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659640" y="800280"/>
            <a:ext cx="2305080" cy="1152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ité de 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79280" y="5715000"/>
            <a:ext cx="2305080" cy="1000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visión Administr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659640" y="5635800"/>
            <a:ext cx="2305080" cy="1008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FICACIA: mínimo 90% del cumplimiento al Programa de Revisiones Administra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79280" y="2214720"/>
            <a:ext cx="1820880" cy="3286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olítica de 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bjetivos de 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ultados de Audito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Desempeño de los Procesos y Conformidad del Produc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centrado de Acciones Correctivas y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de seguimiento de revisiones prev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ambios que podrían afectar el S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comendaciones para la mej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ts val="1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grama de Revisiones Administra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58160" y="2550960"/>
            <a:ext cx="1871640" cy="252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inuta de Junt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dentificación de Mejora de la eficacia del SGC y sus proce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dentificación de Mejora del servicio en relación con los requisitos del cl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dentificación de necesidades de recur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71840" y="2492280"/>
            <a:ext cx="3929040" cy="265140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2071800" y="3645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658800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 rot="18507000">
            <a:off x="2365920" y="52441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849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8"/>
          <p:cNvSpPr/>
          <p:nvPr/>
        </p:nvSpPr>
        <p:spPr>
          <a:xfrm rot="13998000">
            <a:off x="6296400" y="52441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0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 rot="3305400">
            <a:off x="2159640" y="21121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20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"/>
          <p:cNvSpPr/>
          <p:nvPr/>
        </p:nvSpPr>
        <p:spPr>
          <a:xfrm rot="7530600">
            <a:off x="6270840" y="19720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94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4"/>
          <p:cNvSpPr/>
          <p:nvPr/>
        </p:nvSpPr>
        <p:spPr>
          <a:xfrm>
            <a:off x="2774880" y="3213000"/>
            <a:ext cx="144000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rograma Revisiones Administrativ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5"/>
          <p:cNvSpPr/>
          <p:nvPr/>
        </p:nvSpPr>
        <p:spPr>
          <a:xfrm>
            <a:off x="2774880" y="3790800"/>
            <a:ext cx="144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voca a reunión e integra información a present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6"/>
          <p:cNvSpPr/>
          <p:nvPr/>
        </p:nvSpPr>
        <p:spPr>
          <a:xfrm>
            <a:off x="2774880" y="4427640"/>
            <a:ext cx="144000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alizan la revisión administrativa de acuerdo a la agen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7"/>
          <p:cNvSpPr/>
          <p:nvPr/>
        </p:nvSpPr>
        <p:spPr>
          <a:xfrm>
            <a:off x="4788000" y="270972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gistran y clasifican acuer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8"/>
          <p:cNvSpPr/>
          <p:nvPr/>
        </p:nvSpPr>
        <p:spPr>
          <a:xfrm>
            <a:off x="4788000" y="3354480"/>
            <a:ext cx="143964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gistran la conclusión de la revi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169"/>
          <p:cNvCxnSpPr>
            <a:stCxn id="56" idx="2"/>
            <a:endCxn id="57" idx="0"/>
          </p:cNvCxnSpPr>
          <p:nvPr/>
        </p:nvCxnSpPr>
        <p:spPr>
          <a:xfrm>
            <a:off x="3494880" y="3571920"/>
            <a:ext cx="360" cy="21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70"/>
          <p:cNvCxnSpPr>
            <a:stCxn id="57" idx="2"/>
            <a:endCxn id="58" idx="0"/>
          </p:cNvCxnSpPr>
          <p:nvPr/>
        </p:nvCxnSpPr>
        <p:spPr>
          <a:xfrm>
            <a:off x="3494880" y="4222800"/>
            <a:ext cx="360" cy="20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71"/>
          <p:cNvCxnSpPr>
            <a:stCxn id="58" idx="3"/>
            <a:endCxn id="59" idx="1"/>
          </p:cNvCxnSpPr>
          <p:nvPr/>
        </p:nvCxnSpPr>
        <p:spPr>
          <a:xfrm flipV="1">
            <a:off x="4214880" y="2889000"/>
            <a:ext cx="573480" cy="1753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172"/>
          <p:cNvCxnSpPr>
            <a:stCxn id="59" idx="2"/>
            <a:endCxn id="60" idx="0"/>
          </p:cNvCxnSpPr>
          <p:nvPr/>
        </p:nvCxnSpPr>
        <p:spPr>
          <a:xfrm>
            <a:off x="5507640" y="3068640"/>
            <a:ext cx="3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73"/>
          <p:cNvCxnSpPr>
            <a:stCxn id="60" idx="2"/>
            <a:endCxn id="66" idx="0"/>
          </p:cNvCxnSpPr>
          <p:nvPr/>
        </p:nvCxnSpPr>
        <p:spPr>
          <a:xfrm>
            <a:off x="5507640" y="3784680"/>
            <a:ext cx="720" cy="21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Oval 174"/>
          <p:cNvSpPr/>
          <p:nvPr/>
        </p:nvSpPr>
        <p:spPr>
          <a:xfrm>
            <a:off x="3206880" y="2714760"/>
            <a:ext cx="57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5"/>
          <p:cNvSpPr/>
          <p:nvPr/>
        </p:nvSpPr>
        <p:spPr>
          <a:xfrm>
            <a:off x="5219640" y="3998880"/>
            <a:ext cx="576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76"/>
          <p:cNvCxnSpPr>
            <a:stCxn id="67" idx="4"/>
            <a:endCxn id="56" idx="0"/>
          </p:cNvCxnSpPr>
          <p:nvPr/>
        </p:nvCxnSpPr>
        <p:spPr>
          <a:xfrm>
            <a:off x="3494880" y="2930400"/>
            <a:ext cx="36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1-11-24T17:17:21Z</dcterms:modified>
  <cp:revision>96</cp:revision>
  <dc:subject/>
  <dc:title>Diapositiva 1</dc:title>
</cp:coreProperties>
</file>