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</p:sldIdLst>
  <p:sldSz cx="6858000" cy="9144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ftr" idx="11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 type="sldNum" idx="12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FC5CD-D805-4E8D-8AA8-57FC92C69BD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90921-4F82-4855-B8F1-8FCE35D4C5A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7AF42-B685-47B6-A819-21B3EE8032C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3614-3664-41F1-B6DA-722A1C255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3B62-F502-4F39-82F6-CA6CB7859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2A62-4A02-43F8-A135-DDDF551E7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5078-A3E3-4A3A-ACE0-E2D22B66A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68B5-614D-4BA9-883E-F057D05F9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21AD-C643-4090-8320-EF220CF32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56B3-8E8C-4757-89B3-3F2CC8D2C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51DE-5022-41D8-803C-D64DD2FFF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D40E-FF1E-4EA1-8C67-49323FFF9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C8CB-3AF2-4427-AAAD-5E6267966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1799-3272-49B3-BE96-FD3B315D6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84AE-85F9-4687-8D82-77AF09F85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5BA95-B1EA-44E3-918A-0DC6C07E5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65E65-0546-4717-99C3-13B643DDA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35476-65B0-46C7-AA43-BCEC94E77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5F39D-5CB3-4979-8578-F0138E02A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9F90D-5184-4006-A4D9-E99EF8614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A9A5C-9D84-4192-BA37-330E38672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17EC8-CB64-478B-8FCA-8BDAE7E8E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BA5B7-B7C0-4324-85BF-A30C7E5E7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3CF44-4825-4AB2-B284-F477421CB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9F085-495C-4D29-8B25-8575D4975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823D6-253D-4C09-B78C-B42878381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D1522-04AE-4E8F-92D8-6FDA4D9F7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E70513-68C6-4930-A0F3-B27467713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35795B-F3AD-45A3-AFDC-9EF92F9A3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D22D05-C3B0-4FF2-964D-4BBEFEA3B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B9AB63-96B3-4076-8247-0C28F9545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C336D2-3A09-4C1C-B8F1-F2A6442A8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AE2358-1B34-4CC4-96A0-D4D8FB341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A853EB-B3E7-4B75-B7C5-ACFE236D0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3D17F9-79CA-44EE-8E5D-EFF410AD6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55D91F-7F0C-4DF7-AEEE-FB0C52EB4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130F6D-273B-4196-AE16-C0DD67038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986AF2-22D9-4F21-8FF0-2B56E342B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F22CCA-8866-420C-800A-F51769415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Atención a eventos realizados por IE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</a:t>
            </a:r>
            <a:fld id="{6733190A-53B9-4F86-8D34-87306DBA6E07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 de  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97360"/>
            <a:ext cx="3166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Director de Comunicación Soc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34080" y="8748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 Narrow"/>
                <a:ea typeface="MS PGothic"/>
              </a:rPr>
              <a:t>P-OPE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FD0E7-25DF-482C-B4E5-B82C8F4CBF06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4668A-F819-4011-BCF0-6E21B4960EE4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7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8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9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009A9-B7D9-446F-8D1C-5D4FDDD70CEC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25"/>
          <p:cNvSpPr/>
          <p:nvPr/>
        </p:nvSpPr>
        <p:spPr>
          <a:xfrm>
            <a:off x="333360" y="445464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AutoShape 87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476280" y="4842000"/>
          <a:ext cx="6048360" cy="88884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-11-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2" name="Text Box 224"/>
          <p:cNvSpPr/>
          <p:nvPr/>
        </p:nvSpPr>
        <p:spPr>
          <a:xfrm>
            <a:off x="336600" y="1366920"/>
            <a:ext cx="6340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OBJETIVO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Atender las diversas necesidades de las actividades de las diferentes Direcciones, cumpliendo en tiempo y forma con lo solicitad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225"/>
          <p:cNvSpPr/>
          <p:nvPr/>
        </p:nvSpPr>
        <p:spPr>
          <a:xfrm>
            <a:off x="343080" y="2158920"/>
            <a:ext cx="6325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El procedimiento mencionado a continuación es para colaborar con los eventos que lleva el IEPC, los cuales requieren ayuda técnic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226"/>
          <p:cNvSpPr/>
          <p:nvPr/>
        </p:nvSpPr>
        <p:spPr>
          <a:xfrm>
            <a:off x="333360" y="2860560"/>
            <a:ext cx="6335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 Narrow"/>
              </a:rPr>
              <a:t>N/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AutoShape 648"/>
          <p:cNvSpPr/>
          <p:nvPr/>
        </p:nvSpPr>
        <p:spPr>
          <a:xfrm>
            <a:off x="3214800" y="1692360"/>
            <a:ext cx="574560" cy="1648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2" name="AutoShape 649"/>
          <p:cNvCxnSpPr>
            <a:stCxn id="201" idx="2"/>
            <a:endCxn id="203" idx="0"/>
          </p:cNvCxnSpPr>
          <p:nvPr/>
        </p:nvCxnSpPr>
        <p:spPr>
          <a:xfrm flipH="1">
            <a:off x="3498120" y="1857240"/>
            <a:ext cx="3960" cy="12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3" name="Rectangle 652"/>
          <p:cNvSpPr/>
          <p:nvPr/>
        </p:nvSpPr>
        <p:spPr>
          <a:xfrm>
            <a:off x="1698480" y="197964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e recaba o se recibe información para eventos que realiza el IEPC por parte de Dirección Gener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653"/>
          <p:cNvSpPr/>
          <p:nvPr/>
        </p:nvSpPr>
        <p:spPr>
          <a:xfrm>
            <a:off x="1698480" y="248436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envía la invitación o desplegados con orden del día a medios de comunicación</a:t>
            </a: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ó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n con especificaci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661"/>
          <p:cNvSpPr/>
          <p:nvPr/>
        </p:nvSpPr>
        <p:spPr>
          <a:xfrm>
            <a:off x="333360" y="4140360"/>
            <a:ext cx="122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Auxili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665"/>
          <p:cNvSpPr/>
          <p:nvPr/>
        </p:nvSpPr>
        <p:spPr>
          <a:xfrm>
            <a:off x="5373720" y="3205080"/>
            <a:ext cx="12826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Acuerd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666"/>
          <p:cNvSpPr/>
          <p:nvPr/>
        </p:nvSpPr>
        <p:spPr>
          <a:xfrm>
            <a:off x="5373720" y="246852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Orden del día / invitación / ordenes de inser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8" name="AutoShape 681"/>
          <p:cNvCxnSpPr>
            <a:stCxn id="203" idx="2"/>
            <a:endCxn id="204" idx="0"/>
          </p:cNvCxnSpPr>
          <p:nvPr/>
        </p:nvCxnSpPr>
        <p:spPr>
          <a:xfrm>
            <a:off x="3498480" y="2195640"/>
            <a:ext cx="108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684"/>
          <p:cNvCxnSpPr>
            <a:stCxn id="204" idx="2"/>
            <a:endCxn id="210" idx="0"/>
          </p:cNvCxnSpPr>
          <p:nvPr/>
        </p:nvCxnSpPr>
        <p:spPr>
          <a:xfrm>
            <a:off x="3498840" y="2700000"/>
            <a:ext cx="216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Rectangle 700"/>
          <p:cNvSpPr/>
          <p:nvPr/>
        </p:nvSpPr>
        <p:spPr>
          <a:xfrm>
            <a:off x="404640" y="2340000"/>
            <a:ext cx="1151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Direc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701"/>
          <p:cNvSpPr/>
          <p:nvPr/>
        </p:nvSpPr>
        <p:spPr>
          <a:xfrm>
            <a:off x="333360" y="27003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Direc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666"/>
          <p:cNvSpPr/>
          <p:nvPr/>
        </p:nvSpPr>
        <p:spPr>
          <a:xfrm>
            <a:off x="5373720" y="2898720"/>
            <a:ext cx="127800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invit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656"/>
          <p:cNvSpPr/>
          <p:nvPr/>
        </p:nvSpPr>
        <p:spPr>
          <a:xfrm>
            <a:off x="1700280" y="2844720"/>
            <a:ext cx="360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promociona el evento a medio de comunic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4" name="AutoShape 685"/>
          <p:cNvCxnSpPr>
            <a:stCxn id="210" idx="2"/>
          </p:cNvCxnSpPr>
          <p:nvPr/>
        </p:nvCxnSpPr>
        <p:spPr>
          <a:xfrm>
            <a:off x="3499920" y="306036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5" name="Rectangle 701"/>
          <p:cNvSpPr/>
          <p:nvPr/>
        </p:nvSpPr>
        <p:spPr>
          <a:xfrm>
            <a:off x="333360" y="349092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oordinador técnico / auxili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18 Rectángulo"/>
          <p:cNvSpPr/>
          <p:nvPr/>
        </p:nvSpPr>
        <p:spPr>
          <a:xfrm>
            <a:off x="1700280" y="320364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e habilita el lugar y se recaba la información para su difusión y se entrega a medio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18 Rectángulo"/>
          <p:cNvSpPr/>
          <p:nvPr/>
        </p:nvSpPr>
        <p:spPr>
          <a:xfrm>
            <a:off x="1700280" y="356400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lleva logística del evento en medios de comunicación y se realiza boletín informativo y se actualizan redes social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8" name="AutoShape 32"/>
          <p:cNvCxnSpPr>
            <a:stCxn id="216" idx="2"/>
            <a:endCxn id="217" idx="0"/>
          </p:cNvCxnSpPr>
          <p:nvPr/>
        </p:nvCxnSpPr>
        <p:spPr>
          <a:xfrm>
            <a:off x="3499920" y="341928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9" name="18 Rectángulo"/>
          <p:cNvSpPr/>
          <p:nvPr/>
        </p:nvSpPr>
        <p:spPr>
          <a:xfrm>
            <a:off x="1700280" y="392436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aliza boletín para darlo a conocer a medios y se revisa con director para VoB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0" name="AutoShape 32"/>
          <p:cNvCxnSpPr>
            <a:stCxn id="217" idx="2"/>
            <a:endCxn id="219" idx="0"/>
          </p:cNvCxnSpPr>
          <p:nvPr/>
        </p:nvCxnSpPr>
        <p:spPr>
          <a:xfrm>
            <a:off x="3499920" y="377964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1" name="Rectangle 701"/>
          <p:cNvSpPr/>
          <p:nvPr/>
        </p:nvSpPr>
        <p:spPr>
          <a:xfrm>
            <a:off x="333360" y="3132000"/>
            <a:ext cx="1224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oordinador / auxili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701"/>
          <p:cNvSpPr/>
          <p:nvPr/>
        </p:nvSpPr>
        <p:spPr>
          <a:xfrm>
            <a:off x="333360" y="385128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comunicación / director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666"/>
          <p:cNvSpPr/>
          <p:nvPr/>
        </p:nvSpPr>
        <p:spPr>
          <a:xfrm>
            <a:off x="5373720" y="356400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Fotos / video / boletín informativ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666"/>
          <p:cNvSpPr/>
          <p:nvPr/>
        </p:nvSpPr>
        <p:spPr>
          <a:xfrm>
            <a:off x="5373720" y="428472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Video  / audio / fot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18 Rectángulo"/>
          <p:cNvSpPr/>
          <p:nvPr/>
        </p:nvSpPr>
        <p:spPr>
          <a:xfrm>
            <a:off x="1700280" y="428292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organiza rueda de prensa con evidencias de video, audio y fotos ( se eliminan en un lapso de 2 días)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6" name="AutoShape 32"/>
          <p:cNvCxnSpPr>
            <a:stCxn id="219" idx="2"/>
            <a:endCxn id="225" idx="0"/>
          </p:cNvCxnSpPr>
          <p:nvPr/>
        </p:nvCxnSpPr>
        <p:spPr>
          <a:xfrm>
            <a:off x="3499920" y="4140360"/>
            <a:ext cx="1080" cy="143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32"/>
          <p:cNvCxnSpPr/>
          <p:nvPr/>
        </p:nvCxnSpPr>
        <p:spPr>
          <a:xfrm>
            <a:off x="3347640" y="4851360"/>
            <a:ext cx="1080" cy="14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8" name="Rectangle 666"/>
          <p:cNvSpPr/>
          <p:nvPr/>
        </p:nvSpPr>
        <p:spPr>
          <a:xfrm>
            <a:off x="5373720" y="189216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Orden del día / P-ADM-15 / P-OPE-2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700"/>
          <p:cNvSpPr/>
          <p:nvPr/>
        </p:nvSpPr>
        <p:spPr>
          <a:xfrm>
            <a:off x="404640" y="1908000"/>
            <a:ext cx="115128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Direc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661"/>
          <p:cNvSpPr/>
          <p:nvPr/>
        </p:nvSpPr>
        <p:spPr>
          <a:xfrm>
            <a:off x="333360" y="4716360"/>
            <a:ext cx="1224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Auxili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666"/>
          <p:cNvSpPr/>
          <p:nvPr/>
        </p:nvSpPr>
        <p:spPr>
          <a:xfrm>
            <a:off x="5373720" y="478800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E- mail / boletín informativ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18 Rectángulo"/>
          <p:cNvSpPr/>
          <p:nvPr/>
        </p:nvSpPr>
        <p:spPr>
          <a:xfrm>
            <a:off x="1700280" y="4788000"/>
            <a:ext cx="3600360" cy="21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envía y difunde a reporteros de la fuente y jefes de información junto con la edició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3" name="AutoShape 32"/>
          <p:cNvCxnSpPr>
            <a:stCxn id="225" idx="2"/>
            <a:endCxn id="232" idx="0"/>
          </p:cNvCxnSpPr>
          <p:nvPr/>
        </p:nvCxnSpPr>
        <p:spPr>
          <a:xfrm>
            <a:off x="3499920" y="4498560"/>
            <a:ext cx="108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4" name="AutoShape 32"/>
          <p:cNvCxnSpPr>
            <a:stCxn id="232" idx="2"/>
          </p:cNvCxnSpPr>
          <p:nvPr/>
        </p:nvCxnSpPr>
        <p:spPr>
          <a:xfrm>
            <a:off x="3499920" y="5003640"/>
            <a:ext cx="1080" cy="14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5" name="Rectangle 661"/>
          <p:cNvSpPr/>
          <p:nvPr/>
        </p:nvSpPr>
        <p:spPr>
          <a:xfrm>
            <a:off x="333360" y="5149800"/>
            <a:ext cx="1224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 / 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666"/>
          <p:cNvSpPr/>
          <p:nvPr/>
        </p:nvSpPr>
        <p:spPr>
          <a:xfrm>
            <a:off x="5373720" y="514836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Spot publicitari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18 Rectángulo"/>
          <p:cNvSpPr/>
          <p:nvPr/>
        </p:nvSpPr>
        <p:spPr>
          <a:xfrm>
            <a:off x="1700280" y="514980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analiza la trascendencia del evento y si es necesario se realizaran una capsula de video para su difusión en redes sociales del IEP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666"/>
          <p:cNvSpPr/>
          <p:nvPr/>
        </p:nvSpPr>
        <p:spPr>
          <a:xfrm>
            <a:off x="5373720" y="3979800"/>
            <a:ext cx="127800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Boletín informativ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Oval 34"/>
          <p:cNvSpPr/>
          <p:nvPr/>
        </p:nvSpPr>
        <p:spPr>
          <a:xfrm>
            <a:off x="3213000" y="5651640"/>
            <a:ext cx="576360" cy="215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0" name="AutoShape 32"/>
          <p:cNvCxnSpPr>
            <a:endCxn id="239" idx="0"/>
          </p:cNvCxnSpPr>
          <p:nvPr/>
        </p:nvCxnSpPr>
        <p:spPr>
          <a:xfrm>
            <a:off x="3499920" y="5363640"/>
            <a:ext cx="2520" cy="28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israel.perez</cp:lastModifiedBy>
  <dcterms:modified xsi:type="dcterms:W3CDTF">2012-04-17T14:45:44Z</dcterms:modified>
  <cp:revision>327</cp:revision>
  <dc:subject/>
  <dc:title>Presentación de PowerPoint</dc:title>
</cp:coreProperties>
</file>