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A1E-D55D-4451-A545-3CD45699F0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0A5-A480-49DB-AD6D-3AF78AA52B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07E-7A41-45BB-AEF7-0C8766FDA4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9444-495B-4624-8B91-F935EFC254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82B-0DF8-4674-A89E-A4D47F55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FB6-D7CC-4BCB-8553-445AE11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C1A-8AD5-41DD-9E78-92E3595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6ED-AD50-4338-9424-B58FF48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ADF-CE30-4BFE-82D7-22A16FA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C0F-34EF-47D0-8016-1525F32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5D7-5492-47BE-9AE8-B60BF75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190-0589-43A9-9F19-971AFA1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26C-6E2B-4134-9702-0CDE176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836-8606-45E2-8979-04B3DA5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A35-A807-4267-96BB-F7FF1143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4FD-2B54-4D1E-BD38-9721B694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2621-09AD-4223-8CD5-0FA40709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4896-9E22-40E2-AE0B-9D34776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63C-3412-4FA4-B0C8-4A7EA47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BB4-226E-41D7-B22A-313B8929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740-1AF0-4A42-BEF6-AC9D401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DA9-8E7A-446D-BED1-8C8D4BF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28FE-13FA-48F6-BA0C-EEDFA5D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A753-AEDE-472C-B9C9-28CABDF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FF5A-0265-4276-A38E-BC70297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6E3-B6C0-430C-8073-D9BCF87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7335-4C7F-4FC4-9580-192E6F28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A44-1B00-48C8-ACA4-08AEDB46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A2D4AE0-E5C7-415E-880D-4C118D9A1A1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F44-B140-4F0E-B5EA-287562F444C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ACA-E3D1-41B4-B0EA-A44867F227B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ste procedimiento aplica para el reclutamiento de person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13200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para áreas externas/ comprobación de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62728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73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7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73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2989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701"/>
          <p:cNvSpPr/>
          <p:nvPr/>
        </p:nvSpPr>
        <p:spPr>
          <a:xfrm>
            <a:off x="333360" y="363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36018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a de alta para su registro, se entrega gafete y se da de alta en pensiones del estado, seguro social, SEDAR, y en prestaciones del IE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/>
          <p:nvPr/>
        </p:nvCxnSpPr>
        <p:spPr>
          <a:xfrm>
            <a:off x="3499920" y="3492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701"/>
          <p:cNvSpPr/>
          <p:nvPr/>
        </p:nvSpPr>
        <p:spPr>
          <a:xfrm>
            <a:off x="333360" y="320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/>
          <p:nvPr/>
        </p:nvCxnSpPr>
        <p:spPr>
          <a:xfrm>
            <a:off x="3499920" y="399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6"/>
          <p:cNvSpPr/>
          <p:nvPr/>
        </p:nvSpPr>
        <p:spPr>
          <a:xfrm>
            <a:off x="1700280" y="557856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 y se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4" idx="2"/>
            <a:endCxn id="185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8" idx="2"/>
          </p:cNvCxnSpPr>
          <p:nvPr/>
        </p:nvCxnSpPr>
        <p:spPr>
          <a:xfrm>
            <a:off x="3499920" y="5795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700280" y="363528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94" idx="2"/>
            <a:endCxn id="184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65"/>
          <p:cNvSpPr/>
          <p:nvPr/>
        </p:nvSpPr>
        <p:spPr>
          <a:xfrm>
            <a:off x="5373720" y="3564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la impres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asistencia de trabajador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el área correspondiente para su firma y en caso de requerir la justificación de la falta del pers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 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>
            <a:stCxn id="202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 flipH="1">
            <a:off x="3498120" y="2506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698480" y="2629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a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8480" y="29894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a dicho forma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681"/>
          <p:cNvCxnSpPr>
            <a:stCxn id="218" idx="2"/>
            <a:endCxn id="219" idx="0"/>
          </p:cNvCxnSpPr>
          <p:nvPr/>
        </p:nvCxnSpPr>
        <p:spPr>
          <a:xfrm>
            <a:off x="3498480" y="2844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404640" y="2629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34923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99920" y="3276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5772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7:33:38Z</dcterms:modified>
  <cp:revision>326</cp:revision>
  <dc:subject/>
  <dc:title>Presentación de PowerPoint</dc:title>
</cp:coreProperties>
</file>