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19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1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3096-8CB8-4EC7-B319-411D49399B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34AD-6E5A-415C-B9DA-CECE4283D0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3BDE-0F07-4982-8CCF-F40740D30E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AE0-5AFA-41C3-A9F5-F1FE2A94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195-CA51-483A-AECE-F097C0BB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0B1-5DBA-445E-9DA4-C3AC6158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D4E-7B12-4A43-A345-314A8200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35D-D195-4DB3-9A4F-C529391E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71E-56D1-461F-A9BD-B6B67089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B6B-96FF-4A64-A273-1ED82221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F80-7D28-453F-9494-377A1A09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456-F0ED-424D-B718-A6532BE4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C77-4A78-4C38-B8D5-B9679429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62C-4836-47D2-B33F-CD28BA81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C84-1330-4C4D-91C3-64C3DB8F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BB28-73A8-40DF-BFD2-90B2D059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3218-9382-4153-9A79-82B9DD04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D156-6362-4DFA-9196-34386FA4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9A4A-B417-472E-84F2-53326BD9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AC0E-9D83-4992-B9A4-E5835205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E5DD-3876-4F77-865A-78A5DD1D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A818-1451-4B75-9C51-268C8CBE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D6C2-FD13-4AD0-A14E-5CBCC8E0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9CD9-47EA-4FA6-8191-76CBC1E8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9C43-0B9C-48D6-9646-63D10E56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29B0-099E-4585-B49A-D5D5CB4B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20DB-3ADF-4995-995D-F6AD46D0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728B-CFEE-4DEC-BFBC-1E177D67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DBFD3-770D-453B-B060-70D4B177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992DE-25A8-4C47-89DB-DDD6E2A8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6E9BB-7B12-4871-9713-26456F23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5F639-EDCA-4FA9-AA6E-B55AB314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141C-6579-4EB1-974A-6355B88A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9F32-2B7F-4DC1-9ED8-F609A475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BC92F-EFD1-4112-97E5-B86CBEA8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9D79C-E927-4AD6-A49D-4B4BF319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416B-FD95-4A4E-B3A1-91C16F03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0484-40E6-4642-8B5A-3E4DF8E1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7C121-464F-45A4-9399-2CAAA703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00DE1-30A2-4406-854C-317C22C4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EA058-5AC8-4B31-9694-26F6DAB8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3E4E9-6B53-4578-886E-1D7EC8DA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3281D-A0CE-4EF3-B874-B9CA0441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06598-DB8B-4A3D-94B2-5FFF2726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D9510-B04D-4403-98F6-800839F9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F7C38-A9A5-4579-BAD6-05735B46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626BF-EF34-477D-8639-1D314019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13D60-6947-4F4E-83C2-A85FAD63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7E1DE-73FB-49C5-ABE7-503739D5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F7F65-9C58-4A92-9B3E-A92A98C0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5E30-A33A-47CD-87D6-25F40F5D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98A20-6C7B-4EDF-A0BD-C486DFD3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DBCD4-993C-4E10-9D5B-2B17BA42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5876A-CD20-4086-BB26-CE125881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21CA2-AB89-441C-828F-D443BEFC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98BD1-5A52-4BB1-A18D-33F99BE5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96447-D926-4F5A-BA5B-A4B68E9B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085F5-B637-4549-A2B1-45FC5552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560CD-C964-4314-81A2-E19F35CD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E26D3-2CC0-4548-ADB7-2B51233D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9B444-381A-4756-B302-9143FA18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44DFA-4494-4D32-8CE6-CDA08ECE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9158B-1C1E-4441-84D8-A92611CC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9AC23-A896-4C33-884A-B5D59E59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1386B-527B-47B7-87AE-9687F39F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0FCF4-B225-4469-8453-C24BE305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2AA0F-3349-4406-91E1-F4E1ED70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09894-5829-4296-BBCF-4FDC1999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E86EF-C487-4BDE-8BEA-95469887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0D061-AD36-4424-A07E-2828C835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ED0E0-BC8C-47A5-9AFB-0BB60F34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6B74C-F6BB-4D45-AF2F-8E106393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3357D-D91E-447E-ACAC-A308CCD0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2D81F-9C2C-4DC1-A9C3-507C33AD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4B4FE-5774-4CD5-B1E4-87B56943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ditoría a Órganos Desconce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10A2DA1B-4CDF-4603-A139-CF5A8EACC4D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/1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0FB2-0179-455D-931A-AFCAC0E6BC2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82CD-FAC6-40C2-A3E2-A530344FA64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D574-D9FF-4145-BA86-94938D729F7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6ED9-AA36-421B-844E-B8806E9E8EF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7A9D-A101-4898-8887-CFC3FBEE2D2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076D-8B31-4F09-8214-D8D6B7744C2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Verificar la documentación comprobatoria y justificativa relacionada con el manejo, custodia y/o administración de los recursos públicos asignados  para el cumplimiento de sus funciones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Procedimiento que aplica para auditorías en proceso electoral en revisión de los recursos financieros, materiales y humanos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26"/>
          <p:cNvSpPr/>
          <p:nvPr/>
        </p:nvSpPr>
        <p:spPr>
          <a:xfrm>
            <a:off x="343080" y="2884320"/>
            <a:ext cx="63356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Órgano Desconcentrado, es parte integrante del Instituto Electoral y de Participación Ciudadana y so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a). Los Consejos Distritales Electoral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b). Los Consejos Municipales Electorales;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). Las Mesas Directivas de Casi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00"/>
                </a:solidFill>
                <a:latin typeface="Arial Narrow"/>
              </a:rPr>
              <a:t>Art. 118, párrafo 1, fracción IV, incisos a) y b),  del Códig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AOD. Auditoría a Órganos Desconcent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648"/>
          <p:cNvSpPr/>
          <p:nvPr/>
        </p:nvSpPr>
        <p:spPr>
          <a:xfrm>
            <a:off x="3214800" y="19810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AutoShape 649"/>
          <p:cNvCxnSpPr>
            <a:stCxn id="324" idx="2"/>
            <a:endCxn id="326" idx="0"/>
          </p:cNvCxnSpPr>
          <p:nvPr/>
        </p:nvCxnSpPr>
        <p:spPr>
          <a:xfrm flipH="1">
            <a:off x="3498120" y="2145960"/>
            <a:ext cx="396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6" name="Rectangle 652"/>
          <p:cNvSpPr/>
          <p:nvPr/>
        </p:nvSpPr>
        <p:spPr>
          <a:xfrm>
            <a:off x="1698480" y="2376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plan de actividades de revisión de recur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53"/>
          <p:cNvSpPr/>
          <p:nvPr/>
        </p:nvSpPr>
        <p:spPr>
          <a:xfrm>
            <a:off x="1684440" y="2843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naliza y autoriza plan de actividades de A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65"/>
          <p:cNvSpPr/>
          <p:nvPr/>
        </p:nvSpPr>
        <p:spPr>
          <a:xfrm>
            <a:off x="5369040" y="383220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de resul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66"/>
          <p:cNvSpPr/>
          <p:nvPr/>
        </p:nvSpPr>
        <p:spPr>
          <a:xfrm>
            <a:off x="5369040" y="27795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Plan de actividades de A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681"/>
          <p:cNvCxnSpPr/>
          <p:nvPr/>
        </p:nvCxnSpPr>
        <p:spPr>
          <a:xfrm>
            <a:off x="3512880" y="266400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AutoShape 684"/>
          <p:cNvCxnSpPr>
            <a:endCxn id="332" idx="0"/>
          </p:cNvCxnSpPr>
          <p:nvPr/>
        </p:nvCxnSpPr>
        <p:spPr>
          <a:xfrm>
            <a:off x="3498480" y="309672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Rectangle 700"/>
          <p:cNvSpPr/>
          <p:nvPr/>
        </p:nvSpPr>
        <p:spPr>
          <a:xfrm>
            <a:off x="404640" y="28065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01"/>
          <p:cNvSpPr/>
          <p:nvPr/>
        </p:nvSpPr>
        <p:spPr>
          <a:xfrm>
            <a:off x="331920" y="324324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66"/>
          <p:cNvSpPr/>
          <p:nvPr/>
        </p:nvSpPr>
        <p:spPr>
          <a:xfrm>
            <a:off x="5369040" y="33336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lan de actividades de A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56"/>
          <p:cNvSpPr/>
          <p:nvPr/>
        </p:nvSpPr>
        <p:spPr>
          <a:xfrm>
            <a:off x="1698480" y="3278160"/>
            <a:ext cx="360072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ejecuta revisión en tiempo y forma la auditoria a 145 organismos desconcentr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685"/>
          <p:cNvCxnSpPr/>
          <p:nvPr/>
        </p:nvCxnSpPr>
        <p:spPr>
          <a:xfrm>
            <a:off x="3498480" y="3628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18 Rectángulo"/>
          <p:cNvSpPr/>
          <p:nvPr/>
        </p:nvSpPr>
        <p:spPr>
          <a:xfrm>
            <a:off x="1665360" y="378000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presenta informe de resultados  al Contralor,  se evalúa y autoriza en caso de irregular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01"/>
          <p:cNvSpPr/>
          <p:nvPr/>
        </p:nvSpPr>
        <p:spPr>
          <a:xfrm>
            <a:off x="314280" y="37656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66"/>
          <p:cNvSpPr/>
          <p:nvPr/>
        </p:nvSpPr>
        <p:spPr>
          <a:xfrm>
            <a:off x="5369040" y="232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Calendario / proy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4"/>
          <p:cNvSpPr/>
          <p:nvPr/>
        </p:nvSpPr>
        <p:spPr>
          <a:xfrm>
            <a:off x="3174840" y="5413320"/>
            <a:ext cx="5781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665"/>
          <p:cNvSpPr/>
          <p:nvPr/>
        </p:nvSpPr>
        <p:spPr>
          <a:xfrm>
            <a:off x="5386320" y="4319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de resul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AutoShape 685"/>
          <p:cNvCxnSpPr/>
          <p:nvPr/>
        </p:nvCxnSpPr>
        <p:spPr>
          <a:xfrm>
            <a:off x="3463560" y="4824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18 Rectángulo"/>
          <p:cNvSpPr/>
          <p:nvPr/>
        </p:nvSpPr>
        <p:spPr>
          <a:xfrm>
            <a:off x="1722600" y="50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presenta a Consejo General informe de resul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AutoShape 32"/>
          <p:cNvCxnSpPr/>
          <p:nvPr/>
        </p:nvCxnSpPr>
        <p:spPr>
          <a:xfrm>
            <a:off x="346500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Rectangle 701"/>
          <p:cNvSpPr/>
          <p:nvPr/>
        </p:nvSpPr>
        <p:spPr>
          <a:xfrm>
            <a:off x="314280" y="496728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alor General /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85"/>
          <p:cNvCxnSpPr/>
          <p:nvPr/>
        </p:nvCxnSpPr>
        <p:spPr>
          <a:xfrm>
            <a:off x="3479400" y="4103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14 CuadroTexto"/>
          <p:cNvSpPr/>
          <p:nvPr/>
        </p:nvSpPr>
        <p:spPr>
          <a:xfrm>
            <a:off x="1722600" y="4254480"/>
            <a:ext cx="350676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Lo no autorizado donde se presuman irregularidades se turna al departamento de Asuntos Jurídicos para su debido análisis y procedencia del Procedimiento de Responsabilidad Administr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701"/>
          <p:cNvSpPr/>
          <p:nvPr/>
        </p:nvSpPr>
        <p:spPr>
          <a:xfrm>
            <a:off x="333360" y="431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Nmartinez</cp:lastModifiedBy>
  <cp:lastPrinted>2012-04-19T18:50:48Z</cp:lastPrinted>
  <dcterms:modified xsi:type="dcterms:W3CDTF">2012-04-20T19:13:32Z</dcterms:modified>
  <cp:revision>347</cp:revision>
  <dc:subject/>
  <dc:title>Presentación de PowerPoint</dc:title>
</cp:coreProperties>
</file>