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6C51-8C0C-4E5E-8B48-A22B44AF594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9E61-7D1E-4603-8CA2-F97CBEBF3B8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6042-2210-4F0A-B4A6-59FD8A1A088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9774-8D7E-457A-950E-C5B4F0754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5F80-FA02-435A-9C6E-6C774D7E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3501-CE24-4296-B8F1-EEDC2565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56BF-79E6-43B2-8D19-9EA63CD0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7805-151C-4222-AD92-D3E9024E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5FE3-D690-4070-8010-930F4AC4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7344-EA31-4A90-97FE-B48D9CE0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6B2F-68D6-4BAE-A69D-239F0118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9B10-C890-496E-9E98-BB6123FD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B161-B904-4230-9CC4-802E92A5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3C2D-BAD9-4C00-AE8C-4A7CD569E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1263-AF83-48F8-9FE5-546A464AF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919E-EEB8-4460-9D16-754E29F70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CF5F-2EF6-4211-BB4A-4D701FF0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F1EA-4E83-428F-99ED-963C877A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7E88-0541-4CE1-8A46-C0F33066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A4E3-5D67-4CD5-B035-0BA0F6A8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FA97-E952-428B-9043-BF923AE5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BBA8-99D6-4C1E-9B6D-66F0CA82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86E2-A8EB-4D9E-B9AD-17556A14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EE7F-670E-4B53-BEE0-0D257C05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94A1-C903-48ED-86BB-12D80F7D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7F8A-D94B-4612-97BD-DFB7A48DF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5D8C-ECBF-453E-9108-B02631C7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0BFE4-C24A-4A4E-9A9F-6719D456A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773FF-F753-4D14-B78C-AF669304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5206F-4116-438D-A4DA-97DE9579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D97B6-DE54-4391-8398-2AB6E26F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1A38B-7F4A-4DC5-B6A3-649A40F8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C068C-F904-415D-8CB1-26B73E52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D69DC-9B40-4460-857A-3C274E2A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F7B6C-4DC0-4EAB-823A-0104AF25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EB05C-CACC-4268-98F5-50F9297B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C1DDD-08B5-4F13-944F-791A18C9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E0BE1-9273-47BF-ABB1-7AFBB09E9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E9C0A-519C-4C5A-ACA7-BC836D12A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vision Leg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06FF41FF-A986-4C94-A840-C3F30F0FDF40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Secretario Ejecu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ADM-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5D4C-67CE-4BD4-918C-9E6E73944A48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CD9D-D90A-4A64-8C80-514BAE60AD48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EB25-C268-4D60-855E-77D8CC2A7468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. Asegurar que se cumpla con los requisitos que establece la ley de los derechos de los trabajador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 revisión de contratos y nombramientos de empleados con el fin de evitar problemas legales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198108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1" idx="2"/>
            <a:endCxn id="203" idx="0"/>
          </p:cNvCxnSpPr>
          <p:nvPr/>
        </p:nvCxnSpPr>
        <p:spPr>
          <a:xfrm flipH="1">
            <a:off x="3498120" y="2145960"/>
            <a:ext cx="3960" cy="12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698480" y="226836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n contratos y nombramientos para su revi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3"/>
          <p:cNvSpPr/>
          <p:nvPr/>
        </p:nvSpPr>
        <p:spPr>
          <a:xfrm>
            <a:off x="1698480" y="486252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turna a Secretario Ejecutivo para su firma  y se envía al área correspondiente para su entreg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6"/>
          <p:cNvSpPr/>
          <p:nvPr/>
        </p:nvSpPr>
        <p:spPr>
          <a:xfrm>
            <a:off x="5373720" y="48466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Nombramientos / contra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700"/>
          <p:cNvSpPr/>
          <p:nvPr/>
        </p:nvSpPr>
        <p:spPr>
          <a:xfrm>
            <a:off x="404640" y="4718160"/>
            <a:ext cx="1151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o Ejecutivo / 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66"/>
          <p:cNvSpPr/>
          <p:nvPr/>
        </p:nvSpPr>
        <p:spPr>
          <a:xfrm>
            <a:off x="5373720" y="21812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Nombramientos / contra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700"/>
          <p:cNvSpPr/>
          <p:nvPr/>
        </p:nvSpPr>
        <p:spPr>
          <a:xfrm>
            <a:off x="404640" y="219708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34"/>
          <p:cNvSpPr/>
          <p:nvPr/>
        </p:nvSpPr>
        <p:spPr>
          <a:xfrm>
            <a:off x="3213000" y="536400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66"/>
          <p:cNvSpPr/>
          <p:nvPr/>
        </p:nvSpPr>
        <p:spPr>
          <a:xfrm>
            <a:off x="5373720" y="345924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Nombramientos / contra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01"/>
          <p:cNvSpPr/>
          <p:nvPr/>
        </p:nvSpPr>
        <p:spPr>
          <a:xfrm>
            <a:off x="333360" y="34592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56 Rombo"/>
          <p:cNvSpPr/>
          <p:nvPr/>
        </p:nvSpPr>
        <p:spPr>
          <a:xfrm>
            <a:off x="3090960" y="311616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57 CuadroTexto"/>
          <p:cNvSpPr/>
          <p:nvPr/>
        </p:nvSpPr>
        <p:spPr>
          <a:xfrm>
            <a:off x="3141720" y="318600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Observacione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72 CuadroTexto"/>
          <p:cNvSpPr/>
          <p:nvPr/>
        </p:nvSpPr>
        <p:spPr>
          <a:xfrm>
            <a:off x="4005360" y="30592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73 CuadroTexto"/>
          <p:cNvSpPr/>
          <p:nvPr/>
        </p:nvSpPr>
        <p:spPr>
          <a:xfrm>
            <a:off x="2637000" y="3132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64 Conector angular"/>
          <p:cNvCxnSpPr>
            <a:stCxn id="212" idx="3"/>
            <a:endCxn id="217" idx="0"/>
          </p:cNvCxnSpPr>
          <p:nvPr/>
        </p:nvCxnSpPr>
        <p:spPr>
          <a:xfrm>
            <a:off x="3948120" y="3295440"/>
            <a:ext cx="489600" cy="2689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7" name="Rectangle 656"/>
          <p:cNvSpPr/>
          <p:nvPr/>
        </p:nvSpPr>
        <p:spPr>
          <a:xfrm>
            <a:off x="3573360" y="3564000"/>
            <a:ext cx="1728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a jurídico con observaciones y área involucr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AutoShape 649"/>
          <p:cNvCxnSpPr>
            <a:stCxn id="219" idx="2"/>
            <a:endCxn id="212" idx="0"/>
          </p:cNvCxnSpPr>
          <p:nvPr/>
        </p:nvCxnSpPr>
        <p:spPr>
          <a:xfrm>
            <a:off x="3498480" y="2843280"/>
            <a:ext cx="20880" cy="27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AutoShape 649"/>
          <p:cNvCxnSpPr>
            <a:stCxn id="203" idx="2"/>
            <a:endCxn id="219" idx="0"/>
          </p:cNvCxnSpPr>
          <p:nvPr/>
        </p:nvCxnSpPr>
        <p:spPr>
          <a:xfrm flipH="1">
            <a:off x="3498120" y="248400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Rectangle 652"/>
          <p:cNvSpPr/>
          <p:nvPr/>
        </p:nvSpPr>
        <p:spPr>
          <a:xfrm>
            <a:off x="1698480" y="262728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turnan al jefe de departamento para revisión y opin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666"/>
          <p:cNvSpPr/>
          <p:nvPr/>
        </p:nvSpPr>
        <p:spPr>
          <a:xfrm>
            <a:off x="5373720" y="25401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Nombramientos / contra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700"/>
          <p:cNvSpPr/>
          <p:nvPr/>
        </p:nvSpPr>
        <p:spPr>
          <a:xfrm>
            <a:off x="404640" y="255600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66"/>
          <p:cNvSpPr/>
          <p:nvPr/>
        </p:nvSpPr>
        <p:spPr>
          <a:xfrm>
            <a:off x="5373720" y="403560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Nombramientos / contra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701"/>
          <p:cNvSpPr/>
          <p:nvPr/>
        </p:nvSpPr>
        <p:spPr>
          <a:xfrm>
            <a:off x="333360" y="40356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656"/>
          <p:cNvSpPr/>
          <p:nvPr/>
        </p:nvSpPr>
        <p:spPr>
          <a:xfrm>
            <a:off x="3573360" y="4140360"/>
            <a:ext cx="1728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cibe documento final para Vo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AutoShape 649"/>
          <p:cNvCxnSpPr/>
          <p:nvPr/>
        </p:nvCxnSpPr>
        <p:spPr>
          <a:xfrm>
            <a:off x="4436640" y="4500720"/>
            <a:ext cx="108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649"/>
          <p:cNvCxnSpPr>
            <a:stCxn id="204" idx="2"/>
            <a:endCxn id="209" idx="0"/>
          </p:cNvCxnSpPr>
          <p:nvPr/>
        </p:nvCxnSpPr>
        <p:spPr>
          <a:xfrm>
            <a:off x="3498480" y="5078160"/>
            <a:ext cx="396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64 Conector angular"/>
          <p:cNvCxnSpPr>
            <a:stCxn id="212" idx="1"/>
          </p:cNvCxnSpPr>
          <p:nvPr/>
        </p:nvCxnSpPr>
        <p:spPr>
          <a:xfrm flipV="1" rot="10800000">
            <a:off x="2348640" y="3294720"/>
            <a:ext cx="742320" cy="15642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3-29T00:48:32Z</dcterms:modified>
  <cp:revision>325</cp:revision>
  <dc:subject/>
  <dc:title>Presentación de PowerPoint</dc:title>
</cp:coreProperties>
</file>