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</p:sldIdLst>
  <p:sldSz cx="6858000" cy="9144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dt" idx="13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Img"/>
          </p:nvPr>
        </p:nvSpPr>
        <p:spPr>
          <a:xfrm>
            <a:off x="2196720" y="696960"/>
            <a:ext cx="26161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ftr" idx="14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 type="sldNum" idx="15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B0003-BD3A-4E2E-A803-C4AEBEB12BF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AE085-2B1E-45A3-AC2A-AEB45B891BA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2197080" y="696960"/>
            <a:ext cx="2616120" cy="34862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FA4F4-11FE-4DDA-93BC-E23154EFF1E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2197080" y="696960"/>
            <a:ext cx="2616120" cy="34862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21934-FD79-4B67-85B5-FA5A1AA8DFF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2197080" y="696960"/>
            <a:ext cx="2616120" cy="34862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35A8-E7F4-4BC3-8DAA-5FBA53CB0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F412-B69E-460B-B087-A0C4D8179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B25D-18E8-44D9-94DE-113EB0BB5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A6C8-5658-4BFE-92E5-991731CF6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FBA1-E430-4BAE-8BAF-7FA582398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52E9-6CE0-4C9D-93EA-20A5EEDF8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231D-531E-4BFA-A456-3A337D87E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5C5F-BEA6-430A-8BDB-1AB85CF85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6F4F-5805-4226-9FAB-A4A4D8151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EB00-CC4B-4503-B5E1-51264DF10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5B68-5BBB-4EA4-A840-7FFD794F2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E7D5-2B91-48A9-89DF-3D90C7B42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FB496-14C4-4277-B5F4-2ED008433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4F67A-3722-4559-8802-08ED06783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FC4B6-F58C-42D4-8E27-DD011B873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346CC-C5DA-455C-B743-F99313EC6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FF8E1-7E8C-4981-9D17-4F484964A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11F12-EA20-42BA-AF03-500CB66DA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02D43-CA31-4D94-96CF-55CDD934B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4ED8A-1A08-402A-A489-893DB9CA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F0EFE-6845-4C34-B5ED-A49BEB23F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D6DD3-B68F-4CE6-8491-342A19A9D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32D08-94F8-4825-A6B0-867AC08B7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45F3E-9C56-49EC-9AF5-B909FAED5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CC346-0A8F-48A0-9144-8B5437768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1DE5C-BEF1-4112-AD7B-FD7131B6C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13F9E-6A1A-4FE6-9D7A-470952B51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51508-9D0B-4D99-9F11-F189AF0D9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BD96C-5B41-4481-BAFB-8BA9F961D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4E8B7-B01E-457A-8DA4-D39312DAF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C5228-278F-49AB-A4E8-C1535FE3D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3430B-BEC4-4465-9097-7E0113AA2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E9B13-3161-4797-8515-7B2C9044E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070FB-EA0B-43F9-BDAC-ACDC33BAC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29B1E-50E1-47E6-A969-1B571F425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3EC51-337F-4485-BFBB-538DCC396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2BF7A-B442-4372-ABD4-A4687300E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54F1B-093D-46A5-8D3F-C49C8EBE4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CA883-E2D3-4731-94BC-C89A769B4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FDE61-A91B-4329-976F-712F34108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997F5-4B9A-47A0-A0D1-04023187C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8588F-0B66-4BED-9D1A-56843CF7F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A511A8-5DBD-4201-8243-75FC21115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08D5A-C790-4D39-9E75-0FE8D0CA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71C8E-7529-4819-92C1-3C139E0A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7D9E5-9511-448F-9AE8-F071555EF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1E097-5A07-4FEA-A069-666806590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8E04E-673B-478E-94DC-CED98897A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uditorí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fld id="{27F2AAFF-3252-4206-A2C7-48E906C4A6CD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 de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Contralor Gen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-ADM-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7A285-F775-4B2A-B992-7CDD85D3C6EB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6DD78-F5E5-4E74-9A29-E7A8F6D5D786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7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8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9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7FD9B-6605-43C1-A804-837931BAB400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0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1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2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A958F-3AB9-45F1-8A08-2C6A2930223A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3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Verificar la documentación comprobatoria y justificativa relacionada con el manejo, custodia, aplicación y/o administración de los recursos públicos asignados para el cumplimiento de sus funcion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225"/>
          <p:cNvSpPr/>
          <p:nvPr/>
        </p:nvSpPr>
        <p:spPr>
          <a:xfrm>
            <a:off x="343080" y="2158920"/>
            <a:ext cx="6325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ste procedimiento aplica para la fiscalización de la información contable de ingresos y egresos, así como de las adquisiciones del Instituto.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226"/>
          <p:cNvSpPr/>
          <p:nvPr/>
        </p:nvSpPr>
        <p:spPr>
          <a:xfrm>
            <a:off x="333360" y="286056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 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AutoShape 648"/>
          <p:cNvSpPr/>
          <p:nvPr/>
        </p:nvSpPr>
        <p:spPr>
          <a:xfrm>
            <a:off x="3214800" y="241308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3" name="AutoShape 649"/>
          <p:cNvCxnSpPr>
            <a:stCxn id="242" idx="2"/>
            <a:endCxn id="244" idx="0"/>
          </p:cNvCxnSpPr>
          <p:nvPr/>
        </p:nvCxnSpPr>
        <p:spPr>
          <a:xfrm flipH="1">
            <a:off x="3498120" y="2577600"/>
            <a:ext cx="3960" cy="17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4" name="Rectangle 652"/>
          <p:cNvSpPr/>
          <p:nvPr/>
        </p:nvSpPr>
        <p:spPr>
          <a:xfrm>
            <a:off x="1698480" y="2752560"/>
            <a:ext cx="3600720" cy="26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olicita a administración y finanzas documentación comprobatoria de ingresos y egres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653"/>
          <p:cNvSpPr/>
          <p:nvPr/>
        </p:nvSpPr>
        <p:spPr>
          <a:xfrm>
            <a:off x="1698480" y="318456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Recibe y revisa documentación y analiza las partid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665"/>
          <p:cNvSpPr/>
          <p:nvPr/>
        </p:nvSpPr>
        <p:spPr>
          <a:xfrm>
            <a:off x="5373720" y="392436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Oficio de observacion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666"/>
          <p:cNvSpPr/>
          <p:nvPr/>
        </p:nvSpPr>
        <p:spPr>
          <a:xfrm>
            <a:off x="5373720" y="2901960"/>
            <a:ext cx="12780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Oficio de petición / Documentación comprobato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8" name="AutoShape 681"/>
          <p:cNvCxnSpPr/>
          <p:nvPr/>
        </p:nvCxnSpPr>
        <p:spPr>
          <a:xfrm>
            <a:off x="3498480" y="3013200"/>
            <a:ext cx="1080" cy="172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9" name="AutoShape 684"/>
          <p:cNvCxnSpPr/>
          <p:nvPr/>
        </p:nvCxnSpPr>
        <p:spPr>
          <a:xfrm>
            <a:off x="3498840" y="3420720"/>
            <a:ext cx="2160" cy="1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0" name="Rectangle 700"/>
          <p:cNvSpPr/>
          <p:nvPr/>
        </p:nvSpPr>
        <p:spPr>
          <a:xfrm>
            <a:off x="404640" y="2989440"/>
            <a:ext cx="11512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Jefe de Fiscaliz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701"/>
          <p:cNvSpPr/>
          <p:nvPr/>
        </p:nvSpPr>
        <p:spPr>
          <a:xfrm>
            <a:off x="333360" y="34210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Jefe de Fiscaliz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666"/>
          <p:cNvSpPr/>
          <p:nvPr/>
        </p:nvSpPr>
        <p:spPr>
          <a:xfrm>
            <a:off x="5373720" y="5003640"/>
            <a:ext cx="1278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Oficio de irregularidades / oficio de aclaracion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666"/>
          <p:cNvSpPr/>
          <p:nvPr/>
        </p:nvSpPr>
        <p:spPr>
          <a:xfrm>
            <a:off x="5373720" y="342108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Informe de evidenc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656"/>
          <p:cNvSpPr/>
          <p:nvPr/>
        </p:nvSpPr>
        <p:spPr>
          <a:xfrm>
            <a:off x="1700280" y="360036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alizan observaciones y se archiva evidencia comprobato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701"/>
          <p:cNvSpPr/>
          <p:nvPr/>
        </p:nvSpPr>
        <p:spPr>
          <a:xfrm>
            <a:off x="333360" y="428472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Contralor Gene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Oval 34"/>
          <p:cNvSpPr/>
          <p:nvPr/>
        </p:nvSpPr>
        <p:spPr>
          <a:xfrm>
            <a:off x="3213000" y="6300720"/>
            <a:ext cx="57636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18 Rectángulo"/>
          <p:cNvSpPr/>
          <p:nvPr/>
        </p:nvSpPr>
        <p:spPr>
          <a:xfrm>
            <a:off x="1698480" y="4021200"/>
            <a:ext cx="360072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mite oficio de observaciones a administración y finanza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18 Rectángulo"/>
          <p:cNvSpPr/>
          <p:nvPr/>
        </p:nvSpPr>
        <p:spPr>
          <a:xfrm>
            <a:off x="1673280" y="444348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cibe respuesta de aclar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9" name="AutoShape 32"/>
          <p:cNvCxnSpPr/>
          <p:nvPr/>
        </p:nvCxnSpPr>
        <p:spPr>
          <a:xfrm>
            <a:off x="3499920" y="4236840"/>
            <a:ext cx="1080" cy="207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0" name="AutoShape 32"/>
          <p:cNvCxnSpPr/>
          <p:nvPr/>
        </p:nvCxnSpPr>
        <p:spPr>
          <a:xfrm>
            <a:off x="3499920" y="467964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1" name="Rectangle 701"/>
          <p:cNvSpPr/>
          <p:nvPr/>
        </p:nvSpPr>
        <p:spPr>
          <a:xfrm>
            <a:off x="333360" y="385272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Contralor Gene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666"/>
          <p:cNvSpPr/>
          <p:nvPr/>
        </p:nvSpPr>
        <p:spPr>
          <a:xfrm>
            <a:off x="5373720" y="434016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Oficio de aclaracion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666"/>
          <p:cNvSpPr/>
          <p:nvPr/>
        </p:nvSpPr>
        <p:spPr>
          <a:xfrm>
            <a:off x="5373720" y="262908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Oficio de peti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700"/>
          <p:cNvSpPr/>
          <p:nvPr/>
        </p:nvSpPr>
        <p:spPr>
          <a:xfrm>
            <a:off x="404640" y="270036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Contralor Gene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701"/>
          <p:cNvSpPr/>
          <p:nvPr/>
        </p:nvSpPr>
        <p:spPr>
          <a:xfrm>
            <a:off x="333360" y="500364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Jefe de fiscaliz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56 Rombo"/>
          <p:cNvSpPr/>
          <p:nvPr/>
        </p:nvSpPr>
        <p:spPr>
          <a:xfrm>
            <a:off x="3090960" y="4824360"/>
            <a:ext cx="857160" cy="3589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57 CuadroTexto"/>
          <p:cNvSpPr/>
          <p:nvPr/>
        </p:nvSpPr>
        <p:spPr>
          <a:xfrm>
            <a:off x="3110040" y="4902120"/>
            <a:ext cx="785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¿Completo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8" name="64 Conector angular"/>
          <p:cNvCxnSpPr>
            <a:stCxn id="266" idx="1"/>
            <a:endCxn id="269" idx="0"/>
          </p:cNvCxnSpPr>
          <p:nvPr/>
        </p:nvCxnSpPr>
        <p:spPr>
          <a:xfrm flipV="1" rot="10800000">
            <a:off x="2493360" y="5003280"/>
            <a:ext cx="597600" cy="2865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70" name="72 CuadroTexto"/>
          <p:cNvSpPr/>
          <p:nvPr/>
        </p:nvSpPr>
        <p:spPr>
          <a:xfrm>
            <a:off x="4068720" y="467676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73 CuadroTexto"/>
          <p:cNvSpPr/>
          <p:nvPr/>
        </p:nvSpPr>
        <p:spPr>
          <a:xfrm>
            <a:off x="2565360" y="47084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656"/>
          <p:cNvSpPr/>
          <p:nvPr/>
        </p:nvSpPr>
        <p:spPr>
          <a:xfrm>
            <a:off x="1628640" y="5289480"/>
            <a:ext cx="17305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e envía al área de jurídico para aplicar san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2" name="64 Conector angular"/>
          <p:cNvCxnSpPr>
            <a:stCxn id="266" idx="3"/>
            <a:endCxn id="273" idx="0"/>
          </p:cNvCxnSpPr>
          <p:nvPr/>
        </p:nvCxnSpPr>
        <p:spPr>
          <a:xfrm>
            <a:off x="3948120" y="5003280"/>
            <a:ext cx="488160" cy="2883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73" name="Rectangle 656"/>
          <p:cNvSpPr/>
          <p:nvPr/>
        </p:nvSpPr>
        <p:spPr>
          <a:xfrm>
            <a:off x="3570120" y="5291280"/>
            <a:ext cx="17290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e archiv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4" name="64 Conector angular"/>
          <p:cNvCxnSpPr>
            <a:stCxn id="273" idx="2"/>
            <a:endCxn id="256" idx="6"/>
          </p:cNvCxnSpPr>
          <p:nvPr/>
        </p:nvCxnSpPr>
        <p:spPr>
          <a:xfrm rot="5400000">
            <a:off x="3697200" y="5671080"/>
            <a:ext cx="829440" cy="64692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75" name="64 Conector angular"/>
          <p:cNvCxnSpPr>
            <a:stCxn id="269" idx="2"/>
            <a:endCxn id="256" idx="2"/>
          </p:cNvCxnSpPr>
          <p:nvPr/>
        </p:nvCxnSpPr>
        <p:spPr>
          <a:xfrm flipH="1" rot="16200000">
            <a:off x="2436480" y="5632920"/>
            <a:ext cx="832680" cy="71964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76" name="AutoShape 32"/>
          <p:cNvCxnSpPr/>
          <p:nvPr/>
        </p:nvCxnSpPr>
        <p:spPr>
          <a:xfrm>
            <a:off x="3503160" y="381636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7" name="Rectangle 652"/>
          <p:cNvSpPr/>
          <p:nvPr/>
        </p:nvSpPr>
        <p:spPr>
          <a:xfrm>
            <a:off x="1708200" y="2117880"/>
            <a:ext cx="353052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Fiscaliz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AutoShape 648"/>
          <p:cNvSpPr/>
          <p:nvPr/>
        </p:nvSpPr>
        <p:spPr>
          <a:xfrm>
            <a:off x="3213000" y="2565360"/>
            <a:ext cx="574920" cy="1652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Inic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5" name="AutoShape 649"/>
          <p:cNvCxnSpPr>
            <a:stCxn id="284" idx="2"/>
            <a:endCxn id="286" idx="0"/>
          </p:cNvCxnSpPr>
          <p:nvPr/>
        </p:nvCxnSpPr>
        <p:spPr>
          <a:xfrm flipH="1">
            <a:off x="3498480" y="2730240"/>
            <a:ext cx="2160" cy="113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6" name="Rectangle 652"/>
          <p:cNvSpPr/>
          <p:nvPr/>
        </p:nvSpPr>
        <p:spPr>
          <a:xfrm>
            <a:off x="1698480" y="284328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reciben pólizas de cheques y estados financier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653"/>
          <p:cNvSpPr/>
          <p:nvPr/>
        </p:nvSpPr>
        <p:spPr>
          <a:xfrm>
            <a:off x="1698480" y="320364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valúa la correcta aplicación y justificación de la adquisición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666"/>
          <p:cNvSpPr/>
          <p:nvPr/>
        </p:nvSpPr>
        <p:spPr>
          <a:xfrm>
            <a:off x="5373720" y="318924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Pólizas de cheques / estados financier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9" name="AutoShape 681"/>
          <p:cNvCxnSpPr>
            <a:stCxn id="286" idx="2"/>
            <a:endCxn id="287" idx="0"/>
          </p:cNvCxnSpPr>
          <p:nvPr/>
        </p:nvCxnSpPr>
        <p:spPr>
          <a:xfrm>
            <a:off x="3498480" y="305892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684"/>
          <p:cNvCxnSpPr>
            <a:stCxn id="287" idx="2"/>
          </p:cNvCxnSpPr>
          <p:nvPr/>
        </p:nvCxnSpPr>
        <p:spPr>
          <a:xfrm>
            <a:off x="3498840" y="341928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1" name="Rectangle 700"/>
          <p:cNvSpPr/>
          <p:nvPr/>
        </p:nvSpPr>
        <p:spPr>
          <a:xfrm>
            <a:off x="404640" y="313200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Jefe de Fiscaliz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666"/>
          <p:cNvSpPr/>
          <p:nvPr/>
        </p:nvSpPr>
        <p:spPr>
          <a:xfrm>
            <a:off x="5373720" y="3924360"/>
            <a:ext cx="127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-mai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Oval 34"/>
          <p:cNvSpPr/>
          <p:nvPr/>
        </p:nvSpPr>
        <p:spPr>
          <a:xfrm>
            <a:off x="4221000" y="7308720"/>
            <a:ext cx="57636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666"/>
          <p:cNvSpPr/>
          <p:nvPr/>
        </p:nvSpPr>
        <p:spPr>
          <a:xfrm>
            <a:off x="5373720" y="277164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Pólizas de cheques / estados financier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700"/>
          <p:cNvSpPr/>
          <p:nvPr/>
        </p:nvSpPr>
        <p:spPr>
          <a:xfrm>
            <a:off x="404640" y="284328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Jefe de Fiscaliz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701"/>
          <p:cNvSpPr/>
          <p:nvPr/>
        </p:nvSpPr>
        <p:spPr>
          <a:xfrm>
            <a:off x="333360" y="3924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Jefe de Fiscaliz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56 Rombo"/>
          <p:cNvSpPr/>
          <p:nvPr/>
        </p:nvSpPr>
        <p:spPr>
          <a:xfrm>
            <a:off x="3090960" y="3581280"/>
            <a:ext cx="914400" cy="3589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57 CuadroTexto"/>
          <p:cNvSpPr/>
          <p:nvPr/>
        </p:nvSpPr>
        <p:spPr>
          <a:xfrm>
            <a:off x="3090960" y="3660840"/>
            <a:ext cx="98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¿Irregularidades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9" name="64 Conector angular"/>
          <p:cNvCxnSpPr>
            <a:stCxn id="297" idx="1"/>
            <a:endCxn id="300" idx="0"/>
          </p:cNvCxnSpPr>
          <p:nvPr/>
        </p:nvCxnSpPr>
        <p:spPr>
          <a:xfrm flipV="1" rot="10800000">
            <a:off x="2493360" y="3760560"/>
            <a:ext cx="597600" cy="23544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301" name="72 CuadroTexto"/>
          <p:cNvSpPr/>
          <p:nvPr/>
        </p:nvSpPr>
        <p:spPr>
          <a:xfrm>
            <a:off x="4005360" y="349236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73 CuadroTexto"/>
          <p:cNvSpPr/>
          <p:nvPr/>
        </p:nvSpPr>
        <p:spPr>
          <a:xfrm>
            <a:off x="2565360" y="349236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64 Conector angular"/>
          <p:cNvCxnSpPr>
            <a:stCxn id="297" idx="3"/>
            <a:endCxn id="304" idx="0"/>
          </p:cNvCxnSpPr>
          <p:nvPr/>
        </p:nvCxnSpPr>
        <p:spPr>
          <a:xfrm>
            <a:off x="4005360" y="3760920"/>
            <a:ext cx="434160" cy="23544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304" name="Rectangle 656"/>
          <p:cNvSpPr/>
          <p:nvPr/>
        </p:nvSpPr>
        <p:spPr>
          <a:xfrm>
            <a:off x="3573360" y="3995640"/>
            <a:ext cx="172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e informa al Contralor General las irregularida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652"/>
          <p:cNvSpPr/>
          <p:nvPr/>
        </p:nvSpPr>
        <p:spPr>
          <a:xfrm>
            <a:off x="1708200" y="2117880"/>
            <a:ext cx="353052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Revisión de adquisicio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Oval 75"/>
          <p:cNvSpPr/>
          <p:nvPr/>
        </p:nvSpPr>
        <p:spPr>
          <a:xfrm>
            <a:off x="2349360" y="3995640"/>
            <a:ext cx="28764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656"/>
          <p:cNvSpPr/>
          <p:nvPr/>
        </p:nvSpPr>
        <p:spPr>
          <a:xfrm>
            <a:off x="3573360" y="4498920"/>
            <a:ext cx="172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e determina la elaboración del pliego de observacion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7" name="AutoShape 684"/>
          <p:cNvCxnSpPr>
            <a:stCxn id="304" idx="2"/>
            <a:endCxn id="306" idx="0"/>
          </p:cNvCxnSpPr>
          <p:nvPr/>
        </p:nvCxnSpPr>
        <p:spPr>
          <a:xfrm flipH="1">
            <a:off x="4436280" y="4284360"/>
            <a:ext cx="252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8" name="Rectangle 656"/>
          <p:cNvSpPr/>
          <p:nvPr/>
        </p:nvSpPr>
        <p:spPr>
          <a:xfrm>
            <a:off x="1700280" y="5003640"/>
            <a:ext cx="36003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proyecta el pliego de observaciones y se envía a presidencia y/o Consejo Gene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656"/>
          <p:cNvSpPr/>
          <p:nvPr/>
        </p:nvSpPr>
        <p:spPr>
          <a:xfrm>
            <a:off x="1700280" y="5506920"/>
            <a:ext cx="36003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ciben aclaraciones de observaciones y se realiza dictamen fin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701"/>
          <p:cNvSpPr/>
          <p:nvPr/>
        </p:nvSpPr>
        <p:spPr>
          <a:xfrm>
            <a:off x="333360" y="550872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Jefe de Fiscaliz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701"/>
          <p:cNvSpPr/>
          <p:nvPr/>
        </p:nvSpPr>
        <p:spPr>
          <a:xfrm>
            <a:off x="333360" y="500364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Contralor Gene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666"/>
          <p:cNvSpPr/>
          <p:nvPr/>
        </p:nvSpPr>
        <p:spPr>
          <a:xfrm>
            <a:off x="5373720" y="4572000"/>
            <a:ext cx="127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Pliego de observacion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666"/>
          <p:cNvSpPr/>
          <p:nvPr/>
        </p:nvSpPr>
        <p:spPr>
          <a:xfrm>
            <a:off x="5373720" y="5003640"/>
            <a:ext cx="1278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Pliego de observaciones / E-mai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666"/>
          <p:cNvSpPr/>
          <p:nvPr/>
        </p:nvSpPr>
        <p:spPr>
          <a:xfrm>
            <a:off x="5373720" y="5580000"/>
            <a:ext cx="1278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Aclaraciones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de observaciones/ dictamen fin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701"/>
          <p:cNvSpPr/>
          <p:nvPr/>
        </p:nvSpPr>
        <p:spPr>
          <a:xfrm>
            <a:off x="333360" y="450072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Contralor Gene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666"/>
          <p:cNvSpPr/>
          <p:nvPr/>
        </p:nvSpPr>
        <p:spPr>
          <a:xfrm>
            <a:off x="5391000" y="6443640"/>
            <a:ext cx="127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-mai</a:t>
            </a: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701"/>
          <p:cNvSpPr/>
          <p:nvPr/>
        </p:nvSpPr>
        <p:spPr>
          <a:xfrm>
            <a:off x="351000" y="6443640"/>
            <a:ext cx="1223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Jefe de Fiscaliz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56 Rombo"/>
          <p:cNvSpPr/>
          <p:nvPr/>
        </p:nvSpPr>
        <p:spPr>
          <a:xfrm>
            <a:off x="3108240" y="6100920"/>
            <a:ext cx="857160" cy="35856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57 CuadroTexto"/>
          <p:cNvSpPr/>
          <p:nvPr/>
        </p:nvSpPr>
        <p:spPr>
          <a:xfrm>
            <a:off x="3159000" y="6170760"/>
            <a:ext cx="785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¿Se subsana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0" name="64 Conector angular"/>
          <p:cNvCxnSpPr>
            <a:stCxn id="318" idx="1"/>
          </p:cNvCxnSpPr>
          <p:nvPr/>
        </p:nvCxnSpPr>
        <p:spPr>
          <a:xfrm flipV="1" rot="10800000">
            <a:off x="2510640" y="6279120"/>
            <a:ext cx="597600" cy="23724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321" name="72 CuadroTexto"/>
          <p:cNvSpPr/>
          <p:nvPr/>
        </p:nvSpPr>
        <p:spPr>
          <a:xfrm>
            <a:off x="2637000" y="60120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73 CuadroTexto"/>
          <p:cNvSpPr/>
          <p:nvPr/>
        </p:nvSpPr>
        <p:spPr>
          <a:xfrm>
            <a:off x="4005360" y="60120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3" name="64 Conector angular"/>
          <p:cNvCxnSpPr>
            <a:stCxn id="318" idx="3"/>
            <a:endCxn id="324" idx="0"/>
          </p:cNvCxnSpPr>
          <p:nvPr/>
        </p:nvCxnSpPr>
        <p:spPr>
          <a:xfrm>
            <a:off x="3965040" y="6279840"/>
            <a:ext cx="489600" cy="2358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324" name="Rectangle 656"/>
          <p:cNvSpPr/>
          <p:nvPr/>
        </p:nvSpPr>
        <p:spPr>
          <a:xfrm>
            <a:off x="3591000" y="6515280"/>
            <a:ext cx="1728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e turna a Asuntos Jurídicos para procedimiento de ofic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Oval 75"/>
          <p:cNvSpPr/>
          <p:nvPr/>
        </p:nvSpPr>
        <p:spPr>
          <a:xfrm>
            <a:off x="2367000" y="6516720"/>
            <a:ext cx="28728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6" name="AutoShape 684"/>
          <p:cNvCxnSpPr/>
          <p:nvPr/>
        </p:nvCxnSpPr>
        <p:spPr>
          <a:xfrm>
            <a:off x="4508280" y="6804000"/>
            <a:ext cx="108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7" name="AutoShape 684"/>
          <p:cNvCxnSpPr/>
          <p:nvPr/>
        </p:nvCxnSpPr>
        <p:spPr>
          <a:xfrm flipH="1">
            <a:off x="3572640" y="5796000"/>
            <a:ext cx="1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8" name="AutoShape 684"/>
          <p:cNvCxnSpPr>
            <a:stCxn id="308" idx="2"/>
            <a:endCxn id="309" idx="0"/>
          </p:cNvCxnSpPr>
          <p:nvPr/>
        </p:nvCxnSpPr>
        <p:spPr>
          <a:xfrm>
            <a:off x="3499920" y="5292360"/>
            <a:ext cx="108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9" name="AutoShape 684"/>
          <p:cNvCxnSpPr/>
          <p:nvPr/>
        </p:nvCxnSpPr>
        <p:spPr>
          <a:xfrm flipH="1">
            <a:off x="4436280" y="478764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0" name="Oval 75"/>
          <p:cNvSpPr/>
          <p:nvPr/>
        </p:nvSpPr>
        <p:spPr>
          <a:xfrm>
            <a:off x="3718080" y="6912000"/>
            <a:ext cx="28728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1" name="AutoShape 684"/>
          <p:cNvCxnSpPr/>
          <p:nvPr/>
        </p:nvCxnSpPr>
        <p:spPr>
          <a:xfrm>
            <a:off x="4005360" y="7019640"/>
            <a:ext cx="505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Nmartinez</cp:lastModifiedBy>
  <cp:lastPrinted>2012-04-20T15:00:38Z</cp:lastPrinted>
  <dcterms:modified xsi:type="dcterms:W3CDTF">2012-04-24T17:30:05Z</dcterms:modified>
  <cp:revision>315</cp:revision>
  <dc:subject/>
  <dc:title>Presentación de PowerPoint</dc:title>
</cp:coreProperties>
</file>