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8A52-FAD1-4A45-A9B3-4064DFDA08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665F-6E24-4E32-99D6-93ACDC0EEC6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ADM-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Juri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2124000" y="765000"/>
            <a:ext cx="4751640" cy="59770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5 Rectángulo"/>
          <p:cNvSpPr/>
          <p:nvPr/>
        </p:nvSpPr>
        <p:spPr>
          <a:xfrm>
            <a:off x="3710160" y="1197000"/>
            <a:ext cx="158400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recibe el documento para iniciar el tramite correspondien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4920" y="836640"/>
            <a:ext cx="1728720" cy="10810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put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pel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egisl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34920" y="2852640"/>
            <a:ext cx="1728720" cy="1440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ocumento recib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ocumentos varios (anteceden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Que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tific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236000" y="836640"/>
            <a:ext cx="1873080" cy="1440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cretario Ej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bog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Jefes de Depart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rectores de 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7164360" y="2349360"/>
            <a:ext cx="1943280" cy="2087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cuer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f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moránd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solu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fo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tratos y Conven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mand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test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164360" y="4508640"/>
            <a:ext cx="1944720" cy="2016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levar el control de correspondencia que ingresa a la dirección en un 9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trega en tiempo los acuerdos del consejo General para su revisión en un 9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4920" y="5013360"/>
            <a:ext cx="1728720" cy="1655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-ADM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-P-OPE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-OPE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-ADM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6948360" y="3789360"/>
            <a:ext cx="216000" cy="2872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8 Rectángulo"/>
          <p:cNvSpPr/>
          <p:nvPr/>
        </p:nvSpPr>
        <p:spPr>
          <a:xfrm>
            <a:off x="3708360" y="2492280"/>
            <a:ext cx="158436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establece la forma en que se va a contes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5"/>
          <p:cNvSpPr/>
          <p:nvPr/>
        </p:nvSpPr>
        <p:spPr>
          <a:xfrm>
            <a:off x="1835280" y="3284640"/>
            <a:ext cx="215640" cy="2887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 rot="1986600">
            <a:off x="1827000" y="1241280"/>
            <a:ext cx="245880" cy="27000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9365000">
            <a:off x="1842840" y="5568480"/>
            <a:ext cx="201600" cy="3304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13003200">
            <a:off x="6879960" y="5694120"/>
            <a:ext cx="218880" cy="3283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 rot="8611200">
            <a:off x="6931800" y="1029960"/>
            <a:ext cx="258840" cy="274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3"/>
          <p:cNvSpPr/>
          <p:nvPr/>
        </p:nvSpPr>
        <p:spPr>
          <a:xfrm>
            <a:off x="3925800" y="836640"/>
            <a:ext cx="1224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7 Rectángulo"/>
          <p:cNvSpPr/>
          <p:nvPr/>
        </p:nvSpPr>
        <p:spPr>
          <a:xfrm>
            <a:off x="3708360" y="1700280"/>
            <a:ext cx="15843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hace del conocimiento del director para su análisis y posterior turno al abogado que correspon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4"/>
          <p:cNvSpPr/>
          <p:nvPr/>
        </p:nvSpPr>
        <p:spPr>
          <a:xfrm>
            <a:off x="4284720" y="616572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32"/>
          <p:cNvCxnSpPr>
            <a:stCxn id="66" idx="2"/>
            <a:endCxn id="59" idx="0"/>
          </p:cNvCxnSpPr>
          <p:nvPr/>
        </p:nvCxnSpPr>
        <p:spPr>
          <a:xfrm>
            <a:off x="4500360" y="2276640"/>
            <a:ext cx="360" cy="21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34 Decisión"/>
          <p:cNvSpPr/>
          <p:nvPr/>
        </p:nvSpPr>
        <p:spPr>
          <a:xfrm>
            <a:off x="3492360" y="4508640"/>
            <a:ext cx="2087640" cy="57600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La información es pública y solo por excepción se cataloga como reserva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48 CuadroTexto"/>
          <p:cNvSpPr/>
          <p:nvPr/>
        </p:nvSpPr>
        <p:spPr>
          <a:xfrm>
            <a:off x="3492360" y="494172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48 CuadroTexto"/>
          <p:cNvSpPr/>
          <p:nvPr/>
        </p:nvSpPr>
        <p:spPr>
          <a:xfrm>
            <a:off x="4859280" y="494172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60"/>
          <p:cNvCxnSpPr/>
          <p:nvPr/>
        </p:nvCxnSpPr>
        <p:spPr>
          <a:xfrm>
            <a:off x="4501800" y="1052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60"/>
          <p:cNvCxnSpPr>
            <a:stCxn id="51" idx="2"/>
            <a:endCxn id="66" idx="0"/>
          </p:cNvCxnSpPr>
          <p:nvPr/>
        </p:nvCxnSpPr>
        <p:spPr>
          <a:xfrm flipH="1">
            <a:off x="4500360" y="1555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18 Rectángulo"/>
          <p:cNvSpPr/>
          <p:nvPr/>
        </p:nvSpPr>
        <p:spPr>
          <a:xfrm>
            <a:off x="3708360" y="2924280"/>
            <a:ext cx="1584360" cy="4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realiza el proyecto y se regresa al director para su  rev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8 Rectángulo"/>
          <p:cNvSpPr/>
          <p:nvPr/>
        </p:nvSpPr>
        <p:spPr>
          <a:xfrm>
            <a:off x="3708360" y="3500280"/>
            <a:ext cx="158436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mite a Secretaría Ejecutiva para su aprob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8 Rectángulo"/>
          <p:cNvSpPr/>
          <p:nvPr/>
        </p:nvSpPr>
        <p:spPr>
          <a:xfrm>
            <a:off x="3276720" y="5373720"/>
            <a:ext cx="122220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envía a oficialía de partes para su notific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60"/>
          <p:cNvCxnSpPr>
            <a:stCxn id="59" idx="2"/>
            <a:endCxn id="74" idx="0"/>
          </p:cNvCxnSpPr>
          <p:nvPr/>
        </p:nvCxnSpPr>
        <p:spPr>
          <a:xfrm>
            <a:off x="4500360" y="2781360"/>
            <a:ext cx="36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60"/>
          <p:cNvCxnSpPr>
            <a:stCxn id="74" idx="2"/>
            <a:endCxn id="75" idx="0"/>
          </p:cNvCxnSpPr>
          <p:nvPr/>
        </p:nvCxnSpPr>
        <p:spPr>
          <a:xfrm>
            <a:off x="4500360" y="3357720"/>
            <a:ext cx="360" cy="14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55"/>
          <p:cNvCxnSpPr>
            <a:stCxn id="80" idx="2"/>
            <a:endCxn id="67" idx="6"/>
          </p:cNvCxnSpPr>
          <p:nvPr/>
        </p:nvCxnSpPr>
        <p:spPr>
          <a:xfrm rot="5400000">
            <a:off x="4878720" y="5860800"/>
            <a:ext cx="431640" cy="46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55"/>
          <p:cNvCxnSpPr>
            <a:stCxn id="76" idx="2"/>
            <a:endCxn id="67" idx="2"/>
          </p:cNvCxnSpPr>
          <p:nvPr/>
        </p:nvCxnSpPr>
        <p:spPr>
          <a:xfrm flipH="1" rot="16200000">
            <a:off x="3870360" y="5895360"/>
            <a:ext cx="431640" cy="39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18 Rectángulo"/>
          <p:cNvSpPr/>
          <p:nvPr/>
        </p:nvSpPr>
        <p:spPr>
          <a:xfrm>
            <a:off x="4716360" y="5373720"/>
            <a:ext cx="12225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Notificación por el personal del jurídico (sólo casos extraordinario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60"/>
          <p:cNvCxnSpPr>
            <a:endCxn id="69" idx="0"/>
          </p:cNvCxnSpPr>
          <p:nvPr/>
        </p:nvCxnSpPr>
        <p:spPr>
          <a:xfrm>
            <a:off x="4535640" y="4219200"/>
            <a:ext cx="1080" cy="28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18 Rectángulo"/>
          <p:cNvSpPr/>
          <p:nvPr/>
        </p:nvSpPr>
        <p:spPr>
          <a:xfrm>
            <a:off x="3708360" y="4005360"/>
            <a:ext cx="1584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 recibe el documento firmado por el Secretarío Ejecutivo o el Presidente según sea el cas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60"/>
          <p:cNvCxnSpPr>
            <a:endCxn id="83" idx="0"/>
          </p:cNvCxnSpPr>
          <p:nvPr/>
        </p:nvCxnSpPr>
        <p:spPr>
          <a:xfrm>
            <a:off x="4500360" y="378936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AutoShape 55"/>
          <p:cNvCxnSpPr>
            <a:stCxn id="69" idx="3"/>
            <a:endCxn id="80" idx="0"/>
          </p:cNvCxnSpPr>
          <p:nvPr/>
        </p:nvCxnSpPr>
        <p:spPr>
          <a:xfrm flipH="1">
            <a:off x="5327640" y="4796640"/>
            <a:ext cx="252720" cy="577440"/>
          </a:xfrm>
          <a:prstGeom prst="bentConnector4">
            <a:avLst>
              <a:gd name="adj1" fmla="val -234664"/>
              <a:gd name="adj2" fmla="val -895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55"/>
          <p:cNvCxnSpPr>
            <a:stCxn id="69" idx="1"/>
            <a:endCxn id="76" idx="0"/>
          </p:cNvCxnSpPr>
          <p:nvPr/>
        </p:nvCxnSpPr>
        <p:spPr>
          <a:xfrm flipH="1" flipV="1" rot="10800000">
            <a:off x="3492360" y="4796280"/>
            <a:ext cx="395640" cy="577440"/>
          </a:xfrm>
          <a:prstGeom prst="bentConnector4">
            <a:avLst>
              <a:gd name="adj1" fmla="val -113661"/>
              <a:gd name="adj2" fmla="val -895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dcterms:modified xsi:type="dcterms:W3CDTF">2012-05-08T15:19:54Z</dcterms:modified>
  <cp:revision>150</cp:revision>
  <dc:subject/>
  <dc:title>Diapositiva 1</dc:title>
</cp:coreProperties>
</file>