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B1E-4BC1-45FE-9E4A-B28D7D8133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7BC-0F2D-4D2A-8362-3F79C420B2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EA2B-1C79-486D-A686-40B47E88FE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C92-F433-4686-9201-C85A081B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FB8-DF5E-4D76-A59F-FCDAB6A6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1E3-5555-467C-A919-B485EF28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20B-F405-4ED8-9D2C-FA620937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170-5620-421F-9C70-9530AA6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471-10E2-4BB6-B13C-E7E0180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21B-493B-4253-833E-ECB567E1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752-733F-449F-9576-D5E8AE0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E7F-B524-4CA9-8022-0CD5929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500-AFB0-44CA-AB07-7A33A071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56A-34CD-493A-A766-7E647E75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A45-9E28-4830-A94F-1059DA53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6332-ED7B-4565-9371-6CE8B272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48EE-FAAF-4456-8189-B4F52017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9C9-292D-4A0A-931B-6A27ECDE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0D10-1630-4D7F-87F5-6C1F3355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10E8-EDE3-456A-9CB1-6CE8416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36C5-E3CF-4BAE-BC40-D512C537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211B-515F-4D58-B308-59EC6EE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6E77-8A39-42D6-A402-59CCACF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6DDB-C654-432D-981B-E0CD2C9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E757-353D-45BD-ADF9-CB5ADC4F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A129-67D8-4C3F-A8CF-7A5F1BB6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F90-50BE-4E99-86F6-CFBD8DBC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Organización para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A6C0B80-A98F-4394-94FC-0885504236F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67E7-75DB-4D4D-8B7F-A9CCA526C90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169-5EEE-4C15-92C5-07ABFD5A159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aron claves en las referencias de l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organización de consejo general asi como de los acuerdos emitidos en tales reuniones de consej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la solicitud para realizar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7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convocatorias para sesión de Consejo General y gu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01"/>
          <p:cNvSpPr/>
          <p:nvPr/>
        </p:nvSpPr>
        <p:spPr>
          <a:xfrm>
            <a:off x="333360" y="37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6 Rombo"/>
          <p:cNvSpPr/>
          <p:nvPr/>
        </p:nvSpPr>
        <p:spPr>
          <a:xfrm>
            <a:off x="3090960" y="340056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7 CuadroTexto"/>
          <p:cNvSpPr/>
          <p:nvPr/>
        </p:nvSpPr>
        <p:spPr>
          <a:xfrm>
            <a:off x="3141720" y="34704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64 Conector angular"/>
          <p:cNvCxnSpPr>
            <a:stCxn id="168" idx="1"/>
          </p:cNvCxnSpPr>
          <p:nvPr/>
        </p:nvCxnSpPr>
        <p:spPr>
          <a:xfrm flipV="1" rot="10800000">
            <a:off x="2420280" y="3578760"/>
            <a:ext cx="670680" cy="1640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1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64 Conector angular"/>
          <p:cNvCxnSpPr>
            <a:stCxn id="168" idx="3"/>
            <a:endCxn id="174" idx="0"/>
          </p:cNvCxnSpPr>
          <p:nvPr/>
        </p:nvCxnSpPr>
        <p:spPr>
          <a:xfrm>
            <a:off x="3948120" y="357948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" name="Rectangle 656"/>
          <p:cNvSpPr/>
          <p:nvPr/>
        </p:nvSpPr>
        <p:spPr>
          <a:xfrm>
            <a:off x="3573360" y="377676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jurídico con observaciones y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 / Gu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333360" y="514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4" idx="2"/>
            <a:endCxn id="179" idx="0"/>
          </p:cNvCxnSpPr>
          <p:nvPr/>
        </p:nvCxnSpPr>
        <p:spPr>
          <a:xfrm flipH="1">
            <a:off x="4436280" y="413676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hace solicitud a jurídico para realización de proyectos de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-ADM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3876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43876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 /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56"/>
          <p:cNvSpPr/>
          <p:nvPr/>
        </p:nvSpPr>
        <p:spPr>
          <a:xfrm>
            <a:off x="3573360" y="442116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epción de documento con acuerdos o resoluciones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3499920" y="7596360"/>
            <a:ext cx="252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32"/>
          <p:cNvCxnSpPr>
            <a:stCxn id="179" idx="2"/>
          </p:cNvCxnSpPr>
          <p:nvPr/>
        </p:nvCxnSpPr>
        <p:spPr>
          <a:xfrm flipH="1">
            <a:off x="4436280" y="4781160"/>
            <a:ext cx="252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649"/>
          <p:cNvCxnSpPr>
            <a:stCxn id="162" idx="2"/>
            <a:endCxn id="18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epción de acuerdos y se revisan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9100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-ADM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Ejecutivo / Abogado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49"/>
          <p:cNvCxnSpPr>
            <a:endCxn id="188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49"/>
          <p:cNvCxnSpPr>
            <a:stCxn id="188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00280" y="57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91000" y="5724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23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5653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18 Rectángulo"/>
          <p:cNvSpPr/>
          <p:nvPr/>
        </p:nvSpPr>
        <p:spPr>
          <a:xfrm>
            <a:off x="1700280" y="615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bilita el salón de pleno para sesión de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73720" y="6156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B)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1700280" y="6516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mbra lista y se ayuda con la moderación de sesión de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91000" y="651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uion / 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33360" y="651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6948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toman apuntes de observaciones de acuerdos  y se corrigen para entrega de documento final para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948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1"/>
          <p:cNvSpPr/>
          <p:nvPr/>
        </p:nvSpPr>
        <p:spPr>
          <a:xfrm>
            <a:off x="351000" y="68770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 /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1700280" y="7380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Oficialía de Partes para notificación o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738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33360" y="730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stCxn id="202" idx="2"/>
            <a:endCxn id="205" idx="0"/>
          </p:cNvCxnSpPr>
          <p:nvPr/>
        </p:nvCxnSpPr>
        <p:spPr>
          <a:xfrm flipH="1">
            <a:off x="3499560" y="716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32"/>
          <p:cNvCxnSpPr>
            <a:stCxn id="196" idx="2"/>
            <a:endCxn id="199" idx="0"/>
          </p:cNvCxnSpPr>
          <p:nvPr/>
        </p:nvCxnSpPr>
        <p:spPr>
          <a:xfrm>
            <a:off x="3499920" y="637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32"/>
          <p:cNvCxnSpPr>
            <a:stCxn id="193" idx="2"/>
            <a:endCxn id="196" idx="0"/>
          </p:cNvCxnSpPr>
          <p:nvPr/>
        </p:nvCxnSpPr>
        <p:spPr>
          <a:xfrm>
            <a:off x="349992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32"/>
          <p:cNvCxnSpPr>
            <a:stCxn id="199" idx="2"/>
            <a:endCxn id="202" idx="0"/>
          </p:cNvCxnSpPr>
          <p:nvPr/>
        </p:nvCxnSpPr>
        <p:spPr>
          <a:xfrm>
            <a:off x="3499920" y="6732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>
            <a:stCxn id="164" idx="2"/>
            <a:endCxn id="193" idx="0"/>
          </p:cNvCxnSpPr>
          <p:nvPr/>
        </p:nvCxnSpPr>
        <p:spPr>
          <a:xfrm flipH="1">
            <a:off x="3499560" y="543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26T00:24:01Z</dcterms:modified>
  <cp:revision>339</cp:revision>
  <dc:subject/>
  <dc:title>Presentación de PowerPoint</dc:title>
</cp:coreProperties>
</file>