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C1B3-00F6-4D72-B769-F0355F3C3E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A1FA-201C-41B5-A5D4-F11AD2BFA2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5B20-7218-40C8-B47F-ED86F59957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77F-1F79-4DD7-86E5-2DFBA4A5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739-B7A1-42EB-8BF3-99CDE496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30E-4AAE-4C63-8C69-7F69157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CBE-4230-404F-AEAB-4D0E762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B85-B5F5-4AC8-A322-28F78E3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443-92FD-4FD7-925C-E42116F9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44B-1B09-47E2-BAD8-2A9BF1A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31C-25AE-4B5F-A1D9-499D492C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126-6D17-41B9-8B5C-B910252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264-7516-412D-9D03-C656B30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F9A-D7DF-4B72-A6EE-910275BA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6C6-A7CC-4339-8AF3-9E4EFF80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5B2-E224-4435-9922-AA8EB3FB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785-95F5-421A-A147-E97313BF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1C67-5BDE-4497-A6FF-7BF3EA5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055-0628-4DCC-B7A4-5518402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4E1-BD79-4C51-88AA-3DC049A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383-BCA8-468D-8F72-D094D47A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14CA-1B71-42A9-BA84-0729D85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95DE-ECEC-4259-AA63-DFB739D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821-DCE3-49C4-8251-3298A41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68F6-7565-4B1D-8014-468830B1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66C9-5221-49AF-80AC-CC8C0993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8BEE-0B70-4074-8313-C8207B58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ADF3-95F1-43E2-B722-A3A7987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D7F5-1A44-4780-BA31-9FD398F1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08D0-CA7B-482E-8A2E-901FEF87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ED08-CD88-4B39-940B-C4D3D23A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0A4F-7380-4BCD-9BBB-4CFB06A2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56AC-7CFC-4FD6-BD31-3356564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D295-A3FA-4B0A-A4E5-390DBC4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E8DC-177C-4C14-A5F3-2C50A05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3D0E-AE86-443F-B718-C05B0C4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5579-A40D-4046-BEBB-F8BEE792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68F1-647B-46D5-AA81-6C07798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395B-9108-4343-8108-0BEF0FDB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EBE9F8B-3166-416F-9213-A5ACADE91E7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DD55-C19D-48A5-9A7A-5CF91611FDD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75BF-E3D8-44F0-8A6A-41D9EA5686C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9BE8-FF87-4EEE-A627-B28CEB3591F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diversas necesidades de las actividades de las diferentes Direcciones, cumpliendo en tiempo y forma en un 95% lo solici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mencionado a continuación es para colaborar con los eventos que lleva el IEPC, los cuales requieren ayuda téc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 por parte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comunicación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15 / P-OPE-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/ rueda de pren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9:09:53Z</dcterms:modified>
  <cp:revision>322</cp:revision>
  <dc:subject/>
  <dc:title>Presentación de PowerPoint</dc:title>
</cp:coreProperties>
</file>