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6C76-57BF-49FF-B38D-7F12C5EA34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88FC-A746-4711-B7BC-24A4C918D0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C7F4-B875-46B9-B7BA-2646892032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038-7668-40E4-BA0A-BE0EC9EB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F26-B805-4346-B73E-565BBBC0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1EA-6C0A-4D75-948E-2EDE291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073-10A2-45A4-AE55-01CAA27B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780-F3F1-467C-9ED0-28039F5F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DF0-A4B9-438A-9F70-7959DCAB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5C2-F685-4408-8D52-295DFC9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87F-2C5C-46E9-B4D1-D8FB083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B37-1C73-400E-BF54-C7FE9D8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522-E1B2-40AA-BB6A-59EC5FCE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2B4-9B1A-4C9C-8292-5C36AAB6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9B9-4AB0-4614-8685-3F898E93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6B0-4D74-411F-AC6D-A5E48812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6786-5612-4EEA-993E-1FF299B7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9F48-05EA-4991-9A6B-98ED31AE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CDB0-1BFC-4300-AC3D-FAF272DC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50F5-8909-4858-9A81-CFB74BC2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0677-BACE-4E93-B65C-DAC2DC12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9DE9-192F-48DD-BC27-DA1BBA0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F425-3615-410B-97D8-6AB7B706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11C2-E2AA-4D50-A14F-0E2913B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CEFB-1F36-4657-BB6E-FE1967CA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C4CF-8AD2-4D2A-BAA5-28105890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7FEE-A63A-4500-A9E7-F2D75DFC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gistro de representantes de partidos politicos ante la M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59FC935-B7B7-4454-A94B-5D1C5BBACF4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Director de Organización, Geografía y Estadística Electo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6CA3-944C-4BDF-9ACB-93375C02C06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3B6-749F-45A9-AAD6-6DDF4B9F61E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 incluyo terminologia y se agregraron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Otorgar el nombramiento de los representantes de los partidos políticos ante las Mesas Directivas de Casill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Identificar la asignación de los representantes de los partidos políticos ante Mesa Directiva de Casil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260280" y="266544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MDC: Mesa Directiva de Cas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3000" y="1835280"/>
            <a:ext cx="57492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</p:cNvCxnSpPr>
          <p:nvPr/>
        </p:nvCxnSpPr>
        <p:spPr>
          <a:xfrm>
            <a:off x="3499200" y="2000160"/>
            <a:ext cx="108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3"/>
          <p:cNvSpPr/>
          <p:nvPr/>
        </p:nvSpPr>
        <p:spPr>
          <a:xfrm>
            <a:off x="1698480" y="2411280"/>
            <a:ext cx="36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Publicación de las listas de ubicación de casi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4"/>
          <p:cNvCxnSpPr>
            <a:stCxn id="162" idx="2"/>
            <a:endCxn id="164" idx="0"/>
          </p:cNvCxnSpPr>
          <p:nvPr/>
        </p:nvCxnSpPr>
        <p:spPr>
          <a:xfrm>
            <a:off x="3498840" y="2771280"/>
            <a:ext cx="21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18 Rectángulo"/>
          <p:cNvSpPr/>
          <p:nvPr/>
        </p:nvSpPr>
        <p:spPr>
          <a:xfrm>
            <a:off x="1700280" y="4213080"/>
            <a:ext cx="3600360" cy="5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Instituto devuelve dos ejemplares debidamente sellados a los partidos políticos, conservando para si uno de ell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0"/>
          <p:cNvSpPr/>
          <p:nvPr/>
        </p:nvSpPr>
        <p:spPr>
          <a:xfrm>
            <a:off x="404640" y="2413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34"/>
          <p:cNvSpPr/>
          <p:nvPr/>
        </p:nvSpPr>
        <p:spPr>
          <a:xfrm>
            <a:off x="3213000" y="6084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4"/>
          <p:cNvCxnSpPr/>
          <p:nvPr/>
        </p:nvCxnSpPr>
        <p:spPr>
          <a:xfrm>
            <a:off x="3500280" y="5724000"/>
            <a:ext cx="57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73720" y="2411280"/>
            <a:ext cx="127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Ubicación de casillas electorales (Ubicasillas y reporte de publicació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260280" y="320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3"/>
          <p:cNvSpPr/>
          <p:nvPr/>
        </p:nvSpPr>
        <p:spPr>
          <a:xfrm>
            <a:off x="1700280" y="3132000"/>
            <a:ext cx="360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Registro de representantes de partidos políticos generales y de casilla, en su propia documentación y por triplicado ante el Instituto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684"/>
          <p:cNvCxnSpPr>
            <a:endCxn id="165" idx="0"/>
          </p:cNvCxnSpPr>
          <p:nvPr/>
        </p:nvCxnSpPr>
        <p:spPr>
          <a:xfrm flipH="1">
            <a:off x="3499560" y="3852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1"/>
          <p:cNvSpPr/>
          <p:nvPr/>
        </p:nvSpPr>
        <p:spPr>
          <a:xfrm>
            <a:off x="333360" y="4140360"/>
            <a:ext cx="1224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Operación, Jefe del Departamento de Geografía y Diseño, Jefe del Departamento de Seguimiento y Análisis, Jefe del Departamento de Estadística, Coordinador Cent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5148360"/>
            <a:ext cx="360036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Sustitución de representantes de partidos políticos mediante escrito firmado por el dirigente o representante del partido político que haga el nombra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AutoShape 684"/>
          <p:cNvCxnSpPr/>
          <p:nvPr/>
        </p:nvCxnSpPr>
        <p:spPr>
          <a:xfrm>
            <a:off x="3500280" y="4787640"/>
            <a:ext cx="57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701"/>
          <p:cNvSpPr/>
          <p:nvPr/>
        </p:nvSpPr>
        <p:spPr>
          <a:xfrm>
            <a:off x="5445000" y="52196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representante de partido ante mesas directivas de casi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1"/>
          <p:cNvSpPr/>
          <p:nvPr/>
        </p:nvSpPr>
        <p:spPr>
          <a:xfrm>
            <a:off x="5445000" y="4284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representante de partido ante mesas directivas de casi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5445000" y="3276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representante de partido ante mesas directivas de casi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oledad Alatorre</cp:lastModifiedBy>
  <dcterms:modified xsi:type="dcterms:W3CDTF">2012-04-05T17:41:47Z</dcterms:modified>
  <cp:revision>333</cp:revision>
  <dc:subject/>
  <dc:title>Presentación de PowerPoint</dc:title>
</cp:coreProperties>
</file>