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8D31-3939-4F03-8524-FDBA64C2FA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429D-F5A4-40E5-BE67-07D972170B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63EB-8467-4270-AD2A-8CB2664365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82AD-691B-4A28-AEE6-D1FF3C0F64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E38A-2566-4E1F-BF0E-821AC76711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85B-5D24-4620-A15E-0C793580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5D9-E4E2-48E6-96B7-02B590AB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C42-4227-4A53-AE80-DDFA5B4A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983-13DD-47A5-86BF-A53E413A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7D3-06B7-4642-BB14-4D4E8E3C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426-3DD5-410F-B908-8A0CCADB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70E-8453-4B18-AD59-A49B2E9A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CAB-218B-4A09-B173-337EDF24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306-C6C4-496D-9D77-DF5AE984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D81-F282-42E0-AD7A-10902BE8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9D2-8F8E-4816-B658-0478B24C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49E-F18A-4283-BC59-88C2699D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CCEC-F05A-445D-94E6-EE25CFBD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993F-B100-4D87-90FE-FE4FA858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72D2-CD2F-415F-9AFC-2EFA6DA2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DA35-56E1-4855-A29E-A1A1DB31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8607-5B77-406E-BC07-2B78826C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9E70-D8A2-4A6A-A43C-1E0F6E82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F64D-D90A-44DE-AACD-9BBC6E6E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CF96-BD54-42EA-BCE6-7905D543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9885-EDA2-4074-B5E2-DEBAA08F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D3EB-263D-496E-BB1D-3190A25D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F278-291B-4759-840E-889B803D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7915-D01E-4D7B-ABF5-B0E165B5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25B8-FDFD-4C18-991D-EF131FBE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2852-437F-4839-A21D-47E74BE6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31ED-8271-4DBF-912B-01E03EE5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DA8B-C53C-4463-9CBA-71E6FF6E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1D8D-CE19-495C-AA32-E7632614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57FF-E075-40D2-A5AE-B6E2CCD7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D78A-F0E1-4589-98DD-7FC110D1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B9D8-D013-4CE5-8B45-6AE68DE4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9174C-9A3D-4BD4-B9C0-B193F1A2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27A1-ED7E-48D4-B843-6FD66CCF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0B7F-B45D-48DE-8BBE-8106B44D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2458-1270-49BE-9325-FE438B45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4EC6-2730-4730-B460-86CB0FE9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9AC5-06B0-43AF-BAE8-EAF36471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427BE-F085-41C1-ADB4-1394945D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C7316-30BF-4CD6-9F9D-87A33DA0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72264-BDD5-4E0C-85E5-0AB2BDA1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884AA-D3A2-4C03-9AE6-D7FC8E7D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C7F80-D42D-417F-B728-4457A338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EEEAA-5604-48A1-A72E-5557A3E1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77019-212A-4D5B-9C3E-4D4AA22F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E0C0-3146-4A78-A484-4A689B55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68FA-F4C9-48B8-A675-B88D1300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12412-6EEC-4037-A444-C66DD913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E5596-CE24-4C34-BA8D-2AAE3A1A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5CF67-91AA-4501-BCE9-C6084CDB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1155B-AFE7-4367-9A85-E2E53BEB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99BD-B4B2-441F-B245-22AED2A9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E2A35-1570-4415-B69B-DC932C14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E4455-3FCC-40F1-AB0D-B18B7284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DE259-EFA8-412B-B1CA-3B73051A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072CB-0A9F-4B2B-ABBA-AF97DF51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7592F-6D2D-40CF-BFBD-4E07701A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1974A-3C58-42C4-BB6B-16154B3D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D5D30-637C-4F26-8108-A3CD0AC2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4A793-0886-4CF8-B783-08F3357D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citación Elect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6D0578D-DF79-4622-A590-945D8392B51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rector Capacitación Electoral y Educación Cív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0-02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2AA5-CDAB-49D5-B3C5-DC17831F3BC2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8C86-F431-4B86-AF88-7D764BDA481F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1073-18B6-421B-848A-58F876D2FF7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514D-E9E6-4C4B-A188-AB594E2381A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3A47-DA3F-4DB3-A7F9-EBFE6370CB1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gmentación d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rrección de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-02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25"/>
          <p:cNvSpPr/>
          <p:nvPr/>
        </p:nvSpPr>
        <p:spPr>
          <a:xfrm>
            <a:off x="343080" y="2158920"/>
            <a:ext cx="63259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de capacitación electoral en el proceso de certificación de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26"/>
          <p:cNvSpPr/>
          <p:nvPr/>
        </p:nvSpPr>
        <p:spPr>
          <a:xfrm>
            <a:off x="333360" y="2860560"/>
            <a:ext cx="6335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AES:  Capacitadores Asistentes Electo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NSEL: Sistema de Información y Seguimiento Elec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V: Curriculum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503"/>
          <p:cNvSpPr/>
          <p:nvPr/>
        </p:nvSpPr>
        <p:spPr>
          <a:xfrm>
            <a:off x="2205000" y="1647720"/>
            <a:ext cx="25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ELECCI</a:t>
            </a:r>
            <a:r>
              <a:rPr b="1" lang="is-IS" sz="11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N Y CONTRATACION DE PERSONAL CENTRAL Y DISTRI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48"/>
          <p:cNvSpPr/>
          <p:nvPr/>
        </p:nvSpPr>
        <p:spPr>
          <a:xfrm>
            <a:off x="3214800" y="2340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AutoShape 649"/>
          <p:cNvCxnSpPr>
            <a:stCxn id="284" idx="2"/>
            <a:endCxn id="286" idx="0"/>
          </p:cNvCxnSpPr>
          <p:nvPr/>
        </p:nvCxnSpPr>
        <p:spPr>
          <a:xfrm flipH="1">
            <a:off x="3498120" y="250488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Rectangle 652"/>
          <p:cNvSpPr/>
          <p:nvPr/>
        </p:nvSpPr>
        <p:spPr>
          <a:xfrm>
            <a:off x="1698480" y="26496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la convocatoria para inicio de proces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53"/>
          <p:cNvSpPr/>
          <p:nvPr/>
        </p:nvSpPr>
        <p:spPr>
          <a:xfrm>
            <a:off x="1701720" y="33066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trata personal eventual: distrital y central a perfil requerido y se informa 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65"/>
          <p:cNvSpPr/>
          <p:nvPr/>
        </p:nvSpPr>
        <p:spPr>
          <a:xfrm>
            <a:off x="5373720" y="41623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valuación de cur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66"/>
          <p:cNvSpPr/>
          <p:nvPr/>
        </p:nvSpPr>
        <p:spPr>
          <a:xfrm>
            <a:off x="5369040" y="3271680"/>
            <a:ext cx="127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lación de aspirantes / P-ADM 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681"/>
          <p:cNvCxnSpPr>
            <a:stCxn id="291" idx="2"/>
            <a:endCxn id="287" idx="0"/>
          </p:cNvCxnSpPr>
          <p:nvPr/>
        </p:nvCxnSpPr>
        <p:spPr>
          <a:xfrm>
            <a:off x="3492000" y="3160440"/>
            <a:ext cx="1044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AutoShape 684"/>
          <p:cNvCxnSpPr>
            <a:stCxn id="287" idx="2"/>
            <a:endCxn id="293" idx="0"/>
          </p:cNvCxnSpPr>
          <p:nvPr/>
        </p:nvCxnSpPr>
        <p:spPr>
          <a:xfrm>
            <a:off x="3501720" y="3522240"/>
            <a:ext cx="10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Rectangle 700"/>
          <p:cNvSpPr/>
          <p:nvPr/>
        </p:nvSpPr>
        <p:spPr>
          <a:xfrm>
            <a:off x="396720" y="29480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01"/>
          <p:cNvSpPr/>
          <p:nvPr/>
        </p:nvSpPr>
        <p:spPr>
          <a:xfrm>
            <a:off x="333360" y="36702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66"/>
          <p:cNvSpPr/>
          <p:nvPr/>
        </p:nvSpPr>
        <p:spPr>
          <a:xfrm>
            <a:off x="5373720" y="36576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rso a coordinadores / personal eventual / manual de bienven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56"/>
          <p:cNvSpPr/>
          <p:nvPr/>
        </p:nvSpPr>
        <p:spPr>
          <a:xfrm>
            <a:off x="1701720" y="37288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acita a personal contratado de las áreas del institu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AutoShape 685"/>
          <p:cNvCxnSpPr>
            <a:stCxn id="293" idx="2"/>
          </p:cNvCxnSpPr>
          <p:nvPr/>
        </p:nvCxnSpPr>
        <p:spPr>
          <a:xfrm>
            <a:off x="3501720" y="39448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18 Rectángulo"/>
          <p:cNvSpPr/>
          <p:nvPr/>
        </p:nvSpPr>
        <p:spPr>
          <a:xfrm>
            <a:off x="1701720" y="4087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evaluación del curso a capaci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66"/>
          <p:cNvSpPr/>
          <p:nvPr/>
        </p:nvSpPr>
        <p:spPr>
          <a:xfrm>
            <a:off x="5373720" y="26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eclar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00"/>
          <p:cNvSpPr/>
          <p:nvPr/>
        </p:nvSpPr>
        <p:spPr>
          <a:xfrm>
            <a:off x="404640" y="25779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52"/>
          <p:cNvSpPr/>
          <p:nvPr/>
        </p:nvSpPr>
        <p:spPr>
          <a:xfrm>
            <a:off x="1692360" y="2944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epción de C. V. y S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AutoShape 681"/>
          <p:cNvCxnSpPr/>
          <p:nvPr/>
        </p:nvCxnSpPr>
        <p:spPr>
          <a:xfrm>
            <a:off x="3492000" y="2863800"/>
            <a:ext cx="1044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700"/>
          <p:cNvSpPr/>
          <p:nvPr/>
        </p:nvSpPr>
        <p:spPr>
          <a:xfrm>
            <a:off x="406440" y="327168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01"/>
          <p:cNvSpPr/>
          <p:nvPr/>
        </p:nvSpPr>
        <p:spPr>
          <a:xfrm>
            <a:off x="333360" y="41274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66"/>
          <p:cNvSpPr/>
          <p:nvPr/>
        </p:nvSpPr>
        <p:spPr>
          <a:xfrm>
            <a:off x="5373720" y="29941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. V. / formato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32"/>
          <p:cNvCxnSpPr/>
          <p:nvPr/>
        </p:nvCxnSpPr>
        <p:spPr>
          <a:xfrm>
            <a:off x="3525480" y="430344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Oval 34"/>
          <p:cNvSpPr/>
          <p:nvPr/>
        </p:nvSpPr>
        <p:spPr>
          <a:xfrm>
            <a:off x="3213000" y="44496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648"/>
          <p:cNvSpPr/>
          <p:nvPr/>
        </p:nvSpPr>
        <p:spPr>
          <a:xfrm>
            <a:off x="3068640" y="1979640"/>
            <a:ext cx="86508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649"/>
          <p:cNvCxnSpPr>
            <a:stCxn id="313" idx="2"/>
            <a:endCxn id="315" idx="0"/>
          </p:cNvCxnSpPr>
          <p:nvPr/>
        </p:nvCxnSpPr>
        <p:spPr>
          <a:xfrm flipH="1">
            <a:off x="3498480" y="21445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Rectangle 652"/>
          <p:cNvSpPr/>
          <p:nvPr/>
        </p:nvSpPr>
        <p:spPr>
          <a:xfrm>
            <a:off x="1698480" y="22892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publica la convocatoria de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53"/>
          <p:cNvSpPr/>
          <p:nvPr/>
        </p:nvSpPr>
        <p:spPr>
          <a:xfrm>
            <a:off x="1701720" y="29462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entrevistas a los aspirantes a C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61"/>
          <p:cNvSpPr/>
          <p:nvPr/>
        </p:nvSpPr>
        <p:spPr>
          <a:xfrm>
            <a:off x="330120" y="35496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ub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AutoShape 681"/>
          <p:cNvCxnSpPr>
            <a:stCxn id="319" idx="2"/>
            <a:endCxn id="316" idx="0"/>
          </p:cNvCxnSpPr>
          <p:nvPr/>
        </p:nvCxnSpPr>
        <p:spPr>
          <a:xfrm>
            <a:off x="3492000" y="2800080"/>
            <a:ext cx="1044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AutoShape 684"/>
          <p:cNvCxnSpPr>
            <a:stCxn id="316" idx="2"/>
            <a:endCxn id="321" idx="0"/>
          </p:cNvCxnSpPr>
          <p:nvPr/>
        </p:nvCxnSpPr>
        <p:spPr>
          <a:xfrm>
            <a:off x="3501720" y="3161880"/>
            <a:ext cx="10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Rectangle 656"/>
          <p:cNvSpPr/>
          <p:nvPr/>
        </p:nvSpPr>
        <p:spPr>
          <a:xfrm>
            <a:off x="1701720" y="33685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plica examen  a los aspirantes a C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685"/>
          <p:cNvCxnSpPr>
            <a:stCxn id="321" idx="2"/>
          </p:cNvCxnSpPr>
          <p:nvPr/>
        </p:nvCxnSpPr>
        <p:spPr>
          <a:xfrm>
            <a:off x="3501720" y="35845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Rectangle 701"/>
          <p:cNvSpPr/>
          <p:nvPr/>
        </p:nvSpPr>
        <p:spPr>
          <a:xfrm>
            <a:off x="333360" y="254952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18 Rectángulo"/>
          <p:cNvSpPr/>
          <p:nvPr/>
        </p:nvSpPr>
        <p:spPr>
          <a:xfrm>
            <a:off x="1701720" y="3727440"/>
            <a:ext cx="3600360" cy="216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una selección de los CA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701"/>
          <p:cNvSpPr/>
          <p:nvPr/>
        </p:nvSpPr>
        <p:spPr>
          <a:xfrm>
            <a:off x="333360" y="29494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 / subcoordinadores centr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700"/>
          <p:cNvSpPr/>
          <p:nvPr/>
        </p:nvSpPr>
        <p:spPr>
          <a:xfrm>
            <a:off x="404640" y="22176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52"/>
          <p:cNvSpPr/>
          <p:nvPr/>
        </p:nvSpPr>
        <p:spPr>
          <a:xfrm>
            <a:off x="1692360" y="25844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n Solicitudes de Aspirante a 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" name="AutoShape 681"/>
          <p:cNvCxnSpPr/>
          <p:nvPr/>
        </p:nvCxnSpPr>
        <p:spPr>
          <a:xfrm>
            <a:off x="3492000" y="2503440"/>
            <a:ext cx="1044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Rectangle 666"/>
          <p:cNvSpPr/>
          <p:nvPr/>
        </p:nvSpPr>
        <p:spPr>
          <a:xfrm>
            <a:off x="5373720" y="2289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66"/>
          <p:cNvSpPr/>
          <p:nvPr/>
        </p:nvSpPr>
        <p:spPr>
          <a:xfrm>
            <a:off x="5373720" y="25621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66"/>
          <p:cNvSpPr/>
          <p:nvPr/>
        </p:nvSpPr>
        <p:spPr>
          <a:xfrm>
            <a:off x="5373720" y="29224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Entrevi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66"/>
          <p:cNvSpPr/>
          <p:nvPr/>
        </p:nvSpPr>
        <p:spPr>
          <a:xfrm>
            <a:off x="5373720" y="33544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66"/>
          <p:cNvSpPr/>
          <p:nvPr/>
        </p:nvSpPr>
        <p:spPr>
          <a:xfrm>
            <a:off x="5373720" y="37148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o de CAES aprob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01"/>
          <p:cNvSpPr/>
          <p:nvPr/>
        </p:nvSpPr>
        <p:spPr>
          <a:xfrm>
            <a:off x="341280" y="452448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18 Rectángulo"/>
          <p:cNvSpPr/>
          <p:nvPr/>
        </p:nvSpPr>
        <p:spPr>
          <a:xfrm>
            <a:off x="1689120" y="4186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trata a capacitadores asistentes electorales (CA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18 Rectángulo"/>
          <p:cNvSpPr/>
          <p:nvPr/>
        </p:nvSpPr>
        <p:spPr>
          <a:xfrm>
            <a:off x="1689120" y="4608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acita a CAES para sus funcion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32"/>
          <p:cNvCxnSpPr>
            <a:stCxn id="334" idx="2"/>
            <a:endCxn id="335" idx="0"/>
          </p:cNvCxnSpPr>
          <p:nvPr/>
        </p:nvCxnSpPr>
        <p:spPr>
          <a:xfrm>
            <a:off x="3489120" y="4401720"/>
            <a:ext cx="10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Rectangle 701"/>
          <p:cNvSpPr/>
          <p:nvPr/>
        </p:nvSpPr>
        <p:spPr>
          <a:xfrm>
            <a:off x="333360" y="41432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66"/>
          <p:cNvSpPr/>
          <p:nvPr/>
        </p:nvSpPr>
        <p:spPr>
          <a:xfrm>
            <a:off x="5381640" y="42163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66"/>
          <p:cNvSpPr/>
          <p:nvPr/>
        </p:nvSpPr>
        <p:spPr>
          <a:xfrm>
            <a:off x="5381640" y="5024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T-OPE-01 Estrategia general de capacitadores electorales / Cuestionario de aptitud y disponibilidad /Carta notificación / materia de capacitación a ciudadanos insacul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AutoShape 32"/>
          <p:cNvCxnSpPr>
            <a:stCxn id="335" idx="2"/>
            <a:endCxn id="341" idx="0"/>
          </p:cNvCxnSpPr>
          <p:nvPr/>
        </p:nvCxnSpPr>
        <p:spPr>
          <a:xfrm flipH="1">
            <a:off x="3484080" y="4824000"/>
            <a:ext cx="57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Rectangle 666"/>
          <p:cNvSpPr/>
          <p:nvPr/>
        </p:nvSpPr>
        <p:spPr>
          <a:xfrm>
            <a:off x="5381640" y="45036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rsos CAES / Manual de Bienvenida / guía técnica para capacit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18 Rectángulo"/>
          <p:cNvSpPr/>
          <p:nvPr/>
        </p:nvSpPr>
        <p:spPr>
          <a:xfrm>
            <a:off x="1684440" y="50608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hace evaluación a CA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01"/>
          <p:cNvSpPr/>
          <p:nvPr/>
        </p:nvSpPr>
        <p:spPr>
          <a:xfrm>
            <a:off x="341280" y="48816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 / subcoordinadores centr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AutoShape 32"/>
          <p:cNvCxnSpPr>
            <a:stCxn id="341" idx="2"/>
          </p:cNvCxnSpPr>
          <p:nvPr/>
        </p:nvCxnSpPr>
        <p:spPr>
          <a:xfrm>
            <a:off x="3484440" y="5276520"/>
            <a:ext cx="1512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AutoShape 685"/>
          <p:cNvCxnSpPr>
            <a:stCxn id="324" idx="2"/>
          </p:cNvCxnSpPr>
          <p:nvPr/>
        </p:nvCxnSpPr>
        <p:spPr>
          <a:xfrm flipH="1">
            <a:off x="3499560" y="3943080"/>
            <a:ext cx="252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Oval 34"/>
          <p:cNvSpPr/>
          <p:nvPr/>
        </p:nvSpPr>
        <p:spPr>
          <a:xfrm>
            <a:off x="3193920" y="55292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03"/>
          <p:cNvSpPr/>
          <p:nvPr/>
        </p:nvSpPr>
        <p:spPr>
          <a:xfrm>
            <a:off x="2205000" y="1647720"/>
            <a:ext cx="26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CLUTAMIENTO Y SELECCI</a:t>
            </a:r>
            <a:r>
              <a:rPr b="1" lang="is-IS" sz="11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N DE CAE´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648"/>
          <p:cNvSpPr/>
          <p:nvPr/>
        </p:nvSpPr>
        <p:spPr>
          <a:xfrm>
            <a:off x="3068640" y="2556000"/>
            <a:ext cx="86508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61"/>
          <p:cNvSpPr/>
          <p:nvPr/>
        </p:nvSpPr>
        <p:spPr>
          <a:xfrm>
            <a:off x="341280" y="33703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ub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701"/>
          <p:cNvSpPr/>
          <p:nvPr/>
        </p:nvSpPr>
        <p:spPr>
          <a:xfrm>
            <a:off x="341280" y="27939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 / subcoordinadores centr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18 Rectángulo"/>
          <p:cNvSpPr/>
          <p:nvPr/>
        </p:nvSpPr>
        <p:spPr>
          <a:xfrm>
            <a:off x="1698480" y="2973240"/>
            <a:ext cx="360072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notificación y capacitación a ciudadanos insaculados de acuerdo a sorteo generado por Consejo General y Consejos Distri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61"/>
          <p:cNvSpPr/>
          <p:nvPr/>
        </p:nvSpPr>
        <p:spPr>
          <a:xfrm>
            <a:off x="339840" y="39448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66"/>
          <p:cNvSpPr/>
          <p:nvPr/>
        </p:nvSpPr>
        <p:spPr>
          <a:xfrm>
            <a:off x="5381640" y="35686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istado de ciudad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18 Rectángulo"/>
          <p:cNvSpPr/>
          <p:nvPr/>
        </p:nvSpPr>
        <p:spPr>
          <a:xfrm>
            <a:off x="1709640" y="354168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listado de ciudadanos aptos y dispuestos y se seleccionan los Funcionarios de Mesa Directiva de Cas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32"/>
          <p:cNvCxnSpPr>
            <a:stCxn id="357" idx="2"/>
            <a:endCxn id="360" idx="0"/>
          </p:cNvCxnSpPr>
          <p:nvPr/>
        </p:nvCxnSpPr>
        <p:spPr>
          <a:xfrm>
            <a:off x="3498480" y="3227040"/>
            <a:ext cx="1188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32"/>
          <p:cNvCxnSpPr>
            <a:stCxn id="360" idx="2"/>
            <a:endCxn id="363" idx="0"/>
          </p:cNvCxnSpPr>
          <p:nvPr/>
        </p:nvCxnSpPr>
        <p:spPr>
          <a:xfrm flipH="1">
            <a:off x="3507480" y="3757680"/>
            <a:ext cx="25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Rectangle 661"/>
          <p:cNvSpPr/>
          <p:nvPr/>
        </p:nvSpPr>
        <p:spPr>
          <a:xfrm>
            <a:off x="333360" y="41972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ub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666"/>
          <p:cNvSpPr/>
          <p:nvPr/>
        </p:nvSpPr>
        <p:spPr>
          <a:xfrm>
            <a:off x="5381640" y="383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 / materia de capacitación a funcionarios directivos de casilla / 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18 Rectángulo"/>
          <p:cNvSpPr/>
          <p:nvPr/>
        </p:nvSpPr>
        <p:spPr>
          <a:xfrm>
            <a:off x="1708200" y="39434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apacitación a funcionarios de mesa directiva de cas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AutoShape 32"/>
          <p:cNvCxnSpPr/>
          <p:nvPr/>
        </p:nvCxnSpPr>
        <p:spPr>
          <a:xfrm flipH="1">
            <a:off x="3498480" y="4132080"/>
            <a:ext cx="100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Rectangle 661"/>
          <p:cNvSpPr/>
          <p:nvPr/>
        </p:nvSpPr>
        <p:spPr>
          <a:xfrm>
            <a:off x="339840" y="47372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66"/>
          <p:cNvSpPr/>
          <p:nvPr/>
        </p:nvSpPr>
        <p:spPr>
          <a:xfrm>
            <a:off x="5391000" y="4643280"/>
            <a:ext cx="12765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18 Rectángulo"/>
          <p:cNvSpPr/>
          <p:nvPr/>
        </p:nvSpPr>
        <p:spPr>
          <a:xfrm>
            <a:off x="1673280" y="46274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informe por parte de Coordinadores Distrital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61"/>
          <p:cNvSpPr/>
          <p:nvPr/>
        </p:nvSpPr>
        <p:spPr>
          <a:xfrm>
            <a:off x="333360" y="50259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66"/>
          <p:cNvSpPr/>
          <p:nvPr/>
        </p:nvSpPr>
        <p:spPr>
          <a:xfrm>
            <a:off x="5389560" y="5003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18 Rectángulo"/>
          <p:cNvSpPr/>
          <p:nvPr/>
        </p:nvSpPr>
        <p:spPr>
          <a:xfrm>
            <a:off x="1708200" y="4987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informe final de dire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AutoShape 32"/>
          <p:cNvCxnSpPr/>
          <p:nvPr/>
        </p:nvCxnSpPr>
        <p:spPr>
          <a:xfrm>
            <a:off x="3507840" y="52038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32"/>
          <p:cNvCxnSpPr>
            <a:stCxn id="354" idx="2"/>
            <a:endCxn id="357" idx="0"/>
          </p:cNvCxnSpPr>
          <p:nvPr/>
        </p:nvCxnSpPr>
        <p:spPr>
          <a:xfrm flipH="1">
            <a:off x="3498120" y="2720520"/>
            <a:ext cx="396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5" name="18 Rectángulo"/>
          <p:cNvSpPr/>
          <p:nvPr/>
        </p:nvSpPr>
        <p:spPr>
          <a:xfrm>
            <a:off x="1708200" y="42688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simulacro de la Jornada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AutoShape 32"/>
          <p:cNvCxnSpPr/>
          <p:nvPr/>
        </p:nvCxnSpPr>
        <p:spPr>
          <a:xfrm flipH="1">
            <a:off x="3498480" y="4492440"/>
            <a:ext cx="100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AutoShape 32"/>
          <p:cNvCxnSpPr>
            <a:endCxn id="372" idx="0"/>
          </p:cNvCxnSpPr>
          <p:nvPr/>
        </p:nvCxnSpPr>
        <p:spPr>
          <a:xfrm flipH="1">
            <a:off x="3507480" y="4844520"/>
            <a:ext cx="2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Oval 34"/>
          <p:cNvSpPr/>
          <p:nvPr/>
        </p:nvSpPr>
        <p:spPr>
          <a:xfrm>
            <a:off x="3193920" y="534996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66"/>
          <p:cNvSpPr/>
          <p:nvPr/>
        </p:nvSpPr>
        <p:spPr>
          <a:xfrm>
            <a:off x="5381640" y="2577960"/>
            <a:ext cx="1278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T-OPE-01 /Estrategia general de capacitadores electorales / Cuestionario de aptitud y disponibilidad /Carta notificación / materia de capacitación a ciudadanos insacul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503"/>
          <p:cNvSpPr/>
          <p:nvPr/>
        </p:nvSpPr>
        <p:spPr>
          <a:xfrm>
            <a:off x="2205000" y="1647720"/>
            <a:ext cx="2519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CAPACITACION ELECTORAL A FUNCIONARIOS DE MESA DIRECTIVA DE CASIL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66"/>
          <p:cNvSpPr/>
          <p:nvPr/>
        </p:nvSpPr>
        <p:spPr>
          <a:xfrm>
            <a:off x="5373720" y="4284720"/>
            <a:ext cx="1276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jaime.montano</cp:lastModifiedBy>
  <dcterms:modified xsi:type="dcterms:W3CDTF">2012-04-26T17:25:42Z</dcterms:modified>
  <cp:revision>354</cp:revision>
  <dc:subject/>
  <dc:title>Presentación de PowerPoint</dc:title>
</cp:coreProperties>
</file>