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370-E38C-47E2-B657-F437251450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D9F-7B84-4225-AA59-9C7EC7BD1C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2CA-E421-4BCF-9CBF-B8726AC78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A02-229B-4325-9DD2-B5348309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380-ECBE-4028-9CB9-76C2F01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8BD-1555-4A0D-8B85-19A980DE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509-166A-4F62-88EA-99E6EFE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EBB-44A2-434A-AB0B-E3A18833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7E5-1921-4AFE-9674-4A5148E8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DEA-EBBF-4746-98EE-A69E6E5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533-228B-403E-898C-B25AFD0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F7F-66E5-49EA-8D0F-3F6D00A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490-A851-4B27-9DE6-CDCC0E00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56C-4CCB-4093-8307-961A9F02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1A6-33B6-49B2-9F0C-33C78E18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AB44-9AAD-4699-BEAA-EC770C3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E932-32DB-4806-8949-7930D47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9AB-9B00-4D9F-979C-1BE0A9B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8960-8CB7-44FF-AD5D-7B8E9ACD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801A-02E6-4ADC-A4D9-AED90EA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913B-C5F8-4AF7-80E4-1D7A54C0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A65-83D7-4A55-B4DE-655EE1D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6BDB-ED9E-406F-8340-5678ECF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AD65-2921-47C5-A5F4-6DA04F5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94E-0051-4BBD-BC02-51277BC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A23E-62C3-4A5F-93E4-B2B07709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00DC-89D5-4810-A3B3-6CBF9C75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istica y ana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1A3A297-7586-4CCD-B25D-2AD9FD02F22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9F1F-A91C-4D42-9108-3AE079D323B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661-59E8-4032-9812-E541AC6BB6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y actualiza pagina web periódica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 coordinadores distritales, subcoordinadores distritales y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556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semanal de coordinadores y sub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icia sesión de instalación y se realizan repo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información en bases de d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n estadísticas, reportes y base de d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3403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08expedientes electorales / estadísticas/ bases de datos / formato de captura / Reportes f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284640" y="378000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4:37:09Z</dcterms:modified>
  <cp:revision>310</cp:revision>
  <dc:subject/>
  <dc:title>Presentación de PowerPoint</dc:title>
</cp:coreProperties>
</file>