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57D4-ECFD-414A-8756-C7727D44D1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DB1-E3C1-4A4A-982F-4F93386C26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5A8E-19C7-4284-B0AB-6E70990D2F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8BC-AD1B-4BA8-B12D-D043014B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AE2-D283-4509-A41E-D4710DC3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318-8C5F-4BD9-8576-CB8A3131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D0E-BCFC-4C95-B828-32D547A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0DE-BF20-4ED0-B41E-C15EBFF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AA0-87FE-40AF-A0B7-34297FD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53D-0487-4D34-A217-B337C1E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770-E990-4008-9A4D-877519B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B82-9D05-4C7D-B592-728262C1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804-C2DE-42E8-B5D8-610F9055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761-9916-4D68-BD18-436E0B6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D22-CC1F-4AA8-856A-F4763258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05D0-5917-462B-BA60-7618EAB4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9937-C95B-479F-8F41-217602BA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1CA7-4A41-4EE6-8AA8-0F5D2265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4DFA-F9BA-4DDC-A791-8E1BFB0F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1E0F-F7B6-40B7-BD38-86E2BEE1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5A98-030C-4716-9BBD-6711403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56B-AE92-418B-A666-B626CFA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2357-C2FB-4413-867E-5DACF631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A831-FEFC-4FBF-901A-3B06840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BF1-89FE-4EBE-9EDA-07362C7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F67F-A20F-4F5B-9AC3-92E81BC2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AB1-C49F-44C7-97AE-7ACC74E6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B3D0039-132E-4C75-8609-7B6A022E546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598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FCF-D569-4D51-AD2C-DC2888B0625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3C56-6BFF-40E6-ACC8-7F9BD4D1C3B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mitir invitaciones a los proveedores a fin de que presenten cotizaciones respecto de bienes y/o servicios requeridos por las diversa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invitaciones que realiza la dirección hacia los proveedores para recibir cotizaciones de productos o servicios que se requiere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Gira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ahoga la sesión de la Comisión de Adquisiciones en la que se adjudica a 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mite orden de compra y se remite constancias a la dirección jurídica para la elaboración del contrato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6320" y="62150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invitaciones giradas / check li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7960" y="644508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2T20:07:45Z</cp:lastPrinted>
  <dcterms:modified xsi:type="dcterms:W3CDTF">2013-04-29T15:06:23Z</dcterms:modified>
  <cp:revision>325</cp:revision>
  <dc:subject/>
  <dc:title>Presentación de PowerPoint</dc:title>
</cp:coreProperties>
</file>