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AF6E-CAB7-44A3-8513-E571F725646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0D28-21B9-4178-9B13-D8DCB63EFDD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8D05-C222-4E49-AF24-22ABABDD0FF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950D-F7D4-473A-AB4D-68169FF46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11CF-0F02-435D-AB1D-C3050EC5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6BD9-7B16-4D31-AE66-40CB3FF5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E4BD-3307-4D0F-AE5E-176B65E6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702D-07CB-49C6-B66B-BEDA83C8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FDE4-4861-4D36-A0F5-CAC54562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0BB6-5B08-4D82-A0C5-5997B9EF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0E41-0472-431D-B9F3-40DEF499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BD86-1011-4FD1-9A4E-EDD6E40E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5AD8-B305-4385-91E4-5E27C839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F372-D6F0-4A3C-A422-5976BF125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0147-1203-4FA6-B483-26769B0BD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E926-65AB-4287-8C7B-4CD00BEEF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11AB-AC3B-4A91-81BA-27C96686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99771-7D2D-4511-A119-8C23CAF2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CE6B-3625-432C-9114-1EC4DDF2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0FD3-B9B4-464F-A845-89F7A9A1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86AA-0B78-46D1-A8A2-95E7F3AD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2A9F-9834-442D-8211-DB6F473B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BBB3-9F76-4A72-92B2-D8BBD997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239A-68C4-4B50-9227-FCA74607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603C-D29C-4B80-B988-D2F6B9A0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020C-8B4C-4143-9D9E-1404496FD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8D9C-BEB3-468F-8C3C-68CD03C9E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85C0A-DE3F-4B2F-B112-950221F0E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53C05-2CA8-4E9C-9392-98C048F6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B95E3-1CDE-440B-B568-95236EFF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65A5B-E192-484C-86C8-A9209F7C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F0C64-94D7-42A6-A8DF-C13D38C5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CC772-057A-4B26-BB59-E1CC7A6B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7C66F-AC1F-4079-B5F1-BD74E099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A7A15-F161-4337-92A7-41278BF4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EB2D5-EC4C-4242-9CDD-10CCA4DE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A474D-8979-44E9-8480-723A88B6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61F19-95C7-4DF2-957B-9B9D5347F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E29C3-8A1F-4CDD-902B-278162B93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ficialia de Par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27B5076B-414B-477D-AAFF-72C3FBE4CA55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Secretario Ejecu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-ADM-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6E82-05F8-4DC9-B24B-968A2B1F9131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4069-464F-497E-825E-452C68E58E21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BA9D-3BD6-4CD2-A5DC-0EEC21EDD76E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cumpla con todas las actividades propuestas al inicio de año, complementando con las propuestas de la ciudadan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a recepción de documentación del instituto para turnarse al area correspondiente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8"/>
          <p:cNvSpPr/>
          <p:nvPr/>
        </p:nvSpPr>
        <p:spPr>
          <a:xfrm>
            <a:off x="3214800" y="212580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649"/>
          <p:cNvCxnSpPr>
            <a:stCxn id="201" idx="2"/>
            <a:endCxn id="203" idx="0"/>
          </p:cNvCxnSpPr>
          <p:nvPr/>
        </p:nvCxnSpPr>
        <p:spPr>
          <a:xfrm flipH="1">
            <a:off x="3498120" y="2290320"/>
            <a:ext cx="396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652"/>
          <p:cNvSpPr/>
          <p:nvPr/>
        </p:nvSpPr>
        <p:spPr>
          <a:xfrm>
            <a:off x="1698480" y="25574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documentos externos y se folia y fir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3"/>
          <p:cNvSpPr/>
          <p:nvPr/>
        </p:nvSpPr>
        <p:spPr>
          <a:xfrm>
            <a:off x="1698480" y="306216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turna al área correspondiente para su debido segui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5"/>
          <p:cNvSpPr/>
          <p:nvPr/>
        </p:nvSpPr>
        <p:spPr>
          <a:xfrm>
            <a:off x="5373720" y="421488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Lectura de correspond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6"/>
          <p:cNvSpPr/>
          <p:nvPr/>
        </p:nvSpPr>
        <p:spPr>
          <a:xfrm>
            <a:off x="5373720" y="304632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Libro de registro de acuse / lectura de correspond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AutoShape 681"/>
          <p:cNvCxnSpPr>
            <a:stCxn id="203" idx="2"/>
            <a:endCxn id="204" idx="0"/>
          </p:cNvCxnSpPr>
          <p:nvPr/>
        </p:nvCxnSpPr>
        <p:spPr>
          <a:xfrm>
            <a:off x="3498480" y="277344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684"/>
          <p:cNvCxnSpPr>
            <a:stCxn id="204" idx="2"/>
            <a:endCxn id="209" idx="0"/>
          </p:cNvCxnSpPr>
          <p:nvPr/>
        </p:nvCxnSpPr>
        <p:spPr>
          <a:xfrm>
            <a:off x="3498840" y="327816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Rectangle 700"/>
          <p:cNvSpPr/>
          <p:nvPr/>
        </p:nvSpPr>
        <p:spPr>
          <a:xfrm>
            <a:off x="404640" y="291780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 archivo / encargado de oficialía de partes / auxilia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01"/>
          <p:cNvSpPr/>
          <p:nvPr/>
        </p:nvSpPr>
        <p:spPr>
          <a:xfrm>
            <a:off x="333360" y="3708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a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666"/>
          <p:cNvSpPr/>
          <p:nvPr/>
        </p:nvSpPr>
        <p:spPr>
          <a:xfrm>
            <a:off x="5373720" y="376380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L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ctura de correspondencia / E- mail / P-ADM-3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56"/>
          <p:cNvSpPr/>
          <p:nvPr/>
        </p:nvSpPr>
        <p:spPr>
          <a:xfrm>
            <a:off x="1700280" y="3635280"/>
            <a:ext cx="360036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actualiza lectura de correspondencia conforme a folios y se envía a Secretaria Ejecu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685"/>
          <p:cNvCxnSpPr>
            <a:stCxn id="209" idx="2"/>
            <a:endCxn id="214" idx="0"/>
          </p:cNvCxnSpPr>
          <p:nvPr/>
        </p:nvCxnSpPr>
        <p:spPr>
          <a:xfrm>
            <a:off x="3499920" y="3925800"/>
            <a:ext cx="10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18 Rectángulo"/>
          <p:cNvSpPr/>
          <p:nvPr/>
        </p:nvSpPr>
        <p:spPr>
          <a:xfrm>
            <a:off x="1700280" y="4140360"/>
            <a:ext cx="360036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visa con Secretaria Ejecutiva el estatus de los folios recibidos y se actualiza lectura de correspondenc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AutoShape 32"/>
          <p:cNvCxnSpPr>
            <a:stCxn id="214" idx="2"/>
          </p:cNvCxnSpPr>
          <p:nvPr/>
        </p:nvCxnSpPr>
        <p:spPr>
          <a:xfrm>
            <a:off x="3499920" y="44287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" name="Rectangle 701"/>
          <p:cNvSpPr/>
          <p:nvPr/>
        </p:nvSpPr>
        <p:spPr>
          <a:xfrm>
            <a:off x="333360" y="41418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a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66"/>
          <p:cNvSpPr/>
          <p:nvPr/>
        </p:nvSpPr>
        <p:spPr>
          <a:xfrm>
            <a:off x="5373720" y="247032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use de recibo documento origi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700"/>
          <p:cNvSpPr/>
          <p:nvPr/>
        </p:nvSpPr>
        <p:spPr>
          <a:xfrm>
            <a:off x="404640" y="248616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Oficial de partes / 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34"/>
          <p:cNvSpPr/>
          <p:nvPr/>
        </p:nvSpPr>
        <p:spPr>
          <a:xfrm>
            <a:off x="3213000" y="457200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7-19T15:05:58Z</dcterms:modified>
  <cp:revision>327</cp:revision>
  <dc:subject/>
  <dc:title>Presentación de PowerPoint</dc:title>
</cp:coreProperties>
</file>