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BAFB-1770-4577-ADA0-0CA5C715CE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89B8-ABE3-4716-B68A-8671F2F7B1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OPE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ción, Geografía y Estadística Electo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710160" y="1197000"/>
            <a:ext cx="1584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alización de proyecto de división del territorio en distr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920" y="836640"/>
            <a:ext cx="1728720" cy="1800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quipos de Comp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quipos de G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Vehículo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obiliario de oficin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sumibles de papelerí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quipos de radiocomunicación y comunicación telefó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4920" y="2852640"/>
            <a:ext cx="1728720" cy="280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ódigo Electoral y de Participación Ciudadan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lamento Interno del Instituto Electoral y de Participación Ciudadan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anual de Organización de la direccion de organizaci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, geografia y estadistica elec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anual de procedimientos de la direccion de Organización, geografia y estadistica elec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eografía y Estadística Elector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236000" y="765000"/>
            <a:ext cx="1873080" cy="2087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idente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jeros Electoral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retario Ejecutivo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 gener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 de informati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 de capacitacion y educacion civi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 de prerrog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 de juridic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a de secretaria tecnica de comision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 de administracion y finanz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2925720"/>
            <a:ext cx="1943280" cy="2087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irectorio de sedes Consejos Distritales y Consejos Municipales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centrado  de insumos de la bodega general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agina web de direccion de organización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centrado Registro de Representantes de Partidos Políticos ante Mesa Directiva de Casilla Electoral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Materiales y Documentación Electoral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centrado Seguimiento a la Información de la Jornada Electoral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centrado análisis cuantitativo de estadísticas electoral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5800" y="5084640"/>
            <a:ext cx="1943280" cy="1657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umplimiento de las actividades programadas en un 9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tegrar los directorios y concentrados en junio del 2012 en un 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stalación de casillas electorales a mas tardar a las 13:00  de la jornada electoral en un 9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Análisis cuantitativo de las estadísticas electorales al 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920" y="5730840"/>
            <a:ext cx="1727280" cy="10112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-ADM-13/ P-ADM-16 / P-ADM-24 / P-ADM-26 / P-ADM-30 / P-ADM-15 / P-ADM-41/ P-ADM-42 / P-OPE-07 / P-OPE-16 / P-COM-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8 Rectángulo"/>
          <p:cNvSpPr/>
          <p:nvPr/>
        </p:nvSpPr>
        <p:spPr>
          <a:xfrm>
            <a:off x="3710160" y="2205000"/>
            <a:ext cx="158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dicionamiento para consejos / instalación de se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1835280" y="4003560"/>
            <a:ext cx="215640" cy="2890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365000">
            <a:off x="1843200" y="6024240"/>
            <a:ext cx="201600" cy="3301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3003200">
            <a:off x="6940080" y="5694120"/>
            <a:ext cx="21924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392580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Rectángulo"/>
          <p:cNvSpPr/>
          <p:nvPr/>
        </p:nvSpPr>
        <p:spPr>
          <a:xfrm>
            <a:off x="3710160" y="1700280"/>
            <a:ext cx="158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calización de sedes distrit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4"/>
          <p:cNvSpPr/>
          <p:nvPr/>
        </p:nvSpPr>
        <p:spPr>
          <a:xfrm>
            <a:off x="4211640" y="5732640"/>
            <a:ext cx="5763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32"/>
          <p:cNvCxnSpPr>
            <a:stCxn id="66" idx="2"/>
            <a:endCxn id="59" idx="0"/>
          </p:cNvCxnSpPr>
          <p:nvPr/>
        </p:nvCxnSpPr>
        <p:spPr>
          <a:xfrm>
            <a:off x="4502160" y="20606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18 Rectángulo"/>
          <p:cNvSpPr/>
          <p:nvPr/>
        </p:nvSpPr>
        <p:spPr>
          <a:xfrm>
            <a:off x="3710160" y="2781360"/>
            <a:ext cx="158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instalan las casillas y se publican listas nomin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8 Rectángulo"/>
          <p:cNvSpPr/>
          <p:nvPr/>
        </p:nvSpPr>
        <p:spPr>
          <a:xfrm>
            <a:off x="3710160" y="3357720"/>
            <a:ext cx="1584000" cy="35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aplica el sistema SIJE para revisión de casill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60"/>
          <p:cNvCxnSpPr/>
          <p:nvPr/>
        </p:nvCxnSpPr>
        <p:spPr>
          <a:xfrm>
            <a:off x="4501800" y="1052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0"/>
          <p:cNvCxnSpPr>
            <a:stCxn id="51" idx="2"/>
            <a:endCxn id="66" idx="0"/>
          </p:cNvCxnSpPr>
          <p:nvPr/>
        </p:nvCxnSpPr>
        <p:spPr>
          <a:xfrm>
            <a:off x="4502160" y="15559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32"/>
          <p:cNvCxnSpPr>
            <a:stCxn id="59" idx="2"/>
          </p:cNvCxnSpPr>
          <p:nvPr/>
        </p:nvCxnSpPr>
        <p:spPr>
          <a:xfrm flipH="1">
            <a:off x="4500360" y="2565360"/>
            <a:ext cx="216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18 Rectángulo"/>
          <p:cNvSpPr/>
          <p:nvPr/>
        </p:nvSpPr>
        <p:spPr>
          <a:xfrm>
            <a:off x="3710160" y="3933720"/>
            <a:ext cx="15840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administran paquetes de compu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8 Rectángulo"/>
          <p:cNvSpPr/>
          <p:nvPr/>
        </p:nvSpPr>
        <p:spPr>
          <a:xfrm>
            <a:off x="3710160" y="4437000"/>
            <a:ext cx="158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documenta estadísticamente el proceso elect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8 Rectángulo"/>
          <p:cNvSpPr/>
          <p:nvPr/>
        </p:nvSpPr>
        <p:spPr>
          <a:xfrm>
            <a:off x="3708360" y="5084640"/>
            <a:ext cx="1584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labora el reporte final de eleccion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60"/>
          <p:cNvCxnSpPr>
            <a:stCxn id="70" idx="2"/>
            <a:endCxn id="74" idx="0"/>
          </p:cNvCxnSpPr>
          <p:nvPr/>
        </p:nvCxnSpPr>
        <p:spPr>
          <a:xfrm>
            <a:off x="4502160" y="3716280"/>
            <a:ext cx="36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0"/>
          <p:cNvCxnSpPr>
            <a:stCxn id="74" idx="2"/>
            <a:endCxn id="75" idx="0"/>
          </p:cNvCxnSpPr>
          <p:nvPr/>
        </p:nvCxnSpPr>
        <p:spPr>
          <a:xfrm>
            <a:off x="4502160" y="422100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60"/>
          <p:cNvCxnSpPr/>
          <p:nvPr/>
        </p:nvCxnSpPr>
        <p:spPr>
          <a:xfrm>
            <a:off x="4500720" y="479592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32"/>
          <p:cNvCxnSpPr>
            <a:stCxn id="69" idx="2"/>
            <a:endCxn id="70" idx="0"/>
          </p:cNvCxnSpPr>
          <p:nvPr/>
        </p:nvCxnSpPr>
        <p:spPr>
          <a:xfrm>
            <a:off x="4502160" y="314172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60"/>
          <p:cNvCxnSpPr/>
          <p:nvPr/>
        </p:nvCxnSpPr>
        <p:spPr>
          <a:xfrm>
            <a:off x="4500720" y="544320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5:31:14Z</dcterms:modified>
  <cp:revision>151</cp:revision>
  <dc:subject/>
  <dc:title>Diapositiva 1</dc:title>
</cp:coreProperties>
</file>