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CDC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Mejor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08000" y="1052640"/>
            <a:ext cx="194472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6877080" y="981000"/>
            <a:ext cx="2089080" cy="12747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trol de Calid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ité de 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ersonal del IE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142920" y="5572080"/>
            <a:ext cx="2178000" cy="1143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ejora Continu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6659640" y="5564160"/>
            <a:ext cx="2305080" cy="11509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FICACIA: mínimo 4 propuestas de mejora continua para el Sistema de Gestión de Calidad al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FICIENCIA: Término de proyectos en tiempo y fo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42920" y="2778120"/>
            <a:ext cx="1728720" cy="2151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Oportunidad de Mejora Continu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dicadores de desempeñ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puesta de Mej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58160" y="2778120"/>
            <a:ext cx="1871640" cy="2079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yecto de Mejora Continua conclu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centrado de Proyectos de Mejora Continu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411280" y="2492280"/>
            <a:ext cx="4104000" cy="273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1908000" y="3645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6588000" y="3645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 rot="18493200">
            <a:off x="2345760" y="53154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85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8"/>
          <p:cNvSpPr/>
          <p:nvPr/>
        </p:nvSpPr>
        <p:spPr>
          <a:xfrm rot="13998000">
            <a:off x="6201360" y="53150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0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"/>
          <p:cNvSpPr/>
          <p:nvPr/>
        </p:nvSpPr>
        <p:spPr>
          <a:xfrm rot="3305400">
            <a:off x="2159640" y="20995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20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"/>
          <p:cNvSpPr/>
          <p:nvPr/>
        </p:nvSpPr>
        <p:spPr>
          <a:xfrm rot="7899000">
            <a:off x="6363000" y="20390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91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8"/>
          <p:cNvSpPr/>
          <p:nvPr/>
        </p:nvSpPr>
        <p:spPr>
          <a:xfrm>
            <a:off x="2627280" y="2928960"/>
            <a:ext cx="165744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dentifica necesidad de Mejora Continua y registra en Propuesta de Mej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9"/>
          <p:cNvSpPr/>
          <p:nvPr/>
        </p:nvSpPr>
        <p:spPr>
          <a:xfrm>
            <a:off x="2627280" y="3645000"/>
            <a:ext cx="16574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 al Representante del Sistema de Gestion de Cal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0"/>
          <p:cNvSpPr/>
          <p:nvPr/>
        </p:nvSpPr>
        <p:spPr>
          <a:xfrm>
            <a:off x="2627280" y="4799160"/>
            <a:ext cx="165744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gistra el proyecto y Asigna los recurs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1"/>
          <p:cNvSpPr/>
          <p:nvPr/>
        </p:nvSpPr>
        <p:spPr>
          <a:xfrm>
            <a:off x="4788000" y="2708280"/>
            <a:ext cx="143964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aliza el proye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2"/>
          <p:cNvSpPr/>
          <p:nvPr/>
        </p:nvSpPr>
        <p:spPr>
          <a:xfrm>
            <a:off x="4788000" y="3216240"/>
            <a:ext cx="143964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Verifica el cumplimiento de los objetivos del proye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3"/>
          <p:cNvSpPr/>
          <p:nvPr/>
        </p:nvSpPr>
        <p:spPr>
          <a:xfrm>
            <a:off x="4788000" y="3935520"/>
            <a:ext cx="1439640" cy="4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ctualiza Concentrado de Proyectos de Mejora Contin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154"/>
          <p:cNvCxnSpPr>
            <a:stCxn id="56" idx="2"/>
            <a:endCxn id="57" idx="0"/>
          </p:cNvCxnSpPr>
          <p:nvPr/>
        </p:nvCxnSpPr>
        <p:spPr>
          <a:xfrm>
            <a:off x="3456000" y="342900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55"/>
          <p:cNvCxnSpPr>
            <a:stCxn id="57" idx="2"/>
            <a:endCxn id="64" idx="0"/>
          </p:cNvCxnSpPr>
          <p:nvPr/>
        </p:nvCxnSpPr>
        <p:spPr>
          <a:xfrm>
            <a:off x="3456000" y="4003560"/>
            <a:ext cx="360" cy="14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56"/>
          <p:cNvCxnSpPr>
            <a:stCxn id="58" idx="3"/>
            <a:endCxn id="59" idx="1"/>
          </p:cNvCxnSpPr>
          <p:nvPr/>
        </p:nvCxnSpPr>
        <p:spPr>
          <a:xfrm flipV="1">
            <a:off x="4284720" y="2854080"/>
            <a:ext cx="503640" cy="211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57"/>
          <p:cNvCxnSpPr>
            <a:stCxn id="59" idx="2"/>
            <a:endCxn id="60" idx="0"/>
          </p:cNvCxnSpPr>
          <p:nvPr/>
        </p:nvCxnSpPr>
        <p:spPr>
          <a:xfrm>
            <a:off x="5507640" y="300024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58"/>
          <p:cNvCxnSpPr>
            <a:stCxn id="60" idx="2"/>
            <a:endCxn id="61" idx="0"/>
          </p:cNvCxnSpPr>
          <p:nvPr/>
        </p:nvCxnSpPr>
        <p:spPr>
          <a:xfrm>
            <a:off x="5507640" y="3646440"/>
            <a:ext cx="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Oval 159"/>
          <p:cNvSpPr/>
          <p:nvPr/>
        </p:nvSpPr>
        <p:spPr>
          <a:xfrm>
            <a:off x="3143160" y="2563920"/>
            <a:ext cx="642960" cy="22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60"/>
          <p:cNvSpPr/>
          <p:nvPr/>
        </p:nvSpPr>
        <p:spPr>
          <a:xfrm>
            <a:off x="5237280" y="4653000"/>
            <a:ext cx="57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162"/>
          <p:cNvCxnSpPr>
            <a:stCxn id="68" idx="4"/>
            <a:endCxn id="56" idx="0"/>
          </p:cNvCxnSpPr>
          <p:nvPr/>
        </p:nvCxnSpPr>
        <p:spPr>
          <a:xfrm rot="5400000">
            <a:off x="3388680" y="2853000"/>
            <a:ext cx="143280" cy="900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Rectangle 163"/>
          <p:cNvSpPr/>
          <p:nvPr/>
        </p:nvSpPr>
        <p:spPr>
          <a:xfrm>
            <a:off x="2627280" y="4143240"/>
            <a:ext cx="1657440" cy="4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mité de Calidad analiza la propuesta y autoriza o rechaza según ap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65"/>
          <p:cNvCxnSpPr>
            <a:stCxn id="64" idx="2"/>
            <a:endCxn id="58" idx="0"/>
          </p:cNvCxnSpPr>
          <p:nvPr/>
        </p:nvCxnSpPr>
        <p:spPr>
          <a:xfrm>
            <a:off x="3456000" y="4581360"/>
            <a:ext cx="3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58"/>
          <p:cNvCxnSpPr>
            <a:stCxn id="61" idx="2"/>
            <a:endCxn id="69" idx="0"/>
          </p:cNvCxnSpPr>
          <p:nvPr/>
        </p:nvCxnSpPr>
        <p:spPr>
          <a:xfrm>
            <a:off x="5507640" y="4429080"/>
            <a:ext cx="18000" cy="22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dcterms:modified xsi:type="dcterms:W3CDTF">2011-11-28T17:14:47Z</dcterms:modified>
  <cp:revision>76</cp:revision>
  <dc:subject/>
  <dc:title>Diapositiva 1</dc:title>
</cp:coreProperties>
</file>