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D768-346E-4BC6-A36E-8221CDB7BF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F333-9036-49ED-A0DE-770A66E6A46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34DA-896A-4DF3-AACB-DE737199C0C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C7FF-4BF0-4D0B-95FE-7053CDAD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AE02-7D54-4DC6-8976-ED69F7DC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F39-4314-43A4-AE1F-9D588F36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BD67-B8B1-4801-BD93-C0706454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7F98-E15E-491A-99B8-838A4107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0CE3-0639-40C7-980C-8FF74230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161-20B0-44BB-9970-4F5BC108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FC34-F67A-4926-ABD6-805B72A0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A403-E0D2-40D9-87DE-8FB7015D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7B2-8257-4258-9FD5-D2E6F552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016-642F-4AEA-8019-3724303A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DEF-5024-4FBF-9454-DCEE9CDA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9AD0-480B-4B86-86CD-334B3E52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7601-33D4-4075-AD7A-2F8E2DB3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4EF3-DF3B-4B70-8E82-831F4CE7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EFD3-4A99-436B-A6CA-FD210E32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D624-1BB2-41AE-BA83-FEBD8E54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8F8E-D15E-44FA-95DB-7CE787F4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B3E9-3013-498A-A9F2-76BE28AF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C45C-F88D-434D-8D2A-156987E8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EDB1-704C-4345-82B3-901FDB7A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A978-7D2F-4FE8-9196-5B5EE18B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8922-1AB9-4DE8-9A47-C597A3C6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A6FE-E5B7-44A6-9D73-FB5D580C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cit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BADEC8EF-EAFB-4EBA-8D3B-133F0C826FE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D750-B462-47E0-93FA-02EB7C5DB8F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65BA-3BA7-4907-82A9-909AF0AC327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otar de los bienes y servicio que requiera el instituto sujetos a procedimientos de lici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requisición o instrucción de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labora bases, convocatoria  y especificaciones técnicas en conjunción con área solicitante para aprob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42847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32050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ato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s / 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endCxn id="169" idx="0"/>
          </p:cNvCxnSpPr>
          <p:nvPr/>
        </p:nvCxnSpPr>
        <p:spPr>
          <a:xfrm>
            <a:off x="3517920" y="2842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estación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719360" y="2987640"/>
            <a:ext cx="360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cibe solicitudes de aclaración de empresas sobre las bases de la Li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3467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28720" y="34671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termina la logística de la junta de aclar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17560" y="4264200"/>
            <a:ext cx="360072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visitas de inspección y levanta acta respec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endCxn id="175" idx="0"/>
          </p:cNvCxnSpPr>
          <p:nvPr/>
        </p:nvCxnSpPr>
        <p:spPr>
          <a:xfrm>
            <a:off x="3517560" y="4073400"/>
            <a:ext cx="108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18 Rectángulo"/>
          <p:cNvSpPr/>
          <p:nvPr/>
        </p:nvSpPr>
        <p:spPr>
          <a:xfrm flipV="1" rot="10800000">
            <a:off x="1722600" y="4698000"/>
            <a:ext cx="3597120" cy="32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logística de desahogo del acto de presentación de  propuestas técnicas y  económicas y apertura de propuestas técnica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endCxn id="177" idx="1"/>
          </p:cNvCxnSpPr>
          <p:nvPr/>
        </p:nvCxnSpPr>
        <p:spPr>
          <a:xfrm>
            <a:off x="3517560" y="448308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701"/>
          <p:cNvSpPr/>
          <p:nvPr/>
        </p:nvSpPr>
        <p:spPr>
          <a:xfrm>
            <a:off x="351000" y="3024360"/>
            <a:ext cx="1225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3565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visitas de insp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73720" y="3979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/ formato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18 Rectángulo"/>
          <p:cNvSpPr/>
          <p:nvPr/>
        </p:nvSpPr>
        <p:spPr>
          <a:xfrm>
            <a:off x="1717560" y="594036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el dictamen técnico donde se evalúa las propuestas y documentos presentados por los oferen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/>
          <p:nvPr/>
        </p:nvCxnSpPr>
        <p:spPr>
          <a:xfrm>
            <a:off x="3465000" y="5724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AutoShape 32"/>
          <p:cNvCxnSpPr/>
          <p:nvPr/>
        </p:nvCxnSpPr>
        <p:spPr>
          <a:xfrm>
            <a:off x="3490560" y="672300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1"/>
          <p:cNvSpPr/>
          <p:nvPr/>
        </p:nvSpPr>
        <p:spPr>
          <a:xfrm>
            <a:off x="333360" y="47386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56"/>
          <p:cNvSpPr/>
          <p:nvPr/>
        </p:nvSpPr>
        <p:spPr>
          <a:xfrm>
            <a:off x="1722600" y="6875640"/>
            <a:ext cx="3600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Interviene en el acto de comunicación del dictamen técnico, apertura de ofertas económicas, fallo y adjudicación, y levanta el acta respectiva. Remite expediente al 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Consejero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73720" y="4716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32"/>
          <p:cNvCxnSpPr/>
          <p:nvPr/>
        </p:nvCxnSpPr>
        <p:spPr>
          <a:xfrm>
            <a:off x="3499920" y="738036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666"/>
          <p:cNvSpPr/>
          <p:nvPr/>
        </p:nvSpPr>
        <p:spPr>
          <a:xfrm>
            <a:off x="5373720" y="4340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ctamen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AutoShape 684"/>
          <p:cNvCxnSpPr>
            <a:stCxn id="169" idx="2"/>
            <a:endCxn id="174" idx="0"/>
          </p:cNvCxnSpPr>
          <p:nvPr/>
        </p:nvCxnSpPr>
        <p:spPr>
          <a:xfrm>
            <a:off x="3519000" y="3276360"/>
            <a:ext cx="1044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Oval 34"/>
          <p:cNvSpPr/>
          <p:nvPr/>
        </p:nvSpPr>
        <p:spPr>
          <a:xfrm>
            <a:off x="3214800" y="7596360"/>
            <a:ext cx="57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18 Rectángulo"/>
          <p:cNvSpPr/>
          <p:nvPr/>
        </p:nvSpPr>
        <p:spPr>
          <a:xfrm>
            <a:off x="1728720" y="38577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Levanta el acta de la junta de aclaraciones donde constan las respuestas a  las preguntas formula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32"/>
          <p:cNvCxnSpPr/>
          <p:nvPr/>
        </p:nvCxnSpPr>
        <p:spPr>
          <a:xfrm>
            <a:off x="3503160" y="366192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18 Rectángulo"/>
          <p:cNvSpPr/>
          <p:nvPr/>
        </p:nvSpPr>
        <p:spPr>
          <a:xfrm flipV="1" rot="10800000">
            <a:off x="1722600" y="5235480"/>
            <a:ext cx="3597120" cy="4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Interviene en el acto de presentación de propuestas técnicas y económicas y apertura de las propuestas técnicas  y levanta el acta respec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32"/>
          <p:cNvCxnSpPr/>
          <p:nvPr/>
        </p:nvCxnSpPr>
        <p:spPr>
          <a:xfrm>
            <a:off x="3487320" y="5019480"/>
            <a:ext cx="39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18 Rectángulo"/>
          <p:cNvSpPr/>
          <p:nvPr/>
        </p:nvSpPr>
        <p:spPr>
          <a:xfrm flipV="1" rot="10800000">
            <a:off x="1730520" y="6389640"/>
            <a:ext cx="359856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logística de desahogo del acto comunicación del dictamen técnico, apertura de las ofertas económicas, fallo y adjud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32"/>
          <p:cNvCxnSpPr/>
          <p:nvPr/>
        </p:nvCxnSpPr>
        <p:spPr>
          <a:xfrm>
            <a:off x="3465000" y="6173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Rectangle 653"/>
          <p:cNvSpPr/>
          <p:nvPr/>
        </p:nvSpPr>
        <p:spPr>
          <a:xfrm>
            <a:off x="1687680" y="2671920"/>
            <a:ext cx="3600360" cy="23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mite convocatoria al Consejo General para su aprobación y publicación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81"/>
          <p:cNvCxnSpPr/>
          <p:nvPr/>
        </p:nvCxnSpPr>
        <p:spPr>
          <a:xfrm>
            <a:off x="3517560" y="25272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701"/>
          <p:cNvSpPr/>
          <p:nvPr/>
        </p:nvSpPr>
        <p:spPr>
          <a:xfrm>
            <a:off x="333360" y="5364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01"/>
          <p:cNvSpPr/>
          <p:nvPr/>
        </p:nvSpPr>
        <p:spPr>
          <a:xfrm>
            <a:off x="333360" y="6443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a / J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fe de áre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01"/>
          <p:cNvSpPr/>
          <p:nvPr/>
        </p:nvSpPr>
        <p:spPr>
          <a:xfrm>
            <a:off x="333360" y="687564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6"/>
          <p:cNvSpPr/>
          <p:nvPr/>
        </p:nvSpPr>
        <p:spPr>
          <a:xfrm>
            <a:off x="5373720" y="5364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puestas técnicas y económicas / acta / documentación neces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s de sesión / a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66"/>
          <p:cNvSpPr/>
          <p:nvPr/>
        </p:nvSpPr>
        <p:spPr>
          <a:xfrm>
            <a:off x="5373720" y="594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ctamen / propuestas / documentos presentados por los ofer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6"/>
          <p:cNvSpPr/>
          <p:nvPr/>
        </p:nvSpPr>
        <p:spPr>
          <a:xfrm>
            <a:off x="5373720" y="694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ctamen técnico / ofertas económicas / fallo / adjudica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5-01T17:18:13Z</dcterms:modified>
  <cp:revision>320</cp:revision>
  <dc:subject/>
  <dc:title>Presentación de PowerPoint</dc:title>
</cp:coreProperties>
</file>