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CF9B-19F0-4D9E-905C-60DDAFF4C5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CE4D-F8D9-49F0-BFB3-37552DDAC1C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353B-7857-4B03-B310-1C59070C7AB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91CD-0621-4494-9ECB-AC84B5AF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4FE-D891-4EA6-9769-D6A3412E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643F-D9CD-48DA-AC59-B63F3514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D49-89F6-46C1-BBB3-88004028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07A-137F-44B0-8E26-4FE2009A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14D-122A-4D44-B189-7AC7FB75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A06-3F54-41AD-8239-0A0917F3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B32-9CAF-4C8C-A3F4-8EC07D4E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4E5-F33D-4F2E-89C1-E9B1AB64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BA8-BAE5-432C-93EC-AEE6514A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599-3CB4-4C00-8C82-65F8B7FF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5F8-EB66-49A2-9647-B73CFE60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C3C5-7909-4220-A8A7-C635F5B9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6DFA-2E85-4867-9715-56653D33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EA9C-D12A-4290-B95D-803E396B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5A50-A4F6-4E4C-932D-45D5D5A3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8FF3-5E7B-455C-A7A5-ACC2C609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ACCC-4CD3-42F4-8ACC-582BD5F0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93CA-0FA1-475E-9C3D-14FF7CBA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E47A-9E39-42A1-8FAD-159A8C61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51CD-F937-479E-9D9B-7604FD29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F9DA-99C8-49F8-896F-0651BE7E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5622-323F-46F2-BF55-92726124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1211-1028-4315-A8A4-0A5930BB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Comité Edi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9B023C0E-B9CA-4F1D-B462-F661E416465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Unidad Edi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36FB-5B50-4946-BFE9-59E5E22AD33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A21B-CE1A-44E4-8810-55783B6BEB8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Formular propuestas y opiniones a la comisión de investigación y estudios electorales en materia de publicaciones y edicione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propuestas y productos editoriales y se analiz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6"/>
          <p:cNvSpPr/>
          <p:nvPr/>
        </p:nvSpPr>
        <p:spPr>
          <a:xfrm>
            <a:off x="5373720" y="385128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6"/>
          <p:cNvSpPr/>
          <p:nvPr/>
        </p:nvSpPr>
        <p:spPr>
          <a:xfrm>
            <a:off x="5373720" y="64404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resolu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18 Rectángulo"/>
          <p:cNvSpPr/>
          <p:nvPr/>
        </p:nvSpPr>
        <p:spPr>
          <a:xfrm>
            <a:off x="1700280" y="64389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resoluciones a comisión editorial para su valoración y decisión final una vez validado  y se notifica a involucr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195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pue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00"/>
          <p:cNvSpPr/>
          <p:nvPr/>
        </p:nvSpPr>
        <p:spPr>
          <a:xfrm>
            <a:off x="333360" y="2266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tegrantes del comité edito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56 Rombo"/>
          <p:cNvSpPr/>
          <p:nvPr/>
        </p:nvSpPr>
        <p:spPr>
          <a:xfrm>
            <a:off x="2874960" y="297180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57 CuadroTexto"/>
          <p:cNvSpPr/>
          <p:nvPr/>
        </p:nvSpPr>
        <p:spPr>
          <a:xfrm>
            <a:off x="2925720" y="304164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Viable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64 Conector angular"/>
          <p:cNvCxnSpPr>
            <a:stCxn id="169" idx="1"/>
            <a:endCxn id="172" idx="1"/>
          </p:cNvCxnSpPr>
          <p:nvPr/>
        </p:nvCxnSpPr>
        <p:spPr>
          <a:xfrm flipH="1" flipV="1" rot="10800000">
            <a:off x="2873880" y="3150000"/>
            <a:ext cx="483480" cy="880200"/>
          </a:xfrm>
          <a:prstGeom prst="bentConnector3">
            <a:avLst>
              <a:gd name="adj1" fmla="val -4731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3" name="72 CuadroTexto"/>
          <p:cNvSpPr/>
          <p:nvPr/>
        </p:nvSpPr>
        <p:spPr>
          <a:xfrm>
            <a:off x="2421000" y="2916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73 CuadroTexto"/>
          <p:cNvSpPr/>
          <p:nvPr/>
        </p:nvSpPr>
        <p:spPr>
          <a:xfrm>
            <a:off x="3860640" y="2916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64 Conector angular"/>
          <p:cNvCxnSpPr>
            <a:stCxn id="169" idx="3"/>
            <a:endCxn id="172" idx="0"/>
          </p:cNvCxnSpPr>
          <p:nvPr/>
        </p:nvCxnSpPr>
        <p:spPr>
          <a:xfrm>
            <a:off x="3731760" y="3151080"/>
            <a:ext cx="57960" cy="5565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2" name="Rectangle 656"/>
          <p:cNvSpPr/>
          <p:nvPr/>
        </p:nvSpPr>
        <p:spPr>
          <a:xfrm>
            <a:off x="3357720" y="3706920"/>
            <a:ext cx="8632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revisión externa para su dictamin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6"/>
          <p:cNvSpPr/>
          <p:nvPr/>
        </p:nvSpPr>
        <p:spPr>
          <a:xfrm>
            <a:off x="5373720" y="5508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01"/>
          <p:cNvSpPr/>
          <p:nvPr/>
        </p:nvSpPr>
        <p:spPr>
          <a:xfrm>
            <a:off x="333360" y="55054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tegrantes del comité edito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1"/>
          <p:cNvSpPr/>
          <p:nvPr/>
        </p:nvSpPr>
        <p:spPr>
          <a:xfrm>
            <a:off x="333360" y="64404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tegrantes del comité edito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75"/>
          <p:cNvSpPr/>
          <p:nvPr/>
        </p:nvSpPr>
        <p:spPr>
          <a:xfrm>
            <a:off x="4005360" y="6732720"/>
            <a:ext cx="21564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64 Conector angular"/>
          <p:cNvCxnSpPr>
            <a:stCxn id="172" idx="2"/>
            <a:endCxn id="181" idx="0"/>
          </p:cNvCxnSpPr>
          <p:nvPr/>
        </p:nvCxnSpPr>
        <p:spPr>
          <a:xfrm rot="5400000">
            <a:off x="3409920" y="4248720"/>
            <a:ext cx="272160" cy="4863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2" name="Oval 34"/>
          <p:cNvSpPr/>
          <p:nvPr/>
        </p:nvSpPr>
        <p:spPr>
          <a:xfrm>
            <a:off x="3213000" y="7020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56"/>
          <p:cNvSpPr/>
          <p:nvPr/>
        </p:nvSpPr>
        <p:spPr>
          <a:xfrm>
            <a:off x="4292640" y="3708360"/>
            <a:ext cx="936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haza y se dictamina no viable y se dictamina no public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64 Conector angular"/>
          <p:cNvCxnSpPr>
            <a:stCxn id="169" idx="3"/>
            <a:endCxn id="183" idx="0"/>
          </p:cNvCxnSpPr>
          <p:nvPr/>
        </p:nvCxnSpPr>
        <p:spPr>
          <a:xfrm>
            <a:off x="3732120" y="3151080"/>
            <a:ext cx="1029600" cy="55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1" name="56 Rombo"/>
          <p:cNvSpPr/>
          <p:nvPr/>
        </p:nvSpPr>
        <p:spPr>
          <a:xfrm>
            <a:off x="2874960" y="462744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57 CuadroTexto"/>
          <p:cNvSpPr/>
          <p:nvPr/>
        </p:nvSpPr>
        <p:spPr>
          <a:xfrm>
            <a:off x="2925720" y="46972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Viable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64 Conector angular"/>
          <p:cNvCxnSpPr>
            <a:stCxn id="181" idx="1"/>
          </p:cNvCxnSpPr>
          <p:nvPr/>
        </p:nvCxnSpPr>
        <p:spPr>
          <a:xfrm flipV="1" rot="10800000">
            <a:off x="2276640" y="4806720"/>
            <a:ext cx="598680" cy="16372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7" name="72 CuadroTexto"/>
          <p:cNvSpPr/>
          <p:nvPr/>
        </p:nvSpPr>
        <p:spPr>
          <a:xfrm>
            <a:off x="3860640" y="4572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73 CuadroTexto"/>
          <p:cNvSpPr/>
          <p:nvPr/>
        </p:nvSpPr>
        <p:spPr>
          <a:xfrm>
            <a:off x="2492280" y="4572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64 Conector angular"/>
          <p:cNvCxnSpPr>
            <a:stCxn id="181" idx="3"/>
          </p:cNvCxnSpPr>
          <p:nvPr/>
        </p:nvCxnSpPr>
        <p:spPr>
          <a:xfrm>
            <a:off x="3731760" y="4807080"/>
            <a:ext cx="777240" cy="16372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0" name="AutoShape 649"/>
          <p:cNvCxnSpPr/>
          <p:nvPr/>
        </p:nvCxnSpPr>
        <p:spPr>
          <a:xfrm>
            <a:off x="4797000" y="4500360"/>
            <a:ext cx="252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Oval 75"/>
          <p:cNvSpPr/>
          <p:nvPr/>
        </p:nvSpPr>
        <p:spPr>
          <a:xfrm>
            <a:off x="4724280" y="46432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32"/>
          <p:cNvCxnSpPr/>
          <p:nvPr/>
        </p:nvCxnSpPr>
        <p:spPr>
          <a:xfrm>
            <a:off x="1773000" y="2484000"/>
            <a:ext cx="1080" cy="396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AutoShape 32"/>
          <p:cNvCxnSpPr/>
          <p:nvPr/>
        </p:nvCxnSpPr>
        <p:spPr>
          <a:xfrm>
            <a:off x="3499920" y="6659280"/>
            <a:ext cx="10440" cy="36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64 Conector angular"/>
          <p:cNvCxnSpPr>
            <a:stCxn id="162" idx="2"/>
            <a:endCxn id="169" idx="0"/>
          </p:cNvCxnSpPr>
          <p:nvPr/>
        </p:nvCxnSpPr>
        <p:spPr>
          <a:xfrm rot="5400000">
            <a:off x="3156120" y="2629800"/>
            <a:ext cx="489600" cy="19584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5" name="AutoShape 32"/>
          <p:cNvCxnSpPr/>
          <p:nvPr/>
        </p:nvCxnSpPr>
        <p:spPr>
          <a:xfrm>
            <a:off x="3499920" y="6803640"/>
            <a:ext cx="505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9T01:10:30Z</dcterms:modified>
  <cp:revision>339</cp:revision>
  <dc:subject/>
  <dc:title>Presentación de PowerPoint</dc:title>
</cp:coreProperties>
</file>