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D045-3255-4EBD-A44A-C8CDF7BB67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67FD-0CB7-4AE1-AA7D-E3021B6DBC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9ED2-796F-4A80-8A9B-5F9F6E392D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8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3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visión Administ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5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CAE87FE-0B08-4049-8E0C-014711CFADC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0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1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12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3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14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5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16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17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18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19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20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21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22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DC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3578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64508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34"/>
          <p:cNvSpPr/>
          <p:nvPr/>
        </p:nvSpPr>
        <p:spPr>
          <a:xfrm>
            <a:off x="32868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Revisar periódicamente el Sistema de Gestión de Calidad del  Instituto Electoral y de Participacion Ciudadana para asegurar el cumplimiento de los requisitos de la Norma Internacional ISO 9001: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5"/>
          <p:cNvSpPr/>
          <p:nvPr/>
        </p:nvSpPr>
        <p:spPr>
          <a:xfrm>
            <a:off x="333360" y="216684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l Comité de Calidad de  Instituto Electoral y de Participación Ciudadana en el Proceso de Servicios de fiscalización, proceso administrativo Sancionador; y reclutamiento y Selección de Capacitadores Asistentes Electorales (CAE´S) del IEPCJ como apoyo en la Organización de las elecciones constitucionales y mecanismos de participación ciudadana del estado de Jalisco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6"/>
          <p:cNvSpPr/>
          <p:nvPr/>
        </p:nvSpPr>
        <p:spPr>
          <a:xfrm>
            <a:off x="325440" y="3078000"/>
            <a:ext cx="633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DC: Comité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GC: Sistema de Gestión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00"/>
          <p:cNvSpPr/>
          <p:nvPr/>
        </p:nvSpPr>
        <p:spPr>
          <a:xfrm>
            <a:off x="1628640" y="1979640"/>
            <a:ext cx="367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 a cabo reunión como mínimo 2 veces al año, quedando a consideración del CDC realizar reuniones extraordin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01"/>
          <p:cNvSpPr/>
          <p:nvPr/>
        </p:nvSpPr>
        <p:spPr>
          <a:xfrm>
            <a:off x="1628640" y="2556000"/>
            <a:ext cx="36720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 los miembros del CDC la  fecha exacta de la próxima reun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02"/>
          <p:cNvSpPr/>
          <p:nvPr/>
        </p:nvSpPr>
        <p:spPr>
          <a:xfrm>
            <a:off x="1649520" y="3059280"/>
            <a:ext cx="3632040" cy="160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n con el Responsable de cada área la información para la revisión administrativa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sultados de Auditor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troalimentación del Cl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Desempeño de los procesos y conformidad del serv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Estado de Acciones correctivas y preven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Acciones de seguimiento de revisiones prev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ambios que podrían afectar al SG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comendaciones para la mejor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Objetivos de Calida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Política de Calida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03"/>
          <p:cNvSpPr/>
          <p:nvPr/>
        </p:nvSpPr>
        <p:spPr>
          <a:xfrm>
            <a:off x="3068640" y="1692360"/>
            <a:ext cx="792000" cy="1443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704"/>
          <p:cNvCxnSpPr>
            <a:stCxn id="81" idx="2"/>
            <a:endCxn id="78" idx="0"/>
          </p:cNvCxnSpPr>
          <p:nvPr/>
        </p:nvCxnSpPr>
        <p:spPr>
          <a:xfrm>
            <a:off x="3465000" y="183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705"/>
          <p:cNvCxnSpPr>
            <a:stCxn id="78" idx="2"/>
            <a:endCxn id="79" idx="0"/>
          </p:cNvCxnSpPr>
          <p:nvPr/>
        </p:nvCxnSpPr>
        <p:spPr>
          <a:xfrm>
            <a:off x="3465000" y="235440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706"/>
          <p:cNvCxnSpPr>
            <a:stCxn id="79" idx="2"/>
            <a:endCxn id="80" idx="0"/>
          </p:cNvCxnSpPr>
          <p:nvPr/>
        </p:nvCxnSpPr>
        <p:spPr>
          <a:xfrm>
            <a:off x="3465000" y="279360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 Box 707"/>
          <p:cNvSpPr/>
          <p:nvPr/>
        </p:nvSpPr>
        <p:spPr>
          <a:xfrm>
            <a:off x="1649520" y="4859280"/>
            <a:ext cx="363204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leva a cabo la revisión al asistir en su totalidad las personas que integran el C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708"/>
          <p:cNvCxnSpPr>
            <a:stCxn id="80" idx="2"/>
            <a:endCxn id="85" idx="0"/>
          </p:cNvCxnSpPr>
          <p:nvPr/>
        </p:nvCxnSpPr>
        <p:spPr>
          <a:xfrm>
            <a:off x="3465000" y="4662000"/>
            <a:ext cx="10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710"/>
          <p:cNvCxnSpPr>
            <a:stCxn id="85" idx="2"/>
            <a:endCxn id="88" idx="0"/>
          </p:cNvCxnSpPr>
          <p:nvPr/>
        </p:nvCxnSpPr>
        <p:spPr>
          <a:xfrm>
            <a:off x="3465000" y="5097240"/>
            <a:ext cx="108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711"/>
          <p:cNvSpPr/>
          <p:nvPr/>
        </p:nvSpPr>
        <p:spPr>
          <a:xfrm>
            <a:off x="333360" y="20397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12"/>
          <p:cNvSpPr/>
          <p:nvPr/>
        </p:nvSpPr>
        <p:spPr>
          <a:xfrm>
            <a:off x="333360" y="2556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13"/>
          <p:cNvSpPr/>
          <p:nvPr/>
        </p:nvSpPr>
        <p:spPr>
          <a:xfrm>
            <a:off x="333360" y="3492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 /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14"/>
          <p:cNvSpPr/>
          <p:nvPr/>
        </p:nvSpPr>
        <p:spPr>
          <a:xfrm>
            <a:off x="333360" y="4859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15"/>
          <p:cNvSpPr/>
          <p:nvPr/>
        </p:nvSpPr>
        <p:spPr>
          <a:xfrm>
            <a:off x="5373720" y="48592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16"/>
          <p:cNvSpPr/>
          <p:nvPr/>
        </p:nvSpPr>
        <p:spPr>
          <a:xfrm>
            <a:off x="5373720" y="255600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17"/>
          <p:cNvSpPr/>
          <p:nvPr/>
        </p:nvSpPr>
        <p:spPr>
          <a:xfrm>
            <a:off x="5373720" y="1979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Revisiones Administra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18"/>
          <p:cNvSpPr/>
          <p:nvPr/>
        </p:nvSpPr>
        <p:spPr>
          <a:xfrm>
            <a:off x="5373720" y="3071880"/>
            <a:ext cx="12952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ortes de Auditorias / Resultados de Encuestas de Satisfacción del Cliente / Concentrado de Acciones Correctivas y Preventivas /  Notificación de Altas, Bajas o Cambios / Indicadores de Desempeño /  Política de Calidad / Objetivos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19"/>
          <p:cNvSpPr/>
          <p:nvPr/>
        </p:nvSpPr>
        <p:spPr>
          <a:xfrm>
            <a:off x="1665360" y="5265720"/>
            <a:ext cx="36003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rata como mínimo los siguientes punto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sultados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troalimentación de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Desempeño de los procesos y conformidad d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Estado de Acciones correctivas y preventiv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Acciones de seguimiento de revisiones previ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ambios que podrían afectar al SG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comendaciones para la mejo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Política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Objetivos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20"/>
          <p:cNvSpPr/>
          <p:nvPr/>
        </p:nvSpPr>
        <p:spPr>
          <a:xfrm>
            <a:off x="1665360" y="6912000"/>
            <a:ext cx="360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 los acuerdos y compromisos de la revisión, tales com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La mejora de la eficacia del SG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La mejora del servicio en relación con los requisitos del cl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Las necesidades de recursos detect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721"/>
          <p:cNvCxnSpPr>
            <a:stCxn id="88" idx="2"/>
            <a:endCxn id="97" idx="0"/>
          </p:cNvCxnSpPr>
          <p:nvPr/>
        </p:nvCxnSpPr>
        <p:spPr>
          <a:xfrm>
            <a:off x="3465000" y="673272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AutoShape 722"/>
          <p:cNvSpPr/>
          <p:nvPr/>
        </p:nvSpPr>
        <p:spPr>
          <a:xfrm>
            <a:off x="3105000" y="7740720"/>
            <a:ext cx="719280" cy="1443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723"/>
          <p:cNvCxnSpPr>
            <a:stCxn id="97" idx="2"/>
            <a:endCxn id="99" idx="0"/>
          </p:cNvCxnSpPr>
          <p:nvPr/>
        </p:nvCxnSpPr>
        <p:spPr>
          <a:xfrm>
            <a:off x="3465000" y="75592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724"/>
          <p:cNvSpPr/>
          <p:nvPr/>
        </p:nvSpPr>
        <p:spPr>
          <a:xfrm>
            <a:off x="333360" y="5724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25"/>
          <p:cNvSpPr/>
          <p:nvPr/>
        </p:nvSpPr>
        <p:spPr>
          <a:xfrm>
            <a:off x="333360" y="695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 /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26"/>
          <p:cNvSpPr/>
          <p:nvPr/>
        </p:nvSpPr>
        <p:spPr>
          <a:xfrm>
            <a:off x="5373720" y="7093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27"/>
          <p:cNvSpPr/>
          <p:nvPr/>
        </p:nvSpPr>
        <p:spPr>
          <a:xfrm>
            <a:off x="5373720" y="5448240"/>
            <a:ext cx="129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inuta de Juntas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do de Acciones  Correctivas y Preventivas / Resultados de Encuestas de Satisfacción del Cliente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6-16T18:32:09Z</dcterms:modified>
  <cp:revision>158</cp:revision>
  <dc:subject/>
  <dc:title>Presentación de PowerPoint</dc:title>
</cp:coreProperties>
</file>