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D74E-7ABE-4149-AA4F-F274A999E5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DBC-6407-4AA2-BFFE-94634372FA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1800-9054-48AB-89C7-DC29956817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BA5-5CED-4E5C-8B1D-32CF0E54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822-7F46-4E6E-B2C9-3042D6F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0F5-771E-4893-ACA8-8152AFF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895-E864-465D-8650-6B15FA4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17E-2630-499B-9A23-59366F5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7F1-C7DA-4508-BC9D-1DE879D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8D9-AB36-4AF3-952F-8842432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30D-4987-4E92-84D3-F40ACC1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390-DE56-4852-B395-379EA44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C1D-A171-43FC-B3D4-896B6CC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8A2-5B33-481B-9564-A2973D07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653-C364-4EC4-8AC1-B26335E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DA1-22AC-4833-96C0-9A65A488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D79-3009-4C9F-A9FD-CFB0823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C0A8-A7F3-4179-82BA-0D9F194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34C-BF32-4939-A4B9-1DB5550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D4D-6008-4860-BAE0-78D91F32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3A6-9EB5-48C7-9B0C-82F957E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CA4-F5D6-4B3C-B374-2ED7756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5BF-F0D2-4892-81CB-8092B4F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F6E1-2E22-40F1-A6D2-0617A03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D0E8-5DAD-43EB-B23B-6037FEA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19C4-914B-4FB4-A1AC-EB87AB15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568E-88C9-4192-A655-1D768B95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7985E87-0C1B-4B3F-9672-FC7D77E9D55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CA87-3005-4866-B738-F559CC4CC72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D11-87D6-4BDA-BBFB-230C430808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sarrollar y administrar el PREP a fin de brindar certeza en los resultados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apacitar adecuadamente al personal de captura del PRE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Tener una visión de resultados  de las elecciones, para darle confianza a los elect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PREP:  Programa de Resultados Electorales Prelimina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TI:   Centro de Acopio y Transmisión de Información.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6880"/>
            <a:ext cx="39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288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21472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29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 flipH="1">
            <a:off x="3497040" y="2144880"/>
            <a:ext cx="360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48400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508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132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84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REQ. 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77128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05928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7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todo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895400" y="4211640"/>
            <a:ext cx="3262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conforme al plan de simulacros y prueba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262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93880" y="5194440"/>
            <a:ext cx="1469880" cy="1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5"/>
          <p:cNvCxnSpPr>
            <a:stCxn id="183" idx="2"/>
            <a:endCxn id="192" idx="0"/>
          </p:cNvCxnSpPr>
          <p:nvPr/>
        </p:nvCxnSpPr>
        <p:spPr>
          <a:xfrm flipH="1">
            <a:off x="3498480" y="334764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73360" y="4818240"/>
            <a:ext cx="1511280" cy="25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3" idx="2"/>
            <a:endCxn id="190" idx="0"/>
          </p:cNvCxnSpPr>
          <p:nvPr/>
        </p:nvCxnSpPr>
        <p:spPr>
          <a:xfrm flipH="1">
            <a:off x="2528280" y="5076360"/>
            <a:ext cx="1080" cy="11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50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n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869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í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227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0" idx="1"/>
            <a:endCxn id="188" idx="1"/>
          </p:cNvCxnSpPr>
          <p:nvPr/>
        </p:nvCxnSpPr>
        <p:spPr>
          <a:xfrm flipH="1" rot="10800000">
            <a:off x="1793520" y="4318920"/>
            <a:ext cx="102240" cy="959400"/>
          </a:xfrm>
          <a:prstGeom prst="bentConnector3">
            <a:avLst>
              <a:gd name="adj1" fmla="val -14275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724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84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44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8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21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ACTIVO FIJO, We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22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r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4530600" y="5094360"/>
            <a:ext cx="216000" cy="16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>
            <a:stCxn id="226" idx="2"/>
          </p:cNvCxnSpPr>
          <p:nvPr/>
        </p:nvCxnSpPr>
        <p:spPr>
          <a:xfrm flipH="1" flipV="1">
            <a:off x="4147920" y="5167080"/>
            <a:ext cx="383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Rectangle 653"/>
          <p:cNvSpPr/>
          <p:nvPr/>
        </p:nvSpPr>
        <p:spPr>
          <a:xfrm>
            <a:off x="1698480" y="341964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programa y la carga de dicho programa en las terminales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 flipH="1">
            <a:off x="3501720" y="3672000"/>
            <a:ext cx="21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60"/>
          <p:cNvSpPr/>
          <p:nvPr/>
        </p:nvSpPr>
        <p:spPr>
          <a:xfrm>
            <a:off x="33012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veedor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8400" y="3483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ftware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32"/>
          <p:cNvCxnSpPr>
            <a:stCxn id="188" idx="2"/>
            <a:endCxn id="235" idx="0"/>
          </p:cNvCxnSpPr>
          <p:nvPr/>
        </p:nvCxnSpPr>
        <p:spPr>
          <a:xfrm flipH="1">
            <a:off x="3496680" y="4427280"/>
            <a:ext cx="2916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57 CuadroTexto"/>
          <p:cNvSpPr/>
          <p:nvPr/>
        </p:nvSpPr>
        <p:spPr>
          <a:xfrm>
            <a:off x="3090960" y="45943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193" idx="0"/>
          </p:cNvCxnSpPr>
          <p:nvPr/>
        </p:nvCxnSpPr>
        <p:spPr>
          <a:xfrm flipV="1" rot="10800000">
            <a:off x="2528280" y="4679640"/>
            <a:ext cx="540360" cy="138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72 CuadroTexto"/>
          <p:cNvSpPr/>
          <p:nvPr/>
        </p:nvSpPr>
        <p:spPr>
          <a:xfrm>
            <a:off x="270828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73 CuadroTexto"/>
          <p:cNvSpPr/>
          <p:nvPr/>
        </p:nvSpPr>
        <p:spPr>
          <a:xfrm>
            <a:off x="386064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64 Conector angular"/>
          <p:cNvCxnSpPr>
            <a:stCxn id="235" idx="3"/>
            <a:endCxn id="202" idx="0"/>
          </p:cNvCxnSpPr>
          <p:nvPr/>
        </p:nvCxnSpPr>
        <p:spPr>
          <a:xfrm flipH="1">
            <a:off x="3499920" y="4680000"/>
            <a:ext cx="426240" cy="829440"/>
          </a:xfrm>
          <a:prstGeom prst="bentConnector4">
            <a:avLst>
              <a:gd name="adj1" fmla="val -53677"/>
              <a:gd name="adj2" fmla="val 608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56 Rombo"/>
          <p:cNvSpPr/>
          <p:nvPr/>
        </p:nvSpPr>
        <p:spPr>
          <a:xfrm>
            <a:off x="3068640" y="45007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49:02Z</cp:lastPrinted>
  <dcterms:modified xsi:type="dcterms:W3CDTF">2012-05-07T15:50:07Z</dcterms:modified>
  <cp:revision>296</cp:revision>
  <dc:subject/>
  <dc:title>Presentación de PowerPoint</dc:title>
</cp:coreProperties>
</file>