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A9EF-A824-40A3-8E5D-AD9A7F674B5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C848-4166-41F2-98AC-92359CDE079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E735-6731-490C-8AAF-953F428DBC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08A9-28D4-44CB-861A-942D153A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3281-4BF9-4F85-9BFE-51EB687F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0598-2B41-4DA5-89DE-D3ADF7D6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20A3-26BC-4BED-B5CE-5140766B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D6FA-3962-4A05-BC33-075B0A88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35C3-B92B-4F94-8819-61803DA8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7A03-2189-4206-A1E7-A434D4C7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A934-7304-4E7E-A2F1-39755DC3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7594-D753-42C8-8DA0-B7431655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1466-47A2-4B3E-812E-66955D3F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777E-FC15-4475-9DCA-874E6D33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455F-724C-4607-9EE5-253F747A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D92D-184F-498E-9811-0E819834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609B-450A-4E18-A718-C5464903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6C3D-2F9B-4B56-A9EF-3186132C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AC2F-66DA-460C-8037-A5E20BB0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A2A6-4542-4332-AD24-D04FCD2D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2153-2B07-4C29-AD09-DAECCF64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1803-D162-4E6B-A100-BFA9AF7E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5516-8F9B-4370-BBDC-33CF4713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F806-4813-4073-9C5C-264869AE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413B-D175-451B-BDD5-94975727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2D2D-7AA0-47B8-A066-E38DC213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59B2-C27C-449B-8E27-7CA32B0E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Notif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45E3968A-B6DF-43BB-AA5F-E9BE7230B9AE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Secretario Ejecu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7D91-B874-49DB-B814-3E64E08ACAC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1910-25E6-45D9-95A1-B7427974907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umplir con la función estatal de organizar procesos electorales para la renovación de titulares de los poderes Legislativo y Ejecutivo, así como los ayuntamientos, mediante elecciones libres, auténticas y periódic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notificación de documentos de parte del Instituto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6880"/>
            <a:ext cx="39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124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epción de documentación a notificar  de las áreas y se clasif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66"/>
          <p:cNvSpPr/>
          <p:nvPr/>
        </p:nvSpPr>
        <p:spPr>
          <a:xfrm>
            <a:off x="5373720" y="338760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uadrante de notificaciones recibida y entregadas / certificaciones /formato de notificaciones por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18 Rectángulo"/>
          <p:cNvSpPr/>
          <p:nvPr/>
        </p:nvSpPr>
        <p:spPr>
          <a:xfrm>
            <a:off x="1700280" y="51451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rchiva en los acuses de oficios notific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1908000"/>
            <a:ext cx="1278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uadrante de notificaciones recibidas y entregadas / formato de notificaciones por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00"/>
          <p:cNvSpPr/>
          <p:nvPr/>
        </p:nvSpPr>
        <p:spPr>
          <a:xfrm>
            <a:off x="333360" y="21240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Notificado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01"/>
          <p:cNvSpPr/>
          <p:nvPr/>
        </p:nvSpPr>
        <p:spPr>
          <a:xfrm>
            <a:off x="333360" y="33876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ditor / Notificad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56 Rombo"/>
          <p:cNvSpPr/>
          <p:nvPr/>
        </p:nvSpPr>
        <p:spPr>
          <a:xfrm>
            <a:off x="3090960" y="304488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57 CuadroTexto"/>
          <p:cNvSpPr/>
          <p:nvPr/>
        </p:nvSpPr>
        <p:spPr>
          <a:xfrm>
            <a:off x="3141720" y="311472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notificad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64 Conector angular"/>
          <p:cNvCxnSpPr>
            <a:stCxn id="168" idx="1"/>
            <a:endCxn id="171" idx="0"/>
          </p:cNvCxnSpPr>
          <p:nvPr/>
        </p:nvCxnSpPr>
        <p:spPr>
          <a:xfrm flipV="1" rot="10800000">
            <a:off x="2456640" y="3223080"/>
            <a:ext cx="634320" cy="2689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2" name="72 CuadroTexto"/>
          <p:cNvSpPr/>
          <p:nvPr/>
        </p:nvSpPr>
        <p:spPr>
          <a:xfrm>
            <a:off x="2637000" y="2987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73 CuadroTexto"/>
          <p:cNvSpPr/>
          <p:nvPr/>
        </p:nvSpPr>
        <p:spPr>
          <a:xfrm>
            <a:off x="4005360" y="2987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64 Conector angular"/>
          <p:cNvCxnSpPr>
            <a:stCxn id="168" idx="3"/>
            <a:endCxn id="175" idx="0"/>
          </p:cNvCxnSpPr>
          <p:nvPr/>
        </p:nvCxnSpPr>
        <p:spPr>
          <a:xfrm>
            <a:off x="3948120" y="3223800"/>
            <a:ext cx="489600" cy="197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5" name="Rectangle 656"/>
          <p:cNvSpPr/>
          <p:nvPr/>
        </p:nvSpPr>
        <p:spPr>
          <a:xfrm>
            <a:off x="3573360" y="3421080"/>
            <a:ext cx="17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levanta certificacio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6"/>
          <p:cNvSpPr/>
          <p:nvPr/>
        </p:nvSpPr>
        <p:spPr>
          <a:xfrm>
            <a:off x="5373720" y="51451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rch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01"/>
          <p:cNvSpPr/>
          <p:nvPr/>
        </p:nvSpPr>
        <p:spPr>
          <a:xfrm>
            <a:off x="333360" y="507348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otificad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75"/>
          <p:cNvSpPr/>
          <p:nvPr/>
        </p:nvSpPr>
        <p:spPr>
          <a:xfrm>
            <a:off x="2349360" y="34923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34"/>
          <p:cNvSpPr/>
          <p:nvPr/>
        </p:nvSpPr>
        <p:spPr>
          <a:xfrm>
            <a:off x="3213000" y="56563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32"/>
          <p:cNvCxnSpPr>
            <a:stCxn id="175" idx="2"/>
            <a:endCxn id="180" idx="0"/>
          </p:cNvCxnSpPr>
          <p:nvPr/>
        </p:nvCxnSpPr>
        <p:spPr>
          <a:xfrm flipH="1">
            <a:off x="4436280" y="3781080"/>
            <a:ext cx="252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Rectangle 652"/>
          <p:cNvSpPr/>
          <p:nvPr/>
        </p:nvSpPr>
        <p:spPr>
          <a:xfrm>
            <a:off x="1700280" y="26272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notifica seg</a:t>
            </a: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n la vía correspondi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91000" y="25560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Publicación / notificación direc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00"/>
          <p:cNvSpPr/>
          <p:nvPr/>
        </p:nvSpPr>
        <p:spPr>
          <a:xfrm>
            <a:off x="333360" y="2698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Notificado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6"/>
          <p:cNvSpPr/>
          <p:nvPr/>
        </p:nvSpPr>
        <p:spPr>
          <a:xfrm>
            <a:off x="5373720" y="403236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uadrante de actualizado de SE / cuadrante de notificaciones recibidas y entregadas / formato de notificaciones por a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01"/>
          <p:cNvSpPr/>
          <p:nvPr/>
        </p:nvSpPr>
        <p:spPr>
          <a:xfrm>
            <a:off x="333360" y="403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otificad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56"/>
          <p:cNvSpPr/>
          <p:nvPr/>
        </p:nvSpPr>
        <p:spPr>
          <a:xfrm>
            <a:off x="3573360" y="4065480"/>
            <a:ext cx="17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lleva y actualiza cuadrante de notificaciones junto con Secretaria Ejecu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AutoShape 32"/>
          <p:cNvCxnSpPr>
            <a:endCxn id="178" idx="0"/>
          </p:cNvCxnSpPr>
          <p:nvPr/>
        </p:nvCxnSpPr>
        <p:spPr>
          <a:xfrm>
            <a:off x="3499920" y="5364000"/>
            <a:ext cx="1080" cy="29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32"/>
          <p:cNvCxnSpPr>
            <a:stCxn id="180" idx="2"/>
          </p:cNvCxnSpPr>
          <p:nvPr/>
        </p:nvCxnSpPr>
        <p:spPr>
          <a:xfrm flipH="1">
            <a:off x="4436280" y="4425480"/>
            <a:ext cx="1080" cy="7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AutoShape 649"/>
          <p:cNvCxnSpPr>
            <a:stCxn id="162" idx="2"/>
            <a:endCxn id="181" idx="0"/>
          </p:cNvCxnSpPr>
          <p:nvPr/>
        </p:nvCxnSpPr>
        <p:spPr>
          <a:xfrm>
            <a:off x="3498840" y="2340000"/>
            <a:ext cx="216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AutoShape 649"/>
          <p:cNvCxnSpPr>
            <a:stCxn id="181" idx="2"/>
          </p:cNvCxnSpPr>
          <p:nvPr/>
        </p:nvCxnSpPr>
        <p:spPr>
          <a:xfrm flipH="1">
            <a:off x="3499560" y="2842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Oval 75"/>
          <p:cNvSpPr/>
          <p:nvPr/>
        </p:nvSpPr>
        <p:spPr>
          <a:xfrm>
            <a:off x="3068640" y="378000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32"/>
          <p:cNvCxnSpPr/>
          <p:nvPr/>
        </p:nvCxnSpPr>
        <p:spPr>
          <a:xfrm>
            <a:off x="3284280" y="3924000"/>
            <a:ext cx="115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5-01T17:11:58Z</dcterms:modified>
  <cp:revision>337</cp:revision>
  <dc:subject/>
  <dc:title>Presentación de PowerPoint</dc:title>
</cp:coreProperties>
</file>