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E0DD-47C8-4EAF-BAB3-F113AC8D87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5200-8230-4391-B18F-02875E79A7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EE99-A7AE-487E-9A56-39A1FB7F6A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72E-3D5D-41DE-9C2C-A5721881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4E0-1C8B-46FE-A02D-A1C0EAC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47F-1048-4A62-9DDD-D847D318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F2A-6969-4B07-BF1B-88151C5C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256-9B3E-4DF4-A9BC-66B36BFA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949-08F7-4D9E-8BAD-69E9F678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CE1-601F-4A24-A356-EF505009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AEB-9279-4928-A5BC-631772D1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C6E-58BE-4C4C-AC42-37CB25EF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B24-1748-43CB-9159-FB1FC15A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C2C-4A24-4883-BB4F-A47314BC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C7B-51D2-4DBF-8D38-F6517841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CDE8-481C-4DEF-A1B6-049E1A81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462-4768-4E18-9836-4BD5D247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09AF-C290-4A9F-AD9D-F3CD531D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2B0A-D46A-4E2B-B9B6-37BA953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9E94-07A6-4491-AD95-5CF1E122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6D71-3996-418B-84BC-4B52F3B0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CEEF-3411-4322-BD9C-35111B12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5176-52B7-4F40-90B1-D083574D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52D4-5ED9-4C05-8250-77895652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58DD-82F9-4FCB-AD0D-B3536EC4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DFA8-C523-4A94-B9AF-F4A988DD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A475-2B95-490E-998A-4AC65C80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a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7B55F42-5A96-4262-B661-0C6D6EF1A02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CA34-DFCC-4EE7-8605-95AD3DAAE6E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7211-FCBB-4491-B61D-64C3ED2DC8D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3"/>
          <p:cNvSpPr/>
          <p:nvPr/>
        </p:nvSpPr>
        <p:spPr>
          <a:xfrm>
            <a:off x="5373720" y="2700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5"/>
          <p:cNvSpPr/>
          <p:nvPr/>
        </p:nvSpPr>
        <p:spPr>
          <a:xfrm>
            <a:off x="5373720" y="30592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6"/>
          <p:cNvSpPr/>
          <p:nvPr/>
        </p:nvSpPr>
        <p:spPr>
          <a:xfrm>
            <a:off x="5373720" y="1979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es por transparencia / acuse de recibo INFOMEX/ carpeta de recibido de INFOM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0"/>
          <p:cNvSpPr/>
          <p:nvPr/>
        </p:nvSpPr>
        <p:spPr>
          <a:xfrm>
            <a:off x="333360" y="2340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4"/>
          <p:cNvSpPr/>
          <p:nvPr/>
        </p:nvSpPr>
        <p:spPr>
          <a:xfrm>
            <a:off x="5373720" y="27003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 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01"/>
          <p:cNvSpPr/>
          <p:nvPr/>
        </p:nvSpPr>
        <p:spPr>
          <a:xfrm>
            <a:off x="333360" y="3060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2340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ión de programa INFOMEX diaria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la directora para elaborar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7" idx="2"/>
            <a:endCxn id="168" idx="0"/>
          </p:cNvCxnSpPr>
          <p:nvPr/>
        </p:nvCxnSpPr>
        <p:spPr>
          <a:xfrm>
            <a:off x="3499920" y="2555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18 Rectángulo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 la información para determinar si se puede publicar o 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32"/>
          <p:cNvCxnSpPr>
            <a:stCxn id="168" idx="2"/>
            <a:endCxn id="170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use de recibo INFOMEX / P-OPE- TRAN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UTI respuesta con información neces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0" idx="2"/>
            <a:endCxn id="175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>
            <a:stCxn id="175" idx="2"/>
          </p:cNvCxnSpPr>
          <p:nvPr/>
        </p:nvCxnSpPr>
        <p:spPr>
          <a:xfrm>
            <a:off x="3499920" y="36352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32"/>
          <p:cNvCxnSpPr>
            <a:stCxn id="179" idx="2"/>
            <a:endCxn id="167" idx="0"/>
          </p:cNvCxnSpPr>
          <p:nvPr/>
        </p:nvCxnSpPr>
        <p:spPr>
          <a:xfrm flipH="1">
            <a:off x="3499560" y="1856880"/>
            <a:ext cx="252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8T14:48:54Z</dcterms:modified>
  <cp:revision>312</cp:revision>
  <dc:subject/>
  <dc:title>Presentación de PowerPoint</dc:title>
</cp:coreProperties>
</file>