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A3C8-FDB5-4BC5-8932-09368A54B9C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B6B7-8C19-433B-94B9-CEA2810965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53F6-264C-4F92-A936-80D2006BBB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39E-100B-4492-A642-164312A3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D2A-6808-41AA-B9F4-9B19C6BE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593-53F2-47A1-A770-AF55E222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D51F-1E97-48C5-AC49-266B4E89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C9DF-5101-41F0-AFC9-F374F3C4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D17-A63E-43DC-961E-0929E334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AA8-D635-46A8-B133-3DDE9926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7C09-74F4-4CB7-B888-EE187548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F85A-A869-4814-882C-3BA754B6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600-D285-4082-884D-B5A02C37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AEC-4FDA-460B-BCE5-402B6D89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45D-9346-4EA8-A608-BFB546E1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FBC0-4E4A-4089-B70B-C30FC118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8E6A-FB3C-442C-894F-66CAD3C9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8B33-9B05-4B83-B054-849CE0AD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C839-2E65-4D8A-AF05-4D769427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A536-F9C1-4FED-ACB9-F5F13363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ACE2-BC54-453E-868A-964679E8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1389-EAE6-4F85-95BB-A889A6CF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260C-6738-479E-BB5C-B5359CF4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E8C9-FF98-48E8-98C2-AB09FA87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3989-CB64-4528-B03A-12AA1EE1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673F-87CE-4843-B1A4-A5097677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508A-3DF4-4125-8989-503A9A14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ciones esco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A28B3867-2B14-432E-A83B-D24078C6FA3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irector de Capacitación electoral y educación cív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FC81-5A8C-4528-BCC2-D3FB9061673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D0E7-110E-45A2-8912-3141D0D5884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adyuvar en la elaboración y desarrollo de los programas de capacitación electoral y educación del institu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levar a cabo elecciones escolares solicitadas hacia el IEPC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n solicitudes para organizar el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lendariza la elección para su ejecución y se confirma al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AutoShape 684"/>
          <p:cNvCxnSpPr>
            <a:stCxn id="163" idx="2"/>
            <a:endCxn id="167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Rectangle 701"/>
          <p:cNvSpPr/>
          <p:nvPr/>
        </p:nvSpPr>
        <p:spPr>
          <a:xfrm>
            <a:off x="333360" y="2268360"/>
            <a:ext cx="12240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área de cultura cívica y democrá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66"/>
          <p:cNvSpPr/>
          <p:nvPr/>
        </p:nvSpPr>
        <p:spPr>
          <a:xfrm>
            <a:off x="5373720" y="34560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oletas / P-OPE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para el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verifica la solicitud y se determina si es urna electrónica o tradicional y se turna a Dirección general para su VoB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18 Rectángulo"/>
          <p:cNvSpPr/>
          <p:nvPr/>
        </p:nvSpPr>
        <p:spPr>
          <a:xfrm>
            <a:off x="1700280" y="40672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epara la logística de la elección y se capacita a los funcionar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AutoShape 32"/>
          <p:cNvCxnSpPr>
            <a:stCxn id="173" idx="2"/>
            <a:endCxn id="174" idx="0"/>
          </p:cNvCxnSpPr>
          <p:nvPr/>
        </p:nvCxnSpPr>
        <p:spPr>
          <a:xfrm>
            <a:off x="3499920" y="485928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para el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6"/>
          <p:cNvSpPr/>
          <p:nvPr/>
        </p:nvSpPr>
        <p:spPr>
          <a:xfrm>
            <a:off x="5373720" y="40514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heck list de material / manual de elecciones escola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00"/>
          <p:cNvSpPr/>
          <p:nvPr/>
        </p:nvSpPr>
        <p:spPr>
          <a:xfrm>
            <a:off x="404640" y="2050920"/>
            <a:ext cx="11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1"/>
          <p:cNvSpPr/>
          <p:nvPr/>
        </p:nvSpPr>
        <p:spPr>
          <a:xfrm>
            <a:off x="333360" y="34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cultura cívica democrática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1"/>
          <p:cNvSpPr/>
          <p:nvPr/>
        </p:nvSpPr>
        <p:spPr>
          <a:xfrm>
            <a:off x="333360" y="406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de cultura cívica y democr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56 Rombo"/>
          <p:cNvSpPr/>
          <p:nvPr/>
        </p:nvSpPr>
        <p:spPr>
          <a:xfrm>
            <a:off x="3090960" y="311292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57 CuadroTexto"/>
          <p:cNvSpPr/>
          <p:nvPr/>
        </p:nvSpPr>
        <p:spPr>
          <a:xfrm>
            <a:off x="3141720" y="318276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lectrónic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64 Conector angular"/>
          <p:cNvCxnSpPr>
            <a:stCxn id="180" idx="1"/>
            <a:endCxn id="183" idx="0"/>
          </p:cNvCxnSpPr>
          <p:nvPr/>
        </p:nvCxnSpPr>
        <p:spPr>
          <a:xfrm flipV="1" rot="10800000">
            <a:off x="2493360" y="32922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4" name="72 CuadroTexto"/>
          <p:cNvSpPr/>
          <p:nvPr/>
        </p:nvSpPr>
        <p:spPr>
          <a:xfrm>
            <a:off x="3933720" y="30574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73 CuadroTexto"/>
          <p:cNvSpPr/>
          <p:nvPr/>
        </p:nvSpPr>
        <p:spPr>
          <a:xfrm>
            <a:off x="2708280" y="30574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56"/>
          <p:cNvSpPr/>
          <p:nvPr/>
        </p:nvSpPr>
        <p:spPr>
          <a:xfrm>
            <a:off x="1628640" y="347184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Se diseñan boletas e impri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64 Conector angular"/>
          <p:cNvCxnSpPr>
            <a:stCxn id="180" idx="3"/>
            <a:endCxn id="187" idx="0"/>
          </p:cNvCxnSpPr>
          <p:nvPr/>
        </p:nvCxnSpPr>
        <p:spPr>
          <a:xfrm>
            <a:off x="3948120" y="3292200"/>
            <a:ext cx="489600" cy="2005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7" name="Rectangle 656"/>
          <p:cNvSpPr/>
          <p:nvPr/>
        </p:nvSpPr>
        <p:spPr>
          <a:xfrm>
            <a:off x="3573360" y="349236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solicita a Informática urnas y programación de las mis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32"/>
          <p:cNvCxnSpPr>
            <a:stCxn id="171" idx="2"/>
            <a:endCxn id="173" idx="0"/>
          </p:cNvCxnSpPr>
          <p:nvPr/>
        </p:nvCxnSpPr>
        <p:spPr>
          <a:xfrm flipH="1">
            <a:off x="3499560" y="42825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Rectangle 661"/>
          <p:cNvSpPr/>
          <p:nvPr/>
        </p:nvSpPr>
        <p:spPr>
          <a:xfrm>
            <a:off x="333360" y="4500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de cultura cívica y democrática / encargado del ev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4627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stancia de mayorí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18 Rectángulo"/>
          <p:cNvSpPr/>
          <p:nvPr/>
        </p:nvSpPr>
        <p:spPr>
          <a:xfrm>
            <a:off x="1700280" y="457200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Se lleva a cabo la jornada electoral y se entrega la constancia de mayoría al ganad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61"/>
          <p:cNvSpPr/>
          <p:nvPr/>
        </p:nvSpPr>
        <p:spPr>
          <a:xfrm>
            <a:off x="333360" y="50767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de cultura cívica y democrática / encargado del ev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66"/>
          <p:cNvSpPr/>
          <p:nvPr/>
        </p:nvSpPr>
        <p:spPr>
          <a:xfrm>
            <a:off x="5373720" y="51325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porte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5076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 reporte de actividades realiza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AutoShape 32"/>
          <p:cNvCxnSpPr/>
          <p:nvPr/>
        </p:nvCxnSpPr>
        <p:spPr>
          <a:xfrm>
            <a:off x="3499920" y="2987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AutoShape 32"/>
          <p:cNvCxnSpPr/>
          <p:nvPr/>
        </p:nvCxnSpPr>
        <p:spPr>
          <a:xfrm>
            <a:off x="3499920" y="529272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Oval 34"/>
          <p:cNvSpPr/>
          <p:nvPr/>
        </p:nvSpPr>
        <p:spPr>
          <a:xfrm>
            <a:off x="3213000" y="5435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/>
          <p:nvPr/>
        </p:nvCxnSpPr>
        <p:spPr>
          <a:xfrm flipH="1">
            <a:off x="4508280" y="3780000"/>
            <a:ext cx="21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32"/>
          <p:cNvCxnSpPr/>
          <p:nvPr/>
        </p:nvCxnSpPr>
        <p:spPr>
          <a:xfrm flipH="1">
            <a:off x="2491560" y="385128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Rectangle 701"/>
          <p:cNvSpPr/>
          <p:nvPr/>
        </p:nvSpPr>
        <p:spPr>
          <a:xfrm>
            <a:off x="333360" y="270036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área de cultura cívica y democrá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8T20:46:13Z</dcterms:modified>
  <cp:revision>329</cp:revision>
  <dc:subject/>
  <dc:title>Presentación de PowerPoint</dc:title>
</cp:coreProperties>
</file>