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3C25-D056-4C19-8DD0-5E878DC07F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Marcador de número de diapositiva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BB78-D47B-4AA0-96AB-F628B4678E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4643280" y="136440"/>
            <a:ext cx="4500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roceso:Dirección General Ejectu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771640" y="1162080"/>
            <a:ext cx="3600720" cy="439272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5 Rectángulo"/>
          <p:cNvSpPr/>
          <p:nvPr/>
        </p:nvSpPr>
        <p:spPr>
          <a:xfrm>
            <a:off x="3778200" y="2906640"/>
            <a:ext cx="1584360" cy="104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visión, seguimiento y verificación  de la ejecución y cumplimiento de programas y actividades  de las direc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920" y="836640"/>
            <a:ext cx="1728720" cy="1079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pel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7000" y="2709720"/>
            <a:ext cx="1728720" cy="14385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grama Anual de Activida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es mensuales y seman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gendas semana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egisl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236000" y="836640"/>
            <a:ext cx="1873080" cy="863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os los Directores Administrativos y de Á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7164360" y="2816280"/>
            <a:ext cx="1943280" cy="1368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yecto del Programa Anual de Activida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formes trimestrales, anuales y extraordinari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e de actividades semanal de la D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7164360" y="4545000"/>
            <a:ext cx="1943280" cy="21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visión y reporte de actividades programadas del P.A.A. al 9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clusión de las actividades denominadas como urgentes e importantes en un 95% en la fecha establec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umplimiento del Programa de Capacitación al 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4920" y="5372280"/>
            <a:ext cx="1727280" cy="793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todas las Direc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6300720" y="3284640"/>
            <a:ext cx="647640" cy="431640"/>
          </a:xfrm>
          <a:prstGeom prst="rightArrow">
            <a:avLst>
              <a:gd name="adj1" fmla="val 50000"/>
              <a:gd name="adj2" fmla="val 31189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8 Rectángulo"/>
          <p:cNvSpPr/>
          <p:nvPr/>
        </p:nvSpPr>
        <p:spPr>
          <a:xfrm>
            <a:off x="3778200" y="4292640"/>
            <a:ext cx="1584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laboración de Informes trimestrales, anuales y extraordinari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1835280" y="3141720"/>
            <a:ext cx="504720" cy="431640"/>
          </a:xfrm>
          <a:prstGeom prst="rightArrow">
            <a:avLst>
              <a:gd name="adj1" fmla="val 50000"/>
              <a:gd name="adj2" fmla="val 31252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 rot="1986600">
            <a:off x="1814040" y="1420920"/>
            <a:ext cx="684360" cy="414360"/>
          </a:xfrm>
          <a:prstGeom prst="rightArrow">
            <a:avLst>
              <a:gd name="adj1" fmla="val 50000"/>
              <a:gd name="adj2" fmla="val 31189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365000">
            <a:off x="1851120" y="5205240"/>
            <a:ext cx="550800" cy="457200"/>
          </a:xfrm>
          <a:prstGeom prst="rightArrow">
            <a:avLst>
              <a:gd name="adj1" fmla="val 50000"/>
              <a:gd name="adj2" fmla="val 31317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3003200">
            <a:off x="6540120" y="5182560"/>
            <a:ext cx="490680" cy="485640"/>
          </a:xfrm>
          <a:prstGeom prst="rightArrow">
            <a:avLst>
              <a:gd name="adj1" fmla="val 50000"/>
              <a:gd name="adj2" fmla="val 31167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8611200">
            <a:off x="6443640" y="1357200"/>
            <a:ext cx="696960" cy="470160"/>
          </a:xfrm>
          <a:prstGeom prst="rightArrow">
            <a:avLst>
              <a:gd name="adj1" fmla="val 50000"/>
              <a:gd name="adj2" fmla="val 3124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3"/>
          <p:cNvSpPr/>
          <p:nvPr/>
        </p:nvSpPr>
        <p:spPr>
          <a:xfrm>
            <a:off x="3924360" y="1413000"/>
            <a:ext cx="1224000" cy="24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4"/>
          <p:cNvSpPr/>
          <p:nvPr/>
        </p:nvSpPr>
        <p:spPr>
          <a:xfrm>
            <a:off x="4284720" y="5072040"/>
            <a:ext cx="57456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5 Rectángulo"/>
          <p:cNvSpPr/>
          <p:nvPr/>
        </p:nvSpPr>
        <p:spPr>
          <a:xfrm>
            <a:off x="3778200" y="1922400"/>
            <a:ext cx="1584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ordinación en la elaboración del Programa Anual de Activida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14 Conector recto de flecha"/>
          <p:cNvCxnSpPr/>
          <p:nvPr/>
        </p:nvCxnSpPr>
        <p:spPr>
          <a:xfrm>
            <a:off x="4538160" y="3317760"/>
            <a:ext cx="32760" cy="223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9" name="AutoShape 60"/>
          <p:cNvCxnSpPr>
            <a:stCxn id="67" idx="2"/>
            <a:endCxn id="50" idx="0"/>
          </p:cNvCxnSpPr>
          <p:nvPr/>
        </p:nvCxnSpPr>
        <p:spPr>
          <a:xfrm>
            <a:off x="4570200" y="2643120"/>
            <a:ext cx="360" cy="26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60"/>
          <p:cNvCxnSpPr>
            <a:stCxn id="50" idx="2"/>
            <a:endCxn id="58" idx="0"/>
          </p:cNvCxnSpPr>
          <p:nvPr/>
        </p:nvCxnSpPr>
        <p:spPr>
          <a:xfrm>
            <a:off x="4570200" y="3951360"/>
            <a:ext cx="360" cy="34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60"/>
          <p:cNvCxnSpPr>
            <a:stCxn id="58" idx="2"/>
            <a:endCxn id="65" idx="0"/>
          </p:cNvCxnSpPr>
          <p:nvPr/>
        </p:nvCxnSpPr>
        <p:spPr>
          <a:xfrm>
            <a:off x="4570200" y="4797360"/>
            <a:ext cx="2160" cy="27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60"/>
          <p:cNvCxnSpPr/>
          <p:nvPr/>
        </p:nvCxnSpPr>
        <p:spPr>
          <a:xfrm flipH="1">
            <a:off x="4571640" y="170028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cp:lastPrinted>2012-04-03T16:21:27Z</cp:lastPrinted>
  <dcterms:modified xsi:type="dcterms:W3CDTF">2012-04-03T19:07:35Z</dcterms:modified>
  <cp:revision>163</cp:revision>
  <dc:subject/>
  <dc:title>Diapositiva 1</dc:title>
</cp:coreProperties>
</file>