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975-B1F2-4B86-B424-6EEE77F962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C98-47F0-4930-94CC-1A9C99AE2C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F8BA-BE7C-4A9D-AADD-2FA58ECB4E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C470-C9B9-4FE7-AA5F-5B242504E4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CEE-6EBB-4AED-B140-F7D73CDE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2D1-A5B5-41F0-85C1-03E794C9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8B4-D974-4E3E-9D52-9A333319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A9D-487B-461C-9CFA-15DED106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41B-F638-4FC0-8276-D5D35BBF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751-B932-4B30-B10E-F4861D8D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35A-F625-4745-A57D-621B89A4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4B8-62C7-478C-899D-4E1AB87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AE5-7841-42F3-9EBE-F0D521A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67F-B50B-4FDE-9EE6-D2D12AA1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7D1-95BE-40C0-9459-03A589BF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F3A-09AB-4568-B142-1B8D1326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CC92-C7B7-4EF0-89A0-35893F61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94AB-6CBF-426C-B03E-47A44632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0265-37E6-4D22-930D-5F4E558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E070-B9FD-45AF-992F-DDC18A55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96C-C7EC-4052-A21C-833C8041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2455-2C71-434C-AD8C-0FBB24B9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628F-7063-457B-AFE5-E099393E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1D2F-F07F-42C4-A29F-DF7726CE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5F40-4584-4B63-8887-1F7F5037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22AC-E180-4630-8C36-A5C85775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A5D1-30D8-4E09-8B96-0C296263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6368-E4B3-4EBC-B115-B0D7DB99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BB32665-C813-4C51-A1F2-E31C00502FA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11040" y="8411760"/>
            <a:ext cx="3382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D673-F288-4A9A-83C0-69F3E333649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59D7-280E-4465-BCAB-9F050BD2566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inición de actividades y adecuación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eferencias, Actividades  y 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rebuchet MS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Emitir los dictámenes y  acuerdos que en el ámbito de las atribuciones correspondan a cada            comi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800" spc="-1" strike="noStrike">
                <a:solidFill>
                  <a:srgbClr val="000000"/>
                </a:solidFill>
                <a:latin typeface="Trebuchet MS"/>
              </a:rPr>
              <a:t>. ALCANCE. </a:t>
            </a:r>
            <a:r>
              <a:rPr b="0" lang="es-ES_tradnl" sz="800" spc="-1" strike="noStrike">
                <a:solidFill>
                  <a:srgbClr val="000000"/>
                </a:solidFill>
                <a:latin typeface="Trebuchet MS"/>
              </a:rPr>
              <a:t>Este procedimiento aplica para los dictámenes y acuerdos que en su caso, serán sometidos a la consideración del Consejo General para su aprobación en definitiva</a:t>
            </a:r>
            <a:r>
              <a:rPr b="0" lang="es-MX" sz="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asunto a tratar en comisión o comi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el 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4800" y="5452920"/>
            <a:ext cx="1225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8400" y="315288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58737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4800" y="3233880"/>
            <a:ext cx="1225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8257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685"/>
          <p:cNvCxnSpPr/>
          <p:nvPr/>
        </p:nvCxnSpPr>
        <p:spPr>
          <a:xfrm>
            <a:off x="3479400" y="2555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221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/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741320" y="3193920"/>
            <a:ext cx="115272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struye al jefe de áre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18 Rectángulo"/>
          <p:cNvSpPr/>
          <p:nvPr/>
        </p:nvSpPr>
        <p:spPr>
          <a:xfrm>
            <a:off x="1679400" y="384336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7" idx="2"/>
          </p:cNvCxnSpPr>
          <p:nvPr/>
        </p:nvCxnSpPr>
        <p:spPr>
          <a:xfrm>
            <a:off x="2317320" y="35560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18 Rectángulo"/>
          <p:cNvSpPr/>
          <p:nvPr/>
        </p:nvSpPr>
        <p:spPr>
          <a:xfrm>
            <a:off x="1693800" y="4248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naliza el proyecto de dictamen con el titular del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34800" y="3790800"/>
            <a:ext cx="1225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/>
          <p:nvPr/>
        </p:nvCxnSpPr>
        <p:spPr>
          <a:xfrm>
            <a:off x="3485880" y="448920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6429240"/>
            <a:ext cx="127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rden del dí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andúm/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0"/>
          <p:cNvSpPr/>
          <p:nvPr/>
        </p:nvSpPr>
        <p:spPr>
          <a:xfrm>
            <a:off x="404640" y="1979640"/>
            <a:ext cx="1151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6600" y="587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6 Rombo"/>
          <p:cNvSpPr/>
          <p:nvPr/>
        </p:nvSpPr>
        <p:spPr>
          <a:xfrm>
            <a:off x="3065400" y="46404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57 CuadroTexto"/>
          <p:cNvSpPr/>
          <p:nvPr/>
        </p:nvSpPr>
        <p:spPr>
          <a:xfrm>
            <a:off x="3110040" y="4718160"/>
            <a:ext cx="78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91" idx="1"/>
          </p:cNvCxnSpPr>
          <p:nvPr/>
        </p:nvCxnSpPr>
        <p:spPr>
          <a:xfrm flipV="1" rot="10800000">
            <a:off x="2493360" y="4818600"/>
            <a:ext cx="572040" cy="6166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2 CuadroTexto"/>
          <p:cNvSpPr/>
          <p:nvPr/>
        </p:nvSpPr>
        <p:spPr>
          <a:xfrm>
            <a:off x="2693880" y="4976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73 CuadroTexto"/>
          <p:cNvSpPr/>
          <p:nvPr/>
        </p:nvSpPr>
        <p:spPr>
          <a:xfrm>
            <a:off x="4005360" y="4987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5452920"/>
            <a:ext cx="1730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corpora los cambios en el 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1" idx="3"/>
            <a:endCxn id="198" idx="3"/>
          </p:cNvCxnSpPr>
          <p:nvPr/>
        </p:nvCxnSpPr>
        <p:spPr>
          <a:xfrm>
            <a:off x="3922560" y="4819680"/>
            <a:ext cx="984960" cy="1162440"/>
          </a:xfrm>
          <a:prstGeom prst="bentConnector3">
            <a:avLst>
              <a:gd name="adj1" fmla="val 12321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56 Rombo"/>
          <p:cNvSpPr/>
          <p:nvPr/>
        </p:nvSpPr>
        <p:spPr>
          <a:xfrm>
            <a:off x="3068640" y="2782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7 CuadroTexto"/>
          <p:cNvSpPr/>
          <p:nvPr/>
        </p:nvSpPr>
        <p:spPr>
          <a:xfrm>
            <a:off x="3062160" y="285264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9" idx="1"/>
          </p:cNvCxnSpPr>
          <p:nvPr/>
        </p:nvCxnSpPr>
        <p:spPr>
          <a:xfrm flipV="1" rot="10800000">
            <a:off x="2471040" y="29620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2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199" idx="3"/>
          </p:cNvCxnSpPr>
          <p:nvPr/>
        </p:nvCxnSpPr>
        <p:spPr>
          <a:xfrm>
            <a:off x="3925440" y="296244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75"/>
          <p:cNvSpPr/>
          <p:nvPr/>
        </p:nvSpPr>
        <p:spPr>
          <a:xfrm>
            <a:off x="4289400" y="3193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592280" y="5873760"/>
            <a:ext cx="3314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 los demás integrantes de la com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/>
          <p:nvPr/>
        </p:nvCxnSpPr>
        <p:spPr>
          <a:xfrm>
            <a:off x="2503080" y="5740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628640" y="6456240"/>
            <a:ext cx="3313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labora propuesta de orden del día, en conjunción con el Consejero Electoral Presidente de la Comisión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/>
          <p:nvPr/>
        </p:nvCxnSpPr>
        <p:spPr>
          <a:xfrm>
            <a:off x="3479400" y="60955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75"/>
          <p:cNvSpPr/>
          <p:nvPr/>
        </p:nvSpPr>
        <p:spPr>
          <a:xfrm>
            <a:off x="3344760" y="7653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>
            <a:off x="3465000" y="4059360"/>
            <a:ext cx="108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75"/>
          <p:cNvSpPr/>
          <p:nvPr/>
        </p:nvSpPr>
        <p:spPr>
          <a:xfrm>
            <a:off x="3932280" y="61675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 flipH="1">
            <a:off x="3479400" y="6275160"/>
            <a:ext cx="443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18 Rectángulo"/>
          <p:cNvSpPr/>
          <p:nvPr/>
        </p:nvSpPr>
        <p:spPr>
          <a:xfrm>
            <a:off x="1560600" y="70437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aliza convocatoria para sesión de la Comisión respectiva y verifica que se cuenta con los elementos necesarios para el desahogo de la ses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1920" y="704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3452400" y="673272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66"/>
          <p:cNvSpPr/>
          <p:nvPr/>
        </p:nvSpPr>
        <p:spPr>
          <a:xfrm>
            <a:off x="5378400" y="704232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vocatorias y 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/>
          <p:nvPr/>
        </p:nvCxnSpPr>
        <p:spPr>
          <a:xfrm>
            <a:off x="3452400" y="733104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8400" y="2033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1"/>
          <p:cNvSpPr/>
          <p:nvPr/>
        </p:nvSpPr>
        <p:spPr>
          <a:xfrm>
            <a:off x="333360" y="20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0"/>
          <p:cNvSpPr/>
          <p:nvPr/>
        </p:nvSpPr>
        <p:spPr>
          <a:xfrm>
            <a:off x="333360" y="25606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/Coordinador Técnico/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34"/>
          <p:cNvSpPr/>
          <p:nvPr/>
        </p:nvSpPr>
        <p:spPr>
          <a:xfrm>
            <a:off x="3208320" y="390060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18 Rectángulo"/>
          <p:cNvSpPr/>
          <p:nvPr/>
        </p:nvSpPr>
        <p:spPr>
          <a:xfrm>
            <a:off x="1701720" y="2068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solicitud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32"/>
          <p:cNvCxnSpPr/>
          <p:nvPr/>
        </p:nvCxnSpPr>
        <p:spPr>
          <a:xfrm>
            <a:off x="3538080" y="1908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701"/>
          <p:cNvSpPr/>
          <p:nvPr/>
        </p:nvSpPr>
        <p:spPr>
          <a:xfrm>
            <a:off x="333360" y="29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18 Rectángulo"/>
          <p:cNvSpPr/>
          <p:nvPr/>
        </p:nvSpPr>
        <p:spPr>
          <a:xfrm>
            <a:off x="1700280" y="2556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ción de la sesión respectiv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stCxn id="235" idx="2"/>
          </p:cNvCxnSpPr>
          <p:nvPr/>
        </p:nvCxnSpPr>
        <p:spPr>
          <a:xfrm>
            <a:off x="3501720" y="2284560"/>
            <a:ext cx="10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AutoShape 32"/>
          <p:cNvCxnSpPr>
            <a:stCxn id="239" idx="2"/>
          </p:cNvCxnSpPr>
          <p:nvPr/>
        </p:nvCxnSpPr>
        <p:spPr>
          <a:xfrm>
            <a:off x="3499920" y="2771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32"/>
          <p:cNvCxnSpPr/>
          <p:nvPr/>
        </p:nvCxnSpPr>
        <p:spPr>
          <a:xfrm>
            <a:off x="3501720" y="3195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6"/>
          <p:cNvSpPr/>
          <p:nvPr/>
        </p:nvSpPr>
        <p:spPr>
          <a:xfrm>
            <a:off x="1700280" y="3340080"/>
            <a:ext cx="360036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tifica a Presidencia y Secretaría Ejecutiva el dictamen aprobado, en su cas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32"/>
          <p:cNvCxnSpPr/>
          <p:nvPr/>
        </p:nvCxnSpPr>
        <p:spPr>
          <a:xfrm>
            <a:off x="3498480" y="3634920"/>
            <a:ext cx="108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Rectangle 666"/>
          <p:cNvSpPr/>
          <p:nvPr/>
        </p:nvSpPr>
        <p:spPr>
          <a:xfrm>
            <a:off x="5383080" y="2514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/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12880" y="2914560"/>
            <a:ext cx="360036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caba firmas del dictamen aprobado, en su caso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6"/>
          <p:cNvSpPr/>
          <p:nvPr/>
        </p:nvSpPr>
        <p:spPr>
          <a:xfrm>
            <a:off x="5376960" y="2914560"/>
            <a:ext cx="12762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Miguel Godinez Terriquez</cp:lastModifiedBy>
  <cp:lastPrinted>2013-05-02T17:02:32Z</cp:lastPrinted>
  <dcterms:modified xsi:type="dcterms:W3CDTF">2013-05-02T17:58:42Z</dcterms:modified>
  <cp:revision>331</cp:revision>
  <dc:subject/>
  <dc:title>Presentación de PowerPoint</dc:title>
</cp:coreProperties>
</file>