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3D0D-AB1B-41AD-B47A-75CB54D7C58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F41D-F490-4602-940A-50A06B15CFB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F8B3-D56B-45ED-9AA4-AF89526C935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8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89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4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Servicio al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6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0011148B-4D50-4BCA-B8B2-25A6CF3C3C9B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8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: Direct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99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0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1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2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3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4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5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6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7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: Representante del SG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8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09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0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6-06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COM-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363528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000680"/>
          <a:ext cx="6048360" cy="8730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de re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-06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9"/>
          <p:cNvSpPr/>
          <p:nvPr/>
        </p:nvSpPr>
        <p:spPr>
          <a:xfrm>
            <a:off x="336600" y="1366920"/>
            <a:ext cx="63324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OBJETIV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Monitorear la percepción del Ciudadano con respecto al cumplimiento de las atribuciones y actividades realizadas por parte del Instituto Electoral y de Participación Ciudadana d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30"/>
          <p:cNvSpPr/>
          <p:nvPr/>
        </p:nvSpPr>
        <p:spPr>
          <a:xfrm>
            <a:off x="343080" y="2008080"/>
            <a:ext cx="631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e proceso aplica para evaluar la satisfacción de los clientes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cuando se organicen elecciones de cualquier tipo en el estado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31"/>
          <p:cNvSpPr/>
          <p:nvPr/>
        </p:nvSpPr>
        <p:spPr>
          <a:xfrm>
            <a:off x="333360" y="2689200"/>
            <a:ext cx="632772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No Ap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AutoShape 8"/>
          <p:cNvCxnSpPr>
            <a:stCxn id="79" idx="2"/>
            <a:endCxn id="80" idx="0"/>
          </p:cNvCxnSpPr>
          <p:nvPr/>
        </p:nvCxnSpPr>
        <p:spPr>
          <a:xfrm>
            <a:off x="3465000" y="2131920"/>
            <a:ext cx="108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AutoShape 9"/>
          <p:cNvSpPr/>
          <p:nvPr/>
        </p:nvSpPr>
        <p:spPr>
          <a:xfrm>
            <a:off x="3141720" y="1916280"/>
            <a:ext cx="647640" cy="215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628640" y="2433600"/>
            <a:ext cx="36720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diseña y se Aplica Encuesta de Satisfacción a clientes al menos una vez al añ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333360" y="240660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AutoShape 13"/>
          <p:cNvCxnSpPr>
            <a:stCxn id="80" idx="2"/>
            <a:endCxn id="83" idx="0"/>
          </p:cNvCxnSpPr>
          <p:nvPr/>
        </p:nvCxnSpPr>
        <p:spPr>
          <a:xfrm>
            <a:off x="3465000" y="2708280"/>
            <a:ext cx="1080" cy="36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Text Box 14"/>
          <p:cNvSpPr/>
          <p:nvPr/>
        </p:nvSpPr>
        <p:spPr>
          <a:xfrm>
            <a:off x="1628640" y="3071880"/>
            <a:ext cx="367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centra los resultados de las evaluaciones en la matriz de satisfa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5373720" y="2771640"/>
            <a:ext cx="1279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esentación de resultados de la encuesta de Satisfacción al cl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AutoShape 23"/>
          <p:cNvCxnSpPr>
            <a:stCxn id="83" idx="2"/>
            <a:endCxn id="86" idx="0"/>
          </p:cNvCxnSpPr>
          <p:nvPr/>
        </p:nvCxnSpPr>
        <p:spPr>
          <a:xfrm flipH="1">
            <a:off x="3463560" y="3288960"/>
            <a:ext cx="216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Text Box 44"/>
          <p:cNvSpPr/>
          <p:nvPr/>
        </p:nvSpPr>
        <p:spPr>
          <a:xfrm>
            <a:off x="333360" y="305424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8"/>
          <p:cNvSpPr/>
          <p:nvPr/>
        </p:nvSpPr>
        <p:spPr>
          <a:xfrm>
            <a:off x="5373720" y="2414520"/>
            <a:ext cx="127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cuestas de Satisfac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9"/>
          <p:cNvSpPr/>
          <p:nvPr/>
        </p:nvSpPr>
        <p:spPr>
          <a:xfrm>
            <a:off x="1628640" y="3571920"/>
            <a:ext cx="367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 los resultados obtenidos al Comité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0"/>
          <p:cNvSpPr/>
          <p:nvPr/>
        </p:nvSpPr>
        <p:spPr>
          <a:xfrm>
            <a:off x="5373720" y="3276720"/>
            <a:ext cx="1279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esentación de resultados de la encuesta de Satisfacción al cl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AutoShape 61"/>
          <p:cNvCxnSpPr>
            <a:stCxn id="86" idx="2"/>
            <a:endCxn id="91" idx="0"/>
          </p:cNvCxnSpPr>
          <p:nvPr/>
        </p:nvCxnSpPr>
        <p:spPr>
          <a:xfrm>
            <a:off x="3465000" y="3787560"/>
            <a:ext cx="108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Text Box 63"/>
          <p:cNvSpPr/>
          <p:nvPr/>
        </p:nvSpPr>
        <p:spPr>
          <a:xfrm>
            <a:off x="1628640" y="4095720"/>
            <a:ext cx="367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naliza resultados y toma acciones según se requie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AutoShape 65"/>
          <p:cNvCxnSpPr>
            <a:stCxn id="91" idx="2"/>
            <a:endCxn id="93" idx="0"/>
          </p:cNvCxnSpPr>
          <p:nvPr/>
        </p:nvCxnSpPr>
        <p:spPr>
          <a:xfrm flipH="1">
            <a:off x="3463560" y="4313160"/>
            <a:ext cx="2160" cy="42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Text Box 66"/>
          <p:cNvSpPr/>
          <p:nvPr/>
        </p:nvSpPr>
        <p:spPr>
          <a:xfrm>
            <a:off x="333360" y="407844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mité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7"/>
          <p:cNvSpPr/>
          <p:nvPr/>
        </p:nvSpPr>
        <p:spPr>
          <a:xfrm>
            <a:off x="5373720" y="3720960"/>
            <a:ext cx="12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esentación de resultados de la encuesta de Satisfacción al cl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/ Acción Correctiva / Preventiva / Mejora Contin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AutoShape 68"/>
          <p:cNvCxnSpPr>
            <a:stCxn id="93" idx="2"/>
            <a:endCxn id="97" idx="0"/>
          </p:cNvCxnSpPr>
          <p:nvPr/>
        </p:nvCxnSpPr>
        <p:spPr>
          <a:xfrm>
            <a:off x="3464280" y="509904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Text Box 69"/>
          <p:cNvSpPr/>
          <p:nvPr/>
        </p:nvSpPr>
        <p:spPr>
          <a:xfrm>
            <a:off x="1628640" y="4737240"/>
            <a:ext cx="367200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a seguimiento a la realización de acciones tomadas y cuando se requiera realiza monitoreo directamente con el cliente de los resultados de las a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333360" y="4782960"/>
            <a:ext cx="122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istema de Gestión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73"/>
          <p:cNvSpPr/>
          <p:nvPr/>
        </p:nvSpPr>
        <p:spPr>
          <a:xfrm>
            <a:off x="3141720" y="5292720"/>
            <a:ext cx="647640" cy="216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4"/>
          <p:cNvSpPr/>
          <p:nvPr/>
        </p:nvSpPr>
        <p:spPr>
          <a:xfrm>
            <a:off x="333360" y="355932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7"/>
          <p:cNvSpPr/>
          <p:nvPr/>
        </p:nvSpPr>
        <p:spPr>
          <a:xfrm>
            <a:off x="5373720" y="4791240"/>
            <a:ext cx="1279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ción Correctiva / Preventiva / Mejora Contin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CalidadMty</dc:creator>
  <dc:description/>
  <dc:language>en-US</dc:language>
  <cp:lastModifiedBy>israel.perez</cp:lastModifiedBy>
  <dcterms:modified xsi:type="dcterms:W3CDTF">2012-06-28T16:12:33Z</dcterms:modified>
  <cp:revision>160</cp:revision>
  <dc:subject/>
  <dc:title>Presentación de PowerPoint</dc:title>
</cp:coreProperties>
</file>