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226D-DAED-408A-A0D7-D220B7DFED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054A-2EA1-4144-B875-D4056DC047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CCD9-B6B6-497C-B3E2-531C9A7E01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B896-4056-475F-A4A0-B14C8D9AD3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BF0-8E2B-4678-A8BA-5C6B7E79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A0F-943C-4D87-AA27-6AFF0321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7C1-2060-4B72-90B8-5C1D1127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873-6029-432B-93BA-9F5D8762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FED-3418-4542-B34E-802C2644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7FC-8054-41F5-871F-94E24C57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759-54C1-4363-A11A-3C864F91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821-5ADE-4A96-B6FF-6CDF6AF7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575-845D-44EF-B0E3-7A94E3F6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970-E8FF-4F00-A724-6BC76D2C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884-CB6E-4500-B53D-D5ED13B0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57F-681C-4DE0-A291-2DB18FDB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BDE3-1931-4209-83E2-426EB242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1114-16D1-44BC-8135-384C5F1D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4C99-ABA1-441F-91C4-B73E0081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DEEE-D784-4C56-A9F5-ADDFE6B2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419C-2EC9-4784-921D-85D31AB6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B889-246A-4BAC-8C1E-3C3C7428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C27D-8DF5-4AF9-B3D9-A555A23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AE30-F267-4684-B0A2-054EA421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4130-7709-4128-8D72-36A210C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16DA-8EE7-4085-9E93-D69C02F0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EACF-4784-4D7B-85F1-4202F8EE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FACE-C063-478D-BA98-A3137D7A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dron de Prov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0EA31B61-2AB2-48FE-946B-73DD4828EB9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E276-E3D0-4C70-A849-AE895E64FF1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AE8E-7D00-46A2-8CA7-9D0829AA62F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la solicitud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istra en control de recibi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84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estatus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mail/ requeri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un expediente y se guarda copia de la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700280" y="3490920"/>
            <a:ext cx="11523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requerimiento firmado por el conseje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</p:cNvCxnSpPr>
          <p:nvPr/>
        </p:nvCxnSpPr>
        <p:spPr>
          <a:xfrm>
            <a:off x="2276280" y="3852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32"/>
          <p:cNvCxnSpPr/>
          <p:nvPr/>
        </p:nvCxnSpPr>
        <p:spPr>
          <a:xfrm>
            <a:off x="227628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/>
          <p:nvPr/>
        </p:nvCxnSpPr>
        <p:spPr>
          <a:xfrm>
            <a:off x="4365360" y="5003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/>
          <p:nvPr/>
        </p:nvCxnSpPr>
        <p:spPr>
          <a:xfrm>
            <a:off x="227628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Prov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7221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mple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5" idx="1"/>
            <a:endCxn id="198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completa la informacion en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64 Conector angular"/>
          <p:cNvCxnSpPr>
            <a:stCxn id="195" idx="3"/>
            <a:endCxn id="202" idx="0"/>
          </p:cNvCxnSpPr>
          <p:nvPr/>
        </p:nvCxnSpPr>
        <p:spPr>
          <a:xfrm>
            <a:off x="3948120" y="5776560"/>
            <a:ext cx="597600" cy="52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3" name="Oval 75"/>
          <p:cNvSpPr/>
          <p:nvPr/>
        </p:nvSpPr>
        <p:spPr>
          <a:xfrm>
            <a:off x="3716280" y="3708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56 Rombo"/>
          <p:cNvSpPr/>
          <p:nvPr/>
        </p:nvSpPr>
        <p:spPr>
          <a:xfrm>
            <a:off x="3089160" y="3132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57 CuadroTexto"/>
          <p:cNvSpPr/>
          <p:nvPr/>
        </p:nvSpPr>
        <p:spPr>
          <a:xfrm>
            <a:off x="3068640" y="3201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Hay  faltant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4" idx="1"/>
          </p:cNvCxnSpPr>
          <p:nvPr/>
        </p:nvCxnSpPr>
        <p:spPr>
          <a:xfrm flipV="1" rot="10800000">
            <a:off x="2491560" y="3311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7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64 Conector angular"/>
          <p:cNvCxnSpPr>
            <a:stCxn id="204" idx="3"/>
            <a:endCxn id="209" idx="0"/>
          </p:cNvCxnSpPr>
          <p:nvPr/>
        </p:nvCxnSpPr>
        <p:spPr>
          <a:xfrm>
            <a:off x="3946680" y="3311640"/>
            <a:ext cx="419760" cy="829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0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56"/>
          <p:cNvSpPr/>
          <p:nvPr/>
        </p:nvSpPr>
        <p:spPr>
          <a:xfrm>
            <a:off x="1628640" y="6443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munica al director del que el expediente esta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56"/>
          <p:cNvSpPr/>
          <p:nvPr/>
        </p:nvSpPr>
        <p:spPr>
          <a:xfrm>
            <a:off x="1628640" y="687708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al consejero electoral presidente el expediente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ido de 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>
            <a:stCxn id="198" idx="2"/>
            <a:endCxn id="211" idx="0"/>
          </p:cNvCxnSpPr>
          <p:nvPr/>
        </p:nvCxnSpPr>
        <p:spPr>
          <a:xfrm flipH="1">
            <a:off x="2493360" y="624348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32"/>
          <p:cNvCxnSpPr/>
          <p:nvPr/>
        </p:nvCxnSpPr>
        <p:spPr>
          <a:xfrm>
            <a:off x="2491920" y="6732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656"/>
          <p:cNvSpPr/>
          <p:nvPr/>
        </p:nvSpPr>
        <p:spPr>
          <a:xfrm>
            <a:off x="1628640" y="723600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 el VoBo y firma del el Consejero Electoral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3428640" y="7092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32"/>
          <p:cNvCxnSpPr/>
          <p:nvPr/>
        </p:nvCxnSpPr>
        <p:spPr>
          <a:xfrm>
            <a:off x="3428640" y="7451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649"/>
          <p:cNvCxnSpPr/>
          <p:nvPr/>
        </p:nvCxnSpPr>
        <p:spPr>
          <a:xfrm>
            <a:off x="3933720" y="3779640"/>
            <a:ext cx="4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75"/>
          <p:cNvSpPr/>
          <p:nvPr/>
        </p:nvSpPr>
        <p:spPr>
          <a:xfrm>
            <a:off x="3284640" y="7667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18 Rectángulo"/>
          <p:cNvSpPr/>
          <p:nvPr/>
        </p:nvSpPr>
        <p:spPr>
          <a:xfrm>
            <a:off x="378936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18 Rectángulo"/>
          <p:cNvSpPr/>
          <p:nvPr/>
        </p:nvSpPr>
        <p:spPr>
          <a:xfrm>
            <a:off x="170028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documentación fal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18 Rectángulo"/>
          <p:cNvSpPr/>
          <p:nvPr/>
        </p:nvSpPr>
        <p:spPr>
          <a:xfrm>
            <a:off x="378936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contestación se agrega al expedi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5148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si es correcta y esta comple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64 Conector angular"/>
          <p:cNvCxnSpPr>
            <a:stCxn id="225" idx="2"/>
            <a:endCxn id="195" idx="0"/>
          </p:cNvCxnSpPr>
          <p:nvPr/>
        </p:nvCxnSpPr>
        <p:spPr>
          <a:xfrm flipH="1" rot="16200000">
            <a:off x="2817000" y="4894920"/>
            <a:ext cx="162720" cy="124344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7" name="Rectangle 666"/>
          <p:cNvSpPr/>
          <p:nvPr/>
        </p:nvSpPr>
        <p:spPr>
          <a:xfrm>
            <a:off x="5373720" y="5219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heck list requerimien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5"/>
          <p:cNvSpPr/>
          <p:nvPr/>
        </p:nvSpPr>
        <p:spPr>
          <a:xfrm>
            <a:off x="4437000" y="630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5"/>
          <p:cNvSpPr/>
          <p:nvPr/>
        </p:nvSpPr>
        <p:spPr>
          <a:xfrm>
            <a:off x="4292640" y="5148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32"/>
          <p:cNvCxnSpPr/>
          <p:nvPr/>
        </p:nvCxnSpPr>
        <p:spPr>
          <a:xfrm flipH="1">
            <a:off x="2491560" y="630036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Oval 75"/>
          <p:cNvSpPr/>
          <p:nvPr/>
        </p:nvSpPr>
        <p:spPr>
          <a:xfrm>
            <a:off x="3573360" y="6156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OPE 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 o 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34"/>
          <p:cNvSpPr/>
          <p:nvPr/>
        </p:nvSpPr>
        <p:spPr>
          <a:xfrm>
            <a:off x="3213000" y="4643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acuerdo para inclusión al padrón de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sesión para aprobar su inclu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32"/>
          <p:cNvCxnSpPr>
            <a:stCxn id="244" idx="2"/>
            <a:endCxn id="245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actualiza el padrón de proveedores y se envía a informática para generar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32"/>
          <p:cNvCxnSpPr>
            <a:stCxn id="245" idx="2"/>
            <a:endCxn id="247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 Narrow"/>
              </a:rPr>
              <a:t>Expediente recurso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el expediente a recursos materiales para su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32"/>
          <p:cNvCxnSpPr>
            <a:stCxn id="247" idx="2"/>
            <a:endCxn id="252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32"/>
          <p:cNvCxnSpPr>
            <a:stCxn id="252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Oval 75"/>
          <p:cNvSpPr/>
          <p:nvPr/>
        </p:nvSpPr>
        <p:spPr>
          <a:xfrm>
            <a:off x="3357720" y="248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AutoShape 32"/>
          <p:cNvCxnSpPr>
            <a:stCxn id="255" idx="4"/>
            <a:endCxn id="244" idx="0"/>
          </p:cNvCxnSpPr>
          <p:nvPr/>
        </p:nvCxnSpPr>
        <p:spPr>
          <a:xfrm>
            <a:off x="3465000" y="2700000"/>
            <a:ext cx="356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7T17:32:42Z</dcterms:modified>
  <cp:revision>309</cp:revision>
  <dc:subject/>
  <dc:title>Presentación de PowerPoint</dc:title>
</cp:coreProperties>
</file>