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9655-B6CA-4338-A7A3-50ED78FE0C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DE78-1CDB-480F-A5EB-6E48632172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D96E-603C-4AB2-A2BD-6E7C31DE28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E6E4-6D37-4A06-A234-4731149192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118-431A-4FCF-99F1-EBB6F6AA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17B-2222-47BF-803E-966658D9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004-5D57-4BB8-A55F-D62560CF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CF0-3BE3-4A5C-998F-6FE2B074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681-8BFD-4A83-9184-81CBF6B8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72F-F6CB-4A44-8AEF-4742F2E6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2F4-7EF1-40C3-A54A-DACFD219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9D9-1D73-4ABF-98EA-E4974B4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E1E-C522-4ACB-AFCB-AC7B914F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156-A903-44D0-880E-90940DA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25F-C4F3-403A-9720-44809079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03A-2B0B-49EE-B81B-7116C22D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F8C7-A2DC-43EA-B61B-BAAD02A0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6136-E1C9-4C1A-A2A0-A8A25C3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6F33-DDF8-4020-888F-C9495C06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6D5B-10C7-4921-8E9D-FE80806D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5BA4-D8C4-472E-96F4-224DECB9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8C66-213F-4461-A829-06C2BFE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AC48-58F5-4CB2-B5C8-D45542F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9722-C3EB-4BA1-BB73-9D0BD3A5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E8ED-B542-4732-8179-1B2ADAA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CB91-A9E3-4612-A573-99828A54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8A4-2CD4-4D0B-95F7-F60CDB42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516A-5556-488E-A94A-92B417D2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A8850E7-0D3F-4D5C-9A3C-334A9493EB3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E86F-1561-469D-94F1-B6E475B6522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8968-4606-4DBA-9708-BF23B4FDFDE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 de actividades y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elaboración y aplicación de las políticas generales, criterios técnicos y lineamientos a que se sujetan los programas de administración de personal, recursos materiales y servicios generale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nombramiento y pago de nomina de personal de base y eventual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EDAR: Sistema estatal de ahorro para el Ret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IMSS: Instituto Mexicano del Seguro So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ENSIONES: Instituto de pensiones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/>
          <p:nvPr/>
        </p:nvCxnSpPr>
        <p:spPr>
          <a:xfrm flipH="1">
            <a:off x="3498120" y="236052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482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presenta la persona a contratar y se entregan requisitos para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8432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ación y se elabora expediente respec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11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6352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icha técnica de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69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313056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9163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3276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327672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y entrega nombramiento al contratado para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69" idx="2"/>
          </p:cNvCxnSpPr>
          <p:nvPr/>
        </p:nvCxnSpPr>
        <p:spPr>
          <a:xfrm>
            <a:off x="3499920" y="3492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18 Rectángulo"/>
          <p:cNvSpPr/>
          <p:nvPr/>
        </p:nvSpPr>
        <p:spPr>
          <a:xfrm>
            <a:off x="1700280" y="3706920"/>
            <a:ext cx="36018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a de alta para su registro, se entrega gafete y se da de alta en pensiones del estado, seguro social, SEDAR, y en prestaciones del IEP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/>
          <p:nvPr/>
        </p:nvCxnSpPr>
        <p:spPr>
          <a:xfrm>
            <a:off x="3499920" y="3995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7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643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24112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para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55069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0"/>
          <p:cNvSpPr/>
          <p:nvPr/>
        </p:nvSpPr>
        <p:spPr>
          <a:xfrm>
            <a:off x="404640" y="24829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33360" y="46432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6"/>
          <p:cNvSpPr/>
          <p:nvPr/>
        </p:nvSpPr>
        <p:spPr>
          <a:xfrm>
            <a:off x="1700280" y="464184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captura en la nómina quincenal al empleado y se aprue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6"/>
          <p:cNvSpPr/>
          <p:nvPr/>
        </p:nvSpPr>
        <p:spPr>
          <a:xfrm>
            <a:off x="1700280" y="5075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transferencia electrónica con firma electrónica del Director de Administración y Finanzas y el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5003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transferencia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3" idx="2"/>
          </p:cNvCxnSpPr>
          <p:nvPr/>
        </p:nvCxnSpPr>
        <p:spPr>
          <a:xfrm>
            <a:off x="3499920" y="5362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56"/>
          <p:cNvSpPr/>
          <p:nvPr/>
        </p:nvSpPr>
        <p:spPr>
          <a:xfrm>
            <a:off x="1700280" y="557856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labora recibo de nómina y se entr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2" idx="2"/>
            <a:endCxn id="183" idx="0"/>
          </p:cNvCxnSpPr>
          <p:nvPr/>
        </p:nvCxnSpPr>
        <p:spPr>
          <a:xfrm flipH="1">
            <a:off x="3499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32"/>
          <p:cNvCxnSpPr>
            <a:stCxn id="186" idx="2"/>
          </p:cNvCxnSpPr>
          <p:nvPr/>
        </p:nvCxnSpPr>
        <p:spPr>
          <a:xfrm>
            <a:off x="3499920" y="5795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701"/>
          <p:cNvSpPr/>
          <p:nvPr/>
        </p:nvSpPr>
        <p:spPr>
          <a:xfrm>
            <a:off x="333360" y="507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55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41403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trega al trabajador carta para sacar tarjeta en el ban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3720" y="4211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arta de tarjeta de b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>
            <a:stCxn id="191" idx="2"/>
            <a:endCxn id="182" idx="0"/>
          </p:cNvCxnSpPr>
          <p:nvPr/>
        </p:nvCxnSpPr>
        <p:spPr>
          <a:xfrm>
            <a:off x="3499920" y="4427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56"/>
          <p:cNvSpPr/>
          <p:nvPr/>
        </p:nvSpPr>
        <p:spPr>
          <a:xfrm>
            <a:off x="1700280" y="601200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pago a pensiones del estado y se revisa las cantidades en SEDAR, Seguros y aportaciones voluntar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665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608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electrónico BAN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32"/>
          <p:cNvCxnSpPr/>
          <p:nvPr/>
        </p:nvCxnSpPr>
        <p:spPr>
          <a:xfrm>
            <a:off x="3499920" y="6445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656"/>
          <p:cNvSpPr/>
          <p:nvPr/>
        </p:nvSpPr>
        <p:spPr>
          <a:xfrm>
            <a:off x="1700280" y="665964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solicita a informática la impresi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asistencia de trabajadores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56"/>
          <p:cNvSpPr/>
          <p:nvPr/>
        </p:nvSpPr>
        <p:spPr>
          <a:xfrm>
            <a:off x="1700280" y="716436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turna a el área correspondiente para su firma y en caso de requerir la justificación de la falta del perso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665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 / justificación de fal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stCxn id="198" idx="2"/>
          </p:cNvCxnSpPr>
          <p:nvPr/>
        </p:nvCxnSpPr>
        <p:spPr>
          <a:xfrm>
            <a:off x="3499920" y="7019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/>
          <p:nvPr/>
        </p:nvCxnSpPr>
        <p:spPr>
          <a:xfrm>
            <a:off x="3499920" y="7524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5"/>
          <p:cNvSpPr/>
          <p:nvPr/>
        </p:nvSpPr>
        <p:spPr>
          <a:xfrm>
            <a:off x="342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1"/>
          <p:cNvSpPr/>
          <p:nvPr/>
        </p:nvSpPr>
        <p:spPr>
          <a:xfrm>
            <a:off x="333360" y="205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>
            <a:stCxn id="160" idx="2"/>
          </p:cNvCxnSpPr>
          <p:nvPr/>
        </p:nvCxnSpPr>
        <p:spPr>
          <a:xfrm flipH="1">
            <a:off x="3499560" y="1856880"/>
            <a:ext cx="25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18 Rectángulo"/>
          <p:cNvSpPr/>
          <p:nvPr/>
        </p:nvSpPr>
        <p:spPr>
          <a:xfrm>
            <a:off x="1700280" y="205272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con el director autorización de nuevo ingre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5"/>
          <p:cNvSpPr/>
          <p:nvPr/>
        </p:nvSpPr>
        <p:spPr>
          <a:xfrm>
            <a:off x="5373720" y="19098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 / formatos SEDAR / designación de beneficios / numero de seguro social/ formatos de segur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649"/>
          <p:cNvCxnSpPr>
            <a:endCxn id="218" idx="0"/>
          </p:cNvCxnSpPr>
          <p:nvPr/>
        </p:nvCxnSpPr>
        <p:spPr>
          <a:xfrm flipH="1">
            <a:off x="3498120" y="2506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2"/>
          <p:cNvSpPr/>
          <p:nvPr/>
        </p:nvSpPr>
        <p:spPr>
          <a:xfrm>
            <a:off x="1698480" y="26290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ada 15 días se publica información a pagina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3"/>
          <p:cNvSpPr/>
          <p:nvPr/>
        </p:nvSpPr>
        <p:spPr>
          <a:xfrm>
            <a:off x="1698480" y="298944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 el trabajador requiere vacaciones tendrá que requerirlas y entregar formato aprobado y se archivara dicho forma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917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Va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681"/>
          <p:cNvCxnSpPr>
            <a:stCxn id="218" idx="2"/>
            <a:endCxn id="219" idx="0"/>
          </p:cNvCxnSpPr>
          <p:nvPr/>
        </p:nvCxnSpPr>
        <p:spPr>
          <a:xfrm>
            <a:off x="3498480" y="2844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0"/>
          <p:cNvSpPr/>
          <p:nvPr/>
        </p:nvSpPr>
        <p:spPr>
          <a:xfrm>
            <a:off x="404640" y="29908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261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404640" y="2556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3213000" y="34923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/>
          <p:nvPr/>
        </p:nvCxnSpPr>
        <p:spPr>
          <a:xfrm>
            <a:off x="3499920" y="3276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Oval 75"/>
          <p:cNvSpPr/>
          <p:nvPr/>
        </p:nvSpPr>
        <p:spPr>
          <a:xfrm>
            <a:off x="3357720" y="2268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2T16:13:17Z</dcterms:modified>
  <cp:revision>333</cp:revision>
  <dc:subject/>
  <dc:title>Presentación de PowerPoint</dc:title>
</cp:coreProperties>
</file>