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BD04-BBE9-4EF8-AA1F-0EAB420FED7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51F1-FD4F-4339-B23E-BE072EBA8B6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F802-7048-41E9-B88F-7456625EF9F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20CF-57BF-4E57-AA99-1831E5AA0EF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64A8-1E88-40DC-BE74-D9C4E9AE0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A60A-2C6D-4BCA-93BD-6D370734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43AC-9E90-4D66-9085-D153C99F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1C7A-0DB0-406A-9EDB-3B5BC47D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0F52-5F6B-476C-86CC-3FBC22BE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9148-050B-43C2-B581-FD6A3B5D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83FE-2EF9-4CC8-A10A-4FE24370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6FEC-F24F-421B-8687-59919621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B277-68C2-4941-92A3-4D0F8A61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9B05-9423-41F9-8EE8-B731F04B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C520-64AF-4027-8980-BC3105404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9E3A-8DF1-4F28-BC50-1907360B5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D684-4A2B-408E-B812-1ECF3E36B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E248-5D43-4EB1-B631-FB344236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9557-A2D6-4CFB-8489-34D005D1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042F-AD71-4040-964A-17CD16EB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4F0F-CA76-421F-9AA5-05FDFDB4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8012-78E4-4347-B293-6D69E023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4179-4A81-4253-893D-156EDF54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9E49-CE1F-4013-8E4B-17737C5C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4EB4-EBDB-4AF5-8375-500399EE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38F6-2164-4E15-A633-78C9D3C6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4E5D-E304-4CB6-A107-76116871A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6844-BA0B-4F48-857E-48D75FEE0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055C9-0F97-4954-9A33-3F0DB960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9BB8D-6635-4537-B23D-80FC5BD4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040F2-D720-4329-9588-3A450952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E8400-989C-4EB4-938F-47669540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A45D1-CBD2-4AB4-A46E-3C4A06BA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891E6-6F29-45B8-86C7-DE961F21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987A0-581E-448B-9B1D-C52AC44B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CCEB3-410D-4D6F-AAAA-D168AECC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7F509-F175-4F3D-AAA0-FCB79CBB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312AB-929A-4F9F-8231-929365F0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B20EC-53A3-477B-A8AC-E62BF9056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84961-3681-42EF-8360-E12C93CAA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Monitoreo de med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A49F5539-8386-4223-9382-DE882C71C056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Comunicación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P-OPE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3698-B284-4AF5-86DD-7DEB7D55502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9904-6E01-4472-935C-47F0E1E4B278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D8F9-24E3-47CD-A26A-F91B359CF73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212580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229068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241308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 revisa 5 diarios locales para recabar notas acerca del instituto y notas de 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698480" y="29178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aliza síntesis y se recopilan notas en carpeta informa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5"/>
          <p:cNvSpPr/>
          <p:nvPr/>
        </p:nvSpPr>
        <p:spPr>
          <a:xfrm>
            <a:off x="5373720" y="36385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rpeta informativa / pagina we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6"/>
          <p:cNvSpPr/>
          <p:nvPr/>
        </p:nvSpPr>
        <p:spPr>
          <a:xfrm>
            <a:off x="5373720" y="29019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iódicos / carpeta informa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AutoShape 681"/>
          <p:cNvCxnSpPr>
            <a:stCxn id="203" idx="2"/>
            <a:endCxn id="204" idx="0"/>
          </p:cNvCxnSpPr>
          <p:nvPr/>
        </p:nvCxnSpPr>
        <p:spPr>
          <a:xfrm>
            <a:off x="3498480" y="26290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684"/>
          <p:cNvCxnSpPr>
            <a:stCxn id="204" idx="2"/>
            <a:endCxn id="209" idx="0"/>
          </p:cNvCxnSpPr>
          <p:nvPr/>
        </p:nvCxnSpPr>
        <p:spPr>
          <a:xfrm>
            <a:off x="3498840" y="31334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700"/>
          <p:cNvSpPr/>
          <p:nvPr/>
        </p:nvSpPr>
        <p:spPr>
          <a:xfrm>
            <a:off x="404640" y="2773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ordinador / técnico /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01"/>
          <p:cNvSpPr/>
          <p:nvPr/>
        </p:nvSpPr>
        <p:spPr>
          <a:xfrm>
            <a:off x="333360" y="3133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ordinador / técnico /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66"/>
          <p:cNvSpPr/>
          <p:nvPr/>
        </p:nvSpPr>
        <p:spPr>
          <a:xfrm>
            <a:off x="5373720" y="33321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rpeta informativa / pagina we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6"/>
          <p:cNvSpPr/>
          <p:nvPr/>
        </p:nvSpPr>
        <p:spPr>
          <a:xfrm>
            <a:off x="1700280" y="32781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saca copia y se escanea para clasificación de notas y se sube a la red en la categoría determi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685"/>
          <p:cNvCxnSpPr>
            <a:stCxn id="209" idx="2"/>
          </p:cNvCxnSpPr>
          <p:nvPr/>
        </p:nvCxnSpPr>
        <p:spPr>
          <a:xfrm>
            <a:off x="3499920" y="34938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18 Rectángulo"/>
          <p:cNvSpPr/>
          <p:nvPr/>
        </p:nvSpPr>
        <p:spPr>
          <a:xfrm>
            <a:off x="1700280" y="36370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 para VoBo de final de información  se analizan camb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AutoShape 32"/>
          <p:cNvCxnSpPr>
            <a:stCxn id="214" idx="2"/>
          </p:cNvCxnSpPr>
          <p:nvPr/>
        </p:nvCxnSpPr>
        <p:spPr>
          <a:xfrm>
            <a:off x="3499920" y="385272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Rectangle 701"/>
          <p:cNvSpPr/>
          <p:nvPr/>
        </p:nvSpPr>
        <p:spPr>
          <a:xfrm>
            <a:off x="333360" y="35654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ordinador / técnico /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66"/>
          <p:cNvSpPr/>
          <p:nvPr/>
        </p:nvSpPr>
        <p:spPr>
          <a:xfrm>
            <a:off x="5373720" y="23256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iódicos / carpeta informa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00"/>
          <p:cNvSpPr/>
          <p:nvPr/>
        </p:nvSpPr>
        <p:spPr>
          <a:xfrm>
            <a:off x="404640" y="234144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ordinador / técnico /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34"/>
          <p:cNvSpPr/>
          <p:nvPr/>
        </p:nvSpPr>
        <p:spPr>
          <a:xfrm>
            <a:off x="3213000" y="406728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503"/>
          <p:cNvSpPr/>
          <p:nvPr/>
        </p:nvSpPr>
        <p:spPr>
          <a:xfrm>
            <a:off x="2205000" y="164772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Periodicos y articulos de inter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648"/>
          <p:cNvSpPr/>
          <p:nvPr/>
        </p:nvSpPr>
        <p:spPr>
          <a:xfrm>
            <a:off x="3214800" y="212580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AutoShape 649"/>
          <p:cNvCxnSpPr>
            <a:stCxn id="227" idx="2"/>
            <a:endCxn id="229" idx="0"/>
          </p:cNvCxnSpPr>
          <p:nvPr/>
        </p:nvCxnSpPr>
        <p:spPr>
          <a:xfrm flipH="1">
            <a:off x="3498120" y="229068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Rectangle 652"/>
          <p:cNvSpPr/>
          <p:nvPr/>
        </p:nvSpPr>
        <p:spPr>
          <a:xfrm>
            <a:off x="1698480" y="241308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 revisan grabaciones de noticieros locales de un día anteri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53"/>
          <p:cNvSpPr/>
          <p:nvPr/>
        </p:nvSpPr>
        <p:spPr>
          <a:xfrm>
            <a:off x="1698480" y="29178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aliza bitácora de notas trascendentales o del IEPC y se graba en un master (DV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65"/>
          <p:cNvSpPr/>
          <p:nvPr/>
        </p:nvSpPr>
        <p:spPr>
          <a:xfrm>
            <a:off x="5373720" y="36385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ta converti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66"/>
          <p:cNvSpPr/>
          <p:nvPr/>
        </p:nvSpPr>
        <p:spPr>
          <a:xfrm>
            <a:off x="5373720" y="29019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itácora de medios / mas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681"/>
          <p:cNvCxnSpPr>
            <a:stCxn id="229" idx="2"/>
            <a:endCxn id="230" idx="0"/>
          </p:cNvCxnSpPr>
          <p:nvPr/>
        </p:nvCxnSpPr>
        <p:spPr>
          <a:xfrm>
            <a:off x="3498480" y="26290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AutoShape 684"/>
          <p:cNvCxnSpPr>
            <a:stCxn id="230" idx="2"/>
            <a:endCxn id="235" idx="0"/>
          </p:cNvCxnSpPr>
          <p:nvPr/>
        </p:nvCxnSpPr>
        <p:spPr>
          <a:xfrm>
            <a:off x="3498840" y="31334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" name="Rectangle 700"/>
          <p:cNvSpPr/>
          <p:nvPr/>
        </p:nvSpPr>
        <p:spPr>
          <a:xfrm>
            <a:off x="404640" y="2773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ordinador / técnico /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701"/>
          <p:cNvSpPr/>
          <p:nvPr/>
        </p:nvSpPr>
        <p:spPr>
          <a:xfrm>
            <a:off x="333360" y="3133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66"/>
          <p:cNvSpPr/>
          <p:nvPr/>
        </p:nvSpPr>
        <p:spPr>
          <a:xfrm>
            <a:off x="5373720" y="33321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aster / C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656"/>
          <p:cNvSpPr/>
          <p:nvPr/>
        </p:nvSpPr>
        <p:spPr>
          <a:xfrm>
            <a:off x="1700280" y="32781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da la información a auxiliar y la convierte a un CD extra en formato accesible para to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AutoShape 685"/>
          <p:cNvCxnSpPr>
            <a:stCxn id="235" idx="2"/>
          </p:cNvCxnSpPr>
          <p:nvPr/>
        </p:nvCxnSpPr>
        <p:spPr>
          <a:xfrm>
            <a:off x="3499920" y="34938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" name="18 Rectángulo"/>
          <p:cNvSpPr/>
          <p:nvPr/>
        </p:nvSpPr>
        <p:spPr>
          <a:xfrm>
            <a:off x="1700280" y="36370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información a presidente, consejero, Secretario ejecutivo y se verifica entre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AutoShape 32"/>
          <p:cNvCxnSpPr>
            <a:stCxn id="240" idx="2"/>
          </p:cNvCxnSpPr>
          <p:nvPr/>
        </p:nvCxnSpPr>
        <p:spPr>
          <a:xfrm>
            <a:off x="3499920" y="385272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Rectangle 701"/>
          <p:cNvSpPr/>
          <p:nvPr/>
        </p:nvSpPr>
        <p:spPr>
          <a:xfrm>
            <a:off x="333360" y="35654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66"/>
          <p:cNvSpPr/>
          <p:nvPr/>
        </p:nvSpPr>
        <p:spPr>
          <a:xfrm>
            <a:off x="5373720" y="23256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Grab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700"/>
          <p:cNvSpPr/>
          <p:nvPr/>
        </p:nvSpPr>
        <p:spPr>
          <a:xfrm>
            <a:off x="404640" y="234144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ordinador / técnico /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34"/>
          <p:cNvSpPr/>
          <p:nvPr/>
        </p:nvSpPr>
        <p:spPr>
          <a:xfrm>
            <a:off x="3213000" y="406728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503"/>
          <p:cNvSpPr/>
          <p:nvPr/>
        </p:nvSpPr>
        <p:spPr>
          <a:xfrm>
            <a:off x="2205000" y="164772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Television y radi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1-01T06:16:20Z</dcterms:modified>
  <cp:revision>320</cp:revision>
  <dc:subject/>
  <dc:title>Presentación de PowerPoint</dc:title>
</cp:coreProperties>
</file>