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D7B-2A8A-4762-A39E-5D2A7507B5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6D28-6FCE-42CA-ADDA-5AC1FE82D1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48E4-D93A-4C84-B53C-A6EEB9A69E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AF7-F5B0-4A5E-9512-6FBEABD3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972-5ED3-47F5-99F9-69E23CF7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7BA-86F8-48C1-8DC2-49CA99F2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2A7-56BB-453B-8B91-A946A2F9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1EF-F748-4645-AF38-421C83E5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5DC-085F-48D9-B92E-2BDFB23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FB4-22DC-4D8D-97B9-5A3FB87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8EE-FF6E-48B3-987E-30AC28C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DE7-6681-4A6F-B87E-C3B5D42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C27-E70A-4A14-9DF0-C369F0EA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A59-25D6-4B3A-BD9F-30E4EEE9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DB5-C7E8-4B6D-A7DD-3A34196E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E363-2A80-405B-9865-ADF2A24A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CB8D-B85C-40CE-9515-69B6079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314-AF98-4AB2-9581-E446A60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9AB-9F44-4DAC-8C8F-25BA93B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31B-9C94-4FB6-A6A2-E56A0080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8E71-9091-46E8-9470-9ED8AB27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9E27-ABBC-4ED3-89EC-5F8D3E10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25B4-F9E5-44BC-A947-13EBFFC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199D-CF53-4E17-BB00-915A61A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B4C-FC7E-4228-B000-27CAE399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1FE5-7D1F-48CE-A083-B3EE0A5C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B0D9-255E-49EA-A15D-AA31461E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licitudes a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2DC9025-D1CA-4841-9AA2-060D9BBEDBC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1E0-B3FC-41D6-B04F-C4B2254CADA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1AE3-0B59-45A1-BAAD-09AD97B0D27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respuesta a las solicitudes ingresadas de la ciudadanía y de las diferente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registro y aprobación de solicitudes a presidencia por el personal que integra esta ár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para conocimiento o aprobación de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erimiento de bienes materiales / acuerdos del pleno / of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56 Rombo"/>
          <p:cNvSpPr/>
          <p:nvPr/>
        </p:nvSpPr>
        <p:spPr>
          <a:xfrm>
            <a:off x="2997360" y="340056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7 CuadroTexto"/>
          <p:cNvSpPr/>
          <p:nvPr/>
        </p:nvSpPr>
        <p:spPr>
          <a:xfrm>
            <a:off x="2997360" y="34196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 y agend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64 Conector angular"/>
          <p:cNvCxnSpPr>
            <a:stCxn id="165" idx="1"/>
            <a:endCxn id="168" idx="0"/>
          </p:cNvCxnSpPr>
          <p:nvPr/>
        </p:nvCxnSpPr>
        <p:spPr>
          <a:xfrm flipV="1" rot="10800000">
            <a:off x="2564640" y="3590640"/>
            <a:ext cx="43272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9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5" idx="3"/>
            <a:endCxn id="172" idx="0"/>
          </p:cNvCxnSpPr>
          <p:nvPr/>
        </p:nvCxnSpPr>
        <p:spPr>
          <a:xfrm>
            <a:off x="3947760" y="3591000"/>
            <a:ext cx="49140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57336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notifica al área correspondiente de decisión de presidencia con correcciones o rechazo de la pet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documentación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9100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140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documento u oficio num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49"/>
          <p:cNvCxnSpPr>
            <a:stCxn id="162" idx="2"/>
            <a:endCxn id="174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presidente y/o a Secretario Particular para aprobación o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044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enda / Documento u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 / 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49"/>
          <p:cNvCxnSpPr>
            <a:endCxn id="180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49"/>
          <p:cNvCxnSpPr>
            <a:stCxn id="180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56"/>
          <p:cNvSpPr/>
          <p:nvPr/>
        </p:nvSpPr>
        <p:spPr>
          <a:xfrm>
            <a:off x="170028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área correspondiente para su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91000" y="53690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51000" y="53690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4078440" y="488160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4078440" y="494820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7" idx="1"/>
            <a:endCxn id="190" idx="0"/>
          </p:cNvCxnSpPr>
          <p:nvPr/>
        </p:nvCxnSpPr>
        <p:spPr>
          <a:xfrm flipV="1" rot="10800000">
            <a:off x="4031640" y="5070240"/>
            <a:ext cx="46800" cy="335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384336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73 CuadroTexto"/>
          <p:cNvSpPr/>
          <p:nvPr/>
        </p:nvSpPr>
        <p:spPr>
          <a:xfrm>
            <a:off x="492444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7" idx="3"/>
            <a:endCxn id="194" idx="0"/>
          </p:cNvCxnSpPr>
          <p:nvPr/>
        </p:nvCxnSpPr>
        <p:spPr>
          <a:xfrm>
            <a:off x="5028840" y="5070600"/>
            <a:ext cx="111960" cy="367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656"/>
          <p:cNvSpPr/>
          <p:nvPr/>
        </p:nvSpPr>
        <p:spPr>
          <a:xfrm>
            <a:off x="3357720" y="5405400"/>
            <a:ext cx="1350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correcciones u observaciones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995720" y="54370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49"/>
          <p:cNvCxnSpPr/>
          <p:nvPr/>
        </p:nvCxnSpPr>
        <p:spPr>
          <a:xfrm>
            <a:off x="4581000" y="4500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4076280" y="579384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75"/>
          <p:cNvSpPr/>
          <p:nvPr/>
        </p:nvSpPr>
        <p:spPr>
          <a:xfrm>
            <a:off x="3933720" y="60134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2"/>
          <p:cNvSpPr/>
          <p:nvPr/>
        </p:nvSpPr>
        <p:spPr>
          <a:xfrm>
            <a:off x="1700280" y="6370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reportes semanales y se reenvía al Secretario partic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91000" y="6299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33360" y="6442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>
            <a:stCxn id="168" idx="2"/>
          </p:cNvCxnSpPr>
          <p:nvPr/>
        </p:nvCxnSpPr>
        <p:spPr>
          <a:xfrm>
            <a:off x="2565000" y="4500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652"/>
          <p:cNvSpPr/>
          <p:nvPr/>
        </p:nvSpPr>
        <p:spPr>
          <a:xfrm>
            <a:off x="1700280" y="6732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reportes semanales de a las diferentes áreas y se analiz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661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s sema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0"/>
          <p:cNvSpPr/>
          <p:nvPr/>
        </p:nvSpPr>
        <p:spPr>
          <a:xfrm>
            <a:off x="333360" y="680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49"/>
          <p:cNvCxnSpPr>
            <a:endCxn id="202" idx="0"/>
          </p:cNvCxnSpPr>
          <p:nvPr/>
        </p:nvCxnSpPr>
        <p:spPr>
          <a:xfrm>
            <a:off x="3498840" y="658800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49"/>
          <p:cNvCxnSpPr>
            <a:stCxn id="202" idx="2"/>
          </p:cNvCxnSpPr>
          <p:nvPr/>
        </p:nvCxnSpPr>
        <p:spPr>
          <a:xfrm>
            <a:off x="349992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2"/>
          <p:cNvSpPr/>
          <p:nvPr/>
        </p:nvSpPr>
        <p:spPr>
          <a:xfrm>
            <a:off x="1700280" y="7164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con el Director general reporte mensual de todas las áreas y toman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91000" y="7093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00"/>
          <p:cNvSpPr/>
          <p:nvPr/>
        </p:nvSpPr>
        <p:spPr>
          <a:xfrm>
            <a:off x="333360" y="7236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49"/>
          <p:cNvCxnSpPr>
            <a:stCxn id="207" idx="2"/>
            <a:endCxn id="173" idx="0"/>
          </p:cNvCxnSpPr>
          <p:nvPr/>
        </p:nvCxnSpPr>
        <p:spPr>
          <a:xfrm>
            <a:off x="3499920" y="7451280"/>
            <a:ext cx="25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9T19:08:21Z</dcterms:modified>
  <cp:revision>342</cp:revision>
  <dc:subject/>
  <dc:title>Presentación de PowerPoint</dc:title>
</cp:coreProperties>
</file>