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365-2DE2-40D0-9ED2-8338B0CC4A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FE49-1782-463B-87F5-1106644EDE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06200" y="836640"/>
            <a:ext cx="1729080" cy="1297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pel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lefo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08000" y="2421000"/>
            <a:ext cx="1800000" cy="2305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Nombrami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xpedientes de 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licitudes de (IMSS, Pensiones, SEDAR, segur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cib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heq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stas de asistenc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ronograma de administr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236000" y="836640"/>
            <a:ext cx="1873080" cy="1871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esiden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ecretario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tor Gr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irect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7164360" y="3068640"/>
            <a:ext cx="1943280" cy="1800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tratación del personal , diferentes altas (IMSS, Seguros, Pensiones, Nominas, Impuestos, Firma mediante Huellas digit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stas de asist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xpedien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Gafe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7165800" y="5156280"/>
            <a:ext cx="1943280" cy="10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ocumentación completa y firmada antes del ingreso de personal al IEPC al 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08000" y="5084640"/>
            <a:ext cx="172728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-ADM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1979640" y="3284640"/>
            <a:ext cx="21600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 rot="1986600">
            <a:off x="1968120" y="1240920"/>
            <a:ext cx="24624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 rot="19365000">
            <a:off x="198720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2268360" y="765000"/>
            <a:ext cx="446436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5 Rectángulo"/>
          <p:cNvSpPr/>
          <p:nvPr/>
        </p:nvSpPr>
        <p:spPr>
          <a:xfrm>
            <a:off x="2340000" y="2174760"/>
            <a:ext cx="1512720" cy="6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visa la vacante y si esta libre el puesto requerid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7 Rectángulo"/>
          <p:cNvSpPr/>
          <p:nvPr/>
        </p:nvSpPr>
        <p:spPr>
          <a:xfrm>
            <a:off x="2408400" y="4240080"/>
            <a:ext cx="1368360" cy="6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recibe el formato de altas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ajas y movimientos de personal con firma de autorizacion de involucr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2568600" y="828720"/>
            <a:ext cx="961920" cy="271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6 Rectángulo"/>
          <p:cNvSpPr/>
          <p:nvPr/>
        </p:nvSpPr>
        <p:spPr>
          <a:xfrm>
            <a:off x="2335320" y="1236600"/>
            <a:ext cx="1517400" cy="80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visa el ante proyecto para contra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8 Rectángulo"/>
          <p:cNvSpPr/>
          <p:nvPr/>
        </p:nvSpPr>
        <p:spPr>
          <a:xfrm>
            <a:off x="2406600" y="2968560"/>
            <a:ext cx="1378080" cy="3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Verificar si el puesto requerido es el mismo que el puesto dispon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7 Rectángulo"/>
          <p:cNvSpPr/>
          <p:nvPr/>
        </p:nvSpPr>
        <p:spPr>
          <a:xfrm>
            <a:off x="4606920" y="1125360"/>
            <a:ext cx="1368360" cy="7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 caso de que no funcione con la persona la huella digital se hara un memorandum para que la persona haga chequeo man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4"/>
          <p:cNvSpPr/>
          <p:nvPr/>
        </p:nvSpPr>
        <p:spPr>
          <a:xfrm>
            <a:off x="5046840" y="5157720"/>
            <a:ext cx="50292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7 Rectángulo"/>
          <p:cNvSpPr/>
          <p:nvPr/>
        </p:nvSpPr>
        <p:spPr>
          <a:xfrm>
            <a:off x="2463840" y="5092560"/>
            <a:ext cx="126216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elabora el nombramiento y se firma por Secretario ejecutivo, presidente e interesad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7 Rectángulo"/>
          <p:cNvSpPr/>
          <p:nvPr/>
        </p:nvSpPr>
        <p:spPr>
          <a:xfrm>
            <a:off x="2408400" y="5859360"/>
            <a:ext cx="136836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le da entrada y se toma sus huellas y fotos para registro de asistencia electron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60"/>
          <p:cNvCxnSpPr>
            <a:stCxn id="73" idx="2"/>
            <a:endCxn id="74" idx="0"/>
          </p:cNvCxnSpPr>
          <p:nvPr/>
        </p:nvCxnSpPr>
        <p:spPr>
          <a:xfrm flipH="1">
            <a:off x="5291280" y="2652840"/>
            <a:ext cx="252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32"/>
          <p:cNvCxnSpPr/>
          <p:nvPr/>
        </p:nvCxnSpPr>
        <p:spPr>
          <a:xfrm>
            <a:off x="3039840" y="10918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0"/>
          <p:cNvCxnSpPr>
            <a:stCxn id="63" idx="2"/>
            <a:endCxn id="67" idx="0"/>
          </p:cNvCxnSpPr>
          <p:nvPr/>
        </p:nvCxnSpPr>
        <p:spPr>
          <a:xfrm flipH="1">
            <a:off x="3095640" y="2811600"/>
            <a:ext cx="1080" cy="15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32"/>
          <p:cNvCxnSpPr>
            <a:stCxn id="66" idx="2"/>
            <a:endCxn id="63" idx="0"/>
          </p:cNvCxnSpPr>
          <p:nvPr/>
        </p:nvCxnSpPr>
        <p:spPr>
          <a:xfrm>
            <a:off x="3093840" y="2039760"/>
            <a:ext cx="288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18 Rectángulo"/>
          <p:cNvSpPr/>
          <p:nvPr/>
        </p:nvSpPr>
        <p:spPr>
          <a:xfrm>
            <a:off x="4600440" y="2119320"/>
            <a:ext cx="1386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da de alta en prestaciones otorgadas por el IEP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7 Rectángulo"/>
          <p:cNvSpPr/>
          <p:nvPr/>
        </p:nvSpPr>
        <p:spPr>
          <a:xfrm>
            <a:off x="4589640" y="2881440"/>
            <a:ext cx="140328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envia infomacion a instituciones correspond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60"/>
          <p:cNvCxnSpPr>
            <a:stCxn id="67" idx="2"/>
            <a:endCxn id="79" idx="0"/>
          </p:cNvCxnSpPr>
          <p:nvPr/>
        </p:nvCxnSpPr>
        <p:spPr>
          <a:xfrm>
            <a:off x="3095640" y="3365640"/>
            <a:ext cx="17640" cy="13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60"/>
          <p:cNvCxnSpPr>
            <a:stCxn id="64" idx="2"/>
            <a:endCxn id="70" idx="0"/>
          </p:cNvCxnSpPr>
          <p:nvPr/>
        </p:nvCxnSpPr>
        <p:spPr>
          <a:xfrm>
            <a:off x="3092400" y="4890960"/>
            <a:ext cx="2880" cy="20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60"/>
          <p:cNvCxnSpPr>
            <a:stCxn id="70" idx="2"/>
            <a:endCxn id="71" idx="0"/>
          </p:cNvCxnSpPr>
          <p:nvPr/>
        </p:nvCxnSpPr>
        <p:spPr>
          <a:xfrm flipH="1">
            <a:off x="3092400" y="5710320"/>
            <a:ext cx="2880" cy="14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60"/>
          <p:cNvCxnSpPr>
            <a:stCxn id="68" idx="2"/>
            <a:endCxn id="73" idx="0"/>
          </p:cNvCxnSpPr>
          <p:nvPr/>
        </p:nvCxnSpPr>
        <p:spPr>
          <a:xfrm>
            <a:off x="5290920" y="1846440"/>
            <a:ext cx="28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56"/>
          <p:cNvCxnSpPr>
            <a:stCxn id="71" idx="3"/>
            <a:endCxn id="68" idx="1"/>
          </p:cNvCxnSpPr>
          <p:nvPr/>
        </p:nvCxnSpPr>
        <p:spPr>
          <a:xfrm flipV="1">
            <a:off x="3776760" y="1485720"/>
            <a:ext cx="830520" cy="477864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17 Rectángulo"/>
          <p:cNvSpPr/>
          <p:nvPr/>
        </p:nvSpPr>
        <p:spPr>
          <a:xfrm>
            <a:off x="4589640" y="3619440"/>
            <a:ext cx="140328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genera la nomina del institu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7 Rectángulo"/>
          <p:cNvSpPr/>
          <p:nvPr/>
        </p:nvSpPr>
        <p:spPr>
          <a:xfrm>
            <a:off x="4589640" y="4321080"/>
            <a:ext cx="140328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haca el pago de nomina quincenalmente con transferencia electrónica y/o emisión de cheq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60"/>
          <p:cNvCxnSpPr>
            <a:endCxn id="84" idx="0"/>
          </p:cNvCxnSpPr>
          <p:nvPr/>
        </p:nvCxnSpPr>
        <p:spPr>
          <a:xfrm>
            <a:off x="5290920" y="3357360"/>
            <a:ext cx="720" cy="2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60"/>
          <p:cNvCxnSpPr>
            <a:stCxn id="84" idx="2"/>
            <a:endCxn id="85" idx="0"/>
          </p:cNvCxnSpPr>
          <p:nvPr/>
        </p:nvCxnSpPr>
        <p:spPr>
          <a:xfrm>
            <a:off x="5291280" y="4057560"/>
            <a:ext cx="36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0"/>
          <p:cNvCxnSpPr>
            <a:stCxn id="85" idx="2"/>
          </p:cNvCxnSpPr>
          <p:nvPr/>
        </p:nvCxnSpPr>
        <p:spPr>
          <a:xfrm>
            <a:off x="5291280" y="4941720"/>
            <a:ext cx="50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17 Rectángulo"/>
          <p:cNvSpPr/>
          <p:nvPr/>
        </p:nvSpPr>
        <p:spPr>
          <a:xfrm>
            <a:off x="2411280" y="3500280"/>
            <a:ext cx="140364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da de alta en NOMIPA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60"/>
          <p:cNvCxnSpPr/>
          <p:nvPr/>
        </p:nvCxnSpPr>
        <p:spPr>
          <a:xfrm>
            <a:off x="3131640" y="4005000"/>
            <a:ext cx="108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5-08T15:38:19Z</dcterms:modified>
  <cp:revision>132</cp:revision>
  <dc:subject/>
  <dc:title>Diapositiva 1</dc:title>
</cp:coreProperties>
</file>