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9F5-B022-412B-BB6B-2E1ECD17A0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F13-5A7C-48B6-9A18-0FD0A6C75E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6467-3806-4EFC-B02E-DC67F6045D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A47-DFAE-4C8E-934A-BC1CEAC4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F5F-ABE0-4798-BCDA-3ACF35D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FA9-0419-41DF-8463-987DECB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E51-68AD-4E50-A6DE-D0A03FC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BC0-E539-4FB3-965E-059E35F7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70E-DAFC-4CB9-B7CF-3030368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128-58CD-4C55-9510-3580B60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1F3-9781-438A-8228-AE31283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4EF-A4FD-4A60-B609-8DFB77C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3FE-D0AF-484B-9BD5-AB58DA30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FA2-7BE0-4A8D-B3D5-042FE9C0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60F-77E0-43BA-9128-4D92557D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BAE-2F25-41FC-BB8F-8E4BA039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0F2-0EB1-43FA-AF2D-650FD7A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E12-BE5B-4899-9E88-BA8D08E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BB97-5100-47E2-B086-F166B7FA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37AB-6860-4D87-8B9F-01B366ED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056-E4F7-488F-B952-5F2A208E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DA9-9DB6-48B8-9FED-3952788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937D-F19B-4805-B5DD-EE3006C8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92BC-37C9-46B6-81FC-AE09E312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9853-A196-4E48-B04B-39009A2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AE11-28D2-4E5F-8101-FFC85503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F7BD-C880-46CC-A67B-95CB2B3B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CA9E8D6-805D-45ED-B864-1A8FEF2645F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5006-791F-435E-80EB-08783F20AD7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184-882C-4C9B-A05B-01D79FDD2EF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respuesta a las solicitudes ingresadas de la ciudadanía y de las diferente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registro y aprobación de solicitudes a presidencia por el personal que integra esta ár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308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reportes semanales y se reenvía al Secretario partic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las diferentes áreas para conoc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73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endCxn id="173" idx="0"/>
          </p:cNvCxnSpPr>
          <p:nvPr/>
        </p:nvCxnSpPr>
        <p:spPr>
          <a:xfrm>
            <a:off x="3499920" y="702000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4T14:34:36Z</dcterms:modified>
  <cp:revision>348</cp:revision>
  <dc:subject/>
  <dc:title>Presentación de PowerPoint</dc:title>
</cp:coreProperties>
</file>