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820-9E5F-49C9-A68F-AF5F4523D6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8E71-AA86-4A81-9BF0-95FB6836E0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71C-0E58-40DC-AE12-DE3ACD9121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292-E4DD-4912-B9D7-3CA851CE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91E-FA25-4C50-8DF1-A89F058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FDF-D9B9-4442-B03B-5D01A8D2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16-CD31-4D2C-841C-8E05F694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272-6915-4BFC-8AD4-7520EAAB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59A-C231-4485-BB4C-45FCFC1A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9CA-29EF-45DA-BAE9-83CBC8D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FAF-76D1-4FA9-9D82-0A1526D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193-1E7A-49EE-846E-0670636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944-1440-4F12-9545-F2EE0069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2B5-CA89-4769-AC1F-211E2D80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F33-5214-4903-9267-CB400CA3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DC23-015E-4D64-9C26-88FD0676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129-FDFF-4ECA-BBB7-E9C9A5E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99D3-8A0E-409E-94DF-A082F97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02E-7AAE-4AFC-B64F-9341935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3A22-6E17-420B-ACEF-3410930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B1D4-EA94-4DE9-AAC8-62DA29D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ABB-8EED-4450-B6AF-8E65D71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BAEE-D978-4E1C-A82C-4DCFF27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A74-3712-490E-8F51-903F925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832-9E24-47AF-BA54-4DB805A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E601-BC73-45B1-A006-BF7D37C0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9B7C-FFF2-4453-928C-8FDD2E05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4339-0497-4B14-B933-029CF38F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FB90-10DE-428F-A82A-21B5221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6254-3F4C-44E8-BAC4-130AC56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D021-E9A3-40BF-87BB-A702B12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2EB9-3CB1-48B9-BCB9-7F349A8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6B2E-3C50-4847-9A2D-FA147315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2F65-38BB-4471-B2DE-69EA8F4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E18E-3796-4CD1-9495-8DD106E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DD0B-1F73-45A4-B436-CEC467E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569C-6B70-4126-BE63-CB02E9F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15FA-BDBF-452F-98BD-FA17FC1D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1636-7D0E-490A-93B0-99AF0E4A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C29CB6A-494A-40D7-90E7-57FC48EB536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DF4-7FFF-4F61-BD6D-90B823279F2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36E-2E5F-4B5A-8D81-8BD3357D4F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662-7D49-41FA-920C-D40D7269D6C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de acuerdos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fe de comunicación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20 / P-OPE-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/ rueda de pren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31T20:14:20Z</dcterms:modified>
  <cp:revision>317</cp:revision>
  <dc:subject/>
  <dc:title>Presentación de PowerPoint</dc:title>
</cp:coreProperties>
</file>