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AD8F-7311-48FA-A5A0-9905A4AC50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4FE9-E331-4CB5-BF2F-5EB2170281D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5A52-ABB8-469C-A9A2-EFB872E1BF6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830-3705-470F-AE54-1C783DD7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212-7E3E-49C1-88B0-B272A1BC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A559-6529-4AFE-A448-397E86DA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218-572F-4063-9903-B6E2E005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457-0260-4999-89A1-DED72A95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443B-A3DD-4944-8684-2AE5D118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88CC-FF0D-4FE4-A684-8202D3D3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A4C-83EF-48C6-AB60-F3A6DD74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55C-B61D-422E-95E8-C422C00A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864-7974-4D7C-B565-A738826B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680C-17E5-4D75-BF5D-841A0CC5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875-814F-486C-9DFC-B776B9A9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C672-D51F-4CB8-B4A2-AD3493DB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A44C-88B7-4496-B4C7-5E56EBE9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4B80-8794-43DF-8A73-F170559C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AC73-0242-4228-A5F3-176763AB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5489-8DF2-41B5-A403-D549E069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CFD7-FA34-4A1F-9E2D-C8C4A5E6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D16A-B66A-4298-B90D-39EC4A09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B56E-A18E-4EAC-A905-0A55881F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BD32-4AAA-4C68-8761-5C9C6CB5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4BEE-CB53-4FBF-9DC0-69999501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1F9D-8015-4C9F-879F-45D1115D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9724-3FEB-4B10-8EFC-6B62491B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tención en Ventani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A35C9645-E533-4867-8B4C-B02A19990BE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COM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C2D3-08C8-49BA-BD0F-9861852C405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1D7B-D402-4407-BB17-940267D130A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ectuar con la autorización de los órganos ejecutivos, las compras de bienes y servicios necesarios para el optimo funcionamiento del IEPC, salvo en los casos en que se requiera realizar un procedimiento distinto de conformidad con el reglamento para las adquisiciones y enajenaciones del institut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entrega de material que hay en almacén a las diferentes áreas del Institut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n autorizaciones y se verifica existencia en el siste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6"/>
          <p:cNvSpPr/>
          <p:nvPr/>
        </p:nvSpPr>
        <p:spPr>
          <a:xfrm>
            <a:off x="5373720" y="2367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5"/>
          <p:cNvCxnSpPr>
            <a:endCxn id="168" idx="0"/>
          </p:cNvCxnSpPr>
          <p:nvPr/>
        </p:nvCxnSpPr>
        <p:spPr>
          <a:xfrm flipH="1">
            <a:off x="4580640" y="3646080"/>
            <a:ext cx="1080" cy="85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666"/>
          <p:cNvSpPr/>
          <p:nvPr/>
        </p:nvSpPr>
        <p:spPr>
          <a:xfrm>
            <a:off x="5362560" y="1990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0"/>
          <p:cNvSpPr/>
          <p:nvPr/>
        </p:nvSpPr>
        <p:spPr>
          <a:xfrm>
            <a:off x="333360" y="32767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4"/>
          <p:cNvSpPr/>
          <p:nvPr/>
        </p:nvSpPr>
        <p:spPr>
          <a:xfrm>
            <a:off x="5373720" y="306072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almacén / adminpa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18 Rectángulo"/>
          <p:cNvSpPr/>
          <p:nvPr/>
        </p:nvSpPr>
        <p:spPr>
          <a:xfrm>
            <a:off x="1700280" y="320364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mercancía y se da de baja en el sist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6 Rombo"/>
          <p:cNvSpPr/>
          <p:nvPr/>
        </p:nvSpPr>
        <p:spPr>
          <a:xfrm>
            <a:off x="3089160" y="2844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57 CuadroTexto"/>
          <p:cNvSpPr/>
          <p:nvPr/>
        </p:nvSpPr>
        <p:spPr>
          <a:xfrm>
            <a:off x="3068640" y="2914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xistenci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64 Conector angular"/>
          <p:cNvCxnSpPr>
            <a:stCxn id="174" idx="1"/>
          </p:cNvCxnSpPr>
          <p:nvPr/>
        </p:nvCxnSpPr>
        <p:spPr>
          <a:xfrm flipV="1" rot="10800000">
            <a:off x="2491560" y="30240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7" name="72 CuadroTexto"/>
          <p:cNvSpPr/>
          <p:nvPr/>
        </p:nvSpPr>
        <p:spPr>
          <a:xfrm>
            <a:off x="270684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64 Conector angular"/>
          <p:cNvCxnSpPr>
            <a:stCxn id="174" idx="3"/>
            <a:endCxn id="179" idx="0"/>
          </p:cNvCxnSpPr>
          <p:nvPr/>
        </p:nvCxnSpPr>
        <p:spPr>
          <a:xfrm>
            <a:off x="3946320" y="3024360"/>
            <a:ext cx="56412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0" name="73 CuadroTexto"/>
          <p:cNvSpPr/>
          <p:nvPr/>
        </p:nvSpPr>
        <p:spPr>
          <a:xfrm>
            <a:off x="400536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3933720" y="3203640"/>
            <a:ext cx="11527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l encargado de compras la falta de materi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685"/>
          <p:cNvCxnSpPr/>
          <p:nvPr/>
        </p:nvCxnSpPr>
        <p:spPr>
          <a:xfrm>
            <a:off x="3499920" y="262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64 Conector angular"/>
          <p:cNvCxnSpPr>
            <a:stCxn id="173" idx="2"/>
            <a:endCxn id="168" idx="2"/>
          </p:cNvCxnSpPr>
          <p:nvPr/>
        </p:nvCxnSpPr>
        <p:spPr>
          <a:xfrm flipH="1" rot="16200000">
            <a:off x="2834640" y="3150000"/>
            <a:ext cx="900720" cy="2016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8" name="Oval 34"/>
          <p:cNvSpPr/>
          <p:nvPr/>
        </p:nvSpPr>
        <p:spPr>
          <a:xfrm>
            <a:off x="4292640" y="450072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16:02:05Z</dcterms:modified>
  <cp:revision>345</cp:revision>
  <dc:subject/>
  <dc:title>Presentación de PowerPoint</dc:title>
</cp:coreProperties>
</file>