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B911-98E6-4207-B651-7B27BFE2667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16C3-BE21-41FA-81CD-863014E712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32B4-FEA5-406B-B46F-AB15CCEA52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B66F-5256-49E9-A0F6-4B253560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9B68-AF1C-4B45-A01B-C8F37110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B10A-A030-4A4F-AA76-BB7DB547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01A-CE03-4BC7-A356-E8A27C07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405C-B982-4E82-A055-0916733B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002-F2AA-4181-8B34-538F33C9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909-CFBA-41D9-ABF9-C2CA718D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3BA-D495-420C-8342-F446D598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B76-46D8-477D-B6E9-2364C6CE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4C5-46A7-4985-A420-39B7E591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F2D3-E49F-4CE3-937D-95459FB4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3F9-372E-4CF9-9807-CD578468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B3D0-713D-46B3-A09C-15708B3A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895F-0258-4039-B839-599DA573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53FB-4BA4-4F5A-99A6-38600E3C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FED0-33F3-4BBC-A633-8F2AB69E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F7F2-39C8-4277-8748-CA037323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C1BB-A4B6-45B0-9656-0E3B6D71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4D9B-81CC-449C-A062-21B7BAC3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6BC5-0FB8-48F7-BBD1-E9F871FB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9B80-B9A3-47C5-BAEE-EB20A8FC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534D-A0F0-4001-9AD8-F3315905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322C-ED61-4147-9C33-243F6727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0DB1-E684-49AA-B0E7-6BBAE211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gistro de representantes de partidos politicos ante la M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0608199B-630A-4922-8EAA-648930E5373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Organ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2731-8110-46B4-9D6D-69C7546DE78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2083-1DC8-4BA0-AD7F-F1FA0C65339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visa calendario para registro de representa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n listados o formatos de partidos polít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30607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istado de partidos polític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stado de partidos acredit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AutoShape 684"/>
          <p:cNvCxnSpPr>
            <a:stCxn id="163" idx="2"/>
            <a:endCxn id="168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404640" y="219564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Todo personal de organ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255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Todo personal de organ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2755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stado de partidos polít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 duplicidad en caso de haber se elimina con asignación correspon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AutoShape 685"/>
          <p:cNvCxnSpPr>
            <a:stCxn id="168" idx="2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Rectangle 701"/>
          <p:cNvSpPr/>
          <p:nvPr/>
        </p:nvSpPr>
        <p:spPr>
          <a:xfrm>
            <a:off x="333360" y="3492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esidente de MD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30592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lista a consejeros distritales para asignación de paquete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00280" y="34196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acreditación de personal de acuerdo a list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stCxn id="174" idx="2"/>
            <a:endCxn id="175" idx="0"/>
          </p:cNvCxnSpPr>
          <p:nvPr/>
        </p:nvCxnSpPr>
        <p:spPr>
          <a:xfrm>
            <a:off x="3499920" y="32749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32"/>
          <p:cNvCxnSpPr>
            <a:stCxn id="175" idx="2"/>
          </p:cNvCxnSpPr>
          <p:nvPr/>
        </p:nvCxnSpPr>
        <p:spPr>
          <a:xfrm>
            <a:off x="3499920" y="3635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Rectangle 701"/>
          <p:cNvSpPr/>
          <p:nvPr/>
        </p:nvSpPr>
        <p:spPr>
          <a:xfrm>
            <a:off x="333360" y="291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centrales / coordinadores distritales / subcoordinador distrital / C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66"/>
          <p:cNvSpPr/>
          <p:nvPr/>
        </p:nvSpPr>
        <p:spPr>
          <a:xfrm>
            <a:off x="5373720" y="3403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do de partidos políticos /P-OPE-07 / P-OPE-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grama de actividad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34"/>
          <p:cNvSpPr/>
          <p:nvPr/>
        </p:nvSpPr>
        <p:spPr>
          <a:xfrm>
            <a:off x="3284640" y="3780000"/>
            <a:ext cx="57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29T05:27:25Z</dcterms:modified>
  <cp:revision>313</cp:revision>
  <dc:subject/>
  <dc:title>Presentación de PowerPoint</dc:title>
</cp:coreProperties>
</file>