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B0CA-6BE9-4B52-AEC1-243505D431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C16-30C8-4636-9BC2-4EE337B923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652B-C361-4F5C-BAF6-E9B1EFCF0F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CA4-2974-4725-9EB0-07A73B4B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B99-C179-44D0-800D-7ABFFB7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165-E8ED-4B16-B391-491E9E6C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F16-76BA-414E-B23C-97E16D51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5C1-AE9C-4AB9-8B2B-709D7FA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08C-E4F9-43C9-AA8C-850238B9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24C-97F3-42E2-921D-FEBA4388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1C1-D422-4EF7-AB7E-2060197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E77-09EB-4E9F-8DCB-6231C1B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637-596E-4C2B-948F-3B12C9B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BD9-6B07-4C5B-ABDB-31B6F4F0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69A-9224-4789-83BD-5A45D8F1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A254-2454-4532-9BC8-569125A4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5B5-0CD9-457C-9F92-C9DE3C6E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4E25-96FC-4BBE-86B6-2A4E6BF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0D8E-A49F-4580-B9F0-6A2E74A8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066B-0522-4D1E-BE15-9F4907D4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7BB-5C44-4F09-B57E-EDCFFAB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570F-B90C-49FE-B362-6269B582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91D-5CA3-40A1-A0F6-BD8F750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1193-0077-4588-BA98-E908495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517-6007-4E2B-8069-65AA064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3CFC-6711-4E5C-9CE2-2523D4A9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14DE-4D3C-4774-8E00-30C2317B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F0E494F-329D-46C2-AB28-42D0A5B95D4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A8C-74B3-403B-B393-76D4028109C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5CA3-E384-483D-89B8-0ED5C824BD2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poyar a las diversas áreas del Institutos en la optimización de sus procesos, mediante el desarrollo y/o la implementación de sistemas y servicios informáticos y de telecomunicaciones (art.25 VII, reglamento intern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solicitud de realización de software o programa con copia a Dirección General para VoBo o autoriz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 área respectiva se le envía una solicitud para reunión de trabajo y conocer requerimientos específ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3063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4"/>
          <p:cNvCxnSpPr>
            <a:stCxn id="163" idx="2"/>
            <a:endCxn id="171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98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noce en reunión la problem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tica y se plantean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>
            <a:stCxn id="171" idx="2"/>
            <a:endCxn id="18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modificaciones y queda para el VoBo d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>
            <a:stCxn id="180" idx="2"/>
            <a:endCxn id="181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3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esenta propuesta de programa o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64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3213000" y="6875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sarrolla el software con elementos ya aprob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uebas y reuniones con person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5" idx="2"/>
            <a:endCxn id="186" idx="0"/>
          </p:cNvCxnSpPr>
          <p:nvPr/>
        </p:nvCxnSpPr>
        <p:spPr>
          <a:xfrm>
            <a:off x="3499920" y="407052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18 Rectángulo"/>
          <p:cNvSpPr/>
          <p:nvPr/>
        </p:nvSpPr>
        <p:spPr>
          <a:xfrm>
            <a:off x="1700280" y="471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el demo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6" idx="2"/>
            <a:endCxn id="188" idx="0"/>
          </p:cNvCxnSpPr>
          <p:nvPr/>
        </p:nvCxnSpPr>
        <p:spPr>
          <a:xfrm>
            <a:off x="3499920" y="4427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685"/>
          <p:cNvCxnSpPr>
            <a:stCxn id="181" idx="2"/>
            <a:endCxn id="185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32"/>
          <p:cNvCxnSpPr>
            <a:stCxn id="188" idx="2"/>
          </p:cNvCxnSpPr>
          <p:nvPr/>
        </p:nvCxnSpPr>
        <p:spPr>
          <a:xfrm>
            <a:off x="3499920" y="493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3" idx="2"/>
            <a:endCxn id="194" idx="0"/>
          </p:cNvCxnSpPr>
          <p:nvPr/>
        </p:nvCxnSpPr>
        <p:spPr>
          <a:xfrm>
            <a:off x="4400280" y="58831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emo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55227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5954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5227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Informática / Director del área solicitante 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56 Rombo"/>
          <p:cNvSpPr/>
          <p:nvPr/>
        </p:nvSpPr>
        <p:spPr>
          <a:xfrm>
            <a:off x="3090960" y="5092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57 CuadroTexto"/>
          <p:cNvSpPr/>
          <p:nvPr/>
        </p:nvSpPr>
        <p:spPr>
          <a:xfrm>
            <a:off x="3141720" y="51274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espera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4" idx="1"/>
            <a:endCxn id="207" idx="0"/>
          </p:cNvCxnSpPr>
          <p:nvPr/>
        </p:nvCxnSpPr>
        <p:spPr>
          <a:xfrm flipV="1" rot="10800000">
            <a:off x="2529720" y="5271120"/>
            <a:ext cx="561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72 CuadroTexto"/>
          <p:cNvSpPr/>
          <p:nvPr/>
        </p:nvSpPr>
        <p:spPr>
          <a:xfrm>
            <a:off x="2708280" y="50198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73 CuadroTexto"/>
          <p:cNvSpPr/>
          <p:nvPr/>
        </p:nvSpPr>
        <p:spPr>
          <a:xfrm>
            <a:off x="3860640" y="5003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3643200" y="559584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lizan cor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64 Conector angular"/>
          <p:cNvCxnSpPr>
            <a:stCxn id="204" idx="3"/>
            <a:endCxn id="193" idx="0"/>
          </p:cNvCxnSpPr>
          <p:nvPr/>
        </p:nvCxnSpPr>
        <p:spPr>
          <a:xfrm>
            <a:off x="3947760" y="5271840"/>
            <a:ext cx="453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Oval 75"/>
          <p:cNvSpPr/>
          <p:nvPr/>
        </p:nvSpPr>
        <p:spPr>
          <a:xfrm>
            <a:off x="2492280" y="449892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649"/>
          <p:cNvCxnSpPr/>
          <p:nvPr/>
        </p:nvCxnSpPr>
        <p:spPr>
          <a:xfrm>
            <a:off x="2708280" y="457164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773360" y="5595840"/>
            <a:ext cx="151272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da el VoBo para instalacion y uso del area solicit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14" idx="2"/>
            <a:endCxn id="184" idx="2"/>
          </p:cNvCxnSpPr>
          <p:nvPr/>
        </p:nvCxnSpPr>
        <p:spPr>
          <a:xfrm flipH="1" rot="16200000">
            <a:off x="2583360" y="6390360"/>
            <a:ext cx="577080" cy="682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Rectangle 656"/>
          <p:cNvSpPr/>
          <p:nvPr/>
        </p:nvSpPr>
        <p:spPr>
          <a:xfrm>
            <a:off x="1773360" y="615456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l personal que lo utiliz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221000" y="6084720"/>
            <a:ext cx="36036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07" idx="2"/>
            <a:endCxn id="214" idx="0"/>
          </p:cNvCxnSpPr>
          <p:nvPr/>
        </p:nvCxnSpPr>
        <p:spPr>
          <a:xfrm>
            <a:off x="2530080" y="59400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1-01T15:43:06Z</cp:lastPrinted>
  <dcterms:modified xsi:type="dcterms:W3CDTF">2012-02-13T21:15:36Z</dcterms:modified>
  <cp:revision>298</cp:revision>
  <dc:subject/>
  <dc:title>Presentación de PowerPoint</dc:title>
</cp:coreProperties>
</file>