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3320-915A-4C1B-801C-20E3091C9C1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0AF8-761C-41C0-A312-B63BE7101EC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F760-50DD-46A3-B596-690DF7EEBE1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1170-627E-4C19-B77C-FEA95738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122A-C253-492A-B9A9-4852645C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EBCE-0181-414E-B741-B70C9915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0736-8A91-4643-BA57-932E59F5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0207-0FD3-48EF-9571-A470AFC7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144C-3FB5-40A1-99C5-DA27BC4F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76A-5DFB-498D-9174-19877105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C8ED-781C-4CCF-8103-D80C60D7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811A-6503-4408-A355-49DFC22C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D593-1BEC-4E93-B5F5-BCE5FBB7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1F3-E3AE-429A-BF3D-FA641B3E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AB4B-D73C-42EA-9DEA-99B3F097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FBEA-1BCE-4AD3-8086-4001F4A9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3230-37C8-4353-B1B3-327F744F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4E3B-ED96-471F-8003-4CAB16A8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86EE-C15E-4D53-9E31-7759A623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269C-A2D9-48E2-AE91-99CA392F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A704-3137-4532-8EF6-D8C2EE15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BFBE-6FD5-40E6-871E-AF5D2F21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C30F-666E-463B-854C-3D8B1781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8AF9-3129-48F2-A1E3-20B92508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A4B0-D03A-4889-BCD0-FB8F2E80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82C8-E98D-433C-BD73-E36BC1E7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6BFC-18C0-45E4-8419-EA148B89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trol y Gest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54762F63-6274-419C-A132-BDEB9B72F3E4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Contralor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4C08-EB82-4B31-90AD-FFC21D82862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FAA7-BE92-4640-B7D2-EE24DBAA02A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oadyuvar que se cumpla con todas las actividades y programas propuestos. Evaluar el trabajo interno en los principales sistemas y procesos administrativos, así como proponer controles en los sistemas, procesos y programas de gestión administrativas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83672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200160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124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información para análisi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484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laboración de alternativas de resolución de procesos administrativ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34923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opue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4685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puesta de alterna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stCxn id="162" idx="2"/>
            <a:endCxn id="163" idx="0"/>
          </p:cNvCxnSpPr>
          <p:nvPr/>
        </p:nvCxnSpPr>
        <p:spPr>
          <a:xfrm>
            <a:off x="3498480" y="233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AutoShape 684"/>
          <p:cNvCxnSpPr>
            <a:stCxn id="163" idx="2"/>
            <a:endCxn id="168" idx="0"/>
          </p:cNvCxnSpPr>
          <p:nvPr/>
        </p:nvCxnSpPr>
        <p:spPr>
          <a:xfrm>
            <a:off x="3498840" y="270000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700"/>
          <p:cNvSpPr/>
          <p:nvPr/>
        </p:nvSpPr>
        <p:spPr>
          <a:xfrm>
            <a:off x="404640" y="248616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a de Gestión y Contro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2844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a de Gestión y Contro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6"/>
          <p:cNvSpPr/>
          <p:nvPr/>
        </p:nvSpPr>
        <p:spPr>
          <a:xfrm>
            <a:off x="5373720" y="421164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oficio / propue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284472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de evi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56"/>
          <p:cNvSpPr/>
          <p:nvPr/>
        </p:nvSpPr>
        <p:spPr>
          <a:xfrm>
            <a:off x="1700280" y="28447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nvía informe sobre alternativas de 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34"/>
          <p:cNvSpPr/>
          <p:nvPr/>
        </p:nvSpPr>
        <p:spPr>
          <a:xfrm>
            <a:off x="3213000" y="550872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00280" y="3492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cibe la propuesta y se revisa para su aprob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AutoShape 32"/>
          <p:cNvCxnSpPr>
            <a:stCxn id="174" idx="2"/>
          </p:cNvCxnSpPr>
          <p:nvPr/>
        </p:nvCxnSpPr>
        <p:spPr>
          <a:xfrm>
            <a:off x="3499920" y="370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Rectangle 701"/>
          <p:cNvSpPr/>
          <p:nvPr/>
        </p:nvSpPr>
        <p:spPr>
          <a:xfrm>
            <a:off x="333360" y="3492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l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6"/>
          <p:cNvSpPr/>
          <p:nvPr/>
        </p:nvSpPr>
        <p:spPr>
          <a:xfrm>
            <a:off x="5373720" y="18208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iódicos / medios de comunicación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ó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 /noticias/información sobre problemas, procesos y sistemas instituc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00"/>
          <p:cNvSpPr/>
          <p:nvPr/>
        </p:nvSpPr>
        <p:spPr>
          <a:xfrm>
            <a:off x="404640" y="2124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a de Gestión y Contro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l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56 Rombo"/>
          <p:cNvSpPr/>
          <p:nvPr/>
        </p:nvSpPr>
        <p:spPr>
          <a:xfrm>
            <a:off x="3090960" y="386856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57 CuadroTexto"/>
          <p:cNvSpPr/>
          <p:nvPr/>
        </p:nvSpPr>
        <p:spPr>
          <a:xfrm>
            <a:off x="3141720" y="393876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probad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64 Conector angular"/>
          <p:cNvCxnSpPr>
            <a:stCxn id="180" idx="1"/>
            <a:endCxn id="183" idx="0"/>
          </p:cNvCxnSpPr>
          <p:nvPr/>
        </p:nvCxnSpPr>
        <p:spPr>
          <a:xfrm flipV="1" rot="10800000">
            <a:off x="2417040" y="4047840"/>
            <a:ext cx="673920" cy="164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4" name="72 CuadroTexto"/>
          <p:cNvSpPr/>
          <p:nvPr/>
        </p:nvSpPr>
        <p:spPr>
          <a:xfrm>
            <a:off x="4005360" y="3780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73 CuadroTexto"/>
          <p:cNvSpPr/>
          <p:nvPr/>
        </p:nvSpPr>
        <p:spPr>
          <a:xfrm>
            <a:off x="2565360" y="3780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64 Conector angular"/>
          <p:cNvCxnSpPr>
            <a:stCxn id="180" idx="3"/>
            <a:endCxn id="187" idx="0"/>
          </p:cNvCxnSpPr>
          <p:nvPr/>
        </p:nvCxnSpPr>
        <p:spPr>
          <a:xfrm>
            <a:off x="3948120" y="4048200"/>
            <a:ext cx="489600" cy="235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7" name="Rectangle 656"/>
          <p:cNvSpPr/>
          <p:nvPr/>
        </p:nvSpPr>
        <p:spPr>
          <a:xfrm>
            <a:off x="3573360" y="4282920"/>
            <a:ext cx="172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mte a presidencia , Secretaria Ejecutiva o consej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AutoShape 32"/>
          <p:cNvCxnSpPr>
            <a:stCxn id="168" idx="2"/>
            <a:endCxn id="174" idx="0"/>
          </p:cNvCxnSpPr>
          <p:nvPr/>
        </p:nvCxnSpPr>
        <p:spPr>
          <a:xfrm>
            <a:off x="3499920" y="306036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Rectangle 656"/>
          <p:cNvSpPr/>
          <p:nvPr/>
        </p:nvSpPr>
        <p:spPr>
          <a:xfrm>
            <a:off x="3573360" y="4788000"/>
            <a:ext cx="172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aplica cambio o propuesta y se regristra en informe an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64 Conector angular"/>
          <p:cNvCxnSpPr>
            <a:stCxn id="189" idx="2"/>
            <a:endCxn id="173" idx="6"/>
          </p:cNvCxnSpPr>
          <p:nvPr/>
        </p:nvCxnSpPr>
        <p:spPr>
          <a:xfrm rot="5400000">
            <a:off x="3842280" y="5022720"/>
            <a:ext cx="540720" cy="648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1" name="Rectangle 701"/>
          <p:cNvSpPr/>
          <p:nvPr/>
        </p:nvSpPr>
        <p:spPr>
          <a:xfrm>
            <a:off x="333360" y="471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lor/Jefa de Gestión y Contro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66"/>
          <p:cNvSpPr/>
          <p:nvPr/>
        </p:nvSpPr>
        <p:spPr>
          <a:xfrm>
            <a:off x="5373720" y="478800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anu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56 Rombo"/>
          <p:cNvSpPr/>
          <p:nvPr/>
        </p:nvSpPr>
        <p:spPr>
          <a:xfrm>
            <a:off x="1989000" y="421164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57 CuadroTexto"/>
          <p:cNvSpPr/>
          <p:nvPr/>
        </p:nvSpPr>
        <p:spPr>
          <a:xfrm>
            <a:off x="1989000" y="428472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orreccion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75"/>
          <p:cNvSpPr/>
          <p:nvPr/>
        </p:nvSpPr>
        <p:spPr>
          <a:xfrm>
            <a:off x="2854440" y="5292720"/>
            <a:ext cx="2142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64 Conector angular"/>
          <p:cNvCxnSpPr>
            <a:stCxn id="183" idx="3"/>
            <a:endCxn id="196" idx="0"/>
          </p:cNvCxnSpPr>
          <p:nvPr/>
        </p:nvCxnSpPr>
        <p:spPr>
          <a:xfrm>
            <a:off x="2846160" y="4390560"/>
            <a:ext cx="151560" cy="3978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7" name="72 CuadroTexto"/>
          <p:cNvSpPr/>
          <p:nvPr/>
        </p:nvSpPr>
        <p:spPr>
          <a:xfrm>
            <a:off x="2781360" y="4211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64 Conector angular"/>
          <p:cNvCxnSpPr>
            <a:stCxn id="183" idx="1"/>
            <a:endCxn id="173" idx="2"/>
          </p:cNvCxnSpPr>
          <p:nvPr/>
        </p:nvCxnSpPr>
        <p:spPr>
          <a:xfrm flipH="1" flipV="1" rot="10800000">
            <a:off x="1988640" y="4389840"/>
            <a:ext cx="1224720" cy="1226520"/>
          </a:xfrm>
          <a:prstGeom prst="bentConnector3">
            <a:avLst>
              <a:gd name="adj1" fmla="val -1867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9" name="Oval 75"/>
          <p:cNvSpPr/>
          <p:nvPr/>
        </p:nvSpPr>
        <p:spPr>
          <a:xfrm>
            <a:off x="2924280" y="3132000"/>
            <a:ext cx="225360" cy="223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AutoShape 684"/>
          <p:cNvCxnSpPr/>
          <p:nvPr/>
        </p:nvCxnSpPr>
        <p:spPr>
          <a:xfrm>
            <a:off x="3141720" y="3276360"/>
            <a:ext cx="358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656"/>
          <p:cNvSpPr/>
          <p:nvPr/>
        </p:nvSpPr>
        <p:spPr>
          <a:xfrm>
            <a:off x="2492280" y="4788000"/>
            <a:ext cx="1008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 elabora una nueva altern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AutoShape 32"/>
          <p:cNvCxnSpPr/>
          <p:nvPr/>
        </p:nvCxnSpPr>
        <p:spPr>
          <a:xfrm>
            <a:off x="2997000" y="50767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2-16T06:10:36Z</dcterms:modified>
  <cp:revision>305</cp:revision>
  <dc:subject/>
  <dc:title>Presentación de PowerPoint</dc:title>
</cp:coreProperties>
</file>