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CF78-B727-48EC-B902-BD6F6E6BDA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BB8-D6CD-4B26-9E6A-E96DFE2F49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F75-6DB3-43ED-A740-6DD8A27B0F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897-6E91-438C-93BF-3868446F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46B-F5D3-454C-992B-14C5D3D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A16-5AAB-4CE8-AB1F-52D841C5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419-EA73-4CD7-B207-4C53ED7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18C-BB22-49B9-9218-75DC787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8EF-3A01-46EC-BD55-52C0DF2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D61-091C-4FC3-95F4-622457D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6C4-9EBC-4983-A58D-BA91921C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1FA-D8EF-4B57-8A1D-37237F9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4E4-C883-41E8-8A57-5A31006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041-F297-49AA-BB1F-CEC74128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292-CA88-4832-A6C1-36215424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534056F-4429-412F-BA7F-CE691628E81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9F4E-185D-49C1-8A6C-33E9CEBE6A1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smar en documento las determinaciones tomadas por el consejo general, con la finalidad de vigilar el cumplimiento de la legislación electoral esta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67676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21964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2280" y="5761080"/>
            <a:ext cx="127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firmado Copia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0"/>
          <p:cNvSpPr/>
          <p:nvPr/>
        </p:nvSpPr>
        <p:spPr>
          <a:xfrm>
            <a:off x="338040" y="4675320"/>
            <a:ext cx="1224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45960" y="523404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0" idx="2"/>
            <a:endCxn id="139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3"/>
          <p:cNvSpPr/>
          <p:nvPr/>
        </p:nvSpPr>
        <p:spPr>
          <a:xfrm>
            <a:off x="1700280" y="46623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87800" y="6372360"/>
            <a:ext cx="57600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1704960" y="521964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í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1697040" y="576108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acuerdo o resolución firmado a oficialía de partes para su notificación y posterior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/>
          <p:nvPr/>
        </p:nvCxnSpPr>
        <p:spPr>
          <a:xfrm>
            <a:off x="3460320" y="55512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2"/>
          <p:cNvCxnSpPr/>
          <p:nvPr/>
        </p:nvCxnSpPr>
        <p:spPr>
          <a:xfrm>
            <a:off x="3479400" y="6121080"/>
            <a:ext cx="10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>
            <a:stCxn id="140" idx="2"/>
            <a:endCxn id="143" idx="0"/>
          </p:cNvCxnSpPr>
          <p:nvPr/>
        </p:nvCxnSpPr>
        <p:spPr>
          <a:xfrm>
            <a:off x="3463560" y="5022360"/>
            <a:ext cx="54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701"/>
          <p:cNvSpPr/>
          <p:nvPr/>
        </p:nvSpPr>
        <p:spPr>
          <a:xfrm>
            <a:off x="322200" y="58341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11T20:07:56Z</cp:lastPrinted>
  <dcterms:modified xsi:type="dcterms:W3CDTF">2011-12-14T03:08:17Z</dcterms:modified>
  <cp:revision>292</cp:revision>
  <dc:subject/>
  <dc:title>Presentación de PowerPoint</dc:title>
</cp:coreProperties>
</file>