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C92C-6916-482F-9928-BF3829091A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B058-E3D5-4892-8148-A865CCB589B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EE98-B914-4347-AC21-3CA3AA0BB3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2C8-1E18-416B-B1CD-FBD53CC0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3A3-8647-4941-948B-6B68D888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4F33-8F6F-424B-B803-5F513FEA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5F0-DE5A-47FC-833E-34F86B9E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BA5-BEDE-4B5F-9074-5B71A807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927-0B14-49F8-B021-C2040EF4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A5D-0238-4968-8AD5-FDDAD94D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C07-2374-4D0F-AC46-6CA862CD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982-7202-4FAB-979A-A838E866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F30B-AF30-4480-B2C1-98FA3E27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9AD1-5F47-4196-BDE1-7BA1AD3B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4E2-CFEA-435A-A1A9-41129C56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Elaboración de Estadís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8A6F6C87-2D02-4656-8CAC-41958828D60B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45CE-5A8D-4567-8734-F72E81C2400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laborar y actualizar constantemente las estadísticas respecto de las diversas actividades en las que participa la dirección jurídica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elaboración de estadísticas que funcionen para tener parámetros de la misma dirección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2860560"/>
            <a:ext cx="633564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TEPJF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   Tribunal Electoral del Poder Judicial de la Fede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TRIEJAL                      Tribunal Electoral del Poder Judicial del Estado de Jal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JURISPRUDENCIA  Interpretación jurídica que realizan órganos jurisdiccionales con la finalidad de aclarar posibles lagunas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    en las leyes, se crea a través de las reiteradas interpretaciones que hacen los tribunales en sus resolucio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ACUERDO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s la expresion por escrito en forma abstracta de un criterio juridico obligatorio establecido al aplicar, interpreptar o integrar una norma, conforme a los sosteas previstos legalmen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76640" y="199692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>
            <a:off x="3463560" y="216216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3"/>
          <p:cNvSpPr/>
          <p:nvPr/>
        </p:nvSpPr>
        <p:spPr>
          <a:xfrm>
            <a:off x="1698480" y="2340000"/>
            <a:ext cx="3530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olecta información sobre medios de impugnación y procedimientos administrativos para las memoria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64"/>
          <p:cNvSpPr/>
          <p:nvPr/>
        </p:nvSpPr>
        <p:spPr>
          <a:xfrm>
            <a:off x="5364000" y="5086440"/>
            <a:ext cx="12956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ublicaciones del TEPJ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ublicaciones de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RIEJ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5"/>
          <p:cNvSpPr/>
          <p:nvPr/>
        </p:nvSpPr>
        <p:spPr>
          <a:xfrm>
            <a:off x="5373720" y="565956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ublicaciones del TEPJ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ublicaciones de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RIEJ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6"/>
          <p:cNvSpPr/>
          <p:nvPr/>
        </p:nvSpPr>
        <p:spPr>
          <a:xfrm>
            <a:off x="5373720" y="199692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4"/>
          <p:cNvCxnSpPr>
            <a:stCxn id="121" idx="2"/>
            <a:endCxn id="126" idx="0"/>
          </p:cNvCxnSpPr>
          <p:nvPr/>
        </p:nvCxnSpPr>
        <p:spPr>
          <a:xfrm>
            <a:off x="3463560" y="262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Rectangle 700"/>
          <p:cNvSpPr/>
          <p:nvPr/>
        </p:nvSpPr>
        <p:spPr>
          <a:xfrm>
            <a:off x="333360" y="1996920"/>
            <a:ext cx="12225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01"/>
          <p:cNvSpPr/>
          <p:nvPr/>
        </p:nvSpPr>
        <p:spPr>
          <a:xfrm>
            <a:off x="333360" y="2844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66"/>
          <p:cNvSpPr/>
          <p:nvPr/>
        </p:nvSpPr>
        <p:spPr>
          <a:xfrm>
            <a:off x="5373720" y="2843280"/>
            <a:ext cx="127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xpedie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Cuadr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0"/>
          <p:cNvSpPr/>
          <p:nvPr/>
        </p:nvSpPr>
        <p:spPr>
          <a:xfrm>
            <a:off x="333360" y="3348000"/>
            <a:ext cx="122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6"/>
          <p:cNvSpPr/>
          <p:nvPr/>
        </p:nvSpPr>
        <p:spPr>
          <a:xfrm>
            <a:off x="5373720" y="3348000"/>
            <a:ext cx="127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stadís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56"/>
          <p:cNvSpPr/>
          <p:nvPr/>
        </p:nvSpPr>
        <p:spPr>
          <a:xfrm>
            <a:off x="1700280" y="2843280"/>
            <a:ext cx="35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n estadísticas de medios de impugnación y procedimientos administrativos para las memoria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AutoShape 685"/>
          <p:cNvCxnSpPr>
            <a:stCxn id="126" idx="2"/>
            <a:endCxn id="133" idx="0"/>
          </p:cNvCxnSpPr>
          <p:nvPr/>
        </p:nvCxnSpPr>
        <p:spPr>
          <a:xfrm>
            <a:off x="3463560" y="3132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Rectangle 653"/>
          <p:cNvSpPr/>
          <p:nvPr/>
        </p:nvSpPr>
        <p:spPr>
          <a:xfrm>
            <a:off x="1700280" y="5075280"/>
            <a:ext cx="352908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tudio de jurisprudencias y criterios de Sala Superior y Salas Regionales del Tribunal Electoral del Poder Judicial de la Federación para realización de Estadís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AutoShape 685"/>
          <p:cNvCxnSpPr>
            <a:stCxn id="133" idx="2"/>
            <a:endCxn id="134" idx="0"/>
          </p:cNvCxnSpPr>
          <p:nvPr/>
        </p:nvCxnSpPr>
        <p:spPr>
          <a:xfrm>
            <a:off x="3463560" y="4859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Rectangle 653"/>
          <p:cNvSpPr/>
          <p:nvPr/>
        </p:nvSpPr>
        <p:spPr>
          <a:xfrm>
            <a:off x="1700280" y="3348000"/>
            <a:ext cx="352908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aboración de las estadísticas relativas a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rocedimientos de quej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mandas lab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ursos de 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ursos de ape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uicios de inconform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uicios para la protección de los derechos político-electorales del ciudad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uicio de revisión constituc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nuncias pen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uicios de ampar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iniestros ante asegurado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34"/>
          <p:cNvSpPr/>
          <p:nvPr/>
        </p:nvSpPr>
        <p:spPr>
          <a:xfrm>
            <a:off x="3176640" y="6227640"/>
            <a:ext cx="57780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18 Rectángulo"/>
          <p:cNvSpPr/>
          <p:nvPr/>
        </p:nvSpPr>
        <p:spPr>
          <a:xfrm>
            <a:off x="1700280" y="5651640"/>
            <a:ext cx="352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Investigar y estudiar legislaciones en materia electoral para complementar las estadísticas y enviarlas a Director de jurídico, Director general y Secretario Ejecut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685"/>
          <p:cNvCxnSpPr>
            <a:stCxn id="134" idx="2"/>
            <a:endCxn id="137" idx="0"/>
          </p:cNvCxnSpPr>
          <p:nvPr/>
        </p:nvCxnSpPr>
        <p:spPr>
          <a:xfrm>
            <a:off x="3465000" y="543708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32"/>
          <p:cNvCxnSpPr/>
          <p:nvPr/>
        </p:nvCxnSpPr>
        <p:spPr>
          <a:xfrm>
            <a:off x="3499920" y="6011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Rectangle 701"/>
          <p:cNvSpPr/>
          <p:nvPr/>
        </p:nvSpPr>
        <p:spPr>
          <a:xfrm>
            <a:off x="334800" y="5667480"/>
            <a:ext cx="1224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01"/>
          <p:cNvSpPr/>
          <p:nvPr/>
        </p:nvSpPr>
        <p:spPr>
          <a:xfrm>
            <a:off x="333360" y="5075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00"/>
          <p:cNvSpPr/>
          <p:nvPr/>
        </p:nvSpPr>
        <p:spPr>
          <a:xfrm>
            <a:off x="334800" y="2340000"/>
            <a:ext cx="1222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66"/>
          <p:cNvSpPr/>
          <p:nvPr/>
        </p:nvSpPr>
        <p:spPr>
          <a:xfrm>
            <a:off x="5391000" y="234000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xpedie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Cuadr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1-10-11T18:09:06Z</cp:lastPrinted>
  <dcterms:modified xsi:type="dcterms:W3CDTF">2013-04-29T18:03:41Z</dcterms:modified>
  <cp:revision>307</cp:revision>
  <dc:subject/>
  <dc:title>Presentación de PowerPoint</dc:title>
</cp:coreProperties>
</file>