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695-3889-415A-9B2D-2E39311618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C22B-9872-44BC-A27E-A1E9149467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8FA0-8AF5-4D3F-9453-494B2F6BC6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95D-EB0E-4E34-93B4-11C8DF4D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5D6-80F5-41A9-AF9E-24B41FD5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65A-5F46-42EB-A853-EC3D5AA1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229-46F3-44DD-A7C6-66B8B20F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7F0-44E6-4E99-A1C6-29E817CD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D51-65C1-4632-AB52-2B7F343F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3B1-EB66-4240-A98C-A9C5DB4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340-BD01-4309-A152-649864B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B9B-BD61-4FA8-B8CC-1A78757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296-CDD8-4380-9065-C0185F2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DD7-B544-4029-AC0A-178D2463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361-A539-459B-B091-22CA79CC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35A8-C0E3-4585-A563-B4B8043F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5254-D75A-4AD5-95DE-89616500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0C41-58B2-4FF0-9E05-356D8239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9346-6052-4EB6-89CC-B5461211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CE6E-3D58-47EF-86E3-3C3D43A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C1F9-1C41-4746-A8FB-546B875A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5677-66BD-4C9A-944C-21B8D93C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CB34-77CF-47E2-A219-6280879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FB29-EBEC-42EC-B7EB-1FCCF4DD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FE6B-A335-4D3D-95AC-803B730E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B303-51E6-4C8A-BB21-D369DE21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E8A1-7C3A-433A-A3E2-9BF2F4F3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ística y anál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5D9FD3A-9402-4375-BC18-3A7F7051742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Director de Organización, Geografía y Estadística Electo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8308-A920-4927-84FD-8950E1B5832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6C46-F39B-42AF-A5D0-CE597D0E0D5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aron referencias y se eliminaron respons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/01/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Obtener , sistematizar y publicar  estadísticamente la información que se genera durante el proceso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análisis cuantitativo de la información que se genera durante el desarrollo del proceso electoral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8860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2"/>
          <p:cNvSpPr/>
          <p:nvPr/>
        </p:nvSpPr>
        <p:spPr>
          <a:xfrm>
            <a:off x="1700280" y="3276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genera información en la dirección y se concentra la información de las demás área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3"/>
          <p:cNvSpPr/>
          <p:nvPr/>
        </p:nvSpPr>
        <p:spPr>
          <a:xfrm>
            <a:off x="1700280" y="255420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 capacita a coordinadores distritales, subcoordinadores distritales y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2195640"/>
            <a:ext cx="127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Reglamento Interior del  Instituto Electoral y de Participación Ciudadana, Manual de Organización de la Dirección de Organización, Geografía y Estadística Electoral y Manual de Procedimientos de la Dirección de Organización. Geografía y Estadística Elector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4859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estadís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56"/>
          <p:cNvSpPr/>
          <p:nvPr/>
        </p:nvSpPr>
        <p:spPr>
          <a:xfrm>
            <a:off x="1700280" y="4788000"/>
            <a:ext cx="36003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 publica a través de gráf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>
            <a:stCxn id="166" idx="2"/>
          </p:cNvCxnSpPr>
          <p:nvPr/>
        </p:nvCxnSpPr>
        <p:spPr>
          <a:xfrm>
            <a:off x="3499920" y="507672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18 Rectángulo"/>
          <p:cNvSpPr/>
          <p:nvPr/>
        </p:nvSpPr>
        <p:spPr>
          <a:xfrm>
            <a:off x="1700280" y="3851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  crean y sistematizan bases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4356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os datos se estructuran estadísticam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1" idx="2"/>
          </p:cNvCxnSpPr>
          <p:nvPr/>
        </p:nvCxnSpPr>
        <p:spPr>
          <a:xfrm flipH="1">
            <a:off x="3499560" y="356544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32"/>
          <p:cNvCxnSpPr>
            <a:stCxn id="168" idx="2"/>
          </p:cNvCxnSpPr>
          <p:nvPr/>
        </p:nvCxnSpPr>
        <p:spPr>
          <a:xfrm>
            <a:off x="3499920" y="4066920"/>
            <a:ext cx="10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666"/>
          <p:cNvSpPr/>
          <p:nvPr/>
        </p:nvSpPr>
        <p:spPr>
          <a:xfrm>
            <a:off x="5373720" y="327672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s electorales / estadísticas/ bases de datos / formato de cap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0"/>
          <p:cNvSpPr/>
          <p:nvPr/>
        </p:nvSpPr>
        <p:spPr>
          <a:xfrm>
            <a:off x="404640" y="255744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Estadís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4"/>
          <p:cNvSpPr/>
          <p:nvPr/>
        </p:nvSpPr>
        <p:spPr>
          <a:xfrm>
            <a:off x="3213000" y="5292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00"/>
          <p:cNvSpPr/>
          <p:nvPr/>
        </p:nvSpPr>
        <p:spPr>
          <a:xfrm>
            <a:off x="404640" y="327672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Seguimiento y Análi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0"/>
          <p:cNvSpPr/>
          <p:nvPr/>
        </p:nvSpPr>
        <p:spPr>
          <a:xfrm>
            <a:off x="404640" y="3780000"/>
            <a:ext cx="115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Estadís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0"/>
          <p:cNvSpPr/>
          <p:nvPr/>
        </p:nvSpPr>
        <p:spPr>
          <a:xfrm>
            <a:off x="404640" y="428616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4640" y="478944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>
            <a:stCxn id="160" idx="2"/>
          </p:cNvCxnSpPr>
          <p:nvPr/>
        </p:nvCxnSpPr>
        <p:spPr>
          <a:xfrm flipH="1">
            <a:off x="3499560" y="2050920"/>
            <a:ext cx="25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685"/>
          <p:cNvCxnSpPr>
            <a:stCxn id="162" idx="2"/>
          </p:cNvCxnSpPr>
          <p:nvPr/>
        </p:nvCxnSpPr>
        <p:spPr>
          <a:xfrm>
            <a:off x="3499200" y="28432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/>
          <p:nvPr/>
        </p:nvCxnSpPr>
        <p:spPr>
          <a:xfrm>
            <a:off x="3499920" y="457200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65"/>
          <p:cNvSpPr/>
          <p:nvPr/>
        </p:nvSpPr>
        <p:spPr>
          <a:xfrm>
            <a:off x="5373720" y="435600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álisis Cuantit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oledad Alatorre</cp:lastModifiedBy>
  <dcterms:modified xsi:type="dcterms:W3CDTF">2012-04-05T17:36:06Z</dcterms:modified>
  <cp:revision>338</cp:revision>
  <dc:subject/>
  <dc:title>Presentación de PowerPoint</dc:title>
</cp:coreProperties>
</file>