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CED-4EC0-473D-B0DD-E73EB10649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Marcador de número de diapositiva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1E70-F727-4476-8ED1-EBC1D46CCB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4643280" y="136440"/>
            <a:ext cx="4500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so:Dirección General Ejectu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 Rectángulo"/>
          <p:cNvSpPr/>
          <p:nvPr/>
        </p:nvSpPr>
        <p:spPr>
          <a:xfrm>
            <a:off x="3710160" y="1197000"/>
            <a:ext cx="1584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cibe informe de actividades de l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920" y="836640"/>
            <a:ext cx="1728720" cy="1079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4920" y="2637000"/>
            <a:ext cx="1728720" cy="2232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ama anual de activid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s mensuales y semanales de l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gendas seman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ódigo Electoral de la ent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glamentación interna del Instit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Directores Administrativos y de Á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164360" y="2924280"/>
            <a:ext cx="194328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s mensuales y sem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porte de av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yecto del Programa Anual de Actividades del Instit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7164360" y="4761000"/>
            <a:ext cx="1943280" cy="18018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s mensuales y semanales rendidos por las Direc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lendario de actividades acorde a la operación técnica y fin legal del Instit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mplimiento en los programas y metas del Institu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4920" y="5372280"/>
            <a:ext cx="1727280" cy="793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as las Direc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Rectángulo"/>
          <p:cNvSpPr/>
          <p:nvPr/>
        </p:nvSpPr>
        <p:spPr>
          <a:xfrm>
            <a:off x="3710160" y="2205000"/>
            <a:ext cx="158400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visa que cumplan con los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392580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7 Rectángulo"/>
          <p:cNvSpPr/>
          <p:nvPr/>
        </p:nvSpPr>
        <p:spPr>
          <a:xfrm>
            <a:off x="3710160" y="1700280"/>
            <a:ext cx="158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aliza planeación de las activid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4"/>
          <p:cNvSpPr/>
          <p:nvPr/>
        </p:nvSpPr>
        <p:spPr>
          <a:xfrm>
            <a:off x="4211640" y="5084640"/>
            <a:ext cx="57636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32"/>
          <p:cNvCxnSpPr>
            <a:stCxn id="65" idx="2"/>
            <a:endCxn id="58" idx="0"/>
          </p:cNvCxnSpPr>
          <p:nvPr/>
        </p:nvCxnSpPr>
        <p:spPr>
          <a:xfrm>
            <a:off x="4502160" y="2060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18 Rectángulo"/>
          <p:cNvSpPr/>
          <p:nvPr/>
        </p:nvSpPr>
        <p:spPr>
          <a:xfrm>
            <a:off x="3710160" y="2781360"/>
            <a:ext cx="158400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ejecutan y organizan las actividades conforme a lo planifi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8 Rectángulo"/>
          <p:cNvSpPr/>
          <p:nvPr/>
        </p:nvSpPr>
        <p:spPr>
          <a:xfrm>
            <a:off x="3710160" y="3357720"/>
            <a:ext cx="158400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 le da seguimiento antes durante y después de la a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0"/>
          <p:cNvCxnSpPr/>
          <p:nvPr/>
        </p:nvCxnSpPr>
        <p:spPr>
          <a:xfrm>
            <a:off x="450180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0"/>
          <p:cNvCxnSpPr>
            <a:stCxn id="50" idx="2"/>
            <a:endCxn id="65" idx="0"/>
          </p:cNvCxnSpPr>
          <p:nvPr/>
        </p:nvCxnSpPr>
        <p:spPr>
          <a:xfrm>
            <a:off x="4502160" y="15559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32"/>
          <p:cNvCxnSpPr>
            <a:stCxn id="58" idx="2"/>
          </p:cNvCxnSpPr>
          <p:nvPr/>
        </p:nvCxnSpPr>
        <p:spPr>
          <a:xfrm flipH="1">
            <a:off x="4500360" y="2637000"/>
            <a:ext cx="21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18 Rectángulo"/>
          <p:cNvSpPr/>
          <p:nvPr/>
        </p:nvSpPr>
        <p:spPr>
          <a:xfrm>
            <a:off x="3710160" y="3933720"/>
            <a:ext cx="15840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cibe informe de la dirección correspond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8 Rectángulo"/>
          <p:cNvSpPr/>
          <p:nvPr/>
        </p:nvSpPr>
        <p:spPr>
          <a:xfrm>
            <a:off x="3710160" y="4437000"/>
            <a:ext cx="158400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realiza reporte para Secretaria Ejecutiva y Presid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60"/>
          <p:cNvCxnSpPr>
            <a:stCxn id="69" idx="2"/>
            <a:endCxn id="73" idx="0"/>
          </p:cNvCxnSpPr>
          <p:nvPr/>
        </p:nvCxnSpPr>
        <p:spPr>
          <a:xfrm>
            <a:off x="4502160" y="378936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0"/>
          <p:cNvCxnSpPr>
            <a:stCxn id="73" idx="2"/>
            <a:endCxn id="74" idx="0"/>
          </p:cNvCxnSpPr>
          <p:nvPr/>
        </p:nvCxnSpPr>
        <p:spPr>
          <a:xfrm>
            <a:off x="4502160" y="4329000"/>
            <a:ext cx="360" cy="10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60"/>
          <p:cNvCxnSpPr/>
          <p:nvPr/>
        </p:nvCxnSpPr>
        <p:spPr>
          <a:xfrm>
            <a:off x="4500720" y="479592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32"/>
          <p:cNvCxnSpPr>
            <a:stCxn id="68" idx="2"/>
            <a:endCxn id="69" idx="0"/>
          </p:cNvCxnSpPr>
          <p:nvPr/>
        </p:nvCxnSpPr>
        <p:spPr>
          <a:xfrm>
            <a:off x="4502160" y="3213000"/>
            <a:ext cx="36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cp:lastPrinted>2011-09-26T19:17:28Z</cp:lastPrinted>
  <dcterms:modified xsi:type="dcterms:W3CDTF">2012-02-09T05:52:48Z</dcterms:modified>
  <cp:revision>152</cp:revision>
  <dc:subject/>
  <dc:title>Diapositiva 1</dc:title>
</cp:coreProperties>
</file>