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96720" y="696960"/>
            <a:ext cx="26161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9B413-1310-4A30-AEED-5F2C0990465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1C492-E5F5-4F78-8691-07D5BCAC854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2197080" y="696960"/>
            <a:ext cx="2616120" cy="3486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B00BE-1B73-4F72-9DBA-4367F3E2F51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2197080" y="696960"/>
            <a:ext cx="2616120" cy="3486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F7D6-859D-44BC-82B8-5E372F193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D5EA-8EBD-4A9C-BBA7-AAEB48CE3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2002-5093-4BD5-BAA0-73E2BE13B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D089-4649-40D6-B077-F30B56CA3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A67B-9F4D-4AFB-9BAA-68C533EE3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375C-DD44-4AC8-BD47-C68B0EE0B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E978-6A6C-40DD-9FF1-A6EE2F22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187C-9DC2-4F96-8217-A05766B4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D826-F861-474E-AD4A-1E2122C0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7FAD-6442-4FB5-AB99-649939CFA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0676-5206-4373-BF2C-EAF330380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732A-5D3B-4A78-BC1E-6AD8F3D2D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FE04B-F092-4173-B860-76364FC61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D7C94-A8AF-471F-B8E1-69108D430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EBE80-5924-4AB1-97EE-CCDECC9BA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0A3DA-285F-4049-8B54-C223374DF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168D7-B374-4A4F-AABF-87B630537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31D49-D491-4A77-AAB9-72E6655CB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5DBC9-61B0-4103-B77A-334C6802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4E9EA-BEE1-4917-823B-8524ED47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9FDD2-E56F-4072-A90C-C0A2B7AA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4E8D5-CA0F-45BB-8F97-82A5D0DF2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B7191-BA64-4658-A730-2EFB63015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05D19-A753-4CA5-8F7C-AB40A945D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vit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530A019F-DA17-4ABE-BAEF-C816B0D58D70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598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a Secretaria Técnica de Comis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-ADM-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3-12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61BED-3FBB-47D6-ACA3-4C64169297B3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D396C-0E44-4541-9583-304A6A03BCA1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mbio de registr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-12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Referencias, Actividades y Personal respons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30-04-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Remitir invitaciones a los proveedores a fin de que presenten cotizaciones respecto de bienes y/o servicios requeridos por las diversas áreas del institut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las invitaciones que realiza la dirección hacia los proveedores para recibir cotizaciones de productos o servicios que se requieren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N/A (no aplica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156120" y="1693800"/>
            <a:ext cx="57456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39440" y="1858680"/>
            <a:ext cx="3960" cy="12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39800" y="198108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 requisi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28640" y="2324160"/>
            <a:ext cx="3600720" cy="23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Da vista al Consejero Presidente  de la Comisión de Adquisi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1"/>
          <p:cNvSpPr/>
          <p:nvPr/>
        </p:nvSpPr>
        <p:spPr>
          <a:xfrm>
            <a:off x="345960" y="428616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5"/>
          <p:cNvSpPr/>
          <p:nvPr/>
        </p:nvSpPr>
        <p:spPr>
          <a:xfrm>
            <a:off x="5315040" y="306864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Invit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66"/>
          <p:cNvSpPr/>
          <p:nvPr/>
        </p:nvSpPr>
        <p:spPr>
          <a:xfrm>
            <a:off x="5315040" y="22701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AutoShape 681"/>
          <p:cNvCxnSpPr>
            <a:stCxn id="162" idx="2"/>
            <a:endCxn id="163" idx="0"/>
          </p:cNvCxnSpPr>
          <p:nvPr/>
        </p:nvCxnSpPr>
        <p:spPr>
          <a:xfrm flipH="1">
            <a:off x="3428280" y="2196720"/>
            <a:ext cx="11880" cy="12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AutoShape 684"/>
          <p:cNvCxnSpPr>
            <a:endCxn id="169" idx="0"/>
          </p:cNvCxnSpPr>
          <p:nvPr/>
        </p:nvCxnSpPr>
        <p:spPr>
          <a:xfrm>
            <a:off x="3459240" y="2914560"/>
            <a:ext cx="216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Rectangle 700"/>
          <p:cNvSpPr/>
          <p:nvPr/>
        </p:nvSpPr>
        <p:spPr>
          <a:xfrm>
            <a:off x="417600" y="2343240"/>
            <a:ext cx="1150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01"/>
          <p:cNvSpPr/>
          <p:nvPr/>
        </p:nvSpPr>
        <p:spPr>
          <a:xfrm>
            <a:off x="333360" y="270180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la Dire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66"/>
          <p:cNvSpPr/>
          <p:nvPr/>
        </p:nvSpPr>
        <p:spPr>
          <a:xfrm>
            <a:off x="5315040" y="268452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Minu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656"/>
          <p:cNvSpPr/>
          <p:nvPr/>
        </p:nvSpPr>
        <p:spPr>
          <a:xfrm>
            <a:off x="1660680" y="3059280"/>
            <a:ext cx="3600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Gira invit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701"/>
          <p:cNvSpPr/>
          <p:nvPr/>
        </p:nvSpPr>
        <p:spPr>
          <a:xfrm>
            <a:off x="345960" y="34941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18 Rectángulo"/>
          <p:cNvSpPr/>
          <p:nvPr/>
        </p:nvSpPr>
        <p:spPr>
          <a:xfrm>
            <a:off x="1670040" y="346860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ecibe solicitudes de aclaración de empresas sobre las invitaciones giradas vía correo electrónico, en su cas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18 Rectángulo"/>
          <p:cNvSpPr/>
          <p:nvPr/>
        </p:nvSpPr>
        <p:spPr>
          <a:xfrm>
            <a:off x="1644480" y="4257720"/>
            <a:ext cx="360072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ealiza logística de la sesión en la que tendrá verificativo la apertura de los sobres con la propuestas económ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AutoShape 32"/>
          <p:cNvCxnSpPr>
            <a:endCxn id="175" idx="0"/>
          </p:cNvCxnSpPr>
          <p:nvPr/>
        </p:nvCxnSpPr>
        <p:spPr>
          <a:xfrm>
            <a:off x="3444480" y="4066920"/>
            <a:ext cx="108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18 Rectángulo"/>
          <p:cNvSpPr/>
          <p:nvPr/>
        </p:nvSpPr>
        <p:spPr>
          <a:xfrm flipV="1" rot="10800000">
            <a:off x="1663200" y="4700520"/>
            <a:ext cx="3597480" cy="324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Desahoga la sesión de la Comisión de Adquisiciones en la que se adjudica a un proveedor y se elabora la minuta respectiva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AutoShape 32"/>
          <p:cNvCxnSpPr>
            <a:endCxn id="177" idx="1"/>
          </p:cNvCxnSpPr>
          <p:nvPr/>
        </p:nvCxnSpPr>
        <p:spPr>
          <a:xfrm>
            <a:off x="3458880" y="4484520"/>
            <a:ext cx="396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9" name="Rectangle 701"/>
          <p:cNvSpPr/>
          <p:nvPr/>
        </p:nvSpPr>
        <p:spPr>
          <a:xfrm>
            <a:off x="380880" y="30337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701"/>
          <p:cNvSpPr/>
          <p:nvPr/>
        </p:nvSpPr>
        <p:spPr>
          <a:xfrm>
            <a:off x="345960" y="38545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la Dire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666"/>
          <p:cNvSpPr/>
          <p:nvPr/>
        </p:nvSpPr>
        <p:spPr>
          <a:xfrm>
            <a:off x="5391000" y="35290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rreo Electrónico vía 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66"/>
          <p:cNvSpPr/>
          <p:nvPr/>
        </p:nvSpPr>
        <p:spPr>
          <a:xfrm>
            <a:off x="5391000" y="388620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guimiento de correspondenc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18 Rectángulo"/>
          <p:cNvSpPr/>
          <p:nvPr/>
        </p:nvSpPr>
        <p:spPr>
          <a:xfrm>
            <a:off x="1658880" y="594216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ff0000"/>
                </a:solidFill>
                <a:latin typeface="Times New Roman"/>
              </a:rPr>
              <a:t>Emite orden de compra al proveedor adjudica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AutoShape 32"/>
          <p:cNvCxnSpPr/>
          <p:nvPr/>
        </p:nvCxnSpPr>
        <p:spPr>
          <a:xfrm>
            <a:off x="3406320" y="572616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5" name="Rectangle 666"/>
          <p:cNvSpPr/>
          <p:nvPr/>
        </p:nvSpPr>
        <p:spPr>
          <a:xfrm>
            <a:off x="5315040" y="190980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quisi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700"/>
          <p:cNvSpPr/>
          <p:nvPr/>
        </p:nvSpPr>
        <p:spPr>
          <a:xfrm>
            <a:off x="417600" y="198108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 / </a:t>
            </a: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Asistente 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701"/>
          <p:cNvSpPr/>
          <p:nvPr/>
        </p:nvSpPr>
        <p:spPr>
          <a:xfrm>
            <a:off x="345960" y="47005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la Dire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666"/>
          <p:cNvSpPr/>
          <p:nvPr/>
        </p:nvSpPr>
        <p:spPr>
          <a:xfrm>
            <a:off x="5391000" y="47181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Minu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" name="AutoShape 32"/>
          <p:cNvCxnSpPr/>
          <p:nvPr/>
        </p:nvCxnSpPr>
        <p:spPr>
          <a:xfrm>
            <a:off x="3403080" y="6589440"/>
            <a:ext cx="396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0" name="Rectangle 666"/>
          <p:cNvSpPr/>
          <p:nvPr/>
        </p:nvSpPr>
        <p:spPr>
          <a:xfrm>
            <a:off x="5391000" y="43419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gistro de invitaciones giradas / check list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" name="AutoShape 684"/>
          <p:cNvCxnSpPr>
            <a:stCxn id="169" idx="2"/>
            <a:endCxn id="174" idx="0"/>
          </p:cNvCxnSpPr>
          <p:nvPr/>
        </p:nvCxnSpPr>
        <p:spPr>
          <a:xfrm>
            <a:off x="3460320" y="3347640"/>
            <a:ext cx="10440" cy="12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2" name="Oval 34"/>
          <p:cNvSpPr/>
          <p:nvPr/>
        </p:nvSpPr>
        <p:spPr>
          <a:xfrm>
            <a:off x="3114720" y="680400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18 Rectángulo"/>
          <p:cNvSpPr/>
          <p:nvPr/>
        </p:nvSpPr>
        <p:spPr>
          <a:xfrm>
            <a:off x="1670040" y="385920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ecibe los sobres cerrados con las propuestas económica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" name="AutoShape 32"/>
          <p:cNvCxnSpPr/>
          <p:nvPr/>
        </p:nvCxnSpPr>
        <p:spPr>
          <a:xfrm>
            <a:off x="3444480" y="3663720"/>
            <a:ext cx="108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5" name="18 Rectángulo"/>
          <p:cNvSpPr/>
          <p:nvPr/>
        </p:nvSpPr>
        <p:spPr>
          <a:xfrm flipV="1" rot="10800000">
            <a:off x="1663200" y="5237280"/>
            <a:ext cx="3597480" cy="48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Hace del conocimiento de los proveedores el sentido del fall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" name="AutoShape 32"/>
          <p:cNvCxnSpPr/>
          <p:nvPr/>
        </p:nvCxnSpPr>
        <p:spPr>
          <a:xfrm>
            <a:off x="3428640" y="5021280"/>
            <a:ext cx="396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" name="Rectangle 653"/>
          <p:cNvSpPr/>
          <p:nvPr/>
        </p:nvSpPr>
        <p:spPr>
          <a:xfrm>
            <a:off x="1628640" y="2673360"/>
            <a:ext cx="3600720" cy="23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Lleva a cabo sesión en la que se aprueba girar invitaciones a proveedor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8" name="AutoShape 681"/>
          <p:cNvCxnSpPr>
            <a:stCxn id="163" idx="2"/>
            <a:endCxn id="197" idx="0"/>
          </p:cNvCxnSpPr>
          <p:nvPr/>
        </p:nvCxnSpPr>
        <p:spPr>
          <a:xfrm flipH="1">
            <a:off x="3428280" y="2556000"/>
            <a:ext cx="1080" cy="118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Rectangle 701"/>
          <p:cNvSpPr/>
          <p:nvPr/>
        </p:nvSpPr>
        <p:spPr>
          <a:xfrm>
            <a:off x="345960" y="53658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701"/>
          <p:cNvSpPr/>
          <p:nvPr/>
        </p:nvSpPr>
        <p:spPr>
          <a:xfrm>
            <a:off x="345960" y="644508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701"/>
          <p:cNvSpPr/>
          <p:nvPr/>
        </p:nvSpPr>
        <p:spPr>
          <a:xfrm>
            <a:off x="345960" y="59421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666"/>
          <p:cNvSpPr/>
          <p:nvPr/>
        </p:nvSpPr>
        <p:spPr>
          <a:xfrm>
            <a:off x="5391000" y="532908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rreo electrónico 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666"/>
          <p:cNvSpPr/>
          <p:nvPr/>
        </p:nvSpPr>
        <p:spPr>
          <a:xfrm>
            <a:off x="5391000" y="59421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Orden de Comp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18 Rectángulo"/>
          <p:cNvSpPr/>
          <p:nvPr/>
        </p:nvSpPr>
        <p:spPr>
          <a:xfrm>
            <a:off x="1676520" y="637380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ff0000"/>
                </a:solidFill>
                <a:latin typeface="Times New Roman"/>
              </a:rPr>
              <a:t>Remite constancias de la compra aprobada a la Dirección Jurídica para la elaboración del contrato en su cas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5" name="AutoShape 32"/>
          <p:cNvCxnSpPr/>
          <p:nvPr/>
        </p:nvCxnSpPr>
        <p:spPr>
          <a:xfrm>
            <a:off x="3403080" y="615780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6" name="Rectangle 666"/>
          <p:cNvSpPr/>
          <p:nvPr/>
        </p:nvSpPr>
        <p:spPr>
          <a:xfrm>
            <a:off x="5445000" y="639432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Memorándu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701"/>
          <p:cNvSpPr/>
          <p:nvPr/>
        </p:nvSpPr>
        <p:spPr>
          <a:xfrm>
            <a:off x="324000" y="6375240"/>
            <a:ext cx="12236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Asistente 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Miguel Godinez Terriquez</cp:lastModifiedBy>
  <cp:lastPrinted>2013-05-02T18:02:50Z</cp:lastPrinted>
  <dcterms:modified xsi:type="dcterms:W3CDTF">2013-05-02T18:03:15Z</dcterms:modified>
  <cp:revision>329</cp:revision>
  <dc:subject/>
  <dc:title>Presentación de PowerPoint</dc:title>
</cp:coreProperties>
</file>