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F57A-A7BF-46F7-B4EE-9C459A33553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90A2-40E1-42A5-8443-5C86947744C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6FBA-1B71-427B-8E02-6893AA7BAB4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D01C-1A99-4939-B915-2B398E98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177B-AA71-4D28-8C9B-A194A711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122A-DF0D-4E01-ABB3-8815F8D0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EFB9-5809-4DA0-982E-E2741B79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FB00-B707-471A-8DBB-E9F45F82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F488-0979-4D7B-8C4D-C0E772BC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F137-F0FA-46D3-8233-498C1F75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B11E-8EAC-424F-AB06-083A7B9F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6DFD-7916-4090-8B9A-4B7BAAA7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26D1-A7F9-483E-BAE0-3C60FAE7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AB25-F2A4-443C-A8C6-1C0D41C4D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4ED7-57A5-47ED-B67F-AEC0B87F9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E488-C19B-4E92-A2AA-F44C68D7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ECB6-25E3-4E62-90BC-29975239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92DE-8ACD-4F8E-B656-FB070921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CFB9-BB84-41AA-A3F6-572D65BC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5978-0F42-4B7B-88D4-0C23B420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56D5-5587-4377-AD34-B416A420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9A46-32B2-494E-A109-06B49B95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03AE-CFCC-42FB-B0BF-A28E8D84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FF5B-811E-46F5-9613-5F8713F1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3AD2-4265-466A-8C54-0E6BF588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09CF-094D-4D4B-8E74-C1D37AB15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1F93-476A-47C8-A674-1EF5B8F0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C5268-A735-4912-A8AA-04A02DDB5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53984-E888-4D67-9154-AE57675F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9A32B-3715-472D-A2EC-30F6AFC2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29257-9D29-4D06-881C-F0DC26C9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B753F-2756-4B14-8B2D-F1E89F10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5B5A2-493E-4454-A2ED-3EA77431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81B4E-44F3-416C-A4DE-F6757A1E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1CF5B-9F46-484A-B408-DAD7B9B4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2FB2E-7E63-4FE1-829C-99D97D28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51F8E-0389-47B8-BB82-C5B4E81C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8AB52-8EEC-47E1-A20C-6F3BD28D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7155A-7CCD-43DD-93AF-1CA74FDB8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Geografia y Diseño Elect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F2871B3C-2DA8-4789-8F0B-E6C448C08E79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Organ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BBAD-5C0D-4296-9697-35EC87CEE89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F1DE-4724-4D37-BD30-C51F2A327E8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4AB4-8456-4B9D-8284-F7A22FAC55E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 definió la terminología uti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5-03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Realizar los estudios necesarios para determinar los ajustes a la geografía electoral y la determinación de la división en distritos electorales uninominales del Estado conforme al último censo de población y vivienda realizado por el INEGI; y coadyuvar con el Secretario Ejecutivo en el diseño y supervisión de la elaboración de la documentación y material electoral necesario; apoyar a la Comisión de Adquisiciones y Enajenaciones del Instituto Electoral, aportando las especificaciones técnicas correspondientes a la documentación y material electoral; supervisar la impresión y producción de la documentación y material elector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38140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actualización de la cartografía y geografía electoral así como el diseño y revisión del material y documentación elector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INEGI: Instituto Nacional de Geografía e Informáti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1856880"/>
            <a:ext cx="396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2052720"/>
            <a:ext cx="360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División del territorio de acuerdo al padrón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700280" y="2484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presenta propuesta a Secretaria Ejecutiva para  presentar al pleno del Instituto Electo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1"/>
          <p:cNvSpPr/>
          <p:nvPr/>
        </p:nvSpPr>
        <p:spPr>
          <a:xfrm>
            <a:off x="333360" y="41403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geografía / coordinadores centrales / jefe de planeación y oper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5"/>
          <p:cNvSpPr/>
          <p:nvPr/>
        </p:nvSpPr>
        <p:spPr>
          <a:xfrm>
            <a:off x="5373720" y="32050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-OPE-05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66"/>
          <p:cNvSpPr/>
          <p:nvPr/>
        </p:nvSpPr>
        <p:spPr>
          <a:xfrm>
            <a:off x="5373720" y="24685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-ADM- 21 / propues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681"/>
          <p:cNvCxnSpPr>
            <a:stCxn id="203" idx="2"/>
            <a:endCxn id="204" idx="0"/>
          </p:cNvCxnSpPr>
          <p:nvPr/>
        </p:nvCxnSpPr>
        <p:spPr>
          <a:xfrm>
            <a:off x="3498840" y="2268360"/>
            <a:ext cx="21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684"/>
          <p:cNvCxnSpPr>
            <a:stCxn id="204" idx="2"/>
            <a:endCxn id="210" idx="0"/>
          </p:cNvCxnSpPr>
          <p:nvPr/>
        </p:nvCxnSpPr>
        <p:spPr>
          <a:xfrm flipH="1">
            <a:off x="3499560" y="2700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Rectangle 700"/>
          <p:cNvSpPr/>
          <p:nvPr/>
        </p:nvSpPr>
        <p:spPr>
          <a:xfrm>
            <a:off x="404640" y="234000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66"/>
          <p:cNvSpPr/>
          <p:nvPr/>
        </p:nvSpPr>
        <p:spPr>
          <a:xfrm>
            <a:off x="5373720" y="27716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tos material y documentación / proyección de material distri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56"/>
          <p:cNvSpPr/>
          <p:nvPr/>
        </p:nvSpPr>
        <p:spPr>
          <a:xfrm>
            <a:off x="1700280" y="284472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laboran proyectos para material y documentación electoral y proyección de material por distrito y por municip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AutoShape 685"/>
          <p:cNvCxnSpPr>
            <a:stCxn id="210" idx="2"/>
          </p:cNvCxnSpPr>
          <p:nvPr/>
        </p:nvCxnSpPr>
        <p:spPr>
          <a:xfrm>
            <a:off x="3499920" y="30603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Rectangle 701"/>
          <p:cNvSpPr/>
          <p:nvPr/>
        </p:nvSpPr>
        <p:spPr>
          <a:xfrm>
            <a:off x="333360" y="34909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18 Rectángulo"/>
          <p:cNvSpPr/>
          <p:nvPr/>
        </p:nvSpPr>
        <p:spPr>
          <a:xfrm>
            <a:off x="1700280" y="3203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rá la actualización cartográfica y se presentará  a  la Secretaria Ejecutiva para la circulación entre integrantes del  Consejo del Plen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18 Rectángulo"/>
          <p:cNvSpPr/>
          <p:nvPr/>
        </p:nvSpPr>
        <p:spPr>
          <a:xfrm>
            <a:off x="1700280" y="3564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licitación correspondiente y se envía a Secretaria Ejecuti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AutoShape 32"/>
          <p:cNvCxnSpPr>
            <a:stCxn id="216" idx="2"/>
            <a:endCxn id="217" idx="0"/>
          </p:cNvCxnSpPr>
          <p:nvPr/>
        </p:nvCxnSpPr>
        <p:spPr>
          <a:xfrm>
            <a:off x="3499920" y="341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18 Rectángulo"/>
          <p:cNvSpPr/>
          <p:nvPr/>
        </p:nvSpPr>
        <p:spPr>
          <a:xfrm>
            <a:off x="1700280" y="3924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y se envía características a la empresa donde se elaborará el material y documentación electo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AutoShape 32"/>
          <p:cNvCxnSpPr>
            <a:stCxn id="217" idx="2"/>
            <a:endCxn id="219" idx="0"/>
          </p:cNvCxnSpPr>
          <p:nvPr/>
        </p:nvCxnSpPr>
        <p:spPr>
          <a:xfrm>
            <a:off x="3499920" y="377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" name="Rectangle 701"/>
          <p:cNvSpPr/>
          <p:nvPr/>
        </p:nvSpPr>
        <p:spPr>
          <a:xfrm>
            <a:off x="333360" y="3132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701"/>
          <p:cNvSpPr/>
          <p:nvPr/>
        </p:nvSpPr>
        <p:spPr>
          <a:xfrm>
            <a:off x="333360" y="3851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66"/>
          <p:cNvSpPr/>
          <p:nvPr/>
        </p:nvSpPr>
        <p:spPr>
          <a:xfrm>
            <a:off x="5373720" y="36194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tos de mater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66"/>
          <p:cNvSpPr/>
          <p:nvPr/>
        </p:nvSpPr>
        <p:spPr>
          <a:xfrm>
            <a:off x="5373720" y="4284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se de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18 Rectángulo"/>
          <p:cNvSpPr/>
          <p:nvPr/>
        </p:nvSpPr>
        <p:spPr>
          <a:xfrm>
            <a:off x="1700280" y="42829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revisión de material y documentación electo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AutoShape 32"/>
          <p:cNvCxnSpPr>
            <a:stCxn id="219" idx="2"/>
            <a:endCxn id="225" idx="0"/>
          </p:cNvCxnSpPr>
          <p:nvPr/>
        </p:nvCxnSpPr>
        <p:spPr>
          <a:xfrm>
            <a:off x="3499920" y="4140360"/>
            <a:ext cx="1080" cy="14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32"/>
          <p:cNvCxnSpPr/>
          <p:nvPr/>
        </p:nvCxnSpPr>
        <p:spPr>
          <a:xfrm>
            <a:off x="3347640" y="485136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Rectangle 666"/>
          <p:cNvSpPr/>
          <p:nvPr/>
        </p:nvSpPr>
        <p:spPr>
          <a:xfrm>
            <a:off x="5373720" y="1763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Censo de población y vivienda  / padrón electoral / propuesta de división de territorio / Manual de Organización/ Manual de Procedimien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700"/>
          <p:cNvSpPr/>
          <p:nvPr/>
        </p:nvSpPr>
        <p:spPr>
          <a:xfrm>
            <a:off x="404640" y="190800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61"/>
          <p:cNvSpPr/>
          <p:nvPr/>
        </p:nvSpPr>
        <p:spPr>
          <a:xfrm>
            <a:off x="333360" y="47163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Toda el la dirección de organ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66"/>
          <p:cNvSpPr/>
          <p:nvPr/>
        </p:nvSpPr>
        <p:spPr>
          <a:xfrm>
            <a:off x="5373720" y="46990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ta de material electoral / acuse de recibo de material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18 Rectángulo"/>
          <p:cNvSpPr/>
          <p:nvPr/>
        </p:nvSpPr>
        <p:spPr>
          <a:xfrm>
            <a:off x="1700280" y="478800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la distribución del material y la documentación electoral a bodega general y posteriormente a Consejos Distrit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32"/>
          <p:cNvCxnSpPr>
            <a:stCxn id="225" idx="2"/>
            <a:endCxn id="232" idx="0"/>
          </p:cNvCxnSpPr>
          <p:nvPr/>
        </p:nvCxnSpPr>
        <p:spPr>
          <a:xfrm>
            <a:off x="3499920" y="449856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AutoShape 32"/>
          <p:cNvCxnSpPr>
            <a:stCxn id="232" idx="2"/>
          </p:cNvCxnSpPr>
          <p:nvPr/>
        </p:nvCxnSpPr>
        <p:spPr>
          <a:xfrm>
            <a:off x="3499920" y="5003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Rectangle 661"/>
          <p:cNvSpPr/>
          <p:nvPr/>
        </p:nvSpPr>
        <p:spPr>
          <a:xfrm>
            <a:off x="333360" y="51498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cent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66"/>
          <p:cNvSpPr/>
          <p:nvPr/>
        </p:nvSpPr>
        <p:spPr>
          <a:xfrm>
            <a:off x="5373720" y="5148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se de recibo de material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18 Rectángulo"/>
          <p:cNvSpPr/>
          <p:nvPr/>
        </p:nvSpPr>
        <p:spPr>
          <a:xfrm>
            <a:off x="1700280" y="51498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istribuyen de acuerdo al número de casillas  electorales en cada Distrito Electo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AutoShape 32"/>
          <p:cNvCxnSpPr>
            <a:stCxn id="237" idx="2"/>
          </p:cNvCxnSpPr>
          <p:nvPr/>
        </p:nvCxnSpPr>
        <p:spPr>
          <a:xfrm>
            <a:off x="3499920" y="536580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" name="Rectangle 661"/>
          <p:cNvSpPr/>
          <p:nvPr/>
        </p:nvSpPr>
        <p:spPr>
          <a:xfrm>
            <a:off x="333360" y="550872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distritales / subcoordinadores distritales / CA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666"/>
          <p:cNvSpPr/>
          <p:nvPr/>
        </p:nvSpPr>
        <p:spPr>
          <a:xfrm>
            <a:off x="5373720" y="55641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OPE-07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18 Rectángulo"/>
          <p:cNvSpPr/>
          <p:nvPr/>
        </p:nvSpPr>
        <p:spPr>
          <a:xfrm>
            <a:off x="1700280" y="550872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trega material a los Presidentes de las Mesas Directivas de Casill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AutoShape 32"/>
          <p:cNvCxnSpPr/>
          <p:nvPr/>
        </p:nvCxnSpPr>
        <p:spPr>
          <a:xfrm>
            <a:off x="3499920" y="572436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Rectangle 666"/>
          <p:cNvSpPr/>
          <p:nvPr/>
        </p:nvSpPr>
        <p:spPr>
          <a:xfrm>
            <a:off x="5373720" y="3924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se de recibo de material y documentación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Oval 34"/>
          <p:cNvSpPr/>
          <p:nvPr/>
        </p:nvSpPr>
        <p:spPr>
          <a:xfrm>
            <a:off x="3213000" y="586908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salatorre</cp:lastModifiedBy>
  <dcterms:modified xsi:type="dcterms:W3CDTF">2012-03-06T19:04:35Z</dcterms:modified>
  <cp:revision>321</cp:revision>
  <dc:subject/>
  <dc:title>Presentación de PowerPoint</dc:title>
</cp:coreProperties>
</file>