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1D5A-C194-4AD5-8BD7-565F1BCBF8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97E1-3FD5-4E09-ABCA-D603C6B06F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99EE-09FD-4251-9461-D7091FDED8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F1D-0B17-42B6-A717-8D4FF35D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2FC-D7FD-4E67-B8CF-060F9526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5E2-594B-4BF9-A29B-C948FBDC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1B1-F21F-4786-BCB7-F4C2B9D4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A55-E7F3-440B-8354-95ECE979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E49-3F80-4B08-9286-515B03AD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B64-E4AC-4951-8C7E-ABB662F0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4DC-80D9-4925-BE2B-C1A2075C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312-93A6-47A8-A024-35923FE1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1D8-AE0A-4AEC-A183-641392CF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21F-C93A-41D3-879D-6D9A7C94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BD9-4ED3-4524-87CF-38FB62DB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aboracion de Estadi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0357987-D23D-4817-9E91-FBF34D07D34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6915-2D69-42EE-8A24-2DAAED00143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TEPJF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   Tribunal Electoral del Poder Judicial de la Fede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TEPJEJ                       Tribunal Electoral del Poder Judicial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JURISPRUDENCIA  Interpretación jurídica que realizan órganos jurisdiccionales con la finalidad de aclarar posibles lagunas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    en las leyes, se crea a través de las reiteradas interpretaciones que hacen los tribunales en sus resolu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6640" y="19969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3560" y="216216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3"/>
          <p:cNvSpPr/>
          <p:nvPr/>
        </p:nvSpPr>
        <p:spPr>
          <a:xfrm>
            <a:off x="1698480" y="234000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olecta información sobre medios de impugnación y procedimientos administrativos para las memori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4"/>
          <p:cNvSpPr/>
          <p:nvPr/>
        </p:nvSpPr>
        <p:spPr>
          <a:xfrm>
            <a:off x="5364000" y="5086440"/>
            <a:ext cx="1295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TEPJ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EPJ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5"/>
          <p:cNvSpPr/>
          <p:nvPr/>
        </p:nvSpPr>
        <p:spPr>
          <a:xfrm>
            <a:off x="5373720" y="565956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TEPJ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EPJ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199692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4"/>
          <p:cNvCxnSpPr>
            <a:stCxn id="121" idx="2"/>
            <a:endCxn id="126" idx="0"/>
          </p:cNvCxnSpPr>
          <p:nvPr/>
        </p:nvCxnSpPr>
        <p:spPr>
          <a:xfrm>
            <a:off x="346356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700"/>
          <p:cNvSpPr/>
          <p:nvPr/>
        </p:nvSpPr>
        <p:spPr>
          <a:xfrm>
            <a:off x="333360" y="1996920"/>
            <a:ext cx="1222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01"/>
          <p:cNvSpPr/>
          <p:nvPr/>
        </p:nvSpPr>
        <p:spPr>
          <a:xfrm>
            <a:off x="333360" y="284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73720" y="284328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xpedi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0"/>
          <p:cNvSpPr/>
          <p:nvPr/>
        </p:nvSpPr>
        <p:spPr>
          <a:xfrm>
            <a:off x="333360" y="3348000"/>
            <a:ext cx="122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3720" y="3348000"/>
            <a:ext cx="127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56"/>
          <p:cNvSpPr/>
          <p:nvPr/>
        </p:nvSpPr>
        <p:spPr>
          <a:xfrm>
            <a:off x="1700280" y="2843280"/>
            <a:ext cx="35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estadísticas de medios de impugnación y procedimientos administrativos para las memori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AutoShape 685"/>
          <p:cNvCxnSpPr>
            <a:stCxn id="126" idx="2"/>
            <a:endCxn id="133" idx="0"/>
          </p:cNvCxnSpPr>
          <p:nvPr/>
        </p:nvCxnSpPr>
        <p:spPr>
          <a:xfrm>
            <a:off x="3463560" y="3132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700280" y="5075280"/>
            <a:ext cx="3529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de jurisprudencias y criterios de Sala Superior y Salas Regionales del Tribunal Electoral del Poder Judicial de la Fede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AutoShape 685"/>
          <p:cNvCxnSpPr>
            <a:stCxn id="133" idx="2"/>
            <a:endCxn id="134" idx="0"/>
          </p:cNvCxnSpPr>
          <p:nvPr/>
        </p:nvCxnSpPr>
        <p:spPr>
          <a:xfrm>
            <a:off x="3463560" y="485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653"/>
          <p:cNvSpPr/>
          <p:nvPr/>
        </p:nvSpPr>
        <p:spPr>
          <a:xfrm>
            <a:off x="1700280" y="3348000"/>
            <a:ext cx="3529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aboración de los cuadrantes relativos a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ocedimientos de quej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mandas lab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ursos de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ursos de ape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de inconform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para la protección de los derechos político-electorales del ciudad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 de revisión constituc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nuncias pen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de ampa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iniestros ante asegurad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3176640" y="6227640"/>
            <a:ext cx="57780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18 Rectángulo"/>
          <p:cNvSpPr/>
          <p:nvPr/>
        </p:nvSpPr>
        <p:spPr>
          <a:xfrm>
            <a:off x="1700280" y="5651640"/>
            <a:ext cx="35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vestigar y estudiar legislaciones en materia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685"/>
          <p:cNvCxnSpPr>
            <a:stCxn id="134" idx="2"/>
            <a:endCxn id="137" idx="0"/>
          </p:cNvCxnSpPr>
          <p:nvPr/>
        </p:nvCxnSpPr>
        <p:spPr>
          <a:xfrm>
            <a:off x="3463560" y="54370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32"/>
          <p:cNvCxnSpPr/>
          <p:nvPr/>
        </p:nvCxnSpPr>
        <p:spPr>
          <a:xfrm>
            <a:off x="3474720" y="594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701"/>
          <p:cNvSpPr/>
          <p:nvPr/>
        </p:nvSpPr>
        <p:spPr>
          <a:xfrm>
            <a:off x="334800" y="5667480"/>
            <a:ext cx="1224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01"/>
          <p:cNvSpPr/>
          <p:nvPr/>
        </p:nvSpPr>
        <p:spPr>
          <a:xfrm>
            <a:off x="333360" y="5075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00"/>
          <p:cNvSpPr/>
          <p:nvPr/>
        </p:nvSpPr>
        <p:spPr>
          <a:xfrm>
            <a:off x="334800" y="234000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6"/>
          <p:cNvSpPr/>
          <p:nvPr/>
        </p:nvSpPr>
        <p:spPr>
          <a:xfrm>
            <a:off x="539100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xpedi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11T18:09:06Z</cp:lastPrinted>
  <dcterms:modified xsi:type="dcterms:W3CDTF">2011-10-27T22:02:06Z</dcterms:modified>
  <cp:revision>301</cp:revision>
  <dc:subject/>
  <dc:title>Presentación de PowerPoint</dc:title>
</cp:coreProperties>
</file>