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A1E6-98D4-426D-9095-054A1D67DF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E692-1A41-4D91-8691-93C64DDD8E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65A5-77BC-4CC5-81E8-490323C38A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31C-1A3E-497B-981A-0761FBA6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38D-117A-4EDA-BF53-56155E44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CA5-A60E-487E-A35F-556B0D0C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4A3-72B4-446D-B153-F4DFEBDB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FC5-79AA-42AB-9EEA-B493EBDC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FCF-33C2-4774-867A-DC82590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412-C6DA-411B-9E36-E69340D9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2B2-EE97-4031-8E1C-23A7A2C2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216-B1CC-4ACF-8263-F6E5E7BE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756-3DE7-44B9-BBB4-65FEB105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45A-63AD-4ABC-B05E-63BE0BFA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BE4-7E28-4A04-8C38-DC8817AD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79BB-A80E-4CC6-8610-81E225E8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99C8-87EC-4D2A-8BC5-03CCDF63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2666-5DA5-4DB2-AA4B-EF6A52F7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300A-3540-4B3C-9FA1-AA606AB7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F53C-FEC3-4EED-A9A2-38768A16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D3A4-1208-49DC-BC0B-D37AD898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3E5D-318C-4419-8FED-E71945A8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B48A-8E15-4EB3-A27E-219F8553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4C7-F7A6-4E51-887D-C1B97E0C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BEBC-2A0B-4503-B33B-A8F1F3D1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C1A1-62FB-4225-B39F-632AC363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1FAC-61B2-4996-8FE8-2884ED4F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E301-7CA3-4669-B410-72D866C9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22193-F3D4-4782-8608-0E00A52B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9CD9-915A-47C7-900E-DBCDD714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1035-8949-4237-8BB0-2E76AD6E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2F89-22CA-49DA-A76B-86831E23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AAD2-93B1-4360-8FAD-88BC5288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B9F5-940B-4057-A706-E0A3B87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39C8-67B1-4606-B0D3-3CA271F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67DF-7CCA-4291-9EC1-C645EFD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1322-7B21-4201-9587-1E5AE549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13417-1F8E-4A48-AF39-F63B8064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3085-AE09-484C-B278-BE8EC721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on a medios de comun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375779DE-650A-4F67-9D79-1FD2D983B16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F42A-252E-4D47-AD27-2F239FEFBB8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A8E9-D635-4034-91F1-3508CEEAE6F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68C7-04A5-4394-9721-B637E392223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roporcionar la información a los representantes de los medios de comunicación y ciudadanos interesad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tender a las peticiones de información del IEPC que solicitan los medio de comunicación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información y se registra en 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700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para evaluación de información solici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49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48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291636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00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utoriza la entrega de información y se ordena la recolección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3494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información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P-OPE-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6T00:50:00Z</dcterms:modified>
  <cp:revision>326</cp:revision>
  <dc:subject/>
  <dc:title>Presentación de PowerPoint</dc:title>
</cp:coreProperties>
</file>