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17D6-C07F-4152-A06A-96B473E0CD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A00A-BB8D-4F6C-9878-DA9A498CFA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29E5-B642-45CE-9A8F-70B3DD69D0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3D2F-C39E-4097-BB3A-5A604D48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C3D5-56F9-4E76-B2E7-446D0CB2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9268-1096-447C-9324-4D686A18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F9B-F54B-400F-9744-290EE40B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81C-C3CC-4CF1-99D2-67983521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7B6D-A355-48C0-A4DC-F545F745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5087-870F-4D9D-8282-78CDA341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0CC6-97B1-4A5E-9316-8D08C5FD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5A73-367B-4A0F-A660-64562915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0F48-42A1-41B5-A26F-FA0A053F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22D5-4920-4FFC-B6F6-A90A6011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14F8-3FC6-49AC-8118-94B61DE9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5127-F5EC-4B15-B7B7-EA0F77F0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5DD5-AD9B-4BCE-969B-423E62EF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C5C4-79CA-4453-BA84-3DC119B9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43C4-901A-432F-A98F-BBD10086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E923-D67E-47F2-A401-E179C0BD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AFC4-14B6-4E5A-960B-B5BAA79B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04BF-3038-4052-91B4-4CEE35A3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B2EE-5A44-4B21-8C65-C5B75641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214C-9454-4F86-BFBC-C031E1FD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0746-34AD-4544-AA3A-FEEA280F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ABF4-C8E5-4D15-A4F7-5315356B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E3FB-0DD1-41D8-B319-874BF313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cit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F0ABC4AE-395E-4A42-A862-F16EC9FF3277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382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OPE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4C0A-8288-479E-98E8-563E69FBCCE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68C8-8C63-4881-AB4E-C6D4FE38655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de actividades, registros y personal respons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Personal respons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0-0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otar de los bienes y servicio que requiera el instituto sujetos a procedimientos de lici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s licitaciones que el IEPC realiza para solicitar productos o servicios mayores a un monto determinado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requisición o instrucción de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labora bases, convocatoria  y especificaciones técnicas en conjunción con área solicitante para aprob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42847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30607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s y especificaciones técn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endCxn id="169" idx="0"/>
          </p:cNvCxnSpPr>
          <p:nvPr/>
        </p:nvCxnSpPr>
        <p:spPr>
          <a:xfrm>
            <a:off x="3517920" y="2842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719360" y="2987640"/>
            <a:ext cx="360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cibe solicitudes de aclaración de empresas sobre las bases de la Li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3467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28720" y="34671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etermina la logística de la junta de aclar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17560" y="4264200"/>
            <a:ext cx="360072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visitas de inspección y levanta acta respec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endCxn id="175" idx="0"/>
          </p:cNvCxnSpPr>
          <p:nvPr/>
        </p:nvCxnSpPr>
        <p:spPr>
          <a:xfrm>
            <a:off x="3517560" y="4073400"/>
            <a:ext cx="1080" cy="19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18 Rectángulo"/>
          <p:cNvSpPr/>
          <p:nvPr/>
        </p:nvSpPr>
        <p:spPr>
          <a:xfrm flipV="1" rot="10800000">
            <a:off x="1722600" y="4698000"/>
            <a:ext cx="3597120" cy="32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logística de desahogo del acto de presentación de  propuestas técnicas y  económicas y apertura de propuestas técnicas y elabora el acta respec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endCxn id="177" idx="1"/>
          </p:cNvCxnSpPr>
          <p:nvPr/>
        </p:nvCxnSpPr>
        <p:spPr>
          <a:xfrm>
            <a:off x="3517560" y="448308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Rectangle 701"/>
          <p:cNvSpPr/>
          <p:nvPr/>
        </p:nvSpPr>
        <p:spPr>
          <a:xfrm>
            <a:off x="351000" y="3024360"/>
            <a:ext cx="1225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73720" y="3565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heck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73720" y="3979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18 Rectángulo"/>
          <p:cNvSpPr/>
          <p:nvPr/>
        </p:nvSpPr>
        <p:spPr>
          <a:xfrm>
            <a:off x="1717560" y="521964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el dictamen técnico donde se evalúa las propuestas y documentos presentados por los oferen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/>
          <p:nvPr/>
        </p:nvCxnSpPr>
        <p:spPr>
          <a:xfrm>
            <a:off x="3490560" y="600228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1"/>
          <p:cNvSpPr/>
          <p:nvPr/>
        </p:nvSpPr>
        <p:spPr>
          <a:xfrm>
            <a:off x="333360" y="47386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56"/>
          <p:cNvSpPr/>
          <p:nvPr/>
        </p:nvSpPr>
        <p:spPr>
          <a:xfrm>
            <a:off x="1722600" y="6154560"/>
            <a:ext cx="360036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Remite expediente al 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Consejero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4716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/ 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32"/>
          <p:cNvCxnSpPr/>
          <p:nvPr/>
        </p:nvCxnSpPr>
        <p:spPr>
          <a:xfrm>
            <a:off x="3499920" y="665964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666"/>
          <p:cNvSpPr/>
          <p:nvPr/>
        </p:nvSpPr>
        <p:spPr>
          <a:xfrm>
            <a:off x="5373720" y="4340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/ 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684"/>
          <p:cNvCxnSpPr>
            <a:stCxn id="169" idx="2"/>
            <a:endCxn id="174" idx="0"/>
          </p:cNvCxnSpPr>
          <p:nvPr/>
        </p:nvCxnSpPr>
        <p:spPr>
          <a:xfrm>
            <a:off x="3519000" y="3276360"/>
            <a:ext cx="1044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Oval 34"/>
          <p:cNvSpPr/>
          <p:nvPr/>
        </p:nvSpPr>
        <p:spPr>
          <a:xfrm>
            <a:off x="3214800" y="6875640"/>
            <a:ext cx="57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18 Rectángulo"/>
          <p:cNvSpPr/>
          <p:nvPr/>
        </p:nvSpPr>
        <p:spPr>
          <a:xfrm>
            <a:off x="1728720" y="38577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Levanta el acta de la junta de aclaraciones donde constan las respuestas a  las preguntas formula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32"/>
          <p:cNvCxnSpPr/>
          <p:nvPr/>
        </p:nvCxnSpPr>
        <p:spPr>
          <a:xfrm>
            <a:off x="3503160" y="366192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32"/>
          <p:cNvCxnSpPr/>
          <p:nvPr/>
        </p:nvCxnSpPr>
        <p:spPr>
          <a:xfrm>
            <a:off x="3487320" y="5019480"/>
            <a:ext cx="39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18 Rectángulo"/>
          <p:cNvSpPr/>
          <p:nvPr/>
        </p:nvSpPr>
        <p:spPr>
          <a:xfrm flipV="1" rot="10800000">
            <a:off x="1730520" y="5668920"/>
            <a:ext cx="359856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logística de desahogo del acto comunicación del dictamen técnico, apertura de las ofertas económicas, fallo y adjudicación y elabora el acta respec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32"/>
          <p:cNvCxnSpPr/>
          <p:nvPr/>
        </p:nvCxnSpPr>
        <p:spPr>
          <a:xfrm>
            <a:off x="3465000" y="54529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Rectangle 653"/>
          <p:cNvSpPr/>
          <p:nvPr/>
        </p:nvSpPr>
        <p:spPr>
          <a:xfrm>
            <a:off x="1687680" y="2671920"/>
            <a:ext cx="3600360" cy="23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mite convocatoria al Consejo General para su aprobación y publicación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681"/>
          <p:cNvCxnSpPr/>
          <p:nvPr/>
        </p:nvCxnSpPr>
        <p:spPr>
          <a:xfrm>
            <a:off x="3517560" y="25272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Rectangle 701"/>
          <p:cNvSpPr/>
          <p:nvPr/>
        </p:nvSpPr>
        <p:spPr>
          <a:xfrm>
            <a:off x="333360" y="5722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l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01"/>
          <p:cNvSpPr/>
          <p:nvPr/>
        </p:nvSpPr>
        <p:spPr>
          <a:xfrm>
            <a:off x="333360" y="5219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a / J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fe de áre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01"/>
          <p:cNvSpPr/>
          <p:nvPr/>
        </p:nvSpPr>
        <p:spPr>
          <a:xfrm>
            <a:off x="333360" y="615456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l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66"/>
          <p:cNvSpPr/>
          <p:nvPr/>
        </p:nvSpPr>
        <p:spPr>
          <a:xfrm>
            <a:off x="5373720" y="57085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6"/>
          <p:cNvSpPr/>
          <p:nvPr/>
        </p:nvSpPr>
        <p:spPr>
          <a:xfrm>
            <a:off x="5373720" y="5219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ctame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62276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emorandum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Miguel Godinez Terriquez</cp:lastModifiedBy>
  <cp:lastPrinted>2012-05-01T00:17:16Z</cp:lastPrinted>
  <dcterms:modified xsi:type="dcterms:W3CDTF">2013-05-02T18:05:00Z</dcterms:modified>
  <cp:revision>330</cp:revision>
  <dc:subject/>
  <dc:title>Presentación de PowerPoint</dc:title>
</cp:coreProperties>
</file>