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A3D7-BAC1-4CA3-8A4E-68F8C3290C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BBA0-9FD5-459E-8599-9828FBB363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7854-11A6-47AF-AFDB-7441DC7F46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2D6-3733-41EB-87F2-E5000772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C4E-3345-4D3C-BD77-C1FD076B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399-424B-4FA4-BA02-48A5313D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CB7-FE85-4C99-BFB3-519A7E08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A40-BC0C-48BD-9884-74D004F7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476-A94B-404C-98AB-EE8D8D40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644-A3B6-4C40-BCC7-A5379AE5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B88-2DE2-47CC-B366-AFA1C6CF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FE5-2A62-4B0B-A516-9599C7D0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0CD-6D5B-4278-BAF3-321D8620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8F0-9592-47C6-8563-A2491F76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A8F-7E63-4617-A7E8-97A7C507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52C5-E6C9-4589-BDC1-20D7431D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7B60-D860-4C75-9512-13C679D3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F3AA-71AC-4B4D-89EE-2C99FA0B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7C89-6022-4600-9884-E6C359A6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F587-BC93-488C-8261-8A63214C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E852-E661-43B4-8C0B-7AF0A453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8A7D-697A-4AAD-9B59-C0380514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BEA6-3D1C-4558-AC3C-34FAA13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8F24-24D4-49B9-BBF7-5A007C0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5640-A484-4BD5-8251-B2415952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9DED-51BB-4C8E-A7AA-0461E935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FE2C-3AD5-43E6-B0F9-0C0912E1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mágenes para fol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81AECBA-42A8-4C16-BC90-1562888B138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BA30-7062-427D-B726-A0B0373E49A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41A9-6257-4D6D-A133-79C805450AE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 la impresión de las imágenes que se incluirán en la rev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n invitaciones a personas seleccionadas arti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>
            <a:stCxn id="164" idx="2"/>
          </p:cNvCxnSpPr>
          <p:nvPr/>
        </p:nvCxnSpPr>
        <p:spPr>
          <a:xfrm flipH="1">
            <a:off x="3498480" y="320364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66"/>
          <p:cNvSpPr/>
          <p:nvPr/>
        </p:nvSpPr>
        <p:spPr>
          <a:xfrm>
            <a:off x="5373720" y="37479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corr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rrecciones con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5865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má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e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58644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ja lista la revista para incluir tex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6" idx="2"/>
            <a:endCxn id="168" idx="0"/>
          </p:cNvCxnSpPr>
          <p:nvPr/>
        </p:nvCxnSpPr>
        <p:spPr>
          <a:xfrm>
            <a:off x="3499920" y="5721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37479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6 Rombo"/>
          <p:cNvSpPr/>
          <p:nvPr/>
        </p:nvSpPr>
        <p:spPr>
          <a:xfrm>
            <a:off x="3090960" y="34052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3141720" y="34750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>
            <a:stCxn id="173" idx="1"/>
            <a:endCxn id="176" idx="0"/>
          </p:cNvCxnSpPr>
          <p:nvPr/>
        </p:nvCxnSpPr>
        <p:spPr>
          <a:xfrm flipV="1" rot="10800000">
            <a:off x="2493360" y="35841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3933720" y="3349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73 CuadroTexto"/>
          <p:cNvSpPr/>
          <p:nvPr/>
        </p:nvSpPr>
        <p:spPr>
          <a:xfrm>
            <a:off x="2708280" y="3349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6"/>
          <p:cNvSpPr/>
          <p:nvPr/>
        </p:nvSpPr>
        <p:spPr>
          <a:xfrm>
            <a:off x="1628640" y="376380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autor para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64 Conector angular"/>
          <p:cNvCxnSpPr>
            <a:stCxn id="173" idx="3"/>
            <a:endCxn id="180" idx="0"/>
          </p:cNvCxnSpPr>
          <p:nvPr/>
        </p:nvCxnSpPr>
        <p:spPr>
          <a:xfrm>
            <a:off x="3948120" y="358416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Rectangle 656"/>
          <p:cNvSpPr/>
          <p:nvPr/>
        </p:nvSpPr>
        <p:spPr>
          <a:xfrm>
            <a:off x="3573360" y="378144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diseño para primera f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6" idx="2"/>
            <a:endCxn id="182" idx="0"/>
          </p:cNvCxnSpPr>
          <p:nvPr/>
        </p:nvCxnSpPr>
        <p:spPr>
          <a:xfrm flipH="1">
            <a:off x="2493360" y="414144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5865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75"/>
          <p:cNvSpPr/>
          <p:nvPr/>
        </p:nvSpPr>
        <p:spPr>
          <a:xfrm>
            <a:off x="2421000" y="500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4"/>
          <p:cNvSpPr/>
          <p:nvPr/>
        </p:nvSpPr>
        <p:spPr>
          <a:xfrm>
            <a:off x="3213000" y="637236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80" idx="2"/>
            <a:endCxn id="189" idx="0"/>
          </p:cNvCxnSpPr>
          <p:nvPr/>
        </p:nvCxnSpPr>
        <p:spPr>
          <a:xfrm flipH="1">
            <a:off x="4436280" y="4141440"/>
            <a:ext cx="25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imer paquete de imá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medio magné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primera revisión y tratamiento de las imá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66"/>
          <p:cNvSpPr/>
          <p:nvPr/>
        </p:nvSpPr>
        <p:spPr>
          <a:xfrm>
            <a:off x="5302080" y="2916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cciones / 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439272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1"/>
          <p:cNvSpPr/>
          <p:nvPr/>
        </p:nvSpPr>
        <p:spPr>
          <a:xfrm>
            <a:off x="333360" y="439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señ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6"/>
          <p:cNvSpPr/>
          <p:nvPr/>
        </p:nvSpPr>
        <p:spPr>
          <a:xfrm>
            <a:off x="1628640" y="440856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ordinan posibles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3573360" y="442584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rimera propuesta de dis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32"/>
          <p:cNvCxnSpPr>
            <a:stCxn id="182" idx="2"/>
          </p:cNvCxnSpPr>
          <p:nvPr/>
        </p:nvCxnSpPr>
        <p:spPr>
          <a:xfrm flipH="1">
            <a:off x="2491560" y="478620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32"/>
          <p:cNvCxnSpPr>
            <a:stCxn id="168" idx="2"/>
            <a:endCxn id="187" idx="0"/>
          </p:cNvCxnSpPr>
          <p:nvPr/>
        </p:nvCxnSpPr>
        <p:spPr>
          <a:xfrm>
            <a:off x="3499920" y="6080040"/>
            <a:ext cx="10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32"/>
          <p:cNvCxnSpPr>
            <a:stCxn id="189" idx="2"/>
          </p:cNvCxnSpPr>
          <p:nvPr/>
        </p:nvCxnSpPr>
        <p:spPr>
          <a:xfrm flipH="1">
            <a:off x="4436280" y="478584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649"/>
          <p:cNvCxnSpPr>
            <a:stCxn id="162" idx="2"/>
            <a:endCxn id="190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649"/>
          <p:cNvCxnSpPr>
            <a:stCxn id="190" idx="2"/>
            <a:endCxn id="164" idx="0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1:17:28Z</dcterms:modified>
  <cp:revision>330</cp:revision>
  <dc:subject/>
  <dc:title>Presentación de PowerPoint</dc:title>
</cp:coreProperties>
</file>