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231-5F59-4D4B-8E79-5A5C08BDF5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805F-CD5D-4C55-B178-99994B67D7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63BC-695F-4130-8489-F0FC145724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833-0800-417B-8F38-F38526B9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DE2-8D62-4F49-9847-60892D64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9FA-15A4-4672-9B79-7D058714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B42-190A-4CA3-B5DE-F87EB3B3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1BE-5F85-492F-ADE4-11DBD4DC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1FE-17E2-44C9-8930-3FBD38DC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8A6-469B-4655-A124-18319C00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051-7C02-4470-A4BD-701402F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D99-D133-46B6-8CDF-6A209775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1F1-F8C8-4764-80D3-DAF1EC97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97A-1DBC-4D35-A64B-99F78E90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E51-E80C-4969-B939-45012624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6669-0936-44F8-ABED-03DD06CB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053E-2BB2-45F4-81DD-383CFBF2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5224-ABBF-4227-A865-A29506D5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1516-59A0-432B-B5D3-BD955BA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14A6-205F-4136-8DA9-B60457EA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D345-3E2C-4FD9-8577-3F8686C1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87D3-B582-4BF1-9C25-EDA577CB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4914-AE3A-4E22-91DD-626EC85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C758-B7A9-4EE7-A1AF-E3210E1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0229-6330-419F-9591-D5DBF8D7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5A22-68C3-4C3B-8455-637252D6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6BE8-3CBE-4223-B67F-811D1719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Edición y Publicación de lib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061204C-F52D-4D9F-9764-4CD638C37FE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3527-CF1A-4E73-B570-0FFDC92356F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DD14-706A-4936-A52C-BB289D7C58C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dificacion de conect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pertinencia y calidad de las publicaciones del IEPC de acuerdo al programa de actividades anuales y apegados a un 95% de su cumpli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dición y publicación de libros emitidos por el IEPC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MMY: prueba de impresi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 previa a la produccion del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opuesta de publ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31488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4498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quisición de bienes y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1700280" y="48578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licita a empresa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y se envía archivo digi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32"/>
          <p:cNvCxnSpPr>
            <a:stCxn id="164" idx="2"/>
            <a:endCxn id="166" idx="0"/>
          </p:cNvCxnSpPr>
          <p:nvPr/>
        </p:nvCxnSpPr>
        <p:spPr>
          <a:xfrm>
            <a:off x="3499920" y="47145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recepción de propuestas de publicacion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3314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56 Rombo"/>
          <p:cNvSpPr/>
          <p:nvPr/>
        </p:nvSpPr>
        <p:spPr>
          <a:xfrm>
            <a:off x="3090960" y="2971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57 CuadroTexto"/>
          <p:cNvSpPr/>
          <p:nvPr/>
        </p:nvSpPr>
        <p:spPr>
          <a:xfrm>
            <a:off x="3141720" y="3041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64 Conector angular"/>
          <p:cNvCxnSpPr>
            <a:stCxn id="171" idx="1"/>
          </p:cNvCxnSpPr>
          <p:nvPr/>
        </p:nvCxnSpPr>
        <p:spPr>
          <a:xfrm flipV="1" rot="10800000">
            <a:off x="2493360" y="315000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4" name="72 CuadroTexto"/>
          <p:cNvSpPr/>
          <p:nvPr/>
        </p:nvSpPr>
        <p:spPr>
          <a:xfrm>
            <a:off x="393372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73 CuadroTexto"/>
          <p:cNvSpPr/>
          <p:nvPr/>
        </p:nvSpPr>
        <p:spPr>
          <a:xfrm>
            <a:off x="270828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1" idx="3"/>
            <a:endCxn id="177" idx="0"/>
          </p:cNvCxnSpPr>
          <p:nvPr/>
        </p:nvCxnSpPr>
        <p:spPr>
          <a:xfrm>
            <a:off x="3948120" y="315072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Rectangle 656"/>
          <p:cNvSpPr/>
          <p:nvPr/>
        </p:nvSpPr>
        <p:spPr>
          <a:xfrm>
            <a:off x="3573360" y="334800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e contacta a los involucrados y se solicita texto para su 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44989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COM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48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5"/>
          <p:cNvSpPr/>
          <p:nvPr/>
        </p:nvSpPr>
        <p:spPr>
          <a:xfrm>
            <a:off x="2421000" y="334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mite al comité editorial para conocimiento y análisis y se envía a la comisión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91000" y="2627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rden del día / P-OPE-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3959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opuesta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33360" y="39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56"/>
          <p:cNvSpPr/>
          <p:nvPr/>
        </p:nvSpPr>
        <p:spPr>
          <a:xfrm>
            <a:off x="1700280" y="3992400"/>
            <a:ext cx="3601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edición y diseño al texto para solicitar 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6" idx="2"/>
            <a:endCxn id="189" idx="0"/>
          </p:cNvCxnSpPr>
          <p:nvPr/>
        </p:nvCxnSpPr>
        <p:spPr>
          <a:xfrm>
            <a:off x="3499920" y="50734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32"/>
          <p:cNvCxnSpPr>
            <a:stCxn id="187" idx="2"/>
            <a:endCxn id="164" idx="0"/>
          </p:cNvCxnSpPr>
          <p:nvPr/>
        </p:nvCxnSpPr>
        <p:spPr>
          <a:xfrm flipH="1">
            <a:off x="3499560" y="4352760"/>
            <a:ext cx="25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649"/>
          <p:cNvCxnSpPr>
            <a:stCxn id="162" idx="2"/>
            <a:endCxn id="182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649"/>
          <p:cNvCxnSpPr>
            <a:stCxn id="182" idx="2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64 Conector angular"/>
          <p:cNvCxnSpPr>
            <a:stCxn id="177" idx="2"/>
            <a:endCxn id="187" idx="0"/>
          </p:cNvCxnSpPr>
          <p:nvPr/>
        </p:nvCxnSpPr>
        <p:spPr>
          <a:xfrm rot="5400000">
            <a:off x="3827880" y="3381480"/>
            <a:ext cx="284400" cy="937440"/>
          </a:xfrm>
          <a:prstGeom prst="bentConnector3">
            <a:avLst>
              <a:gd name="adj1" fmla="val 4993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Rectangle 666"/>
          <p:cNvSpPr/>
          <p:nvPr/>
        </p:nvSpPr>
        <p:spPr>
          <a:xfrm>
            <a:off x="5391000" y="5508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pia de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8 Rectángulo"/>
          <p:cNvSpPr/>
          <p:nvPr/>
        </p:nvSpPr>
        <p:spPr>
          <a:xfrm>
            <a:off x="1700280" y="5506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pruebas de impresión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51000" y="550872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>
            <a:stCxn id="189" idx="2"/>
          </p:cNvCxnSpPr>
          <p:nvPr/>
        </p:nvCxnSpPr>
        <p:spPr>
          <a:xfrm>
            <a:off x="3499920" y="572256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34"/>
          <p:cNvSpPr/>
          <p:nvPr/>
        </p:nvSpPr>
        <p:spPr>
          <a:xfrm>
            <a:off x="4076640" y="70182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73720" y="63374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37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994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60642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61725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4005360" y="5938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2565360" y="5938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635328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207" idx="0"/>
          </p:cNvCxnSpPr>
          <p:nvPr/>
        </p:nvCxnSpPr>
        <p:spPr>
          <a:xfrm>
            <a:off x="3948120" y="6173640"/>
            <a:ext cx="418320" cy="270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8" name="AutoShape 32"/>
          <p:cNvCxnSpPr>
            <a:stCxn id="203" idx="2"/>
          </p:cNvCxnSpPr>
          <p:nvPr/>
        </p:nvCxnSpPr>
        <p:spPr>
          <a:xfrm flipH="1">
            <a:off x="2493360" y="673056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Oval 75"/>
          <p:cNvSpPr/>
          <p:nvPr/>
        </p:nvSpPr>
        <p:spPr>
          <a:xfrm>
            <a:off x="2421000" y="7020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75"/>
          <p:cNvSpPr/>
          <p:nvPr/>
        </p:nvSpPr>
        <p:spPr>
          <a:xfrm>
            <a:off x="2349360" y="521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/>
          <p:nvPr/>
        </p:nvCxnSpPr>
        <p:spPr>
          <a:xfrm>
            <a:off x="2565000" y="529236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Oval 75"/>
          <p:cNvSpPr/>
          <p:nvPr/>
        </p:nvSpPr>
        <p:spPr>
          <a:xfrm>
            <a:off x="4870440" y="680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/>
          <p:nvPr/>
        </p:nvCxnSpPr>
        <p:spPr>
          <a:xfrm flipH="1">
            <a:off x="4365360" y="687528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3500280" y="6443640"/>
            <a:ext cx="17305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manda a 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>
            <a:stCxn id="207" idx="2"/>
            <a:endCxn id="197" idx="0"/>
          </p:cNvCxnSpPr>
          <p:nvPr/>
        </p:nvCxnSpPr>
        <p:spPr>
          <a:xfrm flipH="1">
            <a:off x="4365000" y="6732360"/>
            <a:ext cx="10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1:15:56Z</dcterms:modified>
  <cp:revision>339</cp:revision>
  <dc:subject/>
  <dc:title>Presentación de PowerPoint</dc:title>
</cp:coreProperties>
</file>