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AF62-EE68-4E0E-B3EC-93F75FE418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5E2-1E96-4F94-8CAF-A70E7559DE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42D6-4D18-42FB-B34A-635011448C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99F-8374-4D80-87BE-85D6B371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CAE-7597-4AC3-BC22-D3D321FA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7C0-E9C4-43A8-8035-4A3633C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C2C-273A-45EB-84B5-9636F36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521-4943-4050-8928-3C4B64F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026-ACDA-4436-829A-AF3FAA1C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ED7-FAED-48E8-AF26-DC6AA8CD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DB7-B772-4B90-9C23-CF1EB67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5D3-1F7B-4246-8665-F6F24CA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3BD-16E8-4A5F-9FD4-B3135B27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CD9-BFAB-4E7B-B89F-DE0FF434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11E-47E1-4DF0-A2C6-B6768457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06C3-B6CC-4129-8832-2F7E6409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90D-8102-4882-8E53-2F0D027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CC4D-DD62-4BD3-904B-06E12C64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685-D91A-46B8-94D0-63779F9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849A-9F64-44C2-8D44-09C8C726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6E81-C2FA-4CE0-8238-A6A92DBE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AD2A-E662-4449-8BA0-7BCC0AC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6F66-297B-4E3E-A94D-917D1C7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FE5-244A-4661-ACB7-C177207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070-ECDA-4285-9082-273A38DF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B37-1EBB-4193-BA98-250DD009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8E7D-7230-445E-BD2A-4C02D491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E6E6-30D4-441B-A8AA-F79C5CEB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15D9-E30D-42D4-94E8-F94C4BAB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1487-495B-4A9A-90C5-EC104645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F3F2-34A3-4709-950A-E934BCC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824B-88F2-4128-ADC4-9164289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C89D-BF24-457A-9B6A-1C0BBB4E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8FE6-E239-4D54-82C2-70C445B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FE8B-56BE-4E5D-86C3-0D7C3C4E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466C-E35A-49FE-BFBD-4B0D638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D057-0F39-4B5F-9BC1-47EF30F8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B69F-A8DD-4561-86F1-5654C6C8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22EA-71D3-4A3A-B826-DEDD1A54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33A45DD-391D-4187-9663-6BFF99CF42A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CA85-6F68-4172-B9F5-365B9C5D1D6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262-DA01-4876-AC04-BCC2CD84A80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023A-FA26-43DE-9782-20DE57436A8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734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57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890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62908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298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197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01T05:51:01Z</dcterms:modified>
  <cp:revision>318</cp:revision>
  <dc:subject/>
  <dc:title>Presentación de PowerPoint</dc:title>
</cp:coreProperties>
</file>