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001C-CEC4-4EFD-A550-2F6714B072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2A3-9C5E-4612-9935-7A628FF816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DDF5-C5EA-4B07-923F-92B7ED476B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32E-DB10-41B6-A9EA-96887C1DDF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E484-048B-44C2-BEC0-3CF4E79312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B47B-0483-4592-BA84-B378225038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149-8AE5-4795-B843-9C98F6D0AC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BAA-9A7A-4624-B65A-1B52388B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0C1-86BB-420B-A062-02ECA67B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CBB-5FFE-45A0-848E-CC485776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834-93C6-4B4F-8B91-7B3DC48F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F79-BEDA-498C-8026-59C99FC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26C-F803-45C2-8329-68EBE636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6D2-CB9E-4C36-90DA-8CECC08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7C1-77ED-4472-9625-82CDD5D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1E8-43E4-468F-ACA8-D8D5203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8F6-BBC2-475D-B869-595F16B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35C-0F81-4E5A-B32E-4AC3E3DB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1A7-F342-4FC7-8AE1-BBF87224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ntratos, convenios, consultas y mecanismos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9013BDA-57FC-48EA-8D5E-C0480B9EA31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322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6CE8-B01A-461C-A656-7EB03622F1E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0120" y="1692360"/>
            <a:ext cx="63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erificar la legalidad en la suscripción y renovación de los diversos contratos y convenios en que participe el instituto, así como la verificación en el cumplimiento de los requisitos previstos por la legislación electoral a efecto de poder llevar a acabo los mecanismos de participación ciudadana previstos por el código electoral estatal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33360" y="2398680"/>
            <a:ext cx="632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formulación y suscripción de los contratos y convenios requeridos por el IEPC , así como la tramitología de los mecanismos de participación ciudadan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327672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la solicitud o instrucción para elaborar un contrato o conve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proyecto de contrato o convenio así como su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8680" y="4268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 de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72920" y="369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01"/>
          <p:cNvSpPr/>
          <p:nvPr/>
        </p:nvSpPr>
        <p:spPr>
          <a:xfrm>
            <a:off x="328680" y="383544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73720" y="3811680"/>
            <a:ext cx="126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8400" y="4270320"/>
            <a:ext cx="1276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ntr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8200" y="3835440"/>
            <a:ext cx="35305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turna al las áreas involucradas correspondiente para la aprobación de las par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7" idx="2"/>
            <a:endCxn id="133" idx="0"/>
          </p:cNvCxnSpPr>
          <p:nvPr/>
        </p:nvCxnSpPr>
        <p:spPr>
          <a:xfrm flipH="1">
            <a:off x="3472560" y="4116240"/>
            <a:ext cx="1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85"/>
          <p:cNvCxnSpPr>
            <a:stCxn id="133" idx="2"/>
            <a:endCxn id="135" idx="0"/>
          </p:cNvCxnSpPr>
          <p:nvPr/>
        </p:nvCxnSpPr>
        <p:spPr>
          <a:xfrm>
            <a:off x="3472920" y="45558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8200" y="4270320"/>
            <a:ext cx="3530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seguimiento para su oportuno y correcto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84560" y="469908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rreo Electrónico /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atos o Conven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0"/>
          <p:cNvSpPr/>
          <p:nvPr/>
        </p:nvSpPr>
        <p:spPr>
          <a:xfrm>
            <a:off x="333360" y="4722840"/>
            <a:ext cx="1224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6"/>
          <p:cNvSpPr/>
          <p:nvPr/>
        </p:nvSpPr>
        <p:spPr>
          <a:xfrm>
            <a:off x="5373720" y="363528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00"/>
          <p:cNvSpPr/>
          <p:nvPr/>
        </p:nvSpPr>
        <p:spPr>
          <a:xfrm>
            <a:off x="330120" y="3635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1"/>
          <p:cNvSpPr/>
          <p:nvPr/>
        </p:nvSpPr>
        <p:spPr>
          <a:xfrm>
            <a:off x="333360" y="420696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6"/>
          <p:cNvSpPr/>
          <p:nvPr/>
        </p:nvSpPr>
        <p:spPr>
          <a:xfrm>
            <a:off x="5364000" y="420696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6"/>
          <p:cNvSpPr/>
          <p:nvPr/>
        </p:nvSpPr>
        <p:spPr>
          <a:xfrm>
            <a:off x="5383080" y="4718160"/>
            <a:ext cx="127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 del documento firmado Copia del oficio de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6"/>
          <p:cNvSpPr/>
          <p:nvPr/>
        </p:nvSpPr>
        <p:spPr>
          <a:xfrm>
            <a:off x="5383080" y="3016080"/>
            <a:ext cx="1278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, 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00"/>
          <p:cNvSpPr/>
          <p:nvPr/>
        </p:nvSpPr>
        <p:spPr>
          <a:xfrm>
            <a:off x="343080" y="3016080"/>
            <a:ext cx="12142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su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53"/>
          <p:cNvSpPr/>
          <p:nvPr/>
        </p:nvSpPr>
        <p:spPr>
          <a:xfrm>
            <a:off x="1708200" y="3016080"/>
            <a:ext cx="35305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memorándum u oficio, registrándose en el cuadrante asentando en el cuadrante la fecha y hora de recepción, posteriormente se da vista al direc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84"/>
          <p:cNvCxnSpPr>
            <a:stCxn id="158" idx="2"/>
            <a:endCxn id="160" idx="0"/>
          </p:cNvCxnSpPr>
          <p:nvPr/>
        </p:nvCxnSpPr>
        <p:spPr>
          <a:xfrm>
            <a:off x="3472920" y="34192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6"/>
          <p:cNvSpPr/>
          <p:nvPr/>
        </p:nvSpPr>
        <p:spPr>
          <a:xfrm>
            <a:off x="1712880" y="3635280"/>
            <a:ext cx="3525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director turna 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consult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85"/>
          <p:cNvCxnSpPr>
            <a:stCxn id="160" idx="2"/>
            <a:endCxn id="162" idx="0"/>
          </p:cNvCxnSpPr>
          <p:nvPr/>
        </p:nvCxnSpPr>
        <p:spPr>
          <a:xfrm>
            <a:off x="3474720" y="406728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3"/>
          <p:cNvSpPr/>
          <p:nvPr/>
        </p:nvSpPr>
        <p:spPr>
          <a:xfrm>
            <a:off x="1712880" y="4208400"/>
            <a:ext cx="3525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director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712880" y="4722840"/>
            <a:ext cx="35258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, una vez notificado se recaba copia para anexar al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2" idx="2"/>
            <a:endCxn id="163" idx="0"/>
          </p:cNvCxnSpPr>
          <p:nvPr/>
        </p:nvCxnSpPr>
        <p:spPr>
          <a:xfrm>
            <a:off x="3474720" y="4511160"/>
            <a:ext cx="1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AutoShape 74"/>
          <p:cNvSpPr/>
          <p:nvPr/>
        </p:nvSpPr>
        <p:spPr>
          <a:xfrm>
            <a:off x="3222720" y="528012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4"/>
          <p:cNvSpPr/>
          <p:nvPr/>
        </p:nvSpPr>
        <p:spPr>
          <a:xfrm>
            <a:off x="3211560" y="2584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/>
          <p:nvPr/>
        </p:nvCxnSpPr>
        <p:spPr>
          <a:xfrm>
            <a:off x="3472920" y="2800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5"/>
          <p:cNvCxnSpPr>
            <a:stCxn id="163" idx="2"/>
            <a:endCxn id="165" idx="0"/>
          </p:cNvCxnSpPr>
          <p:nvPr/>
        </p:nvCxnSpPr>
        <p:spPr>
          <a:xfrm>
            <a:off x="3474720" y="50785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4" idx="2"/>
            <a:endCxn id="185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5" idx="2"/>
            <a:endCxn id="188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5"/>
          <p:cNvCxnSpPr>
            <a:stCxn id="182" idx="2"/>
            <a:endCxn id="184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3"/>
          <p:cNvSpPr/>
          <p:nvPr/>
        </p:nvSpPr>
        <p:spPr>
          <a:xfrm>
            <a:off x="1689120" y="208296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ebisc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3"/>
          <p:cNvSpPr/>
          <p:nvPr/>
        </p:nvSpPr>
        <p:spPr>
          <a:xfrm>
            <a:off x="1689120" y="2085840"/>
            <a:ext cx="3529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ferénd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referé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>
            <a:stCxn id="211" idx="2"/>
            <a:endCxn id="212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>
            <a:stCxn id="212" idx="2"/>
            <a:endCxn id="215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85"/>
          <p:cNvCxnSpPr>
            <a:stCxn id="209" idx="2"/>
            <a:endCxn id="211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82640" y="215280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iniciativa pop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 la solicitud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32"/>
          <p:cNvCxnSpPr>
            <a:stCxn id="235" idx="2"/>
            <a:endCxn id="236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32"/>
          <p:cNvCxnSpPr>
            <a:stCxn id="236" idx="2"/>
            <a:endCxn id="239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685"/>
          <p:cNvCxnSpPr>
            <a:stCxn id="233" idx="2"/>
            <a:endCxn id="235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27T18:22:45Z</cp:lastPrinted>
  <dcterms:modified xsi:type="dcterms:W3CDTF">2013-04-29T18:03:25Z</dcterms:modified>
  <cp:revision>323</cp:revision>
  <dc:subject/>
  <dc:title>Presentación de PowerPoint</dc:title>
</cp:coreProperties>
</file>