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A9AD-6571-4318-B75C-DBA1D01AEB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71C7-A4C8-48F7-858E-24C53D71B6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5C7F-9BB9-4611-901A-6D3792CD2B8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4BB-6AED-4C66-AA3B-D0193691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061-392A-4CE1-8D9A-B4487B37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1438-778F-4023-8B7A-51DDE5E3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CA2-1E6E-47A9-B9A5-A316C4EA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5A6-1095-417C-BC9F-F6D377D2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D55-770A-47BC-8BAD-62A18E70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2F7-BED9-4598-A630-960FF9CE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D59-73CA-4C07-AAEC-5896032D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10A-7879-46EE-9840-8D3354E8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886-A048-404C-8F0B-B0AA2A2A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68D-C138-47E3-9926-8FABFE2E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AA5-380D-4C3D-8856-94BBD159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ACAF-8D39-45EB-9947-9E8930DF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98A7-F0B5-46CA-8228-6B810D9B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CC10-E69F-4774-A717-323A1586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6B3C-FABF-499D-90C0-554EEFE5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2585-FA6E-4FFD-9204-547E4C7E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194B-239B-4BCA-84E7-2452B52F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38CF-1A3B-4B63-A611-53FCE1DA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F0CE-0900-4298-83CA-77C11293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097F-69CA-40E7-89D5-06B9C6FA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1A9B-CC19-426E-80C5-2FAC6F84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757B-70A6-460F-A27C-FEFBCBFE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D93C-6F6A-4071-8E2C-942FE7EF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trol y Gest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11AC0574-AC39-48DF-A2AB-CA125269B3B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Contral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06A5-D84F-48A5-A724-33FC5BE5D48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BA33-785D-474D-863B-D80325E5784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83672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200160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124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información para análisi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484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laboración de alternativas de resolución de procesos administrat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327672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46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puesta de alterna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33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684"/>
          <p:cNvCxnSpPr>
            <a:stCxn id="163" idx="2"/>
            <a:endCxn id="168" idx="0"/>
          </p:cNvCxnSpPr>
          <p:nvPr/>
        </p:nvCxnSpPr>
        <p:spPr>
          <a:xfrm>
            <a:off x="3498840" y="270000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248616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gestión y control administr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2844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gestión y control administr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399564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oficio / 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84472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evi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56"/>
          <p:cNvSpPr/>
          <p:nvPr/>
        </p:nvSpPr>
        <p:spPr>
          <a:xfrm>
            <a:off x="1700280" y="2844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nvía informe sobre alternativas de 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34"/>
          <p:cNvSpPr/>
          <p:nvPr/>
        </p:nvSpPr>
        <p:spPr>
          <a:xfrm>
            <a:off x="3213000" y="5292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2767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la propuesta y se revisa para su aprob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32"/>
          <p:cNvCxnSpPr>
            <a:stCxn id="174" idx="2"/>
          </p:cNvCxnSpPr>
          <p:nvPr/>
        </p:nvCxnSpPr>
        <p:spPr>
          <a:xfrm>
            <a:off x="3499920" y="3492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Rectangle 701"/>
          <p:cNvSpPr/>
          <p:nvPr/>
        </p:nvSpPr>
        <p:spPr>
          <a:xfrm>
            <a:off x="333360" y="3276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20527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iódicos / medios de comunica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 /notic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0"/>
          <p:cNvSpPr/>
          <p:nvPr/>
        </p:nvSpPr>
        <p:spPr>
          <a:xfrm>
            <a:off x="404640" y="2124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gestión y control administr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01"/>
          <p:cNvSpPr/>
          <p:nvPr/>
        </p:nvSpPr>
        <p:spPr>
          <a:xfrm>
            <a:off x="333360" y="392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56 Rombo"/>
          <p:cNvSpPr/>
          <p:nvPr/>
        </p:nvSpPr>
        <p:spPr>
          <a:xfrm>
            <a:off x="3090960" y="365292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57 CuadroTexto"/>
          <p:cNvSpPr/>
          <p:nvPr/>
        </p:nvSpPr>
        <p:spPr>
          <a:xfrm>
            <a:off x="3141720" y="372276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probad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64 Conector angular"/>
          <p:cNvCxnSpPr>
            <a:stCxn id="180" idx="1"/>
            <a:endCxn id="173" idx="2"/>
          </p:cNvCxnSpPr>
          <p:nvPr/>
        </p:nvCxnSpPr>
        <p:spPr>
          <a:xfrm flipH="1" flipV="1" rot="10800000">
            <a:off x="3089520" y="3831120"/>
            <a:ext cx="122400" cy="1569240"/>
          </a:xfrm>
          <a:prstGeom prst="bentConnector3">
            <a:avLst>
              <a:gd name="adj1" fmla="val -58348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3" name="72 CuadroTexto"/>
          <p:cNvSpPr/>
          <p:nvPr/>
        </p:nvSpPr>
        <p:spPr>
          <a:xfrm>
            <a:off x="4005360" y="3564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73 CuadroTexto"/>
          <p:cNvSpPr/>
          <p:nvPr/>
        </p:nvSpPr>
        <p:spPr>
          <a:xfrm>
            <a:off x="2565360" y="3564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64 Conector angular"/>
          <p:cNvCxnSpPr>
            <a:stCxn id="180" idx="3"/>
            <a:endCxn id="186" idx="0"/>
          </p:cNvCxnSpPr>
          <p:nvPr/>
        </p:nvCxnSpPr>
        <p:spPr>
          <a:xfrm>
            <a:off x="3948120" y="3831840"/>
            <a:ext cx="489600" cy="2358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6" name="Rectangle 656"/>
          <p:cNvSpPr/>
          <p:nvPr/>
        </p:nvSpPr>
        <p:spPr>
          <a:xfrm>
            <a:off x="3573360" y="4067280"/>
            <a:ext cx="172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mte a presidencia , Secretaria Ejecutiva o consej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AutoShape 32"/>
          <p:cNvCxnSpPr>
            <a:stCxn id="168" idx="2"/>
          </p:cNvCxnSpPr>
          <p:nvPr/>
        </p:nvCxnSpPr>
        <p:spPr>
          <a:xfrm>
            <a:off x="3499920" y="30607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Rectangle 656"/>
          <p:cNvSpPr/>
          <p:nvPr/>
        </p:nvSpPr>
        <p:spPr>
          <a:xfrm>
            <a:off x="3573360" y="4572000"/>
            <a:ext cx="17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plica cambio o propuesta y se regristra en informe an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64 Conector angular"/>
          <p:cNvCxnSpPr>
            <a:stCxn id="188" idx="2"/>
            <a:endCxn id="173" idx="6"/>
          </p:cNvCxnSpPr>
          <p:nvPr/>
        </p:nvCxnSpPr>
        <p:spPr>
          <a:xfrm rot="5400000">
            <a:off x="3842640" y="4806720"/>
            <a:ext cx="540360" cy="648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0" name="Rectangle 701"/>
          <p:cNvSpPr/>
          <p:nvPr/>
        </p:nvSpPr>
        <p:spPr>
          <a:xfrm>
            <a:off x="333360" y="4500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66"/>
          <p:cNvSpPr/>
          <p:nvPr/>
        </p:nvSpPr>
        <p:spPr>
          <a:xfrm>
            <a:off x="5373720" y="45720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anu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1-17T00:57:05Z</dcterms:modified>
  <cp:revision>302</cp:revision>
  <dc:subject/>
  <dc:title>Presentación de PowerPoint</dc:title>
</cp:coreProperties>
</file>