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A9F5-D072-4913-A65C-D889ED1F86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7D4E-D0AB-44D6-8139-5299E4BE7F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CED9-C807-4F66-A3ED-F6F0B3BE48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EEB-EB2E-4C2D-9A39-83522E98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331-B6AC-47E4-B79A-7D9F566B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FCC-257A-4370-A437-F3B9BE0F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262-0D6F-4B80-B49D-45FC85F3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76F-903C-4270-9D15-4743E72A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562-FA73-4A3B-B55A-ED5AC59A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06A-5C27-4763-9E98-195CA342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967-FA68-459F-8CCE-566D2B83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ACC-0B26-4D4B-929E-E264AA59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7F1-5763-47B0-9E33-87FDC921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768-0902-445A-A1DD-A7904633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E30-C0B0-4FEC-823E-05A68B64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4C84-9172-4E95-BD0A-DFFD5444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BD4E-DB4F-4975-9E0C-2A2F580C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7905-29D3-49BE-B4D6-162DDA6D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0061-757B-42DD-82A9-8667695F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237E-C520-4B4D-92EF-1531DB8A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6EE6-B21F-4A00-BFCD-33DE9473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6BD3-3E08-4797-81BA-6557E5EE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F0E5-FB82-43B6-B5BD-342BF065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0B07-16BD-4116-9367-F6533C4A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9FF8-C63D-4652-AB3E-65A9126F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F8F6-82E8-42A7-89CB-AD324A67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5C51-D3A9-46BE-9B65-8145E9B4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01E95-4464-4B5C-81FF-6126581C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3798-03AC-4305-A490-B5F13570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8F865-0DF1-495F-9970-C1354804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E98F-F85B-444B-8E7D-459FB0F1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11D2-9FE5-42E2-8215-CE507FE1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1D6C7-1F20-4F70-8096-67390EE7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0904-899B-4DFF-A551-4642AAE0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AB03-E593-49BA-9B34-B5FF7BAD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AB5C0-F756-4ADD-A5B0-F878B3D9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928D-DC0E-425C-B27A-B7B5DA9D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2F54-89BF-4842-B071-2CDD1233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0300-CC83-418F-99CB-91C216E0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valuación y segu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207A32CD-37FC-45C2-ADE8-24654848CA9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Capacitación Electoral y Educación Cív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4C7E-0852-4117-BDA4-792BFBCAC59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8730-DF59-4BC9-9883-6E7513A09D6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59CF-34CD-46E6-8E79-6C021727CF6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valuar, supervisar y dar seguimiento a las actividades de capacitación que realizan los CAES mediante los reportes de productividad que arroja el SINS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de evaluación y seguimiento aplica para dar seguimiento a las actividades de los CAES en el proceso de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NSEL: Sistema de Información y Seguimiento Elec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AES:  Capacitadores Asistentes Electo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ZORES: Zona de Responsa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ARES: Areas de Responsa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analizan las necesidades del sistema electrónico para evaluación y seguimiento de la capaci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700280" y="2484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software y se realiza el man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373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T-OPE-01 / P-OPE-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840" y="219564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 flipH="1">
            <a:off x="3499560" y="2700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48616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84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771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tura información de personal eventual de capacit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vinculación distrital con los coordinadores distrital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rean ZORES con subcoordinadores (áreas geográficas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signan ARES a capacitadores en el sist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27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564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3718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tura información recabada y se archivan docum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00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666"/>
          <p:cNvSpPr/>
          <p:nvPr/>
        </p:nvSpPr>
        <p:spPr>
          <a:xfrm>
            <a:off x="5373720" y="1892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o para SINSE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32"/>
          <p:cNvCxnSpPr>
            <a:stCxn id="225" idx="2"/>
          </p:cNvCxnSpPr>
          <p:nvPr/>
        </p:nvCxnSpPr>
        <p:spPr>
          <a:xfrm>
            <a:off x="3499920" y="45874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34"/>
          <p:cNvSpPr/>
          <p:nvPr/>
        </p:nvSpPr>
        <p:spPr>
          <a:xfrm>
            <a:off x="3213000" y="6443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1"/>
          <p:cNvSpPr/>
          <p:nvPr/>
        </p:nvSpPr>
        <p:spPr>
          <a:xfrm>
            <a:off x="333360" y="48610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pturi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66"/>
          <p:cNvSpPr/>
          <p:nvPr/>
        </p:nvSpPr>
        <p:spPr>
          <a:xfrm>
            <a:off x="5373720" y="477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valuaciones / 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18 Rectángulo"/>
          <p:cNvSpPr/>
          <p:nvPr/>
        </p:nvSpPr>
        <p:spPr>
          <a:xfrm>
            <a:off x="1700280" y="4859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realizan evaluaciones y se  emiten reportes de productividad de CAES y en base a lo obtenido se realizan supervis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AutoShape 32"/>
          <p:cNvCxnSpPr>
            <a:stCxn id="234" idx="2"/>
          </p:cNvCxnSpPr>
          <p:nvPr/>
        </p:nvCxnSpPr>
        <p:spPr>
          <a:xfrm>
            <a:off x="3499920" y="5075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Rectangle 661"/>
          <p:cNvSpPr/>
          <p:nvPr/>
        </p:nvSpPr>
        <p:spPr>
          <a:xfrm>
            <a:off x="333360" y="5381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  / 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5292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18 Rectángulo"/>
          <p:cNvSpPr/>
          <p:nvPr/>
        </p:nvSpPr>
        <p:spPr>
          <a:xfrm>
            <a:off x="1700280" y="53802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aban datos de funcionarios de casi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AutoShape 32"/>
          <p:cNvCxnSpPr>
            <a:stCxn id="238" idx="2"/>
          </p:cNvCxnSpPr>
          <p:nvPr/>
        </p:nvCxnSpPr>
        <p:spPr>
          <a:xfrm>
            <a:off x="3499920" y="55954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Rectangle 661"/>
          <p:cNvSpPr/>
          <p:nvPr/>
        </p:nvSpPr>
        <p:spPr>
          <a:xfrm>
            <a:off x="333360" y="58849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C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ordinadores centrales / 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6"/>
          <p:cNvSpPr/>
          <p:nvPr/>
        </p:nvSpPr>
        <p:spPr>
          <a:xfrm>
            <a:off x="5373720" y="5796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onocimientos / 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18 Rectángulo"/>
          <p:cNvSpPr/>
          <p:nvPr/>
        </p:nvSpPr>
        <p:spPr>
          <a:xfrm>
            <a:off x="1700280" y="58831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n reportes de productividad y se supervisa y toman acciones correctivas y se entregan reconocimiento a capacitador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32"/>
          <p:cNvCxnSpPr>
            <a:stCxn id="242" idx="2"/>
            <a:endCxn id="231" idx="0"/>
          </p:cNvCxnSpPr>
          <p:nvPr/>
        </p:nvCxnSpPr>
        <p:spPr>
          <a:xfrm>
            <a:off x="3499920" y="6098760"/>
            <a:ext cx="2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8T20:46:41Z</dcterms:modified>
  <cp:revision>335</cp:revision>
  <dc:subject/>
  <dc:title>Presentación de PowerPoint</dc:title>
</cp:coreProperties>
</file>