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88A7-F1B2-45E8-B669-42DB8744B3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42F4-8B35-4B4B-8C81-F7845CD1E8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4FE1-6959-4BB9-B464-4F6827942C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Recepción de Materia P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A7A0573-7419-4AA0-8849-61349CA90F2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8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uditor Inte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6-0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6-0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el control adecuado para la recepción de Material que se reciba en IEPC para que verificar los características de acuerdo a lo solicitado en la orden de comp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ste procedimiento aplica para toda la Materia Prima utilizada en el desarrollo de actividades que el IEPC realice para su funcionamiento diar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Materia Prima: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Material necesario para realizar una activid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124000"/>
            <a:ext cx="360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ibe aviso del almacén de la llegada de materia prima y se le llama al área involucrada con la com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357120" y="221472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429160" y="2214720"/>
            <a:ext cx="1224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quisicione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81"/>
          <p:cNvCxnSpPr>
            <a:stCxn id="80" idx="2"/>
            <a:endCxn id="84" idx="0"/>
          </p:cNvCxnSpPr>
          <p:nvPr/>
        </p:nvCxnSpPr>
        <p:spPr>
          <a:xfrm>
            <a:off x="3498840" y="2484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652"/>
          <p:cNvSpPr/>
          <p:nvPr/>
        </p:nvSpPr>
        <p:spPr>
          <a:xfrm>
            <a:off x="1700280" y="2700360"/>
            <a:ext cx="3600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producto en base a la orden de compra contra la fac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429160" y="271476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rden de Compra/ Fac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52"/>
          <p:cNvSpPr/>
          <p:nvPr/>
        </p:nvSpPr>
        <p:spPr>
          <a:xfrm>
            <a:off x="1643040" y="6667560"/>
            <a:ext cx="360036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ntrega a almacén el producto para su alta en Control de Almacé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a: aplica solo en accesorios y productos para uso del institu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2"/>
          <p:cNvSpPr/>
          <p:nvPr/>
        </p:nvSpPr>
        <p:spPr>
          <a:xfrm>
            <a:off x="5429160" y="65959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trol de almacén/ Formato de recepción de Vehículo / Expediente de Unidades entregad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681"/>
          <p:cNvCxnSpPr>
            <a:stCxn id="86" idx="2"/>
            <a:endCxn id="89" idx="0"/>
          </p:cNvCxnSpPr>
          <p:nvPr/>
        </p:nvCxnSpPr>
        <p:spPr>
          <a:xfrm flipH="1">
            <a:off x="3431520" y="7214760"/>
            <a:ext cx="118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AutoShape 30"/>
          <p:cNvSpPr/>
          <p:nvPr/>
        </p:nvSpPr>
        <p:spPr>
          <a:xfrm>
            <a:off x="3071880" y="7596360"/>
            <a:ext cx="718920" cy="190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57"/>
          <p:cNvSpPr/>
          <p:nvPr/>
        </p:nvSpPr>
        <p:spPr>
          <a:xfrm>
            <a:off x="357120" y="257184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Ingeniería y Diseño  y Control de Calidad/ Almaceni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57"/>
          <p:cNvSpPr/>
          <p:nvPr/>
        </p:nvSpPr>
        <p:spPr>
          <a:xfrm>
            <a:off x="357120" y="585792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Ingeniería y Diseño  y Control de Calidad/ Almacenista/ Jefe 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7 Triángulo isósceles"/>
          <p:cNvSpPr/>
          <p:nvPr/>
        </p:nvSpPr>
        <p:spPr>
          <a:xfrm>
            <a:off x="2286000" y="3786120"/>
            <a:ext cx="2500200" cy="714600"/>
          </a:xfrm>
          <a:prstGeom prst="triangle">
            <a:avLst>
              <a:gd name="adj" fmla="val 4904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Producto no conforme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681"/>
          <p:cNvCxnSpPr>
            <a:stCxn id="94" idx="2"/>
          </p:cNvCxnSpPr>
          <p:nvPr/>
        </p:nvCxnSpPr>
        <p:spPr>
          <a:xfrm>
            <a:off x="3489840" y="3642840"/>
            <a:ext cx="20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1"/>
          <p:cNvCxnSpPr>
            <a:endCxn id="86" idx="0"/>
          </p:cNvCxnSpPr>
          <p:nvPr/>
        </p:nvCxnSpPr>
        <p:spPr>
          <a:xfrm>
            <a:off x="3429000" y="5429160"/>
            <a:ext cx="15120" cy="123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58 Forma"/>
          <p:cNvCxnSpPr>
            <a:stCxn id="92" idx="2"/>
          </p:cNvCxnSpPr>
          <p:nvPr/>
        </p:nvCxnSpPr>
        <p:spPr>
          <a:xfrm flipH="1" rot="16200000">
            <a:off x="2392200" y="4393080"/>
            <a:ext cx="929160" cy="114372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97" name="59 CuadroTexto"/>
          <p:cNvSpPr/>
          <p:nvPr/>
        </p:nvSpPr>
        <p:spPr>
          <a:xfrm>
            <a:off x="2000160" y="4357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60 CuadroTexto"/>
          <p:cNvSpPr/>
          <p:nvPr/>
        </p:nvSpPr>
        <p:spPr>
          <a:xfrm>
            <a:off x="4714920" y="4357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62 Rectángulo"/>
          <p:cNvSpPr/>
          <p:nvPr/>
        </p:nvSpPr>
        <p:spPr>
          <a:xfrm>
            <a:off x="4143240" y="4786200"/>
            <a:ext cx="1214640" cy="642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llama a administración y se negocia con el proveedor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7"/>
          <p:cNvSpPr/>
          <p:nvPr/>
        </p:nvSpPr>
        <p:spPr>
          <a:xfrm>
            <a:off x="347760" y="435780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Ingeniería y Diseño  y Control de Calidad/ Almacenista/ Jefe 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2"/>
          <p:cNvSpPr/>
          <p:nvPr/>
        </p:nvSpPr>
        <p:spPr>
          <a:xfrm>
            <a:off x="5357880" y="4929120"/>
            <a:ext cx="1224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/ Teléfo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62 Rectángulo"/>
          <p:cNvSpPr/>
          <p:nvPr/>
        </p:nvSpPr>
        <p:spPr>
          <a:xfrm>
            <a:off x="4143240" y="5643720"/>
            <a:ext cx="121464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. Se toman acciones correctiva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74 Elipse"/>
          <p:cNvSpPr/>
          <p:nvPr/>
        </p:nvSpPr>
        <p:spPr>
          <a:xfrm>
            <a:off x="4572000" y="6381720"/>
            <a:ext cx="28584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74 Elipse"/>
          <p:cNvSpPr/>
          <p:nvPr/>
        </p:nvSpPr>
        <p:spPr>
          <a:xfrm>
            <a:off x="2643120" y="7381800"/>
            <a:ext cx="28584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681"/>
          <p:cNvCxnSpPr>
            <a:stCxn id="104" idx="6"/>
          </p:cNvCxnSpPr>
          <p:nvPr/>
        </p:nvCxnSpPr>
        <p:spPr>
          <a:xfrm flipV="1">
            <a:off x="2928600" y="7452720"/>
            <a:ext cx="50076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681"/>
          <p:cNvCxnSpPr>
            <a:stCxn id="99" idx="2"/>
            <a:endCxn id="102" idx="0"/>
          </p:cNvCxnSpPr>
          <p:nvPr/>
        </p:nvCxnSpPr>
        <p:spPr>
          <a:xfrm flipH="1">
            <a:off x="4749480" y="5430600"/>
            <a:ext cx="21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657"/>
          <p:cNvSpPr/>
          <p:nvPr/>
        </p:nvSpPr>
        <p:spPr>
          <a:xfrm>
            <a:off x="357120" y="514368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Ingeniería y Diseño  y Control de Calidad/ Almacenista/ Jefe 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2"/>
          <p:cNvSpPr/>
          <p:nvPr/>
        </p:nvSpPr>
        <p:spPr>
          <a:xfrm>
            <a:off x="5429160" y="57862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-RSG-04 / P-OPE-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2"/>
          <p:cNvSpPr/>
          <p:nvPr/>
        </p:nvSpPr>
        <p:spPr>
          <a:xfrm>
            <a:off x="1690560" y="3143160"/>
            <a:ext cx="3600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visa el funcionamiento y especificaciones del producto en productos críticos en caso de ser necesar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a: Se llenara el formato con firmas de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2"/>
          <p:cNvSpPr/>
          <p:nvPr/>
        </p:nvSpPr>
        <p:spPr>
          <a:xfrm>
            <a:off x="5419800" y="328608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rden de Compra/ Factura / check list de materiales críticos /check list de recepción de vehícu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57"/>
          <p:cNvSpPr/>
          <p:nvPr/>
        </p:nvSpPr>
        <p:spPr>
          <a:xfrm>
            <a:off x="347760" y="3143160"/>
            <a:ext cx="122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Ingeniería y Diseño  y Control de Calidad/ Almacenista/ Jefe 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681"/>
          <p:cNvCxnSpPr>
            <a:stCxn id="84" idx="2"/>
            <a:endCxn id="94" idx="0"/>
          </p:cNvCxnSpPr>
          <p:nvPr/>
        </p:nvCxnSpPr>
        <p:spPr>
          <a:xfrm flipH="1">
            <a:off x="3490560" y="2986200"/>
            <a:ext cx="1008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681"/>
          <p:cNvCxnSpPr/>
          <p:nvPr/>
        </p:nvCxnSpPr>
        <p:spPr>
          <a:xfrm flipH="1">
            <a:off x="4785480" y="4500360"/>
            <a:ext cx="252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681"/>
          <p:cNvCxnSpPr>
            <a:endCxn id="103" idx="0"/>
          </p:cNvCxnSpPr>
          <p:nvPr/>
        </p:nvCxnSpPr>
        <p:spPr>
          <a:xfrm flipH="1">
            <a:off x="4714560" y="6072120"/>
            <a:ext cx="216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Rectangle 657"/>
          <p:cNvSpPr/>
          <p:nvPr/>
        </p:nvSpPr>
        <p:spPr>
          <a:xfrm>
            <a:off x="357120" y="664056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Ingeniería y Diseño  y Control de Calidad/ Almacenista/ Jefe de Producción / Ejecutivo de Ve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6T16:05:43Z</dcterms:modified>
  <cp:revision>294</cp:revision>
  <dc:subject/>
  <dc:title>Presentación de PowerPoint</dc:title>
</cp:coreProperties>
</file>