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75F-1297-4D6E-881B-0C303F7A59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6EC-0F3D-4A1C-A9BB-3F4C3E27BF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519-5478-42B8-9157-BCBD2B2A59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9A6-DD52-4174-B5DF-88AEA2F9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F7A-8708-4804-BDBD-E73928CB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EBE-5139-46F8-91E4-75FE946B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899-575F-44E9-8347-75F1849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64C-523D-4199-AF33-09BBD52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A4-D978-432F-9B5A-941A38C1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4B9-8B76-43CB-8CC0-D6EB30B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07E-D808-4B54-905C-C0F7006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9F4-A875-42A9-9A50-B0318DA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751-8155-464F-8930-057792FA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4C9-6289-4AC2-B50F-F104CA36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A7A-D004-42A7-941B-340D8C2C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11DC31F-5C78-4593-80AB-D3F56350DAC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7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305-EACA-49F0-B405-B6B41246250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smar en documento las determinaciones tomadas por el consejo general, con la finalidad de vigilar el cumplimiento de la legislación electoral esta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alización de los acuerdos de Consejo Gener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590220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644508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0"/>
          <p:cNvSpPr/>
          <p:nvPr/>
        </p:nvSpPr>
        <p:spPr>
          <a:xfrm>
            <a:off x="338040" y="5900760"/>
            <a:ext cx="1224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1"/>
          <p:cNvSpPr/>
          <p:nvPr/>
        </p:nvSpPr>
        <p:spPr>
          <a:xfrm>
            <a:off x="345960" y="645948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0" idx="2"/>
            <a:endCxn id="138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700280" y="58881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4"/>
          <p:cNvSpPr/>
          <p:nvPr/>
        </p:nvSpPr>
        <p:spPr>
          <a:xfrm>
            <a:off x="3141720" y="7597800"/>
            <a:ext cx="57636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644508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í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2"/>
          <p:cNvCxnSpPr/>
          <p:nvPr/>
        </p:nvCxnSpPr>
        <p:spPr>
          <a:xfrm>
            <a:off x="3428640" y="6732360"/>
            <a:ext cx="108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39" idx="2"/>
            <a:endCxn id="142" idx="0"/>
          </p:cNvCxnSpPr>
          <p:nvPr/>
        </p:nvCxnSpPr>
        <p:spPr>
          <a:xfrm flipH="1">
            <a:off x="3463560" y="6248520"/>
            <a:ext cx="2160" cy="1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3360" y="5292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4"/>
          <p:cNvSpPr/>
          <p:nvPr/>
        </p:nvSpPr>
        <p:spPr>
          <a:xfrm>
            <a:off x="5300640" y="52196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56 Rombo"/>
          <p:cNvSpPr/>
          <p:nvPr/>
        </p:nvSpPr>
        <p:spPr>
          <a:xfrm>
            <a:off x="3017880" y="4645080"/>
            <a:ext cx="857160" cy="504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2997360" y="4803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64 Conector angular"/>
          <p:cNvCxnSpPr>
            <a:stCxn id="151" idx="1"/>
          </p:cNvCxnSpPr>
          <p:nvPr/>
        </p:nvCxnSpPr>
        <p:spPr>
          <a:xfrm flipV="1" rot="10800000">
            <a:off x="2133000" y="4897080"/>
            <a:ext cx="884880" cy="970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72 CuadroTexto"/>
          <p:cNvSpPr/>
          <p:nvPr/>
        </p:nvSpPr>
        <p:spPr>
          <a:xfrm>
            <a:off x="2421000" y="457200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73 CuadroTexto"/>
          <p:cNvSpPr/>
          <p:nvPr/>
        </p:nvSpPr>
        <p:spPr>
          <a:xfrm>
            <a:off x="393372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5"/>
          <p:cNvSpPr/>
          <p:nvPr/>
        </p:nvSpPr>
        <p:spPr>
          <a:xfrm>
            <a:off x="4365720" y="5435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64 Conector angular"/>
          <p:cNvCxnSpPr>
            <a:stCxn id="152" idx="3"/>
            <a:endCxn id="156" idx="0"/>
          </p:cNvCxnSpPr>
          <p:nvPr/>
        </p:nvCxnSpPr>
        <p:spPr>
          <a:xfrm>
            <a:off x="3862440" y="4903560"/>
            <a:ext cx="612000" cy="532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8" name="Oval 75"/>
          <p:cNvSpPr/>
          <p:nvPr/>
        </p:nvSpPr>
        <p:spPr>
          <a:xfrm>
            <a:off x="2565360" y="7164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32"/>
          <p:cNvCxnSpPr/>
          <p:nvPr/>
        </p:nvCxnSpPr>
        <p:spPr>
          <a:xfrm flipV="1">
            <a:off x="2781000" y="723528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20:07:56Z</cp:lastPrinted>
  <dcterms:modified xsi:type="dcterms:W3CDTF">2013-04-29T18:02:38Z</dcterms:modified>
  <cp:revision>297</cp:revision>
  <dc:subject/>
  <dc:title>Presentación de PowerPoint</dc:title>
</cp:coreProperties>
</file>