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4"/>
          <p:cNvSpPr/>
          <p:nvPr/>
        </p:nvSpPr>
        <p:spPr>
          <a:xfrm>
            <a:off x="2428920" y="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RSG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643280" y="-27000"/>
            <a:ext cx="4500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Acciones correctivas y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79280" y="790560"/>
            <a:ext cx="2305080" cy="116352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6804000" y="811080"/>
            <a:ext cx="2160720" cy="12495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trol de Calid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uditores Inter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Responsables de 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179280" y="5518080"/>
            <a:ext cx="2305080" cy="1079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6659640" y="5518080"/>
            <a:ext cx="2305080" cy="1008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EFICACIA: Cierre de No Conformidades o No Conformidades Potenciales en Tiempo y For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79280" y="2305080"/>
            <a:ext cx="1728720" cy="26654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blema / Incumplimi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Problema potencial / Incumplimiento Pot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centrado de Acciones Correctivas y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Correctivas y Preventivas anteri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7058160" y="2305080"/>
            <a:ext cx="1871640" cy="252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Concentrado de Acciones Correctivas y Preventivas actualiz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"/>
              </a:rPr>
              <a:t>Acción Correctiva y/o Preventiva implement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00200" y="2521080"/>
            <a:ext cx="4015080" cy="25048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1996920" y="35290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6572160" y="35290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 rot="18119400">
            <a:off x="2146680" y="50662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8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8"/>
          <p:cNvSpPr/>
          <p:nvPr/>
        </p:nvSpPr>
        <p:spPr>
          <a:xfrm rot="13998000">
            <a:off x="6344280" y="51260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0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9"/>
          <p:cNvSpPr/>
          <p:nvPr/>
        </p:nvSpPr>
        <p:spPr>
          <a:xfrm rot="3305400">
            <a:off x="2159640" y="20534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20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0"/>
          <p:cNvSpPr/>
          <p:nvPr/>
        </p:nvSpPr>
        <p:spPr>
          <a:xfrm rot="7229400">
            <a:off x="6301080" y="20898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97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4"/>
          <p:cNvSpPr/>
          <p:nvPr/>
        </p:nvSpPr>
        <p:spPr>
          <a:xfrm>
            <a:off x="2685960" y="3024360"/>
            <a:ext cx="1600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dentifica problema o problema potencial y lo regi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5"/>
          <p:cNvSpPr/>
          <p:nvPr/>
        </p:nvSpPr>
        <p:spPr>
          <a:xfrm>
            <a:off x="2685960" y="3738600"/>
            <a:ext cx="160020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naliza si procede y regi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6"/>
          <p:cNvSpPr/>
          <p:nvPr/>
        </p:nvSpPr>
        <p:spPr>
          <a:xfrm>
            <a:off x="4846680" y="2882880"/>
            <a:ext cx="144000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aliza Acción Correctiva o Preventi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7"/>
          <p:cNvSpPr/>
          <p:nvPr/>
        </p:nvSpPr>
        <p:spPr>
          <a:xfrm>
            <a:off x="4846680" y="3457440"/>
            <a:ext cx="144000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Verifica efe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8"/>
          <p:cNvSpPr/>
          <p:nvPr/>
        </p:nvSpPr>
        <p:spPr>
          <a:xfrm>
            <a:off x="4846680" y="3965400"/>
            <a:ext cx="144000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gistra cierre de la acció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59"/>
          <p:cNvCxnSpPr>
            <a:stCxn id="56" idx="2"/>
            <a:endCxn id="57" idx="0"/>
          </p:cNvCxnSpPr>
          <p:nvPr/>
        </p:nvCxnSpPr>
        <p:spPr>
          <a:xfrm>
            <a:off x="3485880" y="3529080"/>
            <a:ext cx="360" cy="20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60"/>
          <p:cNvCxnSpPr>
            <a:stCxn id="63" idx="3"/>
            <a:endCxn id="58" idx="1"/>
          </p:cNvCxnSpPr>
          <p:nvPr/>
        </p:nvCxnSpPr>
        <p:spPr>
          <a:xfrm flipV="1">
            <a:off x="4286160" y="3062160"/>
            <a:ext cx="560880" cy="1564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61"/>
          <p:cNvCxnSpPr>
            <a:stCxn id="58" idx="2"/>
            <a:endCxn id="59" idx="0"/>
          </p:cNvCxnSpPr>
          <p:nvPr/>
        </p:nvCxnSpPr>
        <p:spPr>
          <a:xfrm>
            <a:off x="5566680" y="3241800"/>
            <a:ext cx="36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2"/>
          <p:cNvCxnSpPr>
            <a:stCxn id="59" idx="2"/>
            <a:endCxn id="60" idx="0"/>
          </p:cNvCxnSpPr>
          <p:nvPr/>
        </p:nvCxnSpPr>
        <p:spPr>
          <a:xfrm>
            <a:off x="5566680" y="37400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Oval 63"/>
          <p:cNvSpPr/>
          <p:nvPr/>
        </p:nvSpPr>
        <p:spPr>
          <a:xfrm>
            <a:off x="3200400" y="2597040"/>
            <a:ext cx="576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4"/>
          <p:cNvSpPr/>
          <p:nvPr/>
        </p:nvSpPr>
        <p:spPr>
          <a:xfrm>
            <a:off x="5278320" y="4597560"/>
            <a:ext cx="57636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65"/>
          <p:cNvCxnSpPr>
            <a:stCxn id="60" idx="2"/>
            <a:endCxn id="67" idx="0"/>
          </p:cNvCxnSpPr>
          <p:nvPr/>
        </p:nvCxnSpPr>
        <p:spPr>
          <a:xfrm>
            <a:off x="5566680" y="4311720"/>
            <a:ext cx="3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6"/>
          <p:cNvCxnSpPr>
            <a:stCxn id="66" idx="4"/>
            <a:endCxn id="56" idx="0"/>
          </p:cNvCxnSpPr>
          <p:nvPr/>
        </p:nvCxnSpPr>
        <p:spPr>
          <a:xfrm flipH="1">
            <a:off x="3485880" y="2813040"/>
            <a:ext cx="324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Rectangle 67"/>
          <p:cNvSpPr/>
          <p:nvPr/>
        </p:nvSpPr>
        <p:spPr>
          <a:xfrm>
            <a:off x="2685960" y="4370400"/>
            <a:ext cx="1600200" cy="51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dentifica las causas, en caso de que aplique define acción de conten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8"/>
          <p:cNvCxnSpPr>
            <a:stCxn id="57" idx="2"/>
            <a:endCxn id="63" idx="0"/>
          </p:cNvCxnSpPr>
          <p:nvPr/>
        </p:nvCxnSpPr>
        <p:spPr>
          <a:xfrm>
            <a:off x="3485880" y="4097160"/>
            <a:ext cx="360" cy="27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1-11-15T19:14:40Z</dcterms:modified>
  <cp:revision>99</cp:revision>
  <dc:subject/>
  <dc:title>Diapositiva 1</dc:title>
</cp:coreProperties>
</file>