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8CF-FDA2-4A9E-ABD4-2B15BD6A27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030-CF20-48BF-8857-58B5DA5D0A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4E9-EFA5-4F0F-916D-DE244517DF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AD0-C573-4EB4-A4E6-80D5ACCB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48D-7C38-4B76-84F8-F2093D46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2FC-AE96-477D-B879-5A99D926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0CF-EA1E-40D1-93B9-14FA091E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BC6-CE09-4161-B574-1C2814B5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780-EEC0-4D74-BCAC-A6C8256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FD9-F1D5-4911-B6AE-644290C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447-7AF7-4ECA-BD73-121B41B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EBD-79AD-4571-BBA6-2959E23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F8A-E2B5-4C6D-B3C3-48D228EE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881-0AE3-45DF-8E0D-B27060D5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1BE-8398-4654-87AA-B22F21E8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83E7-57FF-408F-93A9-06EA945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F985-D6FA-4328-AE49-5FA2134E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39C-7147-488E-9659-0A7F6DEE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3608-35AE-4FFF-9569-D1E204D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40CE-F52A-4750-8EB4-DB1F8503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3CAF-9562-403B-81B5-57ECC038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DFB-B5F8-45C5-9664-3CC01F6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0EAA-BE5F-479B-A184-A4C9CFA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A624-C017-4ED6-89CD-D9E4FA4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22D-E7C9-480B-86D0-0E3336FB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B05-1E31-4758-A536-3C9171D9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2964-11E3-4138-88C0-FBF7B8D8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97BFDBF-3F61-4024-93BF-A8222DBD55F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27B3-7986-404B-A611-C72FBB7D97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D158-CCE6-4EFC-A7A2-E4B3B91E350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documentos a firma /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olicita a todas las áreas reporte sema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a las diferentes áreas y se analizan para toma de dec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661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stCxn id="202" idx="2"/>
          </p:cNvCxnSpPr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2"/>
          <p:cNvSpPr/>
          <p:nvPr/>
        </p:nvSpPr>
        <p:spPr>
          <a:xfrm>
            <a:off x="1700280" y="7164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ada 2 semanas se revisara con cada director sus reportes para realizar un plan de acción y darles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91000" y="7093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semanales / plan de 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0"/>
          <p:cNvSpPr/>
          <p:nvPr/>
        </p:nvSpPr>
        <p:spPr>
          <a:xfrm>
            <a:off x="333360" y="723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49"/>
          <p:cNvCxnSpPr>
            <a:stCxn id="207" idx="2"/>
            <a:endCxn id="173" idx="0"/>
          </p:cNvCxnSpPr>
          <p:nvPr/>
        </p:nvCxnSpPr>
        <p:spPr>
          <a:xfrm>
            <a:off x="3499920" y="745128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34:54Z</dcterms:modified>
  <cp:revision>339</cp:revision>
  <dc:subject/>
  <dc:title>Presentación de PowerPoint</dc:title>
</cp:coreProperties>
</file>