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077A-DB9B-4A88-B760-759AADC0D7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4890-E46C-4472-A99D-7B55B17AFC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3C0-5142-4A46-9EFE-7C2B9BEF44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9A4E-EC18-4050-9C48-247E873D06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398-8688-4EEB-B690-11096092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108-72BE-48A6-A27A-C14E053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557-203C-488B-A1CF-A0181F2D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578-1985-4A42-9B0F-62E16154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827-74E9-4176-97EC-7BD1041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36F-25E0-4455-B829-22EB0C06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E9E-5CE4-4DC4-BC9D-E4A1BD3A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F8D-2532-4DF6-8F71-A5CB732D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41D-EA23-4FD3-80DA-716CC7D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A50-139F-4356-8F88-88A42DAB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A54-236D-4629-9044-B3B4E6D8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D90-62DE-4688-B2FE-14B9D6AE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3252-0867-49A7-868A-1CFD0A65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93BC-DECF-4CA8-8876-38DD2527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686D-75C7-415B-AD2F-4DE31DE5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EBDD-969C-424E-AEAC-46CA3718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CCCC-A8B2-4B5D-BCA1-2DD904F0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BF08-716E-4DE9-ACFA-27B680BB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73E5-F948-4F2A-BAFA-FBE2E7BE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500F-3610-444F-BFD0-398D09A9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E518-064E-488E-AEC0-DFB6C51B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6ACF-E76E-4330-9B96-CF36302F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67BB-5A7F-4DCF-8E39-4594C404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DAE2-A275-4F41-AED2-6DED4DBE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dron de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2AF39D9-65B4-42DF-9418-A5B629A70D1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45600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C21-FA42-4A09-AB65-0E089D071BD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EA56-F1D1-45A2-B9E0-EEAFFE427AB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Llevar el registro y actualización del padrón de provee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para la búsqueda, registro e integración de proveedores al padrón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649"/>
          <p:cNvCxnSpPr>
            <a:stCxn id="158" idx="2"/>
            <a:endCxn id="160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la solicitud de Proveedores e integra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control de recibi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4284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 de sesión / minuta de correspondencia / estatus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0" idx="2"/>
            <a:endCxn id="161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630072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tus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18 Rectángulo"/>
          <p:cNvSpPr/>
          <p:nvPr/>
        </p:nvSpPr>
        <p:spPr>
          <a:xfrm>
            <a:off x="1700280" y="3562200"/>
            <a:ext cx="1152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Envía requerimiento firmado por el Consejero Presidente de la Comisión de Adquisi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1698480" y="414036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32"/>
          <p:cNvCxnSpPr/>
          <p:nvPr/>
        </p:nvCxnSpPr>
        <p:spPr>
          <a:xfrm>
            <a:off x="227628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32"/>
          <p:cNvCxnSpPr/>
          <p:nvPr/>
        </p:nvCxnSpPr>
        <p:spPr>
          <a:xfrm>
            <a:off x="227628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/>
          <p:nvPr/>
        </p:nvCxnSpPr>
        <p:spPr>
          <a:xfrm>
            <a:off x="4365360" y="50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32"/>
          <p:cNvCxnSpPr>
            <a:stCxn id="180" idx="2"/>
          </p:cNvCxnSpPr>
          <p:nvPr/>
        </p:nvCxnSpPr>
        <p:spPr>
          <a:xfrm flipH="1">
            <a:off x="2275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Proveedores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6 Rombo"/>
          <p:cNvSpPr/>
          <p:nvPr/>
        </p:nvSpPr>
        <p:spPr>
          <a:xfrm>
            <a:off x="3090960" y="565308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64 Conector angular"/>
          <p:cNvCxnSpPr>
            <a:stCxn id="186" idx="1"/>
            <a:endCxn id="189" idx="0"/>
          </p:cNvCxnSpPr>
          <p:nvPr/>
        </p:nvCxnSpPr>
        <p:spPr>
          <a:xfrm flipV="1" rot="10800000">
            <a:off x="2493360" y="5831280"/>
            <a:ext cx="597600" cy="469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628640" y="630072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pleta la información en expediente y se regis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86" idx="3"/>
          </p:cNvCxnSpPr>
          <p:nvPr/>
        </p:nvCxnSpPr>
        <p:spPr>
          <a:xfrm>
            <a:off x="3948120" y="5832360"/>
            <a:ext cx="597600" cy="524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3" name="56 Rombo"/>
          <p:cNvSpPr/>
          <p:nvPr/>
        </p:nvSpPr>
        <p:spPr>
          <a:xfrm>
            <a:off x="3089160" y="3132000"/>
            <a:ext cx="857520" cy="50328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068640" y="320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requiere documen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  <a:endCxn id="171" idx="0"/>
          </p:cNvCxnSpPr>
          <p:nvPr/>
        </p:nvCxnSpPr>
        <p:spPr>
          <a:xfrm flipV="1" rot="10800000">
            <a:off x="2275920" y="3383640"/>
            <a:ext cx="813240" cy="178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6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3" idx="3"/>
            <a:endCxn id="198" idx="0"/>
          </p:cNvCxnSpPr>
          <p:nvPr/>
        </p:nvCxnSpPr>
        <p:spPr>
          <a:xfrm>
            <a:off x="3946680" y="3384360"/>
            <a:ext cx="419760" cy="756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9" name="AutoShape 32"/>
          <p:cNvCxnSpPr>
            <a:stCxn id="189" idx="2"/>
          </p:cNvCxnSpPr>
          <p:nvPr/>
        </p:nvCxnSpPr>
        <p:spPr>
          <a:xfrm flipH="1">
            <a:off x="2491560" y="6587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5"/>
          <p:cNvSpPr/>
          <p:nvPr/>
        </p:nvSpPr>
        <p:spPr>
          <a:xfrm>
            <a:off x="2349360" y="687564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18 Rectángulo"/>
          <p:cNvSpPr/>
          <p:nvPr/>
        </p:nvSpPr>
        <p:spPr>
          <a:xfrm>
            <a:off x="378936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documentación fal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378936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contestación y agrega al expedi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700280" y="515628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a si es correcta y esta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64 Conector angular"/>
          <p:cNvCxnSpPr>
            <a:stCxn id="203" idx="2"/>
            <a:endCxn id="186" idx="0"/>
          </p:cNvCxnSpPr>
          <p:nvPr/>
        </p:nvCxnSpPr>
        <p:spPr>
          <a:xfrm flipH="1" rot="16200000">
            <a:off x="2793240" y="4926600"/>
            <a:ext cx="210240" cy="124344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heck list requerimien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429264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32"/>
          <p:cNvCxnSpPr/>
          <p:nvPr/>
        </p:nvCxnSpPr>
        <p:spPr>
          <a:xfrm flipH="1">
            <a:off x="2491920" y="673236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Oval 75"/>
          <p:cNvSpPr/>
          <p:nvPr/>
        </p:nvSpPr>
        <p:spPr>
          <a:xfrm>
            <a:off x="3429000" y="658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3772080" y="6377040"/>
            <a:ext cx="13204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Gira nuevo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73 CuadroTexto"/>
          <p:cNvSpPr/>
          <p:nvPr/>
        </p:nvSpPr>
        <p:spPr>
          <a:xfrm>
            <a:off x="4167360" y="3046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/>
          <p:nvPr/>
        </p:nvCxnSpPr>
        <p:spPr>
          <a:xfrm>
            <a:off x="4347720" y="45730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681"/>
          <p:cNvCxnSpPr>
            <a:endCxn id="193" idx="0"/>
          </p:cNvCxnSpPr>
          <p:nvPr/>
        </p:nvCxnSpPr>
        <p:spPr>
          <a:xfrm>
            <a:off x="3499920" y="2556000"/>
            <a:ext cx="1836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adrón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3213000" y="4643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puesta acuerdo para inclusión al padrón de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sesión para aprobar su inclu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32"/>
          <p:cNvCxnSpPr>
            <a:stCxn id="226" idx="2"/>
            <a:endCxn id="227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ctualiza el padrón de proveedores y envía a informática para generar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32"/>
          <p:cNvCxnSpPr>
            <a:stCxn id="227" idx="2"/>
            <a:endCxn id="229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rchiva 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AutoShape 32"/>
          <p:cNvCxnSpPr>
            <a:stCxn id="229" idx="2"/>
            <a:endCxn id="234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32"/>
          <p:cNvCxnSpPr>
            <a:stCxn id="234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Oval 75"/>
          <p:cNvSpPr/>
          <p:nvPr/>
        </p:nvSpPr>
        <p:spPr>
          <a:xfrm>
            <a:off x="3357720" y="248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32"/>
          <p:cNvCxnSpPr/>
          <p:nvPr/>
        </p:nvCxnSpPr>
        <p:spPr>
          <a:xfrm>
            <a:off x="3465000" y="27000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Miguel Godinez Terriquez</cp:lastModifiedBy>
  <cp:lastPrinted>2012-01-04T00:59:45Z</cp:lastPrinted>
  <dcterms:modified xsi:type="dcterms:W3CDTF">2013-05-02T18:06:14Z</dcterms:modified>
  <cp:revision>328</cp:revision>
  <dc:subject/>
  <dc:title>Presentación de PowerPoint</dc:title>
</cp:coreProperties>
</file>