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4B21-8B2D-4B5F-A4D5-0504B05ACC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1967-9CC0-464E-AD50-7EF4A73774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2100-636E-4F36-ACC3-C6D551DAC3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46B7-9DFC-468A-8EEA-F7982A3EE9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404-FFEF-461B-9322-8AE97CE1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41F-76D4-4F85-9236-55AFA7F4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754-8367-48B4-A8D6-AB1C534F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2E8-D90F-4B6D-A692-1220E37C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F6B-8F9E-4453-A28F-9EB418DE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7E6-F105-4577-8944-2BEB41F0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FE6-B0AE-4106-83F7-2066D7FE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AEA-F0DD-414D-AFCD-6BDE6D40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CB2-D170-4A18-83EE-004604B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BA1-799F-434D-A458-49FA410C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5BD-A3BA-4C7F-9DAC-EC32428E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464-66D9-47E6-A86C-D24FEFAC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2837-6477-42E6-BA92-FD18529C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60FD-4DCA-4458-A16B-59E956F4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C265-FDF6-4FF1-9425-E94AA081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26F1-6C30-4351-9331-14474F55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F1E8-B28C-448D-BD58-D77552FB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703D-D7FE-4711-835C-DB231A48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A455-E4C3-4379-A7E0-57BF1374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C670-2966-4223-ACAA-9CDFBDDC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B9F0-378E-47BC-A6E4-3E9E2B7E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6E72-0B7C-4361-B3BF-8C7B141E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9608-2A27-4637-85BA-AB4E509E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2194-18E8-40F2-9FEE-F7713390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cta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45AD7AD4-5DB8-4ABB-8167-D95B47BD308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3B5D-94FB-4F48-9A7F-5FC9A654B3A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593A-9BF1-4387-AD86-066BBB56243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comunicado con pet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gistra en 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1403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comunic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mite documentación a directora para su revisión y notificación a consejeros electorales correspond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700280" y="3490920"/>
            <a:ext cx="11523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signa al jefe de área para elaborar el proyecto de dicta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el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</p:cNvCxnSpPr>
          <p:nvPr/>
        </p:nvCxnSpPr>
        <p:spPr>
          <a:xfrm>
            <a:off x="2276280" y="3852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titular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2"/>
          <p:cNvCxnSpPr>
            <a:stCxn id="180" idx="2"/>
            <a:endCxn id="182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documento con correcciones u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2" idx="2"/>
            <a:endCxn id="184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finan detalles y se reúne con el consejero electoral presidente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4" idx="2"/>
            <a:endCxn id="190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90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municad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interno prev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ambio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  <a:endCxn id="203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ia a jefe de area para incorporar camb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3"/>
            <a:endCxn id="207" idx="3"/>
          </p:cNvCxnSpPr>
          <p:nvPr/>
        </p:nvCxnSpPr>
        <p:spPr>
          <a:xfrm>
            <a:off x="3948120" y="5776560"/>
            <a:ext cx="993960" cy="11358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Oval 75"/>
          <p:cNvSpPr/>
          <p:nvPr/>
        </p:nvSpPr>
        <p:spPr>
          <a:xfrm>
            <a:off x="3860640" y="70930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56 Rombo"/>
          <p:cNvSpPr/>
          <p:nvPr/>
        </p:nvSpPr>
        <p:spPr>
          <a:xfrm>
            <a:off x="3089160" y="3132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7 CuadroTexto"/>
          <p:cNvSpPr/>
          <p:nvPr/>
        </p:nvSpPr>
        <p:spPr>
          <a:xfrm>
            <a:off x="3068640" y="3201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am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64 Conector angular"/>
          <p:cNvCxnSpPr>
            <a:stCxn id="209" idx="1"/>
          </p:cNvCxnSpPr>
          <p:nvPr/>
        </p:nvCxnSpPr>
        <p:spPr>
          <a:xfrm flipV="1" rot="10800000">
            <a:off x="2491560" y="3311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2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09" idx="3"/>
          </p:cNvCxnSpPr>
          <p:nvPr/>
        </p:nvCxnSpPr>
        <p:spPr>
          <a:xfrm>
            <a:off x="3946680" y="3311640"/>
            <a:ext cx="45288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75"/>
          <p:cNvSpPr/>
          <p:nvPr/>
        </p:nvSpPr>
        <p:spPr>
          <a:xfrm>
            <a:off x="4292640" y="3564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56"/>
          <p:cNvSpPr/>
          <p:nvPr/>
        </p:nvSpPr>
        <p:spPr>
          <a:xfrm>
            <a:off x="1628640" y="637236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a directora para discu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f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56"/>
          <p:cNvSpPr/>
          <p:nvPr/>
        </p:nvSpPr>
        <p:spPr>
          <a:xfrm>
            <a:off x="1628640" y="680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a los integrantes de la comision fal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/ 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/>
          <p:nvPr/>
        </p:nvCxnSpPr>
        <p:spPr>
          <a:xfrm>
            <a:off x="2491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32"/>
          <p:cNvCxnSpPr/>
          <p:nvPr/>
        </p:nvCxnSpPr>
        <p:spPr>
          <a:xfrm>
            <a:off x="249192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656"/>
          <p:cNvSpPr/>
          <p:nvPr/>
        </p:nvSpPr>
        <p:spPr>
          <a:xfrm>
            <a:off x="1628640" y="738036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convoca a una reunion de trabajo prev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3428640" y="7019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3428640" y="7597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649"/>
          <p:cNvCxnSpPr/>
          <p:nvPr/>
        </p:nvCxnSpPr>
        <p:spPr>
          <a:xfrm flipH="1">
            <a:off x="3428280" y="723564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5"/>
          <p:cNvSpPr/>
          <p:nvPr/>
        </p:nvSpPr>
        <p:spPr>
          <a:xfrm>
            <a:off x="3284640" y="7740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1"/>
          <p:cNvSpPr/>
          <p:nvPr/>
        </p:nvSpPr>
        <p:spPr>
          <a:xfrm>
            <a:off x="333360" y="500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OPE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254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exo  a dictamen /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85"/>
          <p:cNvCxnSpPr/>
          <p:nvPr/>
        </p:nvCxnSpPr>
        <p:spPr>
          <a:xfrm>
            <a:off x="3499920" y="1908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3213000" y="7020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00280" y="2482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n y se incorporan en el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tegra el expediente del comunicado y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32"/>
          <p:cNvCxnSpPr>
            <a:stCxn id="247" idx="2"/>
          </p:cNvCxnSpPr>
          <p:nvPr/>
        </p:nvCxnSpPr>
        <p:spPr>
          <a:xfrm>
            <a:off x="22762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onvocatoria para sesión formal de com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8" idx="2"/>
            <a:endCxn id="250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o de oficio a dirección General para acondicionar 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32"/>
          <p:cNvCxnSpPr>
            <a:stCxn id="250" idx="2"/>
            <a:endCxn id="252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Formatos de sesion / Check list s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66"/>
          <p:cNvSpPr/>
          <p:nvPr/>
        </p:nvSpPr>
        <p:spPr>
          <a:xfrm>
            <a:off x="5373720" y="484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/ minuta de juntas / acta dictamen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ción de logística en la ses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AutoShape 32"/>
          <p:cNvCxnSpPr>
            <a:stCxn id="252" idx="2"/>
            <a:endCxn id="258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AutoShape 32"/>
          <p:cNvCxnSpPr>
            <a:stCxn id="258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Rectangle 666"/>
          <p:cNvSpPr/>
          <p:nvPr/>
        </p:nvSpPr>
        <p:spPr>
          <a:xfrm>
            <a:off x="5373720" y="5724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arpetas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01"/>
          <p:cNvSpPr/>
          <p:nvPr/>
        </p:nvSpPr>
        <p:spPr>
          <a:xfrm>
            <a:off x="333360" y="5724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56 Rombo"/>
          <p:cNvSpPr/>
          <p:nvPr/>
        </p:nvSpPr>
        <p:spPr>
          <a:xfrm>
            <a:off x="3090960" y="4589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57 CuadroTexto"/>
          <p:cNvSpPr/>
          <p:nvPr/>
        </p:nvSpPr>
        <p:spPr>
          <a:xfrm>
            <a:off x="3141720" y="4659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áme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64 Conector angular"/>
          <p:cNvCxnSpPr>
            <a:stCxn id="264" idx="1"/>
            <a:endCxn id="267" idx="0"/>
          </p:cNvCxnSpPr>
          <p:nvPr/>
        </p:nvCxnSpPr>
        <p:spPr>
          <a:xfrm flipV="1" rot="10800000">
            <a:off x="2493360" y="4768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68" name="72 CuadroTexto"/>
          <p:cNvSpPr/>
          <p:nvPr/>
        </p:nvSpPr>
        <p:spPr>
          <a:xfrm>
            <a:off x="2708280" y="4516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73 CuadroTexto"/>
          <p:cNvSpPr/>
          <p:nvPr/>
        </p:nvSpPr>
        <p:spPr>
          <a:xfrm>
            <a:off x="3860640" y="4500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56"/>
          <p:cNvSpPr/>
          <p:nvPr/>
        </p:nvSpPr>
        <p:spPr>
          <a:xfrm>
            <a:off x="1628640" y="4948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notificacion a presidencia y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64 Conector angular"/>
          <p:cNvCxnSpPr>
            <a:stCxn id="264" idx="3"/>
            <a:endCxn id="271" idx="0"/>
          </p:cNvCxnSpPr>
          <p:nvPr/>
        </p:nvCxnSpPr>
        <p:spPr>
          <a:xfrm>
            <a:off x="3947760" y="4768920"/>
            <a:ext cx="633960" cy="16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2" name="56 Rombo"/>
          <p:cNvSpPr/>
          <p:nvPr/>
        </p:nvSpPr>
        <p:spPr>
          <a:xfrm>
            <a:off x="3089160" y="2124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57 CuadroTexto"/>
          <p:cNvSpPr/>
          <p:nvPr/>
        </p:nvSpPr>
        <p:spPr>
          <a:xfrm>
            <a:off x="2997360" y="21938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Observ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64 Conector angular"/>
          <p:cNvCxnSpPr>
            <a:stCxn id="272" idx="1"/>
          </p:cNvCxnSpPr>
          <p:nvPr/>
        </p:nvCxnSpPr>
        <p:spPr>
          <a:xfrm flipV="1" rot="10800000">
            <a:off x="2491560" y="2303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5" name="72 CuadroTexto"/>
          <p:cNvSpPr/>
          <p:nvPr/>
        </p:nvSpPr>
        <p:spPr>
          <a:xfrm>
            <a:off x="270684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64 Conector angular"/>
          <p:cNvCxnSpPr>
            <a:stCxn id="272" idx="3"/>
          </p:cNvCxnSpPr>
          <p:nvPr/>
        </p:nvCxnSpPr>
        <p:spPr>
          <a:xfrm>
            <a:off x="3946680" y="2303280"/>
            <a:ext cx="491040" cy="829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7" name="73 CuadroTexto"/>
          <p:cNvSpPr/>
          <p:nvPr/>
        </p:nvSpPr>
        <p:spPr>
          <a:xfrm>
            <a:off x="400536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56"/>
          <p:cNvSpPr/>
          <p:nvPr/>
        </p:nvSpPr>
        <p:spPr>
          <a:xfrm>
            <a:off x="1844640" y="536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informacion a informatica y transaparencia para su public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32"/>
          <p:cNvCxnSpPr/>
          <p:nvPr/>
        </p:nvCxnSpPr>
        <p:spPr>
          <a:xfrm>
            <a:off x="2491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32"/>
          <p:cNvCxnSpPr/>
          <p:nvPr/>
        </p:nvCxnSpPr>
        <p:spPr>
          <a:xfrm>
            <a:off x="4723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Rectangle 656"/>
          <p:cNvSpPr/>
          <p:nvPr/>
        </p:nvSpPr>
        <p:spPr>
          <a:xfrm>
            <a:off x="1844640" y="5724360"/>
            <a:ext cx="331308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rchiva documentacion en su carpeta resp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32"/>
          <p:cNvCxnSpPr/>
          <p:nvPr/>
        </p:nvCxnSpPr>
        <p:spPr>
          <a:xfrm>
            <a:off x="3644640" y="55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32"/>
          <p:cNvCxnSpPr/>
          <p:nvPr/>
        </p:nvCxnSpPr>
        <p:spPr>
          <a:xfrm>
            <a:off x="2707920" y="5940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Rectangle 656"/>
          <p:cNvSpPr/>
          <p:nvPr/>
        </p:nvSpPr>
        <p:spPr>
          <a:xfrm>
            <a:off x="1844640" y="6084720"/>
            <a:ext cx="33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je equiopo y se almace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66"/>
          <p:cNvSpPr/>
          <p:nvPr/>
        </p:nvSpPr>
        <p:spPr>
          <a:xfrm>
            <a:off x="5373720" y="5364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- mail / P-OPE-01 / P- OPE- TR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5"/>
          <p:cNvSpPr/>
          <p:nvPr/>
        </p:nvSpPr>
        <p:spPr>
          <a:xfrm>
            <a:off x="3429000" y="169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56"/>
          <p:cNvSpPr/>
          <p:nvPr/>
        </p:nvSpPr>
        <p:spPr>
          <a:xfrm>
            <a:off x="3860640" y="4932360"/>
            <a:ext cx="1440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cierre de minuta y se recaban fir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AutoShape 649"/>
          <p:cNvCxnSpPr>
            <a:stCxn id="284" idx="2"/>
            <a:endCxn id="246" idx="0"/>
          </p:cNvCxnSpPr>
          <p:nvPr/>
        </p:nvCxnSpPr>
        <p:spPr>
          <a:xfrm>
            <a:off x="3499920" y="6373440"/>
            <a:ext cx="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8T16:55:27Z</dcterms:modified>
  <cp:revision>304</cp:revision>
  <dc:subject/>
  <dc:title>Presentación de PowerPoint</dc:title>
</cp:coreProperties>
</file>