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7B0-9837-454F-A7B7-BC15505461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BB1-6FDD-45BE-98AF-EB05A74441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DA8F-D261-4E00-8D09-5756E6A10C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045-B408-425D-A9A8-CAE8597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BE8-464A-4CDB-B4B9-925FCDB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81C-5E63-4C62-A132-23C7A98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D80-CF17-4ABB-AC34-6B67BB4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00E-F1A7-47C6-89EF-BE88261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3B7-994E-43A5-B404-FCA50F3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F6E-1533-45ED-8209-2E189846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EC5-D575-434C-BDE6-719238F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ED1-B6DF-4296-AECD-1B556ED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532-1FD9-4C65-9407-92031CE8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9ED-65D2-4D16-A46D-88F9D509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95D-87FB-4109-96E6-21C0461A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AB0-95E2-4722-9111-27609C57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6FA-01CD-4EA7-AE0E-76DE8B1D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B89F-A7FF-4285-A367-B81F098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258-C653-4044-AF85-B5EC16DB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BD9-8A3A-4E41-B9BC-3EFAADE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8DB3-5A51-40AD-A19D-1A6D9608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4D1-4474-409A-84CF-321BBA5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E8E-3D7D-4B36-B155-B9570C2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2D6D-FBC5-42A2-B107-2A54721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3E92-A67A-41CB-864F-89CC967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A64A-0DEF-47EF-A3D2-B65B32FE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8617-580A-49DE-92F2-5650B4B9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0818FBA-FBCB-4271-9819-57C5B255C4F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C97-E9A8-493A-96D9-0FE3A8C0FEF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2E4-1693-4C45-9304-BD385BF269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coadyuvar con UTI en entregar la información respecto delas solicitudes presentadas en términos de la ley de Transparencia e Información Pública del Estado de Jalisco y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giran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la sesión de la Comisión de Adquisiciones en la que se adjudica a t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correspondencia recib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orden de compr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6320" y="62150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7960" y="644508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01T17:23:01Z</dcterms:modified>
  <cp:revision>317</cp:revision>
  <dc:subject/>
  <dc:title>Presentación de PowerPoint</dc:title>
</cp:coreProperties>
</file>