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BF42-CE00-4CC9-AA68-945FA42A3A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01CA-B699-42DD-8DDC-DC3E0BD801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C9E8-0909-42D8-9955-C6BAF440DB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582-B791-472C-BE82-268CA30C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83F-0E6A-46A2-984F-8018A8B1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066-1341-427E-9731-BD3B4CEF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6D4-B73E-4490-818E-FF9EB8AF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865-BEE3-4F68-B4FF-B8AA48B5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081-DA2A-4005-B760-5C423031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001-BD35-4E8F-98D4-0056C3C6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4A6-159A-4D6F-8E84-560DDBCC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419-8CAC-4B30-B033-7E53E32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937-7BA0-4374-B96F-EACD372B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EA1-9614-4B38-B3B3-7F4BB3C4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2D4-A644-49C2-8A5C-0783352A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uerdos del Consej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FF999AA-8752-493A-972D-F82BCC895E5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48AE-DC59-4C54-AFD9-FAA33C67A41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3400" y="2268360"/>
            <a:ext cx="574560" cy="217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0320" y="2485800"/>
            <a:ext cx="39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698920"/>
            <a:ext cx="35308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confirma vía correo electrónico institucional la instrucción para elaborar proyecto de acuerdo o resolución d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7040" y="3201840"/>
            <a:ext cx="3537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acuerdo o resolución al jefe de departamento que considere pertin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6880" y="4187880"/>
            <a:ext cx="122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64"/>
          <p:cNvSpPr/>
          <p:nvPr/>
        </p:nvSpPr>
        <p:spPr>
          <a:xfrm>
            <a:off x="5373720" y="467676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65"/>
          <p:cNvSpPr/>
          <p:nvPr/>
        </p:nvSpPr>
        <p:spPr>
          <a:xfrm>
            <a:off x="5373720" y="5219640"/>
            <a:ext cx="1282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73720" y="3201840"/>
            <a:ext cx="127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1" idx="2"/>
            <a:endCxn id="122" idx="0"/>
          </p:cNvCxnSpPr>
          <p:nvPr/>
        </p:nvCxnSpPr>
        <p:spPr>
          <a:xfrm>
            <a:off x="3463920" y="3039840"/>
            <a:ext cx="21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684"/>
          <p:cNvCxnSpPr>
            <a:stCxn id="122" idx="2"/>
            <a:endCxn id="130" idx="0"/>
          </p:cNvCxnSpPr>
          <p:nvPr/>
        </p:nvCxnSpPr>
        <p:spPr>
          <a:xfrm flipH="1">
            <a:off x="3459960" y="3527280"/>
            <a:ext cx="540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700"/>
          <p:cNvSpPr/>
          <p:nvPr/>
        </p:nvSpPr>
        <p:spPr>
          <a:xfrm>
            <a:off x="339840" y="2436840"/>
            <a:ext cx="1222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01"/>
          <p:cNvSpPr/>
          <p:nvPr/>
        </p:nvSpPr>
        <p:spPr>
          <a:xfrm>
            <a:off x="333360" y="3201840"/>
            <a:ext cx="1224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72280" y="5761080"/>
            <a:ext cx="127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0"/>
          <p:cNvSpPr/>
          <p:nvPr/>
        </p:nvSpPr>
        <p:spPr>
          <a:xfrm>
            <a:off x="338040" y="4675320"/>
            <a:ext cx="1224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4"/>
          <p:cNvSpPr/>
          <p:nvPr/>
        </p:nvSpPr>
        <p:spPr>
          <a:xfrm>
            <a:off x="5373720" y="418788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1"/>
          <p:cNvSpPr/>
          <p:nvPr/>
        </p:nvSpPr>
        <p:spPr>
          <a:xfrm>
            <a:off x="345960" y="5234040"/>
            <a:ext cx="1200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66"/>
          <p:cNvSpPr/>
          <p:nvPr/>
        </p:nvSpPr>
        <p:spPr>
          <a:xfrm>
            <a:off x="5369040" y="3728880"/>
            <a:ext cx="1278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56"/>
          <p:cNvSpPr/>
          <p:nvPr/>
        </p:nvSpPr>
        <p:spPr>
          <a:xfrm>
            <a:off x="1697040" y="3726000"/>
            <a:ext cx="35290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proyecto de acuerdo o resolución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5"/>
          <p:cNvCxnSpPr>
            <a:stCxn id="130" idx="2"/>
            <a:endCxn id="139" idx="0"/>
          </p:cNvCxnSpPr>
          <p:nvPr/>
        </p:nvCxnSpPr>
        <p:spPr>
          <a:xfrm>
            <a:off x="3460320" y="39956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653"/>
          <p:cNvSpPr/>
          <p:nvPr/>
        </p:nvSpPr>
        <p:spPr>
          <a:xfrm>
            <a:off x="1700280" y="466236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mete a consideración el proyecto de acuerdo o resolución ante 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685"/>
          <p:cNvCxnSpPr/>
          <p:nvPr/>
        </p:nvCxnSpPr>
        <p:spPr>
          <a:xfrm>
            <a:off x="3474720" y="446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653"/>
          <p:cNvSpPr/>
          <p:nvPr/>
        </p:nvSpPr>
        <p:spPr>
          <a:xfrm>
            <a:off x="1697040" y="4189320"/>
            <a:ext cx="35290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Una vez elaborado el proyecto de acuerdo o de resolución,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la secretaria ejecutiva para su revisión y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3187800" y="6372360"/>
            <a:ext cx="576000" cy="35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18 Rectángulo"/>
          <p:cNvSpPr/>
          <p:nvPr/>
        </p:nvSpPr>
        <p:spPr>
          <a:xfrm>
            <a:off x="1704960" y="5219640"/>
            <a:ext cx="352908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ia Ejecutiva y Presidencia para firma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18 Rectángulo"/>
          <p:cNvSpPr/>
          <p:nvPr/>
        </p:nvSpPr>
        <p:spPr>
          <a:xfrm>
            <a:off x="1697040" y="5761080"/>
            <a:ext cx="3529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el acuerdo o resolución firmado a oficialía de partes para su notificación y posterior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32"/>
          <p:cNvCxnSpPr/>
          <p:nvPr/>
        </p:nvCxnSpPr>
        <p:spPr>
          <a:xfrm>
            <a:off x="3460320" y="555120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32"/>
          <p:cNvCxnSpPr/>
          <p:nvPr/>
        </p:nvCxnSpPr>
        <p:spPr>
          <a:xfrm>
            <a:off x="3479400" y="6121080"/>
            <a:ext cx="10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685"/>
          <p:cNvCxnSpPr>
            <a:stCxn id="140" idx="2"/>
            <a:endCxn id="143" idx="0"/>
          </p:cNvCxnSpPr>
          <p:nvPr/>
        </p:nvCxnSpPr>
        <p:spPr>
          <a:xfrm>
            <a:off x="3463560" y="5022360"/>
            <a:ext cx="54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701"/>
          <p:cNvSpPr/>
          <p:nvPr/>
        </p:nvSpPr>
        <p:spPr>
          <a:xfrm>
            <a:off x="322200" y="58341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6"/>
          <p:cNvSpPr/>
          <p:nvPr/>
        </p:nvSpPr>
        <p:spPr>
          <a:xfrm>
            <a:off x="5373720" y="270180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00"/>
          <p:cNvSpPr/>
          <p:nvPr/>
        </p:nvSpPr>
        <p:spPr>
          <a:xfrm>
            <a:off x="333360" y="2698920"/>
            <a:ext cx="1222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01"/>
          <p:cNvSpPr/>
          <p:nvPr/>
        </p:nvSpPr>
        <p:spPr>
          <a:xfrm>
            <a:off x="333360" y="372276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52"/>
          <p:cNvSpPr/>
          <p:nvPr/>
        </p:nvSpPr>
        <p:spPr>
          <a:xfrm>
            <a:off x="1714680" y="1763640"/>
            <a:ext cx="35305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laboración de Acuerdos y Resoluciones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11T20:07:56Z</cp:lastPrinted>
  <dcterms:modified xsi:type="dcterms:W3CDTF">2011-10-27T22:03:22Z</dcterms:modified>
  <cp:revision>289</cp:revision>
  <dc:subject/>
  <dc:title>Presentación de PowerPoint</dc:title>
</cp:coreProperties>
</file>