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EAF3-E710-449A-AD7C-46A09E70AB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C14A-E076-491A-80E2-5C53BDCB04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7BA0-52C4-4EF9-A5C3-9366C97536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251-6A9C-44E8-A2F6-493EEE74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662-AFDB-4E35-89E8-814BC2D8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6A3-D32E-4174-BC7C-AD50C3AD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705-3BE5-4609-B27C-C8EE956D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FC7-104D-4FAD-B156-888541D5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2BD-0C78-49EB-A5CF-3F18F362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E30-4B42-4F0C-AE18-FA89BC79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571-7D58-4A6C-A231-7C0A198B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34A-FB8C-4E55-BC4C-88C669B3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F03-440A-46A9-9F0A-BA033C06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07D-642D-4E1B-93FB-147B5CFC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E9A-F1FA-448A-B1E0-4ADF0AD4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3807-68EC-4A6B-B905-E477DC8A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C672-D191-4F5D-892D-7DEDC016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6DF0-9F2B-456E-803B-6FC52B3E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E868-C62D-447B-8D83-D0AECE19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AF9F-1E53-46B5-8E0A-C4CC216A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6A3A-ACA9-4EA2-9D49-C3E021FC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D714-FB02-4DD0-A8AB-821C4B5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0A82-EAF0-4BF2-A250-2E5D5079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4960-7BF4-40CD-83F6-5FB20C0A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A559-7E2F-42DD-A159-1C6E4E07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7FD5-1927-46D5-AB3E-E65EA36F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4D5E-D8EE-4213-B50A-750B444B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gistro de representantes de partidos politicos ante la M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E0A17E70-B046-48AB-8735-7D019B19AEA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39D-55F9-413F-B051-303F9299BE3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0A51-A996-4A5F-8DAD-D5CB4BCECD3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 incluyo terminologia y se agregraron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Otorgar el nombramiento de los representantes de los partidos políticos ante las M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Identificar la asignación de los representantes de los partidos políticos ante mesa directiva de casill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MDC: Mesa Directiva de Cas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calendario para registro de represen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771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listados o formatos de partidos polí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492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stado de partidos polít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stado de partidos acred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7" idx="2"/>
            <a:endCxn id="163" idx="0"/>
          </p:cNvCxnSpPr>
          <p:nvPr/>
        </p:nvCxnSpPr>
        <p:spPr>
          <a:xfrm>
            <a:off x="3498480" y="2555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</p:cNvCxnSpPr>
          <p:nvPr/>
        </p:nvCxnSpPr>
        <p:spPr>
          <a:xfrm>
            <a:off x="3498840" y="29872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6272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o personal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98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o personal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stado de partidos polí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 de MD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lista a consejeros distritales para asignación de paquetes electorales y se remite el paquete a presidentes de mesas directivas de cas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490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acreditación de personal de acuerdo a listado y se expide y se hace entrega de los nombramientos a los partidos polític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>
            <a:stCxn id="173" idx="2"/>
            <a:endCxn id="174" idx="0"/>
          </p:cNvCxnSpPr>
          <p:nvPr/>
        </p:nvCxnSpPr>
        <p:spPr>
          <a:xfrm flipH="1">
            <a:off x="3499560" y="3347640"/>
            <a:ext cx="25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32"/>
          <p:cNvCxnSpPr>
            <a:stCxn id="174" idx="2"/>
          </p:cNvCxnSpPr>
          <p:nvPr/>
        </p:nvCxnSpPr>
        <p:spPr>
          <a:xfrm>
            <a:off x="3499920" y="3706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Rectangle 701"/>
          <p:cNvSpPr/>
          <p:nvPr/>
        </p:nvSpPr>
        <p:spPr>
          <a:xfrm>
            <a:off x="333360" y="334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 / coordinadores distritales / subcoordinador distrital / 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ual de organiz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/ manual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prueban formatos de registro de representan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stado de partidos acredita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681"/>
          <p:cNvCxnSpPr>
            <a:endCxn id="167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o personal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6T02:01:14Z</dcterms:modified>
  <cp:revision>320</cp:revision>
  <dc:subject/>
  <dc:title>Presentación de PowerPoint</dc:title>
</cp:coreProperties>
</file>