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D90-FDCE-48C2-A4A6-05A3660218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1F0-D108-44F5-BAC2-9E385146C3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6510-E567-4B18-99BE-47D678CF1F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DD4-DE9E-427E-81BD-4FF7EED6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8E9-4D17-4422-9F09-9C82988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B02-CBB9-41BA-A762-08EA88D9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5E9-7E13-4275-A10C-C0FA74F9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EAA-8EFC-4F35-805A-7D14FB2C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962-7E88-47A4-B9C7-B1187BA4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3CA-410C-484E-8F9A-BA8B02B1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0C7-A70B-4F5C-95D4-D7A4674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AE8-0F3D-4942-B002-8453B8F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8A1-D737-4DDF-B5F3-820D461E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496-053C-4C9A-B114-5AAF45CC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205-2070-45E0-B1D8-9BB86321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DDC6-0063-4C16-8401-7546D1EB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D709-52C0-4344-AEFB-8DA6974F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0A0C-E22A-45BE-A56C-FFACA69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16F0-6153-4486-8D8A-731BF68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E14D-283C-4081-B481-0032943C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D1B-8C27-4646-BA5A-EDF1181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797E-F714-46D4-A7BB-7425B67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BDAF-4656-4A02-9475-3B16C3F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FCE-5058-46D4-8792-DC47B89A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067D-6191-420A-BA0C-D085D283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3434-BAFD-421D-9C5F-998898D7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0C45-46EA-4B27-8291-34089D9C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A22B-8F08-431B-B509-78CB1E67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33BE-1E82-4427-AAB3-8CF239A6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4B1F-FFF2-44CD-BFA3-5EEA47A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C79B-6710-45C2-810A-C14F8B2B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DA10-96B4-4D6A-93B9-C1C89404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D661-AD73-495D-AD59-EEEEA7B8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9E0D-B46A-4010-B008-24300EBF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26CC-2483-4151-9F4D-C7BE96A2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06D6-D950-4A13-BDB8-F0A4363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B49A-B671-4075-803B-C7BD927C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F1F0-7A83-4644-9291-61FD152A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2151-90E5-4FAB-B6D8-17ACCF21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6247-F43F-4FB3-A50F-695AC73B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BBBC-4FA7-4898-869A-F2B3607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33F4-7BD4-418E-BACC-C53B72EF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6B61-B231-4237-B73B-719DB599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2AF5-764B-4B87-8D7C-9828814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2082-5E2C-4D55-A292-8AAC0319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0218-405A-477B-A2AC-1CBC9A0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6770-08D6-40CD-BE7E-EA3743A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5E98-5B79-4B4C-94D1-E880C6C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A1F1-48CA-48F7-8B8B-F7FB987F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34F8-FE26-4FF2-89AA-56C9E5E7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C416-3EC4-4CAE-8D8F-ECC0B977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e Parcial y Anu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FD3610B-3C88-45F1-BFD5-C58D5DB197D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C60-E5EE-45F1-94A2-715C3C2E090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034-EED9-4F30-8A45-F6F3900C4C2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42E0-0273-4D6C-9B13-7C0535B4120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F789-CBE2-4676-A267-281660FF6E8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en tiempo y forma con la presentación de los avances parciales y anuales, teniendo como base el cumplimiento del Programa Anual de Trabajo aprobado por el Consejo General del 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343080" y="2158920"/>
            <a:ext cx="632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a todos los departamentos que integran la Contraloría General, con base al cumplimiento del Programa Anual de Trabajo, establecido en el Art. 495, párrafo 1, fracción XIX del Código Electoral y de Participación Ciudadana del Estado de Jalis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49"/>
          <p:cNvCxnSpPr>
            <a:stCxn id="242" idx="2"/>
            <a:endCxn id="244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652"/>
          <p:cNvSpPr/>
          <p:nvPr/>
        </p:nvSpPr>
        <p:spPr>
          <a:xfrm>
            <a:off x="1698480" y="2268360"/>
            <a:ext cx="3600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aba información de resultados  de las actividades de las Jefaturas de Departamento de Fiscalización, Asuntos Jurídicos y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53"/>
          <p:cNvSpPr/>
          <p:nvPr/>
        </p:nvSpPr>
        <p:spPr>
          <a:xfrm>
            <a:off x="1698480" y="270036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naliza y procesa la información mensual y elabora el 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1"/>
          <p:cNvCxnSpPr>
            <a:stCxn id="244" idx="2"/>
            <a:endCxn id="245" idx="0"/>
          </p:cNvCxnSpPr>
          <p:nvPr/>
        </p:nvCxnSpPr>
        <p:spPr>
          <a:xfrm>
            <a:off x="3498480" y="255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684"/>
          <p:cNvCxnSpPr>
            <a:stCxn id="245" idx="2"/>
            <a:endCxn id="250" idx="0"/>
          </p:cNvCxnSpPr>
          <p:nvPr/>
        </p:nvCxnSpPr>
        <p:spPr>
          <a:xfrm>
            <a:off x="3498840" y="2986200"/>
            <a:ext cx="21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yectos de infor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vía al Contralor General 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5"/>
          <p:cNvCxnSpPr>
            <a:stCxn id="250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valúa y autoriza el Informe Parcial o Anual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nformes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3214800" y="421164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65"/>
          <p:cNvSpPr/>
          <p:nvPr/>
        </p:nvSpPr>
        <p:spPr>
          <a:xfrm>
            <a:off x="5373720" y="3852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685"/>
          <p:cNvCxnSpPr/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18 Rectángulo"/>
          <p:cNvSpPr/>
          <p:nvPr/>
        </p:nvSpPr>
        <p:spPr>
          <a:xfrm>
            <a:off x="1700280" y="3851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Consejo General para su conocimiento y efec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AutoShape 32"/>
          <p:cNvCxnSpPr>
            <a:stCxn id="262" idx="2"/>
          </p:cNvCxnSpPr>
          <p:nvPr/>
        </p:nvCxnSpPr>
        <p:spPr>
          <a:xfrm>
            <a:off x="3499920" y="406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4-20T16:56:06Z</cp:lastPrinted>
  <dcterms:modified xsi:type="dcterms:W3CDTF">2012-06-20T16:04:45Z</dcterms:modified>
  <cp:revision>342</cp:revision>
  <dc:subject/>
  <dc:title>Presentación de PowerPoint</dc:title>
</cp:coreProperties>
</file>